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9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8BA-DCC5-40C0-AC80-2B96DE44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85C6-1391-4F76-AB78-B2CDBC44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8FDC-4D26-4F3F-9A15-B3AF1967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1F7-CDBA-4869-8231-E676BAB6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E32B-293D-46E2-A090-A18945BD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C328-5855-4511-9364-A813A19E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F2B6-0EF6-46D3-A47F-4E83535D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9F9A-C25E-42D9-B49F-CA8BB918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85D1-6E8B-4CC1-9ACC-448D3979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2179-424F-4E6E-9909-B63BA88A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1075-C385-4FEA-BF01-1D1E4774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C62-E284-4755-92A7-F80B96BF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6003-4C90-45F7-ADE7-ACADC030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A3CD-418F-4B06-B07F-A269E671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0B5F-F30F-472D-9F88-87A0528C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6D10-04F3-4869-84CC-60E315AC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8BB0-30B8-4C94-ACE4-16CAF750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381-DE48-4863-A9E6-B68998C1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539-0BF8-4918-A79D-CE129613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8F3-E016-48FD-A708-13E2AD48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E5D-B613-49F3-9AD3-7571ED00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741-54E9-4295-A4A5-1C74DAA3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AE4-C3F4-488C-8102-F46A26A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B78-AAD3-4F2E-A5A2-B2F0E779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FD61-6EFB-4C47-B743-5BCA565962DA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EFB7-7DDA-4D36-B17F-335821A6180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20200" y="4508640"/>
            <a:ext cx="17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初</a:t>
            </a:r>
            <a:r>
              <a:rPr b="1" lang="zh-CN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）班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1640" y="1700280"/>
            <a:ext cx="513396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我的地盘 我作主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华文行楷"/>
                <a:ea typeface="华文行楷"/>
              </a:rPr>
              <a:t>我为“</a:t>
            </a:r>
            <a:r>
              <a:rPr b="1" lang="zh-CN" sz="2800" spc="-1" strike="noStrike">
                <a:solidFill>
                  <a:srgbClr val="003399"/>
                </a:solidFill>
                <a:latin typeface="华文行楷"/>
                <a:ea typeface="华文行楷"/>
              </a:rPr>
              <a:t>xx</a:t>
            </a:r>
            <a:r>
              <a:rPr b="1" lang="zh-CN" sz="28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中学学生日常行为规范”出点子主题班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72160" y="2816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、我们可以因有事而不请假，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随便旷课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816280"/>
            <a:ext cx="706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、我们可以在校园内骑车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280" y="2739960"/>
            <a:ext cx="611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、参加各种活动时，要准时，不能吃零食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98560" y="28162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、不要把校外人带进校内，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也不闯进外校去游玩，吵闹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59464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中小学生守则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4240"/>
            <a:ext cx="854064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热爱祖国，热爱人民，热爱中国共产党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遵守法律法规，增强法律意识。遵守校规校纪，遵守社会公德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热爱科学，努力学习，勤思好问，乐于探究，积极参加社会实践和有益的活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珍爱生命，注意安全，锻炼身体，讲究卫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自尊自爱，自信自强，生活习惯文明健康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积极参加劳动，勤俭朴素，自己能做的事自己做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7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孝敬父母，尊敬师长，礼貌待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8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热爱集体，团结同学，互相帮助，关心他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9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诚实守信，言行一致，知错就改，有责任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0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热爱大自然，爱护生活环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学生“十不”守则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一、不随地吐痰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二、不乱 丢杂物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三、不粗言秽语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四、不损坏公物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五、不大声喧哗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六、不乱吃零食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七、不乱涂乱画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八、不进网吧等公共娱乐场所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九、不谈情说爱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十、不在校园内带着耳机自由走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76720" y="404640"/>
            <a:ext cx="27367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一日常规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一、晨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认真晨读。进教室后先交作业，晨读时应认真，不喧哗，不随便走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晨读课迟到，应站到教室门口，招呼老师，得到许可，方可进入教室入座。晨读下课，就随时做好下一节上课准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二、晨读卫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上晨读课前，值日生组长要检查卫生打扫情况，做到桌凳整齐，地面干净，墙角无垃圾，劳动工具摆放整齐，黑板、讲桌擦干净，包干区清洁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卫生人员要检查个人卫生情况，检查学习用品是否整齐，衣着是否整洁，指甲、头发是否清洁等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1680" y="1052280"/>
            <a:ext cx="8540640" cy="48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</a:rPr>
              <a:t>三、上课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上课前桌上放好必要的文具、书籍、簿本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预备铃响，全体同学进教室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上课迟到的同学，应站在教室门口招呼老师，经老师许可，方可入座，不得任意冲入教室，影响上课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上课时，坐姿要端正，看书、写字，胸要离桌一拳，眼要离书、纸一尺，不斜视，不做小动作，课上专心听讲，积极思考，认真做笔记，提问要举手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课上不随意讲话，不随意下位置走动，不和老师顶撞，不做与课堂无关的事。夏天不得穿拖鞋，短裤，背心进课堂，上课不煽扇子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6.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下课铃响，待教师示意下课，宣布休息，方可离开座位。出教师门不得拥挤，一般应让老师先离开教室，有人听课，更应礼让客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32000" y="476280"/>
            <a:ext cx="2737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一日常规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1052280"/>
            <a:ext cx="8540640" cy="52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四、课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下课后，值日生应负责擦黑板、教桌，全体同学应走出教室休息、远眺，适当活动，调剂身心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课间不得在走廊上高声喧哗、起哄，不得在校园内追逐、打闹，做危险、剧烈的游戏。有事离校要请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预备铃响，全体同学回教室，静候老师上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32000" y="476280"/>
            <a:ext cx="2737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一日常规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五、体育活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课间操时，各班要整队进操场。做到快、静、齐。出操时，队伍一条线。动作整齐、有力、合拍；广播操结束，排队出场，不中途散队。因病不能参加广播操应提前请假，得到批准后，有体育委员或班长将情况报给体育老师，以便考核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认真做眼保健操，思想集中，讲究卫生，按音乐节拍，揉按穴位，不得以任何理由提前离开教室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足球、篮球等不得带入教学区、宿舍区。零食、饮料等一律不得进入运动区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692280"/>
            <a:ext cx="27367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一日常规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949320"/>
            <a:ext cx="828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现在学校要在全校向各位同学们征集《二甲中学中学生日常行为规范》，让同学们做自己的主人，为了让同学能更好的为学校的中学生日常行为规范出点子，让我们首先来了解一下有关中学生日常行为规范的要求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9640" y="1484280"/>
            <a:ext cx="807732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六、升国旗仪式制度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升旗开始，面对国旗立正，行注目礼，目光必须随国旗的徐徐上升上移，不得他顾、场外人员在升旗开始时，不得走动，待升旗仪式结束后方可入内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76280"/>
            <a:ext cx="2737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一日常规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七、自行车管理细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自行车进出校门，应自觉主动下车推行，校园内禁止骑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安全部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车锁、车撑、车刹、车铃等）不全的自行车禁止进入学校，做到停车落锁。凡无锁或锁失效，未按照要求停放的自行车失窃，校方不承担责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禁止骑电瓶车、摩托车上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严格遵守交通规则，注意交通安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476280"/>
            <a:ext cx="2737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一日常规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404640"/>
            <a:ext cx="37432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我的地盘 我作主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197000"/>
            <a:ext cx="84470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下面请同学们讨论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如果让我们来制定《二甲中学学生日常行为规范》，我们应该要制定哪些日常行为规范呢？请各位同学讨论思考，并积极发言，说不定的您的建议将写入《二甲中学学生日常行为规范》中去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隶书"/>
              </a:rPr>
              <a:t>要求，语言精炼，具有可操作性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隶书"/>
              </a:rPr>
              <a:t>如：在校 必须佩戴胸卡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985080" cy="432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250920" y="981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19280" y="1916280"/>
            <a:ext cx="6985080" cy="43164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250920" y="1916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619280" y="2924280"/>
            <a:ext cx="6985080" cy="43164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250920" y="29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619280" y="3860640"/>
            <a:ext cx="6985080" cy="432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250920" y="3860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4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1619280" y="4797360"/>
            <a:ext cx="6985080" cy="432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250920" y="4797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1690560" y="5661000"/>
            <a:ext cx="6985080" cy="432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250920" y="5661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985080" cy="432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250920" y="981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7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619280" y="1916280"/>
            <a:ext cx="6985080" cy="43164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250920" y="1916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8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619280" y="2924280"/>
            <a:ext cx="6985080" cy="43164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250920" y="29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9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1619280" y="3860640"/>
            <a:ext cx="6985080" cy="432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250920" y="3860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0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1619280" y="4797360"/>
            <a:ext cx="6985080" cy="432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250920" y="47973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1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1690560" y="5661000"/>
            <a:ext cx="6985080" cy="432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250920" y="566100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2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985080" cy="432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250920" y="98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3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619280" y="1916280"/>
            <a:ext cx="6985080" cy="43164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250920" y="191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4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619280" y="2924280"/>
            <a:ext cx="6985080" cy="43164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250920" y="2924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5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619280" y="3860640"/>
            <a:ext cx="6985080" cy="432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250920" y="3860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6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1619280" y="4797360"/>
            <a:ext cx="6985080" cy="432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250920" y="4797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7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1690560" y="5661000"/>
            <a:ext cx="6985080" cy="432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250920" y="566100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8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985080" cy="432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250920" y="981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9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619280" y="1916280"/>
            <a:ext cx="6985080" cy="43164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250920" y="1916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0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1619280" y="2924280"/>
            <a:ext cx="6985080" cy="43164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250920" y="2924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1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1619280" y="3860640"/>
            <a:ext cx="6985080" cy="432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250920" y="38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2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1619280" y="4797360"/>
            <a:ext cx="6985080" cy="432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250920" y="47973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3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1690560" y="5661000"/>
            <a:ext cx="6985080" cy="432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250920" y="566100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建议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4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77760" y="954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77240" y="27860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一、上下课时同学们应如何做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84000" y="393372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上、下课起立向老师致敬，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下课时，请老师先行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77760" y="954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82360" y="2484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二、上课迟到了，该怎么办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350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在教室门口立正喊“报告”，经老师同意后，再进入教室，动作要轻、快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77760" y="954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434760" y="25606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三、请说出五种文明用语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581280"/>
            <a:ext cx="568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请，谢谢，对不起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没关系，再见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77760" y="954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22920" y="259092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四、升降国旗时，奏唱国歌的时候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我们应该怎样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45160" y="39402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肃立，脱帽、行注目礼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2680" y="3087720"/>
            <a:ext cx="73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、我们可以佩带首饰，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03480" y="2782800"/>
            <a:ext cx="596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、我们要生活俭朴，不  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乱花钱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666880"/>
            <a:ext cx="66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、我们应佩带好胸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如遗失，需要及时补办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4:18:32Z</dcterms:created>
  <dc:creator>zxp</dc:creator>
  <dc:description/>
  <dc:language>en-US</dc:language>
  <cp:lastModifiedBy>ctj</cp:lastModifiedBy>
  <dcterms:modified xsi:type="dcterms:W3CDTF">2015-12-02T01:13:40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