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5.jpeg" ContentType="image/jpeg"/>
  <Override PartName="/ppt/media/image32.png" ContentType="image/png"/>
  <Override PartName="/ppt/media/image22.gif" ContentType="image/gif"/>
  <Override PartName="/ppt/media/image18.jpeg" ContentType="image/jpeg"/>
  <Override PartName="/ppt/media/image15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9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applause.wav" ContentType="audio/x-wav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45B-5AB5-429B-9E16-4D7AF40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E3C7-4A06-4ECF-83E7-0FD591A8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C79E4-E64A-4677-9BF8-75585491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8E6E9-FE03-4652-A306-BB6DEA5F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B50B5-D74D-48AC-B323-E311A7D1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9173D-1575-4862-B918-FA7CDD7E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15B71-037E-4154-8C70-2BF8E60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AE28C-A7D6-480F-A575-972847C0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30BDF-14C6-46BD-8D51-96B4A02F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C65E4-72F6-4D06-9A2F-BA655B041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C45D8-8271-4F4A-8BB7-4059096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1F329-69F8-4C64-B7B4-B59E34F0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ED5-385B-433F-93B2-DBE21012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FF6B0-B77E-4DD3-ACBD-F9CD801F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57A70-783A-4FA1-9CA7-DE6A8A3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164B0-E396-4C3E-83DB-E3AA2B4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6821E-BD38-46A5-931D-6EAAEF30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5EE3-4EDC-4376-B82E-4C3012E5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A9792-929A-411C-8252-764F1A77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D8427-8185-4775-A53A-55431ECD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642ED-B6E0-48D2-B645-E4B9A00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B6EF4-CA58-4D41-AFDE-572C038D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F9392-19F0-45D7-B6AC-C15F7EAD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B3E-B9F3-46DD-B445-2C300A6B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A1C2A-4078-4DF1-B764-B1056F69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901FE-6D54-4582-8946-75DEA639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2E11A-E416-4D81-9BCA-A03D25BB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292B6-7FDA-4EBC-B863-DA2E38E3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4E676-20F3-40D2-9B56-9B943C9F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B9465-85C6-4168-90C0-321D0090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F3BF3-1F1F-44D8-BB14-E6237D90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40312F-505A-4D5E-9900-CD5560E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E8BA5-173C-4B6B-8825-D5FC3E2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AAF8-8232-4B6F-B7EC-BCFA684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2FE4-BFA0-41B0-8ED3-CE1BDACE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AB75A-5CD0-4034-B109-6E6CB1BD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5B797-56DC-49AF-9CAD-7C4B7B91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1DADB-265D-40AA-BC5E-7BF43D9E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C7B1-9C5C-40DC-947D-50B8F8D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C14B-0ECB-4545-BE08-11909401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6007-3EA3-47AC-BA20-773D2789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920-C5DF-4582-9B91-DE7FAE93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4C36-F665-4681-B542-FCBC00E9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1A2B-651B-42BC-B6EF-DE356272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90F-B2F9-4C70-9B1A-F5649841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B2B9-E0E2-4E2B-A9D5-3D9B7F7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541D-4CD7-4335-A7CE-12C6A92E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0EFC-173F-4050-85BA-899E498E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B73-C7B4-4FAB-B78F-63510772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FB17-3297-4E58-9B0F-322C2E45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3161-329B-4AA5-81D9-528550D2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383C2-F67F-4CCE-86A6-859E124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AC5E-A826-4513-8191-FB7265E0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0E85-6410-4611-B566-0DEDF8DB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5F439-2C1B-47D4-A144-429EADE9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BAFB-1588-4114-884B-7CF08BD9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AE2B3-56B5-47BC-8628-783B1FB1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D639-4CB1-411F-BA48-EFDBE718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8C336-C378-4DE8-8AA3-B149B76F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5367-7D9D-4713-AC27-6823884E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0B31-DF70-4340-8767-DA9D0F79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2FB94-C468-4624-A54D-662BBEAB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9826-E9A2-455A-9864-29E6F289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98207-DD8E-4F31-8757-7F215E90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C09B-6066-4C3D-8ECC-EB96796F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1496B-548A-4DCB-AACE-FD9BEE8F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D47-7ACD-4AE6-AEB0-3AB31EAF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09045-2A36-481C-86C9-1C85CC26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E3D0-2741-4F4E-AE20-9543FDC9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DB3F6-ED8D-43ED-97FD-B2FDD5A5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3C46-6BB0-4BF6-B633-3AE0D27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E12B0-D112-4C79-9B8F-67F5D64A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985F1-ED0F-49B8-8698-83051A18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C783-937A-4176-A1E4-A8B742DF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528D-11F4-48B1-8E02-3B29CCA6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256DA-0314-4D8F-A327-C8A5BE7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8F995-B7A4-49FA-A0AC-EA25CDA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607-C62F-4960-BB50-AE99673C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83F3D-1CFD-4226-8476-0DB2CC6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DE723-083C-484D-8E0A-BD5B9A8C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C753-869D-4191-A04C-91E44A5E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0416-AB87-4762-BD74-434A4AA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2B708-48C4-4E21-AE8C-C360674F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B60E5-EBB7-4DD2-962A-C0CC37FD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8F9A4-F242-430D-9688-86AC54A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51E68-DA23-44F6-8F32-97E8860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64F80-5244-4A9C-98F7-93CD175E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026C-BB80-4319-8790-3B8A43D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28D-4F21-4B5A-B94C-2988E7D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46A9-7E6D-48E4-AEE5-E2C83A4A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C09C-CD55-40F5-B17D-3D6853C9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B0097-9882-42EF-9A76-C70F5B07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1DA5-6A7D-47E6-802C-18CB7985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A7E44-69BA-4554-BB4C-198702BB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2693E-0A69-4E58-9E62-177413F5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30C12-137E-43AF-A36E-69CA49C5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78129-29D6-4CDF-AE40-C7775D23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2C979-3EB2-448D-BFF1-DFB9906B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FEBAC-5433-4038-B1BE-8364770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102-1FD0-4835-A2AC-55FA5008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D7396-1A66-41F6-B069-31758A83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C490-5DB7-4DBC-9111-78C878F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08994-7DF3-4A66-B30A-170FD296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509D6-1D6E-4F10-8D01-43F3360F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7A74E-6526-4388-AEE2-C059D9E0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E4D17-EA96-4AD4-ACCF-C58FE0F9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68A82-60DD-4E5A-B11B-1A71CCCC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E672-3EAB-438A-AF0E-784C178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C0589-3F03-4881-924F-802D4CC8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316A5-E115-4DF8-84CA-1D9CD2C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E2A2-2E78-4A11-871B-E2FCF3D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3C070-3039-4483-BCEE-39D96756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D9E93-5A52-479E-959B-EDD5A715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CED28-704F-4266-89B8-13E1B352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F520E-4FDE-4900-98A1-C5852BCA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78C94-DAB8-421C-850A-AB0E9888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D646-C660-4E86-8403-10C12DC9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8CF02-E41D-44AB-B753-99DE553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46F56-A4F1-4F76-8FE5-996E474F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C733F-3FAB-4B77-8828-516CECAF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E3C3D-41FD-4FA7-9C5C-CF87E71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EE7-A13F-4416-9A62-84283765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EAE7-F8C8-4B7E-9A1E-C3D61CEC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3067C-B13D-46D9-97F3-738F549A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D4916-DB9C-4B0E-875F-C89D8B47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28BFB-82A1-4344-8E6C-3AD23194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0BBF6-396C-4608-8612-47D81F1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A8339-AACC-44C3-B1DE-1116BEB7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D72CA-F993-49D4-9772-070EE47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F9340-1B46-45DE-9994-D9BF3FA7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C7B74-5CBA-4585-A67E-400F03F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A159C-6143-4F94-BFD6-69038CC0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5520-E7A1-4C2E-928E-E3E35AE43C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E371-F89C-4B3C-AC8F-6F8413CB53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AA36-C906-4271-986E-E30272154D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0AC3-12C4-4864-9DA4-CA868C996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371-D940-4021-AE48-3EEF0FCE6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D233-1F57-448C-A9BF-272CED78E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14C-2A84-4EA6-A646-4D8C8D543F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3E33-EA92-44AC-BC30-7C61790A4D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AD0C-5581-41D1-ADCD-536C5F25F2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D14E-E22B-4B4A-A192-650CC1BB5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7243-578A-4C4D-8594-AE4C4D4E10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47.xml"/><Relationship Id="rId3" Type="http://schemas.openxmlformats.org/officeDocument/2006/relationships/slide" Target="slide24.xml"/><Relationship Id="rId4" Type="http://schemas.openxmlformats.org/officeDocument/2006/relationships/slide" Target="slide26.xml"/><Relationship Id="rId5" Type="http://schemas.openxmlformats.org/officeDocument/2006/relationships/slide" Target="slide30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WIN7_Themepack_Choobies/choobies_05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1639222_144622091_2"/>
          <p:cNvPicPr/>
          <p:nvPr/>
        </p:nvPicPr>
        <p:blipFill>
          <a:blip r:embed="rId1"/>
          <a:stretch/>
        </p:blipFill>
        <p:spPr>
          <a:xfrm>
            <a:off x="0" y="0"/>
            <a:ext cx="9144000" cy="7343640"/>
          </a:xfrm>
          <a:prstGeom prst="rect">
            <a:avLst/>
          </a:prstGeom>
          <a:ln w="0">
            <a:noFill/>
          </a:ln>
        </p:spPr>
      </p:pic>
      <p:sp>
        <p:nvSpPr>
          <p:cNvPr id="454" name="页脚占位符 4"/>
          <p:cNvSpPr/>
          <p:nvPr/>
        </p:nvSpPr>
        <p:spPr>
          <a:xfrm flipV="1">
            <a:off x="3124080" y="8001000"/>
            <a:ext cx="289584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4" descr="5e377135h64bd8275840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5e377135h64bd8de6577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9" descr="5e377135h64bd84c8835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4" descr="6521458584566220080129041401"/>
          <p:cNvPicPr/>
          <p:nvPr/>
        </p:nvPicPr>
        <p:blipFill>
          <a:blip r:embed="rId1"/>
          <a:stretch/>
        </p:blipFill>
        <p:spPr>
          <a:xfrm>
            <a:off x="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2"/>
          <p:cNvSpPr txBox="1"/>
          <p:nvPr/>
        </p:nvSpPr>
        <p:spPr>
          <a:xfrm>
            <a:off x="1258920" y="836640"/>
            <a:ext cx="2808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很多同学都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5508720" y="1989000"/>
            <a:ext cx="2644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痛苦  煎熬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4" name="WordArt 4"/>
          <p:cNvSpPr txBox="1"/>
          <p:nvPr/>
        </p:nvSpPr>
        <p:spPr>
          <a:xfrm>
            <a:off x="1763640" y="3716280"/>
            <a:ext cx="560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叫痛苦？什么叫幸福？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1313640" y="25160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改改样式，背景图片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c8cfe9b34ab2677b092302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WordArt 3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WordArt 4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图片1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468360" y="1268280"/>
            <a:ext cx="396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年轻的韶华里，我告诉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己将有属于自己的生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离开这没有明媚阳光的角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看见升起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穿越云层的黑影，那是天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坚持到发现彩虹终点的一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5561280" y="1268280"/>
            <a:ext cx="2550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飘浮在自由的羽翅上，离开那些失落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要驰骋于明朝那金色的田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沉重的旅行结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将休息我疲惫的思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是为了融合世界的光明和它的丽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的生命没有时光的蹉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当看见落山的太阳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告诉我，必须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到明天，没有理由回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锲而不舍，锲而不舍，锲而不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WordArt 5"/>
          <p:cNvSpPr txBox="1"/>
          <p:nvPr/>
        </p:nvSpPr>
        <p:spPr>
          <a:xfrm>
            <a:off x="2627280" y="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锲而不舍到明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15998d7b216501e10ad187eb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"/>
          <p:cNvSpPr/>
          <p:nvPr/>
        </p:nvSpPr>
        <p:spPr>
          <a:xfrm>
            <a:off x="0" y="267660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76360" y="1052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馒头理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5" descr="11_3_8-2"/>
          <p:cNvPicPr/>
          <p:nvPr/>
        </p:nvPicPr>
        <p:blipFill>
          <a:blip r:embed="rId2"/>
          <a:stretch/>
        </p:blipFill>
        <p:spPr>
          <a:xfrm>
            <a:off x="5940360" y="69228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52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个小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游泳教练与“聪明的学员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一次一个游泳教练在教导一群初学游泳的学员，为了克服学员不敢下水的心理，他拿了一个洋娃娃丢进游泳池，然后大声喊：“有小孩落到水了，大家赶快跳下去救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同学们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如果你是其中的一位学员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你会怎么样做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609480" y="2590920"/>
            <a:ext cx="828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立刻跳进游泳池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继续站在游泳池的边上无动于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5"/>
          <p:cNvSpPr/>
          <p:nvPr/>
        </p:nvSpPr>
        <p:spPr>
          <a:xfrm>
            <a:off x="468360" y="620640"/>
            <a:ext cx="8675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心在云上，路在脚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雄鹰再生，敢于超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2ppt.cn   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然后学员们听到了都争先恐后地跳到水里面去了。只有一位学员站在游泳池边不动，冷笑道：“想用这一招骗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914400" y="396252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他是全队学员中最最聪明的一位，可是很不幸也是全队学员中唯一没有学会游泳的一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2059200" y="1538280"/>
            <a:ext cx="4752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知道在适当的时候自动管制自己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就是聪明人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怕是自己的一点点克制，也后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变得强而有力。</a:t>
            </a:r>
            <a:r>
              <a:rPr b="1" lang="en-US" sz="4000" spc="-1" strike="noStrike">
                <a:solidFill>
                  <a:srgbClr val="000000"/>
                </a:solidFill>
                <a:latin typeface="Courier New"/>
                <a:ea typeface="华文行楷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高尔基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685800" y="533520"/>
            <a:ext cx="2666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记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7" name="Picture 5" descr="A1019237511_13576"/>
          <p:cNvPicPr/>
          <p:nvPr/>
        </p:nvPicPr>
        <p:blipFill>
          <a:blip r:embed="rId2"/>
          <a:stretch/>
        </p:blipFill>
        <p:spPr>
          <a:xfrm>
            <a:off x="7238880" y="4419720"/>
            <a:ext cx="1295640" cy="1307880"/>
          </a:xfrm>
          <a:prstGeom prst="rect">
            <a:avLst/>
          </a:prstGeom>
          <a:ln w="0">
            <a:noFill/>
          </a:ln>
        </p:spPr>
      </p:pic>
      <p:sp>
        <p:nvSpPr>
          <p:cNvPr id="53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f2264c23780b51539258078b"/>
          <p:cNvPicPr/>
          <p:nvPr/>
        </p:nvPicPr>
        <p:blipFill>
          <a:blip r:embed="rId1"/>
          <a:stretch/>
        </p:blipFill>
        <p:spPr>
          <a:xfrm>
            <a:off x="-106200" y="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395280" y="333360"/>
            <a:ext cx="8066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回顾课本知识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轮复习阶段过程主要是对全部课程的回顾。高考试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基础知识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稍难点的综合题。弄懂课本不是光记住结论，而是要通读。即理科全部的原理要弄清、语文课文内标注的字词句摘抄、英语课文至少要达到念的通顺。注意，第一轮复习十分重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家千万不要埋头做题，而是先看课本，再“精”做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p200892111162981258[1]"/>
          <p:cNvPicPr/>
          <p:nvPr/>
        </p:nvPicPr>
        <p:blipFill>
          <a:blip r:embed="rId1"/>
          <a:stretch/>
        </p:blipFill>
        <p:spPr>
          <a:xfrm>
            <a:off x="36360" y="-239760"/>
            <a:ext cx="9288720" cy="75312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663480" y="1633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12720" y="62064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握好自己的节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学生因为在复习过程中跟不上老师的节奏，导致前面部分没弄懂，后面部分更是拉下，学校在教学节奏控制上又不能根据学生本身制定。如果实在跟不上节奏，就将遗漏的课本部分做好画线标记，以利于及时的回顾。在学的过程中，建议在弄不懂的问题上多问同学，多问老师。最好能够找到水平相当的同学，互相给对方做考察，互相研究题目。同学之间相互沟通时所掌握的内容比问老师的效果更好，可以很容易的将思维的漏洞补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047f9257a7e637eab645ae1b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735560" y="260280"/>
            <a:ext cx="5598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确处理作业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处理作业上，千万不要死磕题目，和自己过不去。第一遍做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来或做错就直接先放弃，但是要保留这道题，每天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看下这类不会做的题，直到一眼看出这题怎么做时，再动手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将这类题型留好。本进行互动。做完作业不要看对答案，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第二天把有困难的和同学交流，或第二天看别人怎么做，然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他怎么想的。如果不善于问同学，至少等到第二天再看课本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答案。无论对错，看答案或对答案的过程中尽量回顾当时我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想的，与别人差别点在哪里。这样，尽管你当时没有“获取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答案，但是留下了疑问，又多一些时间来探讨自己做题时的思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3"/>
          <p:cNvSpPr/>
          <p:nvPr/>
        </p:nvSpPr>
        <p:spPr>
          <a:xfrm>
            <a:off x="1992960" y="1268280"/>
            <a:ext cx="5118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利用每一次考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理考试上，要认同自己。分数很重要，重要的是你得到的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些分数和你得不到的分数，毕竟不是高考，当前阶段分数的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低没有任何意义。你只需做三件事：一、根据你所获取分数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部分，整理你当前会的知识，会做的题型。二、根据你所丢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数，立即回归课本，看完课本后再做一遍。三、拿着卷子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自己，当时做对的题自己是怎么想的，不会的题当时是怎么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现在会的题和当时不会做时差距在哪里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8eb2b782b280b88a0cf4d282"/>
          <p:cNvPicPr/>
          <p:nvPr/>
        </p:nvPicPr>
        <p:blipFill>
          <a:blip r:embed="rId1"/>
          <a:stretch/>
        </p:blipFill>
        <p:spPr>
          <a:xfrm>
            <a:off x="0" y="-19080"/>
            <a:ext cx="9477360" cy="687708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1658880" y="692280"/>
            <a:ext cx="5992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业考试化，考试高考化，将平时考试当高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考试当平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坚持：贵在坚持、难在坚持、成在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阳每天都是新的，你是否每天都在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苦再难，也要坚强，只为那些期待的眼神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回避哪怕是一个简单得不好意思的问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它对你很重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实它对别人也是一个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起的难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20081013055162231[1]"/>
          <p:cNvPicPr/>
          <p:nvPr/>
        </p:nvPicPr>
        <p:blipFill>
          <a:blip r:embed="rId1"/>
          <a:stretch/>
        </p:blipFill>
        <p:spPr>
          <a:xfrm>
            <a:off x="-717480" y="0"/>
            <a:ext cx="9861480" cy="7399440"/>
          </a:xfrm>
          <a:prstGeom prst="rect">
            <a:avLst/>
          </a:prstGeom>
          <a:ln w="0">
            <a:noFill/>
          </a:ln>
        </p:spPr>
      </p:pic>
      <p:sp>
        <p:nvSpPr>
          <p:cNvPr id="556" name="WordArt 3"/>
          <p:cNvSpPr txBox="1"/>
          <p:nvPr/>
        </p:nvSpPr>
        <p:spPr>
          <a:xfrm>
            <a:off x="914400" y="333360"/>
            <a:ext cx="358632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问题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52280" y="1386000"/>
            <a:ext cx="9296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“懒筋”没拔出，不够刻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对待练习不够认真，不刻苦钻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有严重偏科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时间安排欠合理、科学，易受情绪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前没有认真复习，不懂的问题没有及时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考试时，太过粗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基础不够扎实，做练习太少，没能巩固好所学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、复习不全面，只是粗略地看了一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5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９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763640" y="19162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幼圆"/>
              </a:rPr>
              <a:t>带着一脸的兴奋和茫然，我们已经度过了高三的上个学期，时间在我们面前匆匆划过，留下一道道优美的弧线，或许也留下了挥之不去的遗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B~)TQVDQ{O)Z3U77S2I7}R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55964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冲刺高三</a:t>
            </a:r>
            <a:br>
              <a:rPr sz="9600"/>
            </a:br>
            <a:r>
              <a:rPr b="0" lang="zh-CN" sz="9600" spc="-1" strike="noStrike">
                <a:solidFill>
                  <a:srgbClr val="ff3300"/>
                </a:solidFill>
                <a:latin typeface="Arial"/>
              </a:rPr>
              <a:t>青春无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我的未来不是梦.mp3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页脚占位符 4"/>
          <p:cNvSpPr/>
          <p:nvPr/>
        </p:nvSpPr>
        <p:spPr>
          <a:xfrm>
            <a:off x="3124080" y="7286760"/>
            <a:ext cx="2895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08992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卡通形象--海豚 - 卡通海豚图片6"/>
          <p:cNvPicPr/>
          <p:nvPr/>
        </p:nvPicPr>
        <p:blipFill>
          <a:blip r:embed="rId1"/>
          <a:stretch/>
        </p:blipFill>
        <p:spPr>
          <a:xfrm>
            <a:off x="1763640" y="260280"/>
            <a:ext cx="5629320" cy="3629160"/>
          </a:xfrm>
          <a:prstGeom prst="rect">
            <a:avLst/>
          </a:prstGeom>
          <a:ln w="0">
            <a:noFill/>
          </a:ln>
        </p:spPr>
      </p:pic>
      <p:sp>
        <p:nvSpPr>
          <p:cNvPr id="565" name="WordArt 3"/>
          <p:cNvSpPr txBox="1"/>
          <p:nvPr/>
        </p:nvSpPr>
        <p:spPr>
          <a:xfrm>
            <a:off x="1835280" y="4076640"/>
            <a:ext cx="568944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c2749b"/>
                    </a:gs>
                    <a:gs pos="50000">
                      <a:srgbClr val="ff99cc"/>
                    </a:gs>
                    <a:gs pos="100000">
                      <a:srgbClr val="c2749b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听老师的话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c2749b"/>
                  </a:gs>
                  <a:gs pos="50000">
                    <a:srgbClr val="ff99cc"/>
                  </a:gs>
                  <a:gs pos="100000">
                    <a:srgbClr val="c2749b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-396720" y="0"/>
            <a:ext cx="9540720" cy="69325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我们的对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态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一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智力无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规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法理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耐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生的砥砺和坚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四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习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成就未来的必要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打开通往大学之门的钥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yiluanhou]"/>
          <p:cNvPicPr/>
          <p:nvPr/>
        </p:nvPicPr>
        <p:blipFill>
          <a:blip r:embed="rId1"/>
          <a:stretch/>
        </p:blipFill>
        <p:spPr>
          <a:xfrm>
            <a:off x="0" y="-1681200"/>
            <a:ext cx="9144000" cy="109126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2481120" y="170028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努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造就实力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态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张国政"/>
          <p:cNvPicPr/>
          <p:nvPr/>
        </p:nvPicPr>
        <p:blipFill>
          <a:blip r:embed="rId1"/>
          <a:stretch/>
        </p:blipFill>
        <p:spPr>
          <a:xfrm>
            <a:off x="-8287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3"/>
          <p:cNvSpPr/>
          <p:nvPr/>
        </p:nvSpPr>
        <p:spPr>
          <a:xfrm>
            <a:off x="-1545480" y="0"/>
            <a:ext cx="29235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咬牙坚持，为了心中的梦想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m_1247047463590"/>
          <p:cNvPicPr/>
          <p:nvPr/>
        </p:nvPicPr>
        <p:blipFill>
          <a:blip r:embed="rId1"/>
          <a:stretch/>
        </p:blipFill>
        <p:spPr>
          <a:xfrm>
            <a:off x="2700360" y="907920"/>
            <a:ext cx="3676680" cy="4592880"/>
          </a:xfrm>
          <a:prstGeom prst="rect">
            <a:avLst/>
          </a:prstGeom>
          <a:ln w="0">
            <a:noFill/>
          </a:ln>
        </p:spPr>
      </p:pic>
      <p:pic>
        <p:nvPicPr>
          <p:cNvPr id="578" name="我相信(8人和声编排版)-哈理工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4"/>
          <p:cNvSpPr/>
          <p:nvPr/>
        </p:nvSpPr>
        <p:spPr>
          <a:xfrm>
            <a:off x="615960" y="1413000"/>
            <a:ext cx="1185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华文隶书"/>
              </a:rPr>
              <a:t>我坚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6229440" y="1052640"/>
            <a:ext cx="237492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隶书"/>
              </a:rPr>
              <a:t>我们坚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85663" fill="hold"/>
                                        <p:tgtEl>
                                          <p:spTgt spid="5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Peking%20Uni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6325153949929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2605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138455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0380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575111430352"/>
          <p:cNvPicPr/>
          <p:nvPr/>
        </p:nvPicPr>
        <p:blipFill>
          <a:blip r:embed="rId1"/>
          <a:stretch/>
        </p:blipFill>
        <p:spPr>
          <a:xfrm>
            <a:off x="0" y="0"/>
            <a:ext cx="9144000" cy="6289560"/>
          </a:xfrm>
          <a:prstGeom prst="rect">
            <a:avLst/>
          </a:prstGeom>
          <a:ln w="0">
            <a:noFill/>
          </a:ln>
        </p:spPr>
      </p:pic>
      <p:sp>
        <p:nvSpPr>
          <p:cNvPr id="59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１１"/>
          <p:cNvPicPr/>
          <p:nvPr/>
        </p:nvPicPr>
        <p:blipFill>
          <a:blip r:embed="rId1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3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0" y="365760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 每天不留分文地全数提领是最佳选择。  你可能不晓得， 其实我们每个人都有这样的一个银行， 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2005112815238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20070111142717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xinsrc_172080221111559315548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xinsrc_152080221111551522797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wxj08131162961569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F20050711090725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20050403170327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20070307145224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6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200745211940247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469" name="页脚占位符 2"/>
          <p:cNvSpPr/>
          <p:nvPr/>
        </p:nvSpPr>
        <p:spPr>
          <a:xfrm>
            <a:off x="3124080" y="7643880"/>
            <a:ext cx="2895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2007124161542250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3"/>
          <p:cNvSpPr/>
          <p:nvPr/>
        </p:nvSpPr>
        <p:spPr>
          <a:xfrm>
            <a:off x="1127520" y="403920"/>
            <a:ext cx="693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字母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別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编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上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到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26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分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A=1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B=2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…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Z=26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</a:t>
            </a:r>
            <a:r>
              <a:rPr b="1" lang="zh-TW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2411280" y="2205000"/>
            <a:ext cx="5761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ard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ttitud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它们分别是多少分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5"/>
          <p:cNvSpPr txBox="1"/>
          <p:nvPr/>
        </p:nvSpPr>
        <p:spPr>
          <a:xfrm>
            <a:off x="611280" y="2205000"/>
            <a:ext cx="1224000" cy="127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20080527034545"/>
          <p:cNvPicPr/>
          <p:nvPr/>
        </p:nvPicPr>
        <p:blipFill>
          <a:blip r:embed="rId1"/>
          <a:stretch/>
        </p:blipFill>
        <p:spPr>
          <a:xfrm>
            <a:off x="4859280" y="364500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3"/>
          <p:cNvSpPr/>
          <p:nvPr/>
        </p:nvSpPr>
        <p:spPr>
          <a:xfrm>
            <a:off x="324000" y="76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知识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KNOWLEDG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+14+15+23+12+5+4+7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努力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ARDWORK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也只得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+1+18+4+23+15+18+11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8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你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态度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TTITUDE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i="1" lang="zh-TW" sz="3600" spc="-1" strike="noStrike">
                <a:solidFill>
                  <a:srgbClr val="ff0000"/>
                </a:solidFill>
                <a:latin typeface="黑体"/>
                <a:ea typeface="黑体"/>
              </a:rPr>
              <a:t>才是左右你生命的全部</a:t>
            </a:r>
            <a:br>
              <a:rPr sz="3600"/>
            </a:b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+20+20+9+20+21+4+5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TW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2" descr="台湾酷分仔多媒体3D动画壁纸：Choobies 超毛星 - Choobies 超毛星动画图片壁纸4">
            <a:hlinkClick r:id="rId1"/>
          </p:cNvPr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4"/>
          <p:cNvSpPr txBox="1"/>
          <p:nvPr/>
        </p:nvSpPr>
        <p:spPr>
          <a:xfrm>
            <a:off x="395280" y="3645000"/>
            <a:ext cx="8317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欢乐比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成功后带来的幸福，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又算得了什么？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1" name="WordArt 5"/>
          <p:cNvSpPr txBox="1"/>
          <p:nvPr/>
        </p:nvSpPr>
        <p:spPr>
          <a:xfrm>
            <a:off x="324000" y="765000"/>
            <a:ext cx="8496000" cy="217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现在的痛苦比起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考失败后的痛苦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那又算得了什么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图片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18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大家觉得高三生活会是什么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谈谈感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让我们来欣赏一下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6:17:29Z</dcterms:created>
  <dc:creator>未知用户</dc:creator>
  <dc:description/>
  <dc:language>en-US</dc:language>
  <cp:lastModifiedBy>clf2015</cp:lastModifiedBy>
  <cp:lastPrinted>1899-12-30T00:00:00Z</cp:lastPrinted>
  <dcterms:modified xsi:type="dcterms:W3CDTF">2015-10-09T08:13:21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