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gif" ContentType="image/gif"/>
  <Override PartName="/ppt/media/ricochet.wav" ContentType="audio/x-wav"/>
  <Override PartName="/ppt/media/image34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5A9-5ADC-4183-A1F8-4C44EE6E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DF82-5FEE-4A60-82EB-423DFBCD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76B4-EF65-4CAF-8368-67DF65A8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49DD-E6E8-4442-A1D6-7D238449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3329-2725-420D-8109-7A6F8820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96B6-663E-4873-9B72-0BD2A040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7E64-FA2C-4A4D-A1AC-14F5528F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922D-F784-438D-97DE-2A64959B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87D-5D44-4968-ABE2-617889C8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C240-17C1-4CE4-A223-7DBC7862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58A-9BA0-4AC7-B1B7-8D6E12C8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A1B4-2899-4A91-9868-8F99E6C0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7B07-1DCB-4B28-8137-2BA5FCCE8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节约用水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321560" y="4508640"/>
            <a:ext cx="300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目前人类利用较多的是哪部分水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553120" y="515772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湖泊淡水、河流水、浅层地下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11280" y="5805360"/>
            <a:ext cx="39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仅占全球淡水资源的</a:t>
            </a: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0.3%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0" y="260280"/>
            <a:ext cx="8915400" cy="40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79280" y="333360"/>
            <a:ext cx="482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我国水资源状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按水资源总量大小排队，前几名依次是：巴西、俄罗斯、加拿大、美国、印度尼西亚、中国。和世界淡水资源总量的大国相比，中国人均水资源是巴西的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/16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俄罗斯的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/1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加拿大的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/5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美国的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/5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印度尼西亚的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/7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 中国人均水资源占有量仅为世界人均占有量的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/4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世界排名第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11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位之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水资源分布"/>
          <p:cNvPicPr/>
          <p:nvPr/>
        </p:nvPicPr>
        <p:blipFill>
          <a:blip r:embed="rId1"/>
          <a:stretch/>
        </p:blipFill>
        <p:spPr>
          <a:xfrm>
            <a:off x="5003640" y="1052640"/>
            <a:ext cx="4140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395280" y="260280"/>
            <a:ext cx="85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 Unicode MS"/>
                <a:ea typeface="Arial Unicode MS"/>
              </a:rPr>
              <a:t>       </a:t>
            </a:r>
            <a:r>
              <a:rPr b="1" lang="zh-CN" sz="2400" spc="-1" strike="noStrike">
                <a:solidFill>
                  <a:srgbClr val="3333ff"/>
                </a:solidFill>
                <a:latin typeface="Arial Unicode MS"/>
                <a:ea typeface="Arial Unicode MS"/>
              </a:rPr>
              <a:t>水资源如此珍贵，可以说滴水贵如油，但浪费又很惊人。据有关部门测算，如果水的有效利用率提高</a:t>
            </a:r>
            <a:r>
              <a:rPr b="1" lang="en-US" sz="2400" spc="-1" strike="noStrike">
                <a:solidFill>
                  <a:srgbClr val="3333ff"/>
                </a:solidFill>
                <a:latin typeface="Arial Unicode MS"/>
                <a:ea typeface="Arial Unicode MS"/>
              </a:rPr>
              <a:t>10%</a:t>
            </a:r>
            <a:r>
              <a:rPr b="1" lang="zh-CN" sz="2400" spc="-1" strike="noStrike">
                <a:solidFill>
                  <a:srgbClr val="3333ff"/>
                </a:solidFill>
                <a:latin typeface="Arial Unicode MS"/>
                <a:ea typeface="Arial Unicode MS"/>
              </a:rPr>
              <a:t>，按农业用水</a:t>
            </a:r>
            <a:r>
              <a:rPr b="1" lang="en-US" sz="2400" spc="-1" strike="noStrike">
                <a:solidFill>
                  <a:srgbClr val="3333ff"/>
                </a:solidFill>
                <a:latin typeface="Arial Unicode MS"/>
                <a:ea typeface="Arial Unicode MS"/>
              </a:rPr>
              <a:t>4500</a:t>
            </a:r>
            <a:r>
              <a:rPr b="1" lang="zh-CN" sz="2400" spc="-1" strike="noStrike">
                <a:solidFill>
                  <a:srgbClr val="3333ff"/>
                </a:solidFill>
                <a:latin typeface="Arial Unicode MS"/>
                <a:ea typeface="Arial Unicode MS"/>
              </a:rPr>
              <a:t>亿立方米计算，一年就等于增加</a:t>
            </a:r>
            <a:r>
              <a:rPr b="1" lang="en-US" sz="2400" spc="-1" strike="noStrike">
                <a:solidFill>
                  <a:srgbClr val="3333ff"/>
                </a:solidFill>
                <a:latin typeface="Arial Unicode MS"/>
                <a:ea typeface="Arial Unicode MS"/>
              </a:rPr>
              <a:t>450</a:t>
            </a:r>
            <a:r>
              <a:rPr b="1" lang="zh-CN" sz="2400" spc="-1" strike="noStrike">
                <a:solidFill>
                  <a:srgbClr val="3333ff"/>
                </a:solidFill>
                <a:latin typeface="Arial Unicode MS"/>
                <a:ea typeface="Arial Unicode MS"/>
              </a:rPr>
              <a:t>亿立方米水，相当于兴建几十个、上百个大型水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993678DCF40746C62459CF1322E71B55"/>
          <p:cNvPicPr/>
          <p:nvPr/>
        </p:nvPicPr>
        <p:blipFill>
          <a:blip r:embed="rId1"/>
          <a:stretch/>
        </p:blipFill>
        <p:spPr>
          <a:xfrm>
            <a:off x="0" y="2060640"/>
            <a:ext cx="4284720" cy="424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u=3728783054,1679531472&amp;fm=52&amp;gp=0"/>
          <p:cNvPicPr/>
          <p:nvPr/>
        </p:nvPicPr>
        <p:blipFill>
          <a:blip r:embed="rId2"/>
          <a:stretch/>
        </p:blipFill>
        <p:spPr>
          <a:xfrm>
            <a:off x="4211640" y="2046240"/>
            <a:ext cx="475308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倡议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人人做一名节水宣传员，告诉家里所有人要节约用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发现自来水有滴水现象要及时关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一水多用，我们打扫卫生拖地后留下的水拿来浇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建议同学们平时不玩水和水枪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50920" y="1413000"/>
            <a:ext cx="352908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5050"/>
                </a:solidFill>
                <a:latin typeface="华文中宋"/>
                <a:ea typeface="华文中宋"/>
              </a:rPr>
              <a:t>家庭节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ff5050"/>
                </a:solidFill>
                <a:latin typeface="华文中宋"/>
                <a:ea typeface="华文中宋"/>
              </a:rPr>
              <a:t>、一水多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5050"/>
                </a:solidFill>
                <a:latin typeface="华文中宋"/>
                <a:ea typeface="华文中宋"/>
              </a:rPr>
              <a:t>、推广节水器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华文中宋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ff5050"/>
                </a:solidFill>
                <a:latin typeface="华文中宋"/>
                <a:ea typeface="华文中宋"/>
              </a:rPr>
              <a:t>、少使用洗涤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华文中宋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ff5050"/>
                </a:solidFill>
                <a:latin typeface="华文中宋"/>
                <a:ea typeface="华文中宋"/>
              </a:rPr>
              <a:t>和清洁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节水用具2"/>
          <p:cNvPicPr/>
          <p:nvPr/>
        </p:nvPicPr>
        <p:blipFill>
          <a:blip r:embed="rId1"/>
          <a:stretch/>
        </p:blipFill>
        <p:spPr>
          <a:xfrm>
            <a:off x="6227640" y="981000"/>
            <a:ext cx="2737080" cy="2008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一水多用"/>
          <p:cNvPicPr/>
          <p:nvPr/>
        </p:nvPicPr>
        <p:blipFill>
          <a:blip r:embed="rId2"/>
          <a:stretch/>
        </p:blipFill>
        <p:spPr>
          <a:xfrm>
            <a:off x="3780000" y="1628640"/>
            <a:ext cx="2374560" cy="31687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65040" y="244440"/>
            <a:ext cx="74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讨论：在生活中我们该怎样节水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20110516082804268550"/>
          <p:cNvPicPr/>
          <p:nvPr/>
        </p:nvPicPr>
        <p:blipFill>
          <a:blip r:embed="rId3"/>
          <a:stretch/>
        </p:blipFill>
        <p:spPr>
          <a:xfrm>
            <a:off x="6286680" y="2997360"/>
            <a:ext cx="285732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43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生活节水小窍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、淘米水洗菜，再用清水清洗，不仅节约了水，还有效地清除了蔬菜上的残存农药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二、洗衣水洗拖帕、帚地板、再冲厕所。第二道清洗衣物的洗衣水擦门窗及家具、洗鞋袜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三、自行车、家用小轿车清洁时，不用水冲，改用湿布擦，太脏的地方，也宜用洗衣物过     后的水冲洗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四、家庭浇花，宜用淘米水、茶水、洗衣水等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五、家庭洗涤手巾、小对象、瓜果等少量用水。宜用盆子盛水而不宜开水龙头放水冲洗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六、洗地板：用拖把擦洗，可比用水龙头冲洗每次每户可节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k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以上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七、水龙头使用时间长有漏水现象，可用装青霉素的小药瓶的橡胶盖剪一个与原来一样的垫圈放进去，可以保证滴水不漏；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节约用水 珍惜水资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4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414"/>
                </a:solidFill>
                <a:latin typeface="Arial"/>
                <a:ea typeface="隶书"/>
              </a:rPr>
              <a:t>水是生命之源！面对严重的缺水、污染问题，要积极行动起来，珍惜每一滴水，采取节水技术、防治水污染、植树造林等多种措施，合理利用和保护水资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14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414"/>
                </a:solidFill>
                <a:latin typeface="Arial"/>
                <a:ea typeface="隶书"/>
              </a:rPr>
              <a:t>世界水日：</a:t>
            </a:r>
            <a:r>
              <a:rPr b="0" lang="en-US" sz="3200" spc="-1" strike="noStrike">
                <a:solidFill>
                  <a:srgbClr val="001414"/>
                </a:solidFill>
                <a:latin typeface="Arial"/>
                <a:ea typeface="隶书"/>
              </a:rPr>
              <a:t>1993</a:t>
            </a:r>
            <a:r>
              <a:rPr b="0" lang="zh-CN" sz="3200" spc="-1" strike="noStrike">
                <a:solidFill>
                  <a:srgbClr val="001414"/>
                </a:solidFill>
                <a:latin typeface="Arial"/>
                <a:ea typeface="隶书"/>
              </a:rPr>
              <a:t>年</a:t>
            </a:r>
            <a:r>
              <a:rPr b="0" lang="en-US" sz="3200" spc="-1" strike="noStrike">
                <a:solidFill>
                  <a:srgbClr val="001414"/>
                </a:solidFill>
                <a:latin typeface="Arial"/>
                <a:ea typeface="隶书"/>
              </a:rPr>
              <a:t>1</a:t>
            </a:r>
            <a:r>
              <a:rPr b="0" lang="zh-CN" sz="3200" spc="-1" strike="noStrike">
                <a:solidFill>
                  <a:srgbClr val="001414"/>
                </a:solidFill>
                <a:latin typeface="Arial"/>
                <a:ea typeface="隶书"/>
              </a:rPr>
              <a:t>月</a:t>
            </a:r>
            <a:r>
              <a:rPr b="0" lang="en-US" sz="3200" spc="-1" strike="noStrike">
                <a:solidFill>
                  <a:srgbClr val="001414"/>
                </a:solidFill>
                <a:latin typeface="Arial"/>
                <a:ea typeface="隶书"/>
              </a:rPr>
              <a:t>18</a:t>
            </a:r>
            <a:r>
              <a:rPr b="0" lang="zh-CN" sz="3200" spc="-1" strike="noStrike">
                <a:solidFill>
                  <a:srgbClr val="001414"/>
                </a:solidFill>
                <a:latin typeface="Arial"/>
                <a:ea typeface="隶书"/>
              </a:rPr>
              <a:t>日，第</a:t>
            </a:r>
            <a:r>
              <a:rPr b="0" lang="en-US" sz="3200" spc="-1" strike="noStrike">
                <a:solidFill>
                  <a:srgbClr val="001414"/>
                </a:solidFill>
                <a:latin typeface="Arial"/>
                <a:ea typeface="隶书"/>
              </a:rPr>
              <a:t>47</a:t>
            </a:r>
            <a:r>
              <a:rPr b="0" lang="zh-CN" sz="3200" spc="-1" strike="noStrike">
                <a:solidFill>
                  <a:srgbClr val="001414"/>
                </a:solidFill>
                <a:latin typeface="Arial"/>
                <a:ea typeface="隶书"/>
              </a:rPr>
              <a:t>届联合国大会通过了</a:t>
            </a:r>
            <a:r>
              <a:rPr b="0" lang="en-US" sz="3200" spc="-1" strike="noStrike">
                <a:solidFill>
                  <a:srgbClr val="001414"/>
                </a:solidFill>
                <a:latin typeface="Arial"/>
                <a:ea typeface="隶书"/>
              </a:rPr>
              <a:t>193</a:t>
            </a:r>
            <a:r>
              <a:rPr b="0" lang="zh-CN" sz="3200" spc="-1" strike="noStrike">
                <a:solidFill>
                  <a:srgbClr val="001414"/>
                </a:solidFill>
                <a:latin typeface="Arial"/>
                <a:ea typeface="隶书"/>
              </a:rPr>
              <a:t>号决议。确定自</a:t>
            </a:r>
            <a:r>
              <a:rPr b="0" lang="en-US" sz="3200" spc="-1" strike="noStrike">
                <a:solidFill>
                  <a:srgbClr val="001414"/>
                </a:solidFill>
                <a:latin typeface="Arial"/>
                <a:ea typeface="隶书"/>
              </a:rPr>
              <a:t>1993</a:t>
            </a:r>
            <a:r>
              <a:rPr b="0" lang="zh-CN" sz="3200" spc="-1" strike="noStrike">
                <a:solidFill>
                  <a:srgbClr val="001414"/>
                </a:solidFill>
                <a:latin typeface="Arial"/>
                <a:ea typeface="隶书"/>
              </a:rPr>
              <a:t>年起，将每年的</a:t>
            </a:r>
            <a:r>
              <a:rPr b="0" lang="en-US" sz="3200" spc="-1" strike="noStrike">
                <a:solidFill>
                  <a:srgbClr val="001414"/>
                </a:solidFill>
                <a:latin typeface="Arial"/>
                <a:ea typeface="隶书"/>
              </a:rPr>
              <a:t>3</a:t>
            </a:r>
            <a:r>
              <a:rPr b="0" lang="zh-CN" sz="3200" spc="-1" strike="noStrike">
                <a:solidFill>
                  <a:srgbClr val="001414"/>
                </a:solidFill>
                <a:latin typeface="Arial"/>
                <a:ea typeface="隶书"/>
              </a:rPr>
              <a:t>月</a:t>
            </a:r>
            <a:r>
              <a:rPr b="0" lang="en-US" sz="3200" spc="-1" strike="noStrike">
                <a:solidFill>
                  <a:srgbClr val="001414"/>
                </a:solidFill>
                <a:latin typeface="Arial"/>
                <a:ea typeface="隶书"/>
              </a:rPr>
              <a:t>22</a:t>
            </a:r>
            <a:r>
              <a:rPr b="0" lang="zh-CN" sz="3200" spc="-1" strike="noStrike">
                <a:solidFill>
                  <a:srgbClr val="001414"/>
                </a:solidFill>
                <a:latin typeface="Arial"/>
                <a:ea typeface="隶书"/>
              </a:rPr>
              <a:t>日定为世界水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1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以节约用水为荣，以浪费用水可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01300000329092125241071952568"/>
          <p:cNvPicPr/>
          <p:nvPr/>
        </p:nvPicPr>
        <p:blipFill>
          <a:blip r:embed="rId1"/>
          <a:stretch/>
        </p:blipFill>
        <p:spPr>
          <a:xfrm>
            <a:off x="539640" y="2133720"/>
            <a:ext cx="3600720" cy="345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65bOOOPIC2c9"/>
          <p:cNvPicPr/>
          <p:nvPr/>
        </p:nvPicPr>
        <p:blipFill>
          <a:blip r:embed="rId2"/>
          <a:stretch/>
        </p:blipFill>
        <p:spPr>
          <a:xfrm>
            <a:off x="4932360" y="1844640"/>
            <a:ext cx="2905200" cy="388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6554444_161226415394_2"/>
          <p:cNvPicPr/>
          <p:nvPr/>
        </p:nvPicPr>
        <p:blipFill>
          <a:blip r:embed="rId3"/>
          <a:stretch/>
        </p:blipFill>
        <p:spPr>
          <a:xfrm>
            <a:off x="0" y="260280"/>
            <a:ext cx="9325080" cy="639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767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767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2" dur="767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4" dur="767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6"/>
          <p:cNvSpPr txBox="1"/>
          <p:nvPr/>
        </p:nvSpPr>
        <p:spPr>
          <a:xfrm>
            <a:off x="611280" y="1628640"/>
            <a:ext cx="7848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有奖知识竞赛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47280" y="1700280"/>
            <a:ext cx="849636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类赖以生存的淡水资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要分布在冰川、永久积雪、河流、湖泊和地下水中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占地球表面积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0%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占全球储水总量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%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3"/>
          <p:cNvSpPr txBox="1"/>
          <p:nvPr/>
        </p:nvSpPr>
        <p:spPr>
          <a:xfrm>
            <a:off x="2843280" y="692280"/>
            <a:ext cx="36576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竞 赛 题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6732720" y="1773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Black"/>
              </a:rPr>
              <a:t>( A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6" descr="3705940_110420140952_2"/>
          <p:cNvPicPr/>
          <p:nvPr/>
        </p:nvPicPr>
        <p:blipFill>
          <a:blip r:embed="rId1"/>
          <a:srcRect l="21418" t="0" r="21418" b="34916"/>
          <a:stretch/>
        </p:blipFill>
        <p:spPr>
          <a:xfrm>
            <a:off x="6948360" y="2205000"/>
            <a:ext cx="576360" cy="874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8468711_134903070000_2"/>
          <p:cNvPicPr/>
          <p:nvPr/>
        </p:nvPicPr>
        <p:blipFill>
          <a:blip r:embed="rId2"/>
          <a:srcRect l="55529" t="27541" r="0" b="3153"/>
          <a:stretch/>
        </p:blipFill>
        <p:spPr>
          <a:xfrm>
            <a:off x="7093080" y="4437000"/>
            <a:ext cx="1636560" cy="1874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get?name=T1SOVZBjCK1RCvBVdK"/>
          <p:cNvPicPr/>
          <p:nvPr/>
        </p:nvPicPr>
        <p:blipFill>
          <a:blip r:embed="rId3"/>
          <a:srcRect l="0" t="8205" r="0" b="7906"/>
          <a:stretch/>
        </p:blipFill>
        <p:spPr>
          <a:xfrm>
            <a:off x="0" y="0"/>
            <a:ext cx="6626160" cy="597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8468711_134903070000_2"/>
          <p:cNvPicPr/>
          <p:nvPr/>
        </p:nvPicPr>
        <p:blipFill>
          <a:blip r:embed="rId4"/>
          <a:srcRect l="0" t="33626" r="43882" b="9398"/>
          <a:stretch/>
        </p:blipFill>
        <p:spPr>
          <a:xfrm>
            <a:off x="6516720" y="260280"/>
            <a:ext cx="2448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280" y="1125360"/>
            <a:ext cx="820908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誉为“地球之肾” 的（            ）是地球上生物多样性丰富和生产力较高的生态系统，在控制洪水、调节水流、调节气候、降解污染等方面有重要作用。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森林         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湿地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草原</a:t>
            </a:r>
            <a:br>
              <a:rPr sz="2400"/>
            </a:b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308720" y="2852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356000" y="112536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 Black"/>
              </a:rPr>
              <a:t>(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52440" y="1267920"/>
            <a:ext cx="854064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在我国这样的人口大国，每个人节约用水意义重大，下面的节水办法中不可行的是（ 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日定量、定时供水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脏衣服少时用手洗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减少每个人每天的饮用水量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高水价的经济手段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284720" y="1773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Black"/>
              </a:rPr>
              <a:t>( C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42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下是我国的一些绿色标志图形，请问节水标志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 )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700360" y="1197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 Black"/>
              </a:rPr>
              <a:t>(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4651a7125f49deeac2fd787e"/>
          <p:cNvPicPr/>
          <p:nvPr/>
        </p:nvPicPr>
        <p:blipFill>
          <a:blip r:embed="rId1"/>
          <a:srcRect l="0" t="0" r="0" b="23261"/>
          <a:stretch/>
        </p:blipFill>
        <p:spPr>
          <a:xfrm>
            <a:off x="2556000" y="2781360"/>
            <a:ext cx="1942920" cy="1631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2006111274491"/>
          <p:cNvPicPr/>
          <p:nvPr/>
        </p:nvPicPr>
        <p:blipFill>
          <a:blip r:embed="rId2"/>
          <a:srcRect l="0" t="0" r="0" b="10362"/>
          <a:stretch/>
        </p:blipFill>
        <p:spPr>
          <a:xfrm>
            <a:off x="684360" y="2852640"/>
            <a:ext cx="1508040" cy="153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1196217131369"/>
          <p:cNvPicPr/>
          <p:nvPr/>
        </p:nvPicPr>
        <p:blipFill>
          <a:blip r:embed="rId3"/>
          <a:srcRect l="8073" t="5452" r="7271" b="25376"/>
          <a:stretch/>
        </p:blipFill>
        <p:spPr>
          <a:xfrm>
            <a:off x="4932360" y="278136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2007328154347308"/>
          <p:cNvPicPr/>
          <p:nvPr/>
        </p:nvPicPr>
        <p:blipFill>
          <a:blip r:embed="rId4"/>
          <a:srcRect l="52789" t="11785" r="0" b="36403"/>
          <a:stretch/>
        </p:blipFill>
        <p:spPr>
          <a:xfrm>
            <a:off x="7093080" y="2781360"/>
            <a:ext cx="1582560" cy="15494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1042920" y="479736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132000" y="4797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219640" y="472428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7451640" y="4724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072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中国国家节水标志是由（      ）组成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滴、森林、地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森林、人手、地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滴、人手、地球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364000" y="1557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 Black"/>
              </a:rPr>
              <a:t>( C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429000" cy="33955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4067280" y="1268280"/>
            <a:ext cx="4572000" cy="520560"/>
          </a:xfrm>
          <a:prstGeom prst="rect">
            <a:avLst/>
          </a:prstGeom>
          <a:noFill/>
          <a:ln w="25560">
            <a:solidFill>
              <a:srgbClr val="99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绿色的圆形代表地球，标志留白部分像一只手托起一滴水。手是字母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J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3333ff"/>
                </a:solidFill>
                <a:latin typeface="宋体"/>
              </a:rPr>
              <a:t>S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的变形，寓意节水，表示节水需要公众参与，鼓励人们从我做起，人人动手节约每一滴水；手又像一条蜿蜒的河流，象征滴水汇成江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00000" y="494172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Times New Roman"/>
              </a:rPr>
              <a:t>国家节水标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4978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（        ）届联合国大会将每年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定为“世界水日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旨在推动对水资源进行综合性统筹规划和管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强水资源保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解决日益严峻的水问题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643280" y="76500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 Black"/>
              </a:rPr>
              <a:t>(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55640" y="38606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6         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7           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8</a:t>
            </a:r>
            <a:br>
              <a:rPr sz="3600"/>
            </a:b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7920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的科学家曾这样预言：“水，不久将成为一个深刻的社会危机”。下列主要原因中，不属于人类活动所造成的是（        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虽然地球上总水量很大，但淡水资源却不富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水污染的问题日益突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合理地开发利用水资源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浪费水的现象依然严重存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979640" y="213372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 Black"/>
              </a:rPr>
              <a:t>(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777564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列家庭用水习惯中，下列除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都是科学又经济的方法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156360" y="476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 Black"/>
              </a:rPr>
              <a:t>(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611280" y="1989000"/>
            <a:ext cx="82803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洗手、洗脸、刷牙随手关闭水龙头， 不让水持续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考虑到自来水管中可能存在的致病军团菌，清晨第一次放的水不饮用，但存留起来用作冲洗马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洗菜、淘米的水用来浇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洗衣粉或洗涤剂量用得越多越干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684360" y="1989000"/>
            <a:ext cx="763272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说说有关水的成语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水滴"/>
          <p:cNvPicPr/>
          <p:nvPr/>
        </p:nvPicPr>
        <p:blipFill>
          <a:blip r:embed="rId1"/>
          <a:stretch/>
        </p:blipFill>
        <p:spPr>
          <a:xfrm>
            <a:off x="2209680" y="38088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2057400" y="4648320"/>
            <a:ext cx="5970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不要让我们的眼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成为最后一滴水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8610480" y="6248520"/>
            <a:ext cx="152640" cy="22860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228600"/>
              <a:gd name="textAreaBottom" fmla="*/ 218880 h 228600"/>
            </a:gdLst>
            <a:ahLst/>
            <a:rect l="textAreaLeft" t="textAreaTop" r="textAreaRight" b="textAreaBottom"/>
            <a:pathLst>
              <a:path w="21600" h="32324">
                <a:moveTo>
                  <a:pt x="0" y="0"/>
                </a:moveTo>
                <a:lnTo>
                  <a:pt x="21600" y="0"/>
                </a:lnTo>
                <a:lnTo>
                  <a:pt x="21600" y="32324"/>
                </a:lnTo>
                <a:lnTo>
                  <a:pt x="0" y="32324"/>
                </a:lnTo>
                <a:close/>
              </a:path>
              <a:path fill="lightenLess" w="21600" h="323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24">
                <a:moveTo>
                  <a:pt x="21600" y="0"/>
                </a:moveTo>
                <a:lnTo>
                  <a:pt x="21600" y="32324"/>
                </a:lnTo>
                <a:lnTo>
                  <a:pt x="20200" y="30924"/>
                </a:lnTo>
                <a:lnTo>
                  <a:pt x="20200" y="1400"/>
                </a:lnTo>
                <a:close/>
              </a:path>
              <a:path fill="darkenLess" w="21600" h="32324">
                <a:moveTo>
                  <a:pt x="21600" y="32324"/>
                </a:moveTo>
                <a:lnTo>
                  <a:pt x="0" y="32324"/>
                </a:lnTo>
                <a:lnTo>
                  <a:pt x="1400" y="30924"/>
                </a:lnTo>
                <a:lnTo>
                  <a:pt x="20200" y="30924"/>
                </a:lnTo>
                <a:close/>
              </a:path>
              <a:path fill="lighten" w="21600" h="32324">
                <a:moveTo>
                  <a:pt x="0" y="32324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24"/>
                </a:lnTo>
                <a:close/>
              </a:path>
              <a:path fill="darken" w="21600" h="32324">
                <a:moveTo>
                  <a:pt x="10800" y="9199"/>
                </a:moveTo>
                <a:lnTo>
                  <a:pt x="13376" y="11810"/>
                </a:lnTo>
                <a:lnTo>
                  <a:pt x="13376" y="10069"/>
                </a:lnTo>
                <a:lnTo>
                  <a:pt x="15152" y="10069"/>
                </a:lnTo>
                <a:lnTo>
                  <a:pt x="15152" y="13586"/>
                </a:lnTo>
                <a:lnTo>
                  <a:pt x="17763" y="16162"/>
                </a:lnTo>
                <a:lnTo>
                  <a:pt x="16109" y="16162"/>
                </a:lnTo>
                <a:lnTo>
                  <a:pt x="16109" y="23351"/>
                </a:lnTo>
                <a:lnTo>
                  <a:pt x="5491" y="23351"/>
                </a:lnTo>
                <a:lnTo>
                  <a:pt x="5491" y="16162"/>
                </a:lnTo>
                <a:lnTo>
                  <a:pt x="3837" y="16162"/>
                </a:lnTo>
                <a:close/>
              </a:path>
              <a:path fill="darkenLess" w="21600" h="32324">
                <a:moveTo>
                  <a:pt x="13376" y="11810"/>
                </a:moveTo>
                <a:lnTo>
                  <a:pt x="13376" y="10069"/>
                </a:lnTo>
                <a:lnTo>
                  <a:pt x="15152" y="10069"/>
                </a:lnTo>
                <a:lnTo>
                  <a:pt x="15152" y="13586"/>
                </a:lnTo>
                <a:close/>
              </a:path>
              <a:path fill="darkenLess" w="21600" h="32324">
                <a:moveTo>
                  <a:pt x="9877" y="19661"/>
                </a:moveTo>
                <a:lnTo>
                  <a:pt x="11723" y="19661"/>
                </a:lnTo>
                <a:lnTo>
                  <a:pt x="11723" y="23351"/>
                </a:lnTo>
                <a:lnTo>
                  <a:pt x="16109" y="23351"/>
                </a:lnTo>
                <a:lnTo>
                  <a:pt x="16109" y="16162"/>
                </a:lnTo>
                <a:lnTo>
                  <a:pt x="5491" y="16162"/>
                </a:lnTo>
                <a:lnTo>
                  <a:pt x="5491" y="23351"/>
                </a:lnTo>
                <a:lnTo>
                  <a:pt x="9877" y="23351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u=338590789,2139269893&amp;fm=23&amp;gp=0"/>
          <p:cNvPicPr/>
          <p:nvPr/>
        </p:nvPicPr>
        <p:blipFill>
          <a:blip r:embed="rId1"/>
          <a:stretch/>
        </p:blipFill>
        <p:spPr>
          <a:xfrm>
            <a:off x="250920" y="333360"/>
            <a:ext cx="2738520" cy="424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13033459Ac0-51153"/>
          <p:cNvPicPr/>
          <p:nvPr/>
        </p:nvPicPr>
        <p:blipFill>
          <a:blip r:embed="rId2"/>
          <a:stretch/>
        </p:blipFill>
        <p:spPr>
          <a:xfrm>
            <a:off x="2987640" y="692280"/>
            <a:ext cx="5940360" cy="483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37123bd1-3f9d-4bed-9e08-3dbf8fb52744_m"/>
          <p:cNvPicPr/>
          <p:nvPr/>
        </p:nvPicPr>
        <p:blipFill>
          <a:blip r:embed="rId3"/>
          <a:stretch/>
        </p:blipFill>
        <p:spPr>
          <a:xfrm>
            <a:off x="324000" y="0"/>
            <a:ext cx="882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2009060912440142423"/>
          <p:cNvPicPr/>
          <p:nvPr/>
        </p:nvPicPr>
        <p:blipFill>
          <a:blip r:embed="rId1"/>
          <a:stretch/>
        </p:blipFill>
        <p:spPr>
          <a:xfrm>
            <a:off x="254160" y="333360"/>
            <a:ext cx="8567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WordArt 2" descr=""/>
          <p:cNvPicPr/>
          <p:nvPr/>
        </p:nvPicPr>
        <p:blipFill>
          <a:blip r:embed="rId1"/>
          <a:stretch/>
        </p:blipFill>
        <p:spPr>
          <a:xfrm>
            <a:off x="676440" y="1195560"/>
            <a:ext cx="688320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201103110847094345A3yIJ_priv"/>
          <p:cNvPicPr/>
          <p:nvPr/>
        </p:nvPicPr>
        <p:blipFill>
          <a:blip r:embed="rId1"/>
          <a:stretch/>
        </p:blipFill>
        <p:spPr>
          <a:xfrm>
            <a:off x="3801960" y="189000"/>
            <a:ext cx="5342040" cy="6480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2135-1103120U20433"/>
          <p:cNvPicPr/>
          <p:nvPr/>
        </p:nvPicPr>
        <p:blipFill>
          <a:blip r:embed="rId2"/>
          <a:stretch/>
        </p:blipFill>
        <p:spPr>
          <a:xfrm>
            <a:off x="250920" y="404640"/>
            <a:ext cx="4016160" cy="60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8994345_101403256197_2"/>
          <p:cNvPicPr/>
          <p:nvPr/>
        </p:nvPicPr>
        <p:blipFill>
          <a:blip r:embed="rId1"/>
          <a:srcRect l="0" t="0" r="0" b="4027"/>
          <a:stretch/>
        </p:blipFill>
        <p:spPr>
          <a:xfrm>
            <a:off x="731880" y="476280"/>
            <a:ext cx="84121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6e683eb0ca6d8c18082302e7"/>
          <p:cNvPicPr/>
          <p:nvPr/>
        </p:nvPicPr>
        <p:blipFill>
          <a:blip r:embed="rId1"/>
          <a:stretch/>
        </p:blipFill>
        <p:spPr>
          <a:xfrm>
            <a:off x="395280" y="1197000"/>
            <a:ext cx="8137440" cy="5411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缺水导致庄家颗粒无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2010510121222975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4e48f7f0aa81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100512132659a0e5befe20eb9e"/>
          <p:cNvPicPr/>
          <p:nvPr/>
        </p:nvPicPr>
        <p:blipFill>
          <a:blip r:embed="rId3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5180359_164300008876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372360" y="1557360"/>
            <a:ext cx="24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地球是个蔚蓝的水球，从理论上，水是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取之不尽、用之不竭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的，但事实是这样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50920" y="0"/>
            <a:ext cx="59356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07:28:58Z</dcterms:created>
  <dc:creator>微软用户</dc:creator>
  <dc:description/>
  <dc:language>en-US</dc:language>
  <cp:lastModifiedBy>John</cp:lastModifiedBy>
  <dcterms:modified xsi:type="dcterms:W3CDTF">2014-12-04T03:22:59Z</dcterms:modified>
  <cp:revision>59</cp:revision>
  <dc:subject/>
  <dc:title>幻灯片 1</dc:title>
</cp:coreProperties>
</file>