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1DB-CCFF-448E-BA50-A822C3E9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2B4B-0114-4394-ABDE-A3387A7E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79C-7F9D-4542-A088-709D1170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0AE-A5B7-4191-85F1-C86F8A8C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121-F330-4922-8AB4-67E674A6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AAB-18BB-4C8E-AB40-5CCA4374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A01-83C0-4295-9278-8C926E05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EF8-8EA0-45A7-8CEE-BEA6C7D2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775-038E-4969-9E6C-FF43D865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D00-97A7-48CA-BA13-8675A689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6C2-211E-4A91-9E11-2FBA1B01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DFE-5044-486F-A011-7DD94ED6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ill Sans MT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ill Sans MT"/>
                <a:ea typeface="华文新魏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ill Sans MT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8268-A7DE-4CBC-8E88-3C34CB3519A3}" type="slidenum">
              <a:rPr b="0" lang="zh-CN" sz="1200" spc="-1" strike="noStrike">
                <a:solidFill>
                  <a:srgbClr val="898989"/>
                </a:solidFill>
                <a:latin typeface="Gill Sans MT"/>
                <a:ea typeface="华文新魏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4" descr=""/>
          <p:cNvPicPr/>
          <p:nvPr/>
        </p:nvPicPr>
        <p:blipFill>
          <a:blip r:embed="rId2"/>
          <a:stretch/>
        </p:blipFill>
        <p:spPr>
          <a:xfrm>
            <a:off x="2236680" y="1066680"/>
            <a:ext cx="7443720" cy="1633680"/>
          </a:xfrm>
          <a:prstGeom prst="rect">
            <a:avLst/>
          </a:prstGeom>
          <a:ln w="0">
            <a:noFill/>
          </a:ln>
        </p:spPr>
      </p:pic>
      <p:pic>
        <p:nvPicPr>
          <p:cNvPr id="42" name="矩形 6" descr=""/>
          <p:cNvPicPr/>
          <p:nvPr/>
        </p:nvPicPr>
        <p:blipFill>
          <a:blip r:embed="rId3"/>
          <a:stretch/>
        </p:blipFill>
        <p:spPr>
          <a:xfrm>
            <a:off x="2425680" y="2992320"/>
            <a:ext cx="6962760" cy="1884600"/>
          </a:xfrm>
          <a:prstGeom prst="rect">
            <a:avLst/>
          </a:prstGeom>
          <a:ln w="0">
            <a:noFill/>
          </a:ln>
        </p:spPr>
      </p:pic>
      <p:sp>
        <p:nvSpPr>
          <p:cNvPr id="43" name="笑脸 9"/>
          <p:cNvSpPr/>
          <p:nvPr/>
        </p:nvSpPr>
        <p:spPr>
          <a:xfrm>
            <a:off x="7315200" y="5181480"/>
            <a:ext cx="1828800" cy="167652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1908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流程图: 顺序访问存储器 10"/>
          <p:cNvSpPr/>
          <p:nvPr/>
        </p:nvSpPr>
        <p:spPr>
          <a:xfrm>
            <a:off x="3657600" y="5029200"/>
            <a:ext cx="3048120" cy="1371600"/>
          </a:xfrm>
          <a:prstGeom prst="flowChartMagneticTape">
            <a:avLst/>
          </a:prstGeom>
          <a:solidFill>
            <a:srgbClr val="ffffff"/>
          </a:solidFill>
          <a:ln w="19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新魏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新魏"/>
              </a:rPr>
              <a:t>小学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新魏"/>
              </a:rPr>
              <a:t>51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新魏"/>
              </a:rPr>
              <a:t>班第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新魏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新魏"/>
              </a:rPr>
              <a:t>周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Gill Sans MT"/>
              </a:rPr>
              <a:t>冬季疾病预防知识要诀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Gill Sans MT"/>
              </a:rPr>
              <a:t>一、</a:t>
            </a:r>
            <a:r>
              <a:rPr b="1" lang="zh-CN" sz="3400" spc="-1" strike="noStrike">
                <a:solidFill>
                  <a:srgbClr val="000000"/>
                </a:solidFill>
                <a:latin typeface="Gill Sans MT"/>
              </a:rPr>
              <a:t>煤气中毒预防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Gill Sans MT"/>
              </a:rPr>
              <a:t>冬季取暖要通风，防止煤气中毒保健康。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Gill Sans MT"/>
              </a:rPr>
              <a:t>二、</a:t>
            </a:r>
            <a:r>
              <a:rPr b="1" lang="zh-CN" sz="3400" spc="-1" strike="noStrike">
                <a:solidFill>
                  <a:srgbClr val="000000"/>
                </a:solidFill>
                <a:latin typeface="Gill Sans MT"/>
              </a:rPr>
              <a:t>呼吸道传染病预防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Gill Sans MT"/>
              </a:rPr>
              <a:t>咳嗽、打喷嚏遮口鼻，不随地吐痰讲卫生；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Gill Sans MT"/>
              </a:rPr>
              <a:t>发烧、咳嗽找医生，预防疾病保健康；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Gill Sans MT"/>
              </a:rPr>
              <a:t>接种疫苗预防疾病，节约经济又最有效。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</a:rPr>
              <a:t>三、</a:t>
            </a:r>
            <a:r>
              <a:rPr b="1" lang="zh-CN" sz="3000" spc="-1" strike="noStrike">
                <a:solidFill>
                  <a:srgbClr val="000000"/>
                </a:solidFill>
                <a:latin typeface="Gill Sans MT"/>
              </a:rPr>
              <a:t>群体就餐卫生预防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</a:rPr>
              <a:t>饭菜要做熟，生吃蔬菜水果要洗净；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</a:rPr>
              <a:t>勤洗手、吃熟食、喝开水，预防中毒和疾病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</a:rPr>
              <a:t>四、</a:t>
            </a:r>
            <a:r>
              <a:rPr b="1" lang="zh-CN" sz="3000" spc="-1" strike="noStrike">
                <a:solidFill>
                  <a:srgbClr val="000000"/>
                </a:solidFill>
                <a:latin typeface="Gill Sans MT"/>
              </a:rPr>
              <a:t>心理卫生预防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</a:rPr>
              <a:t>维护心理健康，有问题主动寻求帮助；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</a:rPr>
              <a:t>重视心理卫生，提高全民健康水平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</a:rPr>
              <a:t>健康不单是没病，更关精神与心灵；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</a:rPr>
              <a:t>全民动员重预防，患者权益要尊重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饮食习惯：定时定量，营养要全面，不偏食、不挑食，吃饭要专心、愉快，细嚼细咽。不吃零食不吃霉烂变质等不洁食物。不喝生水，不吸烟、生吃瓜果要洗净。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用眼卫生：一双眼睛一对宝，从小就要保护好。读写坚持三个“一”：即眼离书本一尺，握笔手指离笔尖一寸，胸离桌沿一拳。走路、躺着、乘车、过强过亮灯光下切莫把书看长时间读写害处多，作业字小眼疲劳。眼保健操要认真做，长期坚持才有效。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体育锻炼、卫生要求：积极参加各种活动，每天保证活动一小时，饭前饭后不做剧烈活动。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Bookman Old Style"/>
              </a:rPr>
              <a:t>个体卫生行为</a:t>
            </a: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Bookman Old Style"/>
              </a:rPr>
              <a:t>条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、饭前便后要洗手；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、每天早晚刷牙；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、定期洗澡、理发、剪指甲；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、服装整洁；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、勤晒被褥；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、讲卫生，讲公德，不乱扔乱倒，不随地吐痰；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、每天进行一次锻炼；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、不吸烟，不酗酒；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、按时让孩子参加计划免疫；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</a:rPr>
              <a:t>、主动学习卫生知识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怎样预防感冒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锻炼身体，增强体质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经常开窗通风换气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随气候变化增减衣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不去病家串门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5)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感冒流行时不去公共场所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家里有了肝炎病人怎么办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及时治疗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隔离消毒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用开水煮病人用过的碗筷，毛巾，衣物。用消毒剂擦拭病人用过的家具等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接触病人后要洗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不吃病人吃剩的东西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Bookman Old Style"/>
              </a:rPr>
              <a:t>怎样保持教室的清洁卫生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每天扫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常擦桌椅和门窗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不乱扔纸屑果皮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不随地吐痰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5)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桌椅摆放整齐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6)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注意通风换气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6:27:59Z</dcterms:created>
  <dc:creator>Administrator</dc:creator>
  <dc:description/>
  <dc:language>en-US</dc:language>
  <cp:lastModifiedBy>未知用户</cp:lastModifiedBy>
  <dcterms:modified xsi:type="dcterms:W3CDTF">2015-12-07T06:42:09Z</dcterms:modified>
  <cp:revision>5</cp:revision>
  <dc:subject/>
  <dc:title>预防冬季疾病 健康你我他</dc:title>
</cp:coreProperties>
</file>