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918-6152-4634-8D00-A75439C1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812-32F0-4F4D-8487-F0653422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9C7-F52A-4FA5-8A03-E4C3119E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034-A455-4704-BB32-68FE5875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F58-75E7-43C6-8281-6E4ACA43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FF5-3114-4696-8388-2B7F7AFC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B50-BD39-4DA8-AB5B-8FC08EE7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322-83BC-4D78-AA7C-C03845E0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772-EA79-420F-A9B6-CD27DABA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3CF-516C-4CDC-A7F4-935E443B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169-2D21-4582-AABF-5834A06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DDE-F522-4A90-8C67-5F7DC105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7D20-C2F6-4C42-952A-C7CA29D81D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14800" y="528624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59785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123408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4997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427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7836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1071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212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140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6212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1628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3547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997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377000" y="1000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997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3354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45691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23408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5569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783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5426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2854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23408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64372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5691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640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854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712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2119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3283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497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234080" y="1000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599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283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140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30572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56408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997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83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1-23T07:37:34Z</dcterms:modified>
  <cp:revision>37</cp:revision>
  <dc:subject/>
  <dc:title>幻灯片 1</dc:title>
</cp:coreProperties>
</file>