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D32D-EBD0-4D81-BF22-DE50BA3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78408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5640" y="3734640"/>
            <a:ext cx="78408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0C68-247E-45C0-8D3B-E93EE85B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3564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740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25F1-65AD-44A8-90DF-B225BC94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00960" y="162828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6280" y="162828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35640" y="373464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00960" y="373464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6280" y="373464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3B5A-34F0-4D86-838D-D7425EB7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90F1-A3B5-43C1-A34B-B4FAC462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BDF1-3D09-4BA4-AABA-F0BFCFA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09B3C-182E-429A-AC51-F147907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0FDD-F7B3-4072-8794-BAFC937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1F0C-A99B-4203-8284-F198DFB8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16360" y="765000"/>
            <a:ext cx="934920" cy="227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FD2FD-B2B3-45DA-9B72-7C5B9D5B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3564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DFC9B-A766-4EFE-87AF-8EA2528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0474-2E77-42BE-8658-64B990FA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740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BFA0-F85A-4553-AF23-A404F59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35640" y="3734640"/>
            <a:ext cx="78408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4171D-A500-4A88-92C9-BACB146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78408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35640" y="3734640"/>
            <a:ext cx="78408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6ACB1-5094-4793-9B2F-00D5EF9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3564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740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5E94B-12D1-4344-A144-C80CFF90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00960" y="162828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62828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35640" y="373464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700960" y="373464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3734640"/>
            <a:ext cx="25236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0D20F-45F3-4697-B716-12152B10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C11D-F55A-458F-ACAB-9695241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62EE-6C4F-44A2-99EE-5BB17032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4542-8591-40AB-BC9F-D6C4E9E7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16360" y="765000"/>
            <a:ext cx="934920" cy="227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E5BE-DC03-462F-964E-BD65E8C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3564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6811-597D-41B7-9C71-0FA3413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7400" y="373464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7A19-9DD6-450C-BFEA-B70B647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3564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7400" y="1628280"/>
            <a:ext cx="38232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35640" y="3734640"/>
            <a:ext cx="784080" cy="19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D2AC-0F37-4F41-A7B4-08FBE3F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7000" y="-220680"/>
            <a:ext cx="9745920" cy="730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B0A-6791-4859-A2AA-B7C05357079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7000" y="-220680"/>
            <a:ext cx="9745920" cy="7307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BC4F-A3B7-4EC1-9270-85186D3D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8" descr="5.png"/>
          <p:cNvPicPr/>
          <p:nvPr/>
        </p:nvPicPr>
        <p:blipFill>
          <a:blip r:embed="rId3"/>
          <a:stretch/>
        </p:blipFill>
        <p:spPr>
          <a:xfrm>
            <a:off x="-321300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5.png"/>
          <p:cNvPicPr/>
          <p:nvPr/>
        </p:nvPicPr>
        <p:blipFill>
          <a:blip r:embed="rId4"/>
          <a:stretch/>
        </p:blipFill>
        <p:spPr>
          <a:xfrm>
            <a:off x="-192096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" descr="5.png"/>
          <p:cNvPicPr/>
          <p:nvPr/>
        </p:nvPicPr>
        <p:blipFill>
          <a:blip r:embed="rId5"/>
          <a:stretch/>
        </p:blipFill>
        <p:spPr>
          <a:xfrm>
            <a:off x="-199224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8bf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6360" y="333000"/>
            <a:ext cx="934920" cy="55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元宵来了，我们一起做灯笼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76360" y="4941360"/>
            <a:ext cx="784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435640" y="162828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17000"/>
            <a:ext cx="832788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材料：卡纸、介纸刀、直尺、铅笔、双面胶、线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Rectangle 3" descr="幼儿手工制作灯笼"/>
          <p:cNvPicPr/>
          <p:nvPr/>
        </p:nvPicPr>
        <p:blipFill>
          <a:blip r:embed="rId1"/>
          <a:srcRect l="4150" t="3674" r="3991" b="4348"/>
          <a:stretch/>
        </p:blipFill>
        <p:spPr>
          <a:xfrm>
            <a:off x="550800" y="987480"/>
            <a:ext cx="6615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560" y="188640"/>
            <a:ext cx="7201080" cy="22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准备一张长方形的红色卡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我是用一张过期的旧月历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将卡纸两边各留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.5~1.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按等分划好若干条平行线，然后用介纸刀切开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卷一下使卡纸呈弧形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Rectangle 3" descr="幼儿手工制作灯笼"/>
          <p:cNvPicPr/>
          <p:nvPr/>
        </p:nvPicPr>
        <p:blipFill>
          <a:blip r:embed="rId1"/>
          <a:srcRect l="0" t="17600" r="0" b="19568"/>
          <a:stretch/>
        </p:blipFill>
        <p:spPr>
          <a:xfrm>
            <a:off x="34920" y="2565360"/>
            <a:ext cx="807732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190080"/>
            <a:ext cx="739116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贴，边角料剪成细条作穗，再贴上线绳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113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Rectangle 3" descr="幼儿手工制作灯笼"/>
          <p:cNvPicPr/>
          <p:nvPr/>
        </p:nvPicPr>
        <p:blipFill>
          <a:blip r:embed="rId1"/>
          <a:srcRect l="0" t="14559" r="0" b="0"/>
          <a:stretch/>
        </p:blipFill>
        <p:spPr>
          <a:xfrm>
            <a:off x="324000" y="1341360"/>
            <a:ext cx="7462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材料：卡纸、介纸刀、直尺、铅笔、双面胶、线绳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324000" y="1336680"/>
            <a:ext cx="72738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准备一张长方形的红色卡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我是用一张过期的旧月历卡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rcRect l="0" t="0" r="0" b="6172"/>
          <a:stretch/>
        </p:blipFill>
        <p:spPr>
          <a:xfrm>
            <a:off x="324000" y="1628640"/>
            <a:ext cx="705636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263160"/>
            <a:ext cx="705636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将卡纸两边各留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.5~1.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按等分划好若干条平行线，然后用介纸刀切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1"/>
          <a:srcRect l="2457" t="15386" r="2413" b="6852"/>
          <a:stretch/>
        </p:blipFill>
        <p:spPr>
          <a:xfrm>
            <a:off x="-31680" y="1701720"/>
            <a:ext cx="934092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卷一下使卡纸呈弧形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rcRect l="4233" t="2719" r="4812" b="2706"/>
          <a:stretch/>
        </p:blipFill>
        <p:spPr>
          <a:xfrm>
            <a:off x="735120" y="1139760"/>
            <a:ext cx="5697360" cy="54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贴，边角料剪成细条作穗，再贴上线绳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2124000" y="706320"/>
            <a:ext cx="4249800" cy="623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dc:language>en-US</dc:language>
  <cp:lastModifiedBy>echo</cp:lastModifiedBy>
  <cp:lastPrinted>1899-12-30T00:00:00Z</cp:lastPrinted>
  <dcterms:modified xsi:type="dcterms:W3CDTF">2016-02-03T09:20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