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2D9-A1D2-423E-9A7E-8E6E09C6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18D-FD28-4347-9658-EF6DBC5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85E-B566-43CE-86E4-57A3472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676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1844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508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676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1844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6E2-7D2F-4337-AEA0-255EB9E5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C7E-DDFE-4480-A34B-B541CDD7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CE5-5930-46C5-915E-3FFE171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5C0-DA4D-4554-8336-C51EF0A7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47CD-DA66-431A-AEA2-C4E2163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46E7-7BB7-4C19-8307-C2F9EEAD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3280" y="1052280"/>
            <a:ext cx="5953320" cy="40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E38B-3935-4469-9730-7D086CE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68A8-1FF1-401D-AD50-D6DB621A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2DD-A4EF-45DA-BDBB-C88066F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B481-A8BC-4EAE-849B-CB3944E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F21-95CB-4A5C-8F4C-58CF341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EABB-33F4-4167-A8AF-CDF52C8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FCF-72FF-4E43-BB84-5180BC3C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0676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1844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0676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61844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1C5C-3244-4276-9945-EEE6E299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25A6-E402-4A43-86EA-1979EF0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E8FC-B712-4DB1-B5CB-8C7F27AA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86EE-9D2B-4FED-9DA7-5C7FD06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1E29-5712-42C4-91FF-D2B7E96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280D-9117-44A3-8B20-473EC69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277-2FE5-46F3-A454-41716AD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93280" y="1052280"/>
            <a:ext cx="5953320" cy="40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B989-6CD8-482E-BB3C-80CA732A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7FD1-5E65-4820-A676-5B54EF8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EBBB-1456-466B-88CF-69B6999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4D40-20A6-4447-8AB1-72DE49C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6842-03AD-4220-9C23-A1CE95E3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CFC4-B460-4851-BD36-ACA0995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0676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18440" y="200304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9508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0676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618440" y="2231280"/>
            <a:ext cx="1915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E038-DDC1-4A2D-8658-F4F9C1D9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064-F5C9-4ABA-8C25-2F45809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E7D-F4BF-4024-BD91-D29722D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280" y="1052280"/>
            <a:ext cx="5953320" cy="40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F17-75E0-4E8F-A6D8-438CBDD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257-6D00-4B63-9FEE-F4D9A43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3920" y="223128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764-2A20-40C7-9827-63B8B36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508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3920" y="2003040"/>
            <a:ext cx="29034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5080" y="2231280"/>
            <a:ext cx="59497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6F1-0A71-47DF-BFC4-6438B46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B4E0-6D24-496D-BC8D-DBEDC16B19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06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692F-B6F6-4FAA-AAFC-6F7EAA740DA6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6a4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5bda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3280" y="1052280"/>
            <a:ext cx="5953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06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860-9116-495A-856C-6B46C9EAEC74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1080" y="129708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b3603"/>
                </a:solidFill>
                <a:latin typeface="Arial"/>
                <a:ea typeface="华文彩云"/>
              </a:rPr>
              <a:t>新一客创新公益挑战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b3603"/>
                </a:solidFill>
                <a:latin typeface="Arial"/>
                <a:ea typeface="华文彩云"/>
              </a:rPr>
              <a:t>	</a:t>
            </a:r>
            <a:r>
              <a:rPr b="0" lang="zh-CN" sz="4800" spc="-1" strike="noStrike">
                <a:solidFill>
                  <a:srgbClr val="7b3603"/>
                </a:solidFill>
                <a:latin typeface="Arial"/>
                <a:ea typeface="华文彩云"/>
              </a:rPr>
              <a:t>	</a:t>
            </a:r>
            <a:r>
              <a:rPr b="0" lang="zh-CN" sz="4800" spc="-1" strike="noStrike">
                <a:solidFill>
                  <a:srgbClr val="7b3603"/>
                </a:solidFill>
                <a:latin typeface="Arial"/>
                <a:ea typeface="华文彩云"/>
              </a:rPr>
              <a:t>策划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3320" y="3151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——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华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9800" y="1336680"/>
            <a:ext cx="1511280" cy="1514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080" y="523440"/>
            <a:ext cx="47800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学生活动区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明德广场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9080" y="1084320"/>
            <a:ext cx="9182160" cy="581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92320" y="495360"/>
            <a:ext cx="37465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德馨学生住宿区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573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1400" y="569880"/>
            <a:ext cx="810108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名称：冬季送温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阿萨姆校园义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合作单位：学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院学生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形式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捐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以上善款免费赠送统一阿萨姆一瓶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一瓶阿萨姆奶茶，我们将派一个同学去寝室收取捐赠衣服，并将衣服和卖阿萨姆所得费用一起送往偏远指定地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、品牌完全露出及义卖产品主张、功能、包装等介绍和善款捐赠介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、其他事项待定</a:t>
            </a:r>
            <a:endParaRPr b="1" lang="en-US" sz="28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545240" y="6168960"/>
            <a:ext cx="1046160" cy="438120"/>
          </a:xfrm>
          <a:custGeom>
            <a:avLst/>
            <a:gdLst>
              <a:gd name="textAreaLeft" fmla="*/ 182880 w 1046160"/>
              <a:gd name="textAreaRight" fmla="*/ 758520 w 10461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4606d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301840" y="2048040"/>
            <a:ext cx="4876920" cy="13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网络扩散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9360" y="555480"/>
            <a:ext cx="8207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团队成员分工安排完成相应点赞数量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与宣传部和易班工作站合作单位巧妙结合，通过“体验饥饿接力晒”巧妙完成点赞数量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前期宣传巧妙嵌入点赞环节，影响更多人群。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570800" y="6183360"/>
            <a:ext cx="1006560" cy="436680"/>
          </a:xfrm>
          <a:custGeom>
            <a:avLst/>
            <a:gdLst>
              <a:gd name="textAreaLeft" fmla="*/ 176040 w 1006560"/>
              <a:gd name="textAreaRight" fmla="*/ 729720 w 1006560"/>
              <a:gd name="textAreaTop" fmla="*/ 58320 h 436680"/>
              <a:gd name="textAreaBottom" fmla="*/ 378360 h 43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4606d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190600" y="2089080"/>
            <a:ext cx="48769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预测估计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3880" y="676440"/>
            <a:ext cx="8155080" cy="39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资金预算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+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活动人员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+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宣传及义卖：横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  合作单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院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生工作单位  触及人数全校师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、义卖产品阿萨姆，数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筹集善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、其他</a:t>
            </a:r>
            <a:endParaRPr b="1" lang="en-US" sz="2800" spc="-1" strike="noStrike">
              <a:solidFill>
                <a:srgbClr val="64606d"/>
              </a:solidFill>
              <a:latin typeface="Arial Black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301840" y="2039760"/>
            <a:ext cx="516276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观赏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282680" y="1063800"/>
            <a:ext cx="6778440" cy="3705480"/>
            <a:chOff x="1282680" y="1063800"/>
            <a:chExt cx="6778440" cy="3705480"/>
          </a:xfrm>
        </p:grpSpPr>
        <p:sp>
          <p:nvSpPr>
            <p:cNvPr id="129" name=""/>
            <p:cNvSpPr/>
            <p:nvPr/>
          </p:nvSpPr>
          <p:spPr>
            <a:xfrm>
              <a:off x="3918960" y="1063800"/>
              <a:ext cx="1506240" cy="148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96d8">
                    <a:alpha val="39215"/>
                  </a:srgbClr>
                </a:gs>
                <a:gs pos="100000">
                  <a:srgbClr val="efe6fc"/>
                </a:gs>
              </a:gsLst>
              <a:lin ang="5400000"/>
            </a:gradFill>
            <a:ln w="9360">
              <a:solidFill>
                <a:srgbClr val="a799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d3f41"/>
                  </a:solidFill>
                  <a:latin typeface="Arial"/>
                  <a:ea typeface="黑体"/>
                </a:rPr>
                <a:t>活动详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82680" y="3287160"/>
              <a:ext cx="1506240" cy="148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96d8">
                    <a:alpha val="39215"/>
                  </a:srgbClr>
                </a:gs>
                <a:gs pos="100000">
                  <a:srgbClr val="efe6fc"/>
                </a:gs>
              </a:gsLst>
              <a:lin ang="5400000"/>
            </a:gradFill>
            <a:ln w="9360">
              <a:solidFill>
                <a:srgbClr val="a799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b0f0"/>
                  </a:solidFill>
                  <a:uFillTx/>
                  <a:latin typeface="Arial"/>
                  <a:ea typeface="黑体"/>
                  <a:hlinkClick r:id="rId1" action="ppaction://hlinksldjump"/>
                </a:rPr>
                <a:t>前期宣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30" idx="0"/>
              <a:endCxn id="129" idx="3"/>
            </p:cNvCxnSpPr>
            <p:nvPr/>
          </p:nvCxnSpPr>
          <p:spPr>
            <a:xfrm flipH="1" flipV="1" rot="5400000">
              <a:off x="2975040" y="1625040"/>
              <a:ext cx="741600" cy="2582280"/>
            </a:xfrm>
            <a:prstGeom prst="bentConnector3">
              <a:avLst>
                <a:gd name="adj1" fmla="val 39970"/>
              </a:avLst>
            </a:prstGeom>
            <a:ln w="28440">
              <a:solidFill>
                <a:srgbClr val="a799bb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>
              <a:off x="3039840" y="3287160"/>
              <a:ext cx="1506240" cy="148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96d8">
                    <a:alpha val="39215"/>
                  </a:srgbClr>
                </a:gs>
                <a:gs pos="100000">
                  <a:srgbClr val="efe6fc"/>
                </a:gs>
              </a:gsLst>
              <a:lin ang="5400000"/>
            </a:gradFill>
            <a:ln w="9360">
              <a:solidFill>
                <a:srgbClr val="a799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b0f0"/>
                  </a:solidFill>
                  <a:uFillTx/>
                  <a:latin typeface="Arial"/>
                  <a:ea typeface="黑体"/>
                  <a:hlinkClick r:id="rId2" action="ppaction://hlinksldjump"/>
                </a:rPr>
                <a:t>义卖执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2" idx="0"/>
              <a:endCxn id="129" idx="3"/>
            </p:cNvCxnSpPr>
            <p:nvPr/>
          </p:nvCxnSpPr>
          <p:spPr>
            <a:xfrm flipH="1" flipV="1" rot="5400000">
              <a:off x="3853440" y="2488680"/>
              <a:ext cx="741600" cy="824760"/>
            </a:xfrm>
            <a:prstGeom prst="bentConnector3">
              <a:avLst>
                <a:gd name="adj1" fmla="val 39970"/>
              </a:avLst>
            </a:prstGeom>
            <a:ln w="28440">
              <a:solidFill>
                <a:srgbClr val="a799bb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4797360" y="3287160"/>
              <a:ext cx="1506240" cy="148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96d8">
                    <a:alpha val="39215"/>
                  </a:srgbClr>
                </a:gs>
                <a:gs pos="100000">
                  <a:srgbClr val="efe6fc"/>
                </a:gs>
              </a:gsLst>
              <a:lin ang="5400000"/>
            </a:gradFill>
            <a:ln w="9360">
              <a:solidFill>
                <a:srgbClr val="a799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b0f0"/>
                  </a:solidFill>
                  <a:uFillTx/>
                  <a:latin typeface="Arial"/>
                  <a:ea typeface="黑体"/>
                  <a:hlinkClick r:id="rId3" action="ppaction://hlinksldjump"/>
                </a:rPr>
                <a:t>网络扩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>
              <a:stCxn id="134" idx="0"/>
              <a:endCxn id="129" idx="3"/>
            </p:cNvCxnSpPr>
            <p:nvPr/>
          </p:nvCxnSpPr>
          <p:spPr>
            <a:xfrm flipV="1" rot="16200000">
              <a:off x="4732200" y="2428560"/>
              <a:ext cx="741600" cy="933480"/>
            </a:xfrm>
            <a:prstGeom prst="bentConnector3">
              <a:avLst>
                <a:gd name="adj1" fmla="val 39970"/>
              </a:avLst>
            </a:prstGeom>
            <a:ln w="28440">
              <a:solidFill>
                <a:srgbClr val="a799bb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6554880" y="3287160"/>
              <a:ext cx="1506240" cy="148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96d8">
                    <a:alpha val="39215"/>
                  </a:srgbClr>
                </a:gs>
                <a:gs pos="100000">
                  <a:srgbClr val="efe6fc"/>
                </a:gs>
              </a:gsLst>
              <a:lin ang="5400000"/>
            </a:gradFill>
            <a:ln w="9360">
              <a:solidFill>
                <a:srgbClr val="a799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b0f0"/>
                  </a:solidFill>
                  <a:uFillTx/>
                  <a:latin typeface="Arial"/>
                  <a:ea typeface="黑体"/>
                  <a:hlinkClick r:id="rId4" action="ppaction://hlinksldjump"/>
                </a:rPr>
                <a:t>预测评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36" idx="0"/>
              <a:endCxn id="129" idx="3"/>
            </p:cNvCxnSpPr>
            <p:nvPr/>
          </p:nvCxnSpPr>
          <p:spPr>
            <a:xfrm flipV="1" rot="16200000">
              <a:off x="5610960" y="1566000"/>
              <a:ext cx="741600" cy="2691000"/>
            </a:xfrm>
            <a:prstGeom prst="bentConnector3">
              <a:avLst>
                <a:gd name="adj1" fmla="val 39970"/>
              </a:avLst>
            </a:prstGeom>
            <a:ln w="28440">
              <a:solidFill>
                <a:srgbClr val="a799bb"/>
              </a:solidFill>
              <a:miter/>
            </a:ln>
          </p:spPr>
        </p:cxnSp>
      </p:grp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076480" y="2286000"/>
            <a:ext cx="48769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前期宣传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8080" y="342720"/>
            <a:ext cx="41716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校园咽喉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沱江桥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440" y="1152360"/>
            <a:ext cx="9146880" cy="572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225360" y="364680"/>
            <a:ext cx="561024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校园学生必经之道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卓越路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6480" y="1138320"/>
            <a:ext cx="9158400" cy="574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412920" y="450720"/>
            <a:ext cx="50817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德馨学生宿舍区入口</a:t>
            </a:r>
            <a:endParaRPr b="1" lang="en-US" sz="32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440" y="1046160"/>
            <a:ext cx="9142200" cy="5824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520" y="927000"/>
            <a:ext cx="7342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名称：体验饥饿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创新公益挑战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形式：拉横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合作单位：西华大学宣传部及易班工作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配合事项：配合学校光盘行动活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其他事项待定</a:t>
            </a:r>
            <a:br>
              <a:rPr sz="2800"/>
            </a:br>
            <a:endParaRPr b="1" lang="en-US" sz="28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769160" y="5972040"/>
            <a:ext cx="993960" cy="476280"/>
          </a:xfrm>
          <a:custGeom>
            <a:avLst/>
            <a:gdLst>
              <a:gd name="textAreaLeft" fmla="*/ 173880 w 993960"/>
              <a:gd name="textAreaRight" fmla="*/ 720720 w 993960"/>
              <a:gd name="textAreaTop" fmla="*/ 63720 h 476280"/>
              <a:gd name="textAreaBottom" fmla="*/ 412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4606d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217600" y="1992240"/>
            <a:ext cx="48769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义卖执行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9600" y="399600"/>
            <a:ext cx="355608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临江广场</a:t>
            </a:r>
            <a:endParaRPr b="1" lang="en-US" sz="3600" spc="-1" strike="noStrike">
              <a:solidFill>
                <a:srgbClr val="64606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95080" y="2003040"/>
            <a:ext cx="5949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9600" y="1098720"/>
            <a:ext cx="9151920" cy="5771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未知用户</cp:lastModifiedBy>
  <dcterms:modified xsi:type="dcterms:W3CDTF">2016-02-29T08:10:4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