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100-9C94-4447-8CD0-C1B754D3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BAC-BDC6-4D35-BD11-EF9573CF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F4D-E6B0-4B7F-B3BD-FFA4A5F6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139-499E-456B-B8D3-9BA6E06C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09FC-7CBB-43CA-9C10-54CD127B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378C-CBF2-4788-863E-56F5DE6F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87C1-ECE9-4F2D-80F7-FE9778FC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EE2E-66E2-4AAC-A691-BA33D482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75F6-39EF-4BF2-AB54-93511DEF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316E-678A-4767-9120-4A3C5400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1182-5D7D-45DB-8777-6BE82FB4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3C4-EB9D-483A-BEE4-3A911614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2553-3E2B-4987-B47B-0062B052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5ACD-FD88-4DF8-A81F-DC4E6106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85B4-7C2A-4198-84DA-9A7C157F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477D-1F0F-4B86-BAC2-BAE374A1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DD7E-19C5-43EA-821B-3F9C55E1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A2000-C8D1-4083-922B-1D0D9DFE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DCF0-BFAF-428E-AB2E-04342E5E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39AC-E808-4494-8567-8B20995C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6D97C-A35B-45CA-895A-881C78D7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38198-AB67-4C72-A796-320726B6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829-2A4E-40C3-B3A4-8A63515F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E10C8-871A-4849-B089-12BEA8A2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56619-FD18-44C2-95F2-1C382B4C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7F50B-753C-4683-94C9-D88E22E5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0F24-5293-4DAC-A9A0-55085F7B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5F80F-1BEF-481E-9CE6-F6C2215F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193C0-4130-49C8-BD3E-A51E206A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845A-5AD7-49F5-85AB-ED1F6E83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CE1-E456-44F0-B16A-E075A898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823-8ED9-4BE1-9771-B9805639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6A2-8E52-4129-9CFA-3AE63822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2B0-531E-432E-B70C-05333393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3D7-2F19-4756-83D2-5BDC04C9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6AD-2CC3-425C-89E9-3117AE16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-6480" y="-3240"/>
            <a:ext cx="915696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>
            <a:off x="219240" y="549360"/>
            <a:ext cx="8700840" cy="5759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78FE-CFD7-496E-AD83-ACBE8F2A73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-6480" y="-3240"/>
            <a:ext cx="9156960" cy="686448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219240" y="549360"/>
            <a:ext cx="8700840" cy="5759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-6480" y="3240"/>
            <a:ext cx="915696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G:\360data\重要数据\桌面\未标题-1.png"/>
          <p:cNvPicPr/>
          <p:nvPr/>
        </p:nvPicPr>
        <p:blipFill>
          <a:blip r:embed="rId4"/>
          <a:srcRect l="0" t="27707" r="0" b="12378"/>
          <a:stretch/>
        </p:blipFill>
        <p:spPr>
          <a:xfrm>
            <a:off x="-17640" y="5778360"/>
            <a:ext cx="27822600" cy="1106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143D-F700-4191-AC3B-5852E65133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6480" y="-3240"/>
            <a:ext cx="9156960" cy="6864480"/>
          </a:xfrm>
          <a:prstGeom prst="rect">
            <a:avLst/>
          </a:prstGeom>
          <a:ln w="0">
            <a:noFill/>
          </a:ln>
        </p:spPr>
      </p:pic>
      <p:sp>
        <p:nvSpPr>
          <p:cNvPr id="89" name="矩形 9"/>
          <p:cNvSpPr/>
          <p:nvPr/>
        </p:nvSpPr>
        <p:spPr>
          <a:xfrm>
            <a:off x="219240" y="549360"/>
            <a:ext cx="8700840" cy="5759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-6480" y="3240"/>
            <a:ext cx="91569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G:\360data\重要数据\桌面\未标题-1.png"/>
          <p:cNvPicPr/>
          <p:nvPr/>
        </p:nvPicPr>
        <p:blipFill>
          <a:blip r:embed="rId4"/>
          <a:srcRect l="0" t="27707" r="0" b="12378"/>
          <a:stretch/>
        </p:blipFill>
        <p:spPr>
          <a:xfrm>
            <a:off x="-17640" y="5778360"/>
            <a:ext cx="27822600" cy="1106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5"/>
          <a:stretch/>
        </p:blipFill>
        <p:spPr>
          <a:xfrm>
            <a:off x="-2413080" y="1197000"/>
            <a:ext cx="4470480" cy="4392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3B39-F032-4BB0-A90A-C644C0306C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标题 1" descr=""/>
          <p:cNvPicPr/>
          <p:nvPr/>
        </p:nvPicPr>
        <p:blipFill>
          <a:blip r:embed="rId1"/>
          <a:stretch/>
        </p:blipFill>
        <p:spPr>
          <a:xfrm>
            <a:off x="2571840" y="2487600"/>
            <a:ext cx="3932280" cy="126684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17" descr=""/>
          <p:cNvPicPr/>
          <p:nvPr/>
        </p:nvPicPr>
        <p:blipFill>
          <a:blip r:embed="rId2"/>
          <a:stretch/>
        </p:blipFill>
        <p:spPr>
          <a:xfrm>
            <a:off x="2639880" y="1847880"/>
            <a:ext cx="1974960" cy="1859040"/>
          </a:xfrm>
          <a:prstGeom prst="rect">
            <a:avLst/>
          </a:prstGeom>
          <a:ln w="0">
            <a:noFill/>
          </a:ln>
        </p:spPr>
      </p:pic>
      <p:pic>
        <p:nvPicPr>
          <p:cNvPr id="136" name="组合 18" descr=""/>
          <p:cNvPicPr/>
          <p:nvPr/>
        </p:nvPicPr>
        <p:blipFill>
          <a:blip r:embed="rId3"/>
          <a:stretch/>
        </p:blipFill>
        <p:spPr>
          <a:xfrm>
            <a:off x="5029200" y="1878120"/>
            <a:ext cx="1859040" cy="1755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4"/>
          <a:srcRect l="14999" t="0" r="13999" b="0"/>
          <a:stretch/>
        </p:blipFill>
        <p:spPr>
          <a:xfrm>
            <a:off x="1500120" y="3286080"/>
            <a:ext cx="568980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组合 22" descr=""/>
          <p:cNvPicPr/>
          <p:nvPr/>
        </p:nvPicPr>
        <p:blipFill>
          <a:blip r:embed="rId1"/>
          <a:stretch/>
        </p:blipFill>
        <p:spPr>
          <a:xfrm>
            <a:off x="1152360" y="2968560"/>
            <a:ext cx="1700280" cy="1603440"/>
          </a:xfrm>
          <a:prstGeom prst="rect">
            <a:avLst/>
          </a:prstGeom>
          <a:ln w="0">
            <a:noFill/>
          </a:ln>
        </p:spPr>
      </p:pic>
      <p:pic>
        <p:nvPicPr>
          <p:cNvPr id="218" name="标题 1" descr=""/>
          <p:cNvPicPr/>
          <p:nvPr/>
        </p:nvPicPr>
        <p:blipFill>
          <a:blip r:embed="rId2"/>
          <a:stretch/>
        </p:blipFill>
        <p:spPr>
          <a:xfrm>
            <a:off x="2523960" y="2541600"/>
            <a:ext cx="3980160" cy="1268280"/>
          </a:xfrm>
          <a:prstGeom prst="rect">
            <a:avLst/>
          </a:prstGeom>
          <a:ln w="0">
            <a:noFill/>
          </a:ln>
        </p:spPr>
      </p:pic>
      <p:pic>
        <p:nvPicPr>
          <p:cNvPr id="219" name="组合 17" descr=""/>
          <p:cNvPicPr/>
          <p:nvPr/>
        </p:nvPicPr>
        <p:blipFill>
          <a:blip r:embed="rId3"/>
          <a:stretch/>
        </p:blipFill>
        <p:spPr>
          <a:xfrm>
            <a:off x="2639880" y="1895400"/>
            <a:ext cx="1974960" cy="1859040"/>
          </a:xfrm>
          <a:prstGeom prst="rect">
            <a:avLst/>
          </a:prstGeom>
          <a:ln w="0">
            <a:noFill/>
          </a:ln>
        </p:spPr>
      </p:pic>
      <p:pic>
        <p:nvPicPr>
          <p:cNvPr id="220" name="组合 18" descr=""/>
          <p:cNvPicPr/>
          <p:nvPr/>
        </p:nvPicPr>
        <p:blipFill>
          <a:blip r:embed="rId4"/>
          <a:stretch/>
        </p:blipFill>
        <p:spPr>
          <a:xfrm>
            <a:off x="5029200" y="1925640"/>
            <a:ext cx="1859040" cy="1755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5"/>
          <a:srcRect l="14999" t="0" r="13999" b="0"/>
          <a:stretch/>
        </p:blipFill>
        <p:spPr>
          <a:xfrm>
            <a:off x="1722600" y="3197160"/>
            <a:ext cx="568944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6"/>
          <p:cNvSpPr/>
          <p:nvPr/>
        </p:nvSpPr>
        <p:spPr>
          <a:xfrm>
            <a:off x="223920" y="2705040"/>
            <a:ext cx="51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4db27"/>
                </a:solidFill>
                <a:latin typeface="冬青黑体简体中文 W6"/>
                <a:ea typeface="冬青黑体简体中文 W6"/>
              </a:rPr>
              <a:t>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4db27"/>
                </a:solidFill>
                <a:latin typeface="冬青黑体简体中文 W6"/>
                <a:ea typeface="冬青黑体简体中文 W6"/>
              </a:rPr>
              <a:t>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1690200" y="1487520"/>
            <a:ext cx="6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db27"/>
                </a:solidFill>
                <a:latin typeface="Impact"/>
              </a:rPr>
              <a:t>1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3"/>
          <p:cNvSpPr/>
          <p:nvPr/>
        </p:nvSpPr>
        <p:spPr>
          <a:xfrm>
            <a:off x="2230200" y="2568600"/>
            <a:ext cx="6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db27"/>
                </a:solidFill>
                <a:latin typeface="Impact"/>
              </a:rPr>
              <a:t>2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34"/>
          <p:cNvSpPr/>
          <p:nvPr/>
        </p:nvSpPr>
        <p:spPr>
          <a:xfrm>
            <a:off x="2230200" y="3648240"/>
            <a:ext cx="6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db27"/>
                </a:solidFill>
                <a:latin typeface="Impact"/>
              </a:rPr>
              <a:t>3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5"/>
          <p:cNvSpPr/>
          <p:nvPr/>
        </p:nvSpPr>
        <p:spPr>
          <a:xfrm>
            <a:off x="1690560" y="4727520"/>
            <a:ext cx="6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db27"/>
                </a:solidFill>
                <a:latin typeface="Impact"/>
              </a:rPr>
              <a:t>4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6"/>
          <p:cNvSpPr/>
          <p:nvPr/>
        </p:nvSpPr>
        <p:spPr>
          <a:xfrm>
            <a:off x="77040" y="27082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4db27"/>
                </a:solidFill>
                <a:latin typeface="Impact"/>
                <a:ea typeface="冬青黑体简体中文 W6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3490920" y="28749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4db27"/>
                </a:solidFill>
                <a:latin typeface="冬青黑体简体中文 W6"/>
                <a:ea typeface="冬青黑体简体中文 W6"/>
              </a:rPr>
              <a:t>小节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圆角矩形 3"/>
          <p:cNvSpPr/>
          <p:nvPr/>
        </p:nvSpPr>
        <p:spPr>
          <a:xfrm>
            <a:off x="1619280" y="3579840"/>
            <a:ext cx="2381400" cy="1217520"/>
          </a:xfrm>
          <a:prstGeom prst="roundRect">
            <a:avLst>
              <a:gd name="adj" fmla="val 5194"/>
            </a:avLst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83"/>
          <p:cNvSpPr/>
          <p:nvPr/>
        </p:nvSpPr>
        <p:spPr>
          <a:xfrm>
            <a:off x="1838160" y="3679920"/>
            <a:ext cx="194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圆角矩形 5"/>
          <p:cNvSpPr/>
          <p:nvPr/>
        </p:nvSpPr>
        <p:spPr>
          <a:xfrm>
            <a:off x="4782960" y="3579840"/>
            <a:ext cx="2381400" cy="1217520"/>
          </a:xfrm>
          <a:prstGeom prst="roundRect">
            <a:avLst>
              <a:gd name="adj" fmla="val 7278"/>
            </a:avLst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84"/>
          <p:cNvSpPr/>
          <p:nvPr/>
        </p:nvSpPr>
        <p:spPr>
          <a:xfrm>
            <a:off x="4905360" y="3680640"/>
            <a:ext cx="213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圆角矩形 7"/>
          <p:cNvSpPr/>
          <p:nvPr/>
        </p:nvSpPr>
        <p:spPr>
          <a:xfrm>
            <a:off x="4782960" y="1849320"/>
            <a:ext cx="2381400" cy="1217880"/>
          </a:xfrm>
          <a:prstGeom prst="roundRect">
            <a:avLst>
              <a:gd name="adj" fmla="val 4153"/>
            </a:avLst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5251320" y="1949400"/>
            <a:ext cx="144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圆角矩形 9"/>
          <p:cNvSpPr/>
          <p:nvPr/>
        </p:nvSpPr>
        <p:spPr>
          <a:xfrm>
            <a:off x="1619280" y="1849320"/>
            <a:ext cx="2381400" cy="1217880"/>
          </a:xfrm>
          <a:prstGeom prst="roundRect">
            <a:avLst>
              <a:gd name="adj" fmla="val 5194"/>
            </a:avLst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1981080" y="1949400"/>
            <a:ext cx="165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4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椭圆 11"/>
          <p:cNvSpPr/>
          <p:nvPr/>
        </p:nvSpPr>
        <p:spPr>
          <a:xfrm>
            <a:off x="3549600" y="2468520"/>
            <a:ext cx="1647720" cy="166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椭圆 12"/>
          <p:cNvSpPr/>
          <p:nvPr/>
        </p:nvSpPr>
        <p:spPr>
          <a:xfrm>
            <a:off x="3638520" y="2567160"/>
            <a:ext cx="1469880" cy="1468440"/>
          </a:xfrm>
          <a:prstGeom prst="ellipse">
            <a:avLst/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28440">
            <a:solidFill>
              <a:srgbClr val="f6924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87"/>
          <p:cNvSpPr/>
          <p:nvPr/>
        </p:nvSpPr>
        <p:spPr>
          <a:xfrm>
            <a:off x="3605040" y="2924280"/>
            <a:ext cx="1536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99"/>
              </a:lnSpc>
              <a:spcBef>
                <a:spcPts val="15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3"/>
          <p:cNvSpPr/>
          <p:nvPr/>
        </p:nvSpPr>
        <p:spPr>
          <a:xfrm>
            <a:off x="971640" y="1378080"/>
            <a:ext cx="2232000" cy="61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971640" y="2133720"/>
            <a:ext cx="2232000" cy="3060720"/>
          </a:xfrm>
          <a:prstGeom prst="rect">
            <a:avLst/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3449520" y="1387440"/>
            <a:ext cx="2232000" cy="601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3449520" y="2133720"/>
            <a:ext cx="2232000" cy="3070080"/>
          </a:xfrm>
          <a:prstGeom prst="rect">
            <a:avLst/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7"/>
          <p:cNvSpPr/>
          <p:nvPr/>
        </p:nvSpPr>
        <p:spPr>
          <a:xfrm>
            <a:off x="5940360" y="1413000"/>
            <a:ext cx="2232000" cy="61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8"/>
          <p:cNvSpPr/>
          <p:nvPr/>
        </p:nvSpPr>
        <p:spPr>
          <a:xfrm>
            <a:off x="5940360" y="2133720"/>
            <a:ext cx="2232000" cy="3060720"/>
          </a:xfrm>
          <a:prstGeom prst="rect">
            <a:avLst/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9"/>
          <p:cNvSpPr/>
          <p:nvPr/>
        </p:nvSpPr>
        <p:spPr>
          <a:xfrm>
            <a:off x="857160" y="1268280"/>
            <a:ext cx="7427880" cy="403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 10"/>
          <p:cNvSpPr/>
          <p:nvPr/>
        </p:nvSpPr>
        <p:spPr>
          <a:xfrm>
            <a:off x="971640" y="5364000"/>
            <a:ext cx="7200720" cy="297000"/>
          </a:xfrm>
          <a:prstGeom prst="ellipse">
            <a:avLst/>
          </a:prstGeom>
          <a:gradFill rotWithShape="0">
            <a:gsLst>
              <a:gs pos="0">
                <a:srgbClr val="000000">
                  <a:alpha val="77254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泪滴形 3"/>
          <p:cNvSpPr/>
          <p:nvPr/>
        </p:nvSpPr>
        <p:spPr>
          <a:xfrm rot="5400000">
            <a:off x="3264120" y="2140560"/>
            <a:ext cx="1230480" cy="1228680"/>
          </a:xfrm>
          <a:prstGeom prst="pie">
            <a:avLst/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泪滴形 4"/>
          <p:cNvSpPr/>
          <p:nvPr/>
        </p:nvSpPr>
        <p:spPr>
          <a:xfrm rot="10800000">
            <a:off x="4613400" y="1719360"/>
            <a:ext cx="1652400" cy="1650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泪滴形 5"/>
          <p:cNvSpPr/>
          <p:nvPr/>
        </p:nvSpPr>
        <p:spPr>
          <a:xfrm rot="16200000">
            <a:off x="4613040" y="3487680"/>
            <a:ext cx="1230480" cy="1230120"/>
          </a:xfrm>
          <a:prstGeom prst="pie">
            <a:avLst/>
          </a:pr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108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泪滴形 6"/>
          <p:cNvSpPr/>
          <p:nvPr/>
        </p:nvSpPr>
        <p:spPr>
          <a:xfrm>
            <a:off x="2843280" y="3487680"/>
            <a:ext cx="1650960" cy="1650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5"/>
          <p:cNvSpPr/>
          <p:nvPr/>
        </p:nvSpPr>
        <p:spPr>
          <a:xfrm>
            <a:off x="5348160" y="2066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组合 36"/>
          <p:cNvGrpSpPr/>
          <p:nvPr/>
        </p:nvGrpSpPr>
        <p:grpSpPr>
          <a:xfrm>
            <a:off x="41760" y="194040"/>
            <a:ext cx="3401280" cy="5538600"/>
            <a:chOff x="41760" y="194040"/>
            <a:chExt cx="3401280" cy="5538600"/>
          </a:xfrm>
        </p:grpSpPr>
        <p:sp>
          <p:nvSpPr>
            <p:cNvPr id="170" name="矩形 4"/>
            <p:cNvSpPr/>
            <p:nvPr/>
          </p:nvSpPr>
          <p:spPr>
            <a:xfrm>
              <a:off x="634680" y="2449440"/>
              <a:ext cx="2214720" cy="32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直角三角形 12"/>
            <p:cNvSpPr/>
            <p:nvPr/>
          </p:nvSpPr>
          <p:spPr>
            <a:xfrm rot="18900000">
              <a:off x="539640" y="691920"/>
              <a:ext cx="2405160" cy="2405160"/>
            </a:xfrm>
            <a:prstGeom prst="pie">
              <a:avLst/>
            </a:prstGeom>
            <a:gradFill rotWithShape="0">
              <a:gsLst>
                <a:gs pos="0">
                  <a:srgbClr val="f4db27"/>
                </a:gs>
                <a:gs pos="100000">
                  <a:srgbClr val="ff8f26"/>
                </a:gs>
              </a:gsLst>
              <a:lin ang="108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Box 10"/>
            <p:cNvSpPr/>
            <p:nvPr/>
          </p:nvSpPr>
          <p:spPr>
            <a:xfrm>
              <a:off x="532080" y="1258200"/>
              <a:ext cx="81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910000"/>
                  </a:solidFill>
                  <a:latin typeface="Impact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Box 5"/>
            <p:cNvSpPr/>
            <p:nvPr/>
          </p:nvSpPr>
          <p:spPr>
            <a:xfrm>
              <a:off x="1550520" y="1855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10000"/>
                  </a:solidFill>
                  <a:latin typeface="冬青黑体简体中文 W6"/>
                  <a:ea typeface="冬青黑体简体中文 W6"/>
                </a:rPr>
                <a:t>输入主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Box 6"/>
            <p:cNvSpPr/>
            <p:nvPr/>
          </p:nvSpPr>
          <p:spPr>
            <a:xfrm>
              <a:off x="801000" y="3157200"/>
              <a:ext cx="148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Detail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Box 7"/>
            <p:cNvSpPr/>
            <p:nvPr/>
          </p:nvSpPr>
          <p:spPr>
            <a:xfrm>
              <a:off x="804240" y="3917520"/>
              <a:ext cx="159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Symbol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Box 8"/>
            <p:cNvSpPr/>
            <p:nvPr/>
          </p:nvSpPr>
          <p:spPr>
            <a:xfrm>
              <a:off x="816480" y="4677840"/>
              <a:ext cx="13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Phot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37"/>
          <p:cNvGrpSpPr/>
          <p:nvPr/>
        </p:nvGrpSpPr>
        <p:grpSpPr>
          <a:xfrm>
            <a:off x="2861280" y="194040"/>
            <a:ext cx="3401280" cy="5538600"/>
            <a:chOff x="2861280" y="194040"/>
            <a:chExt cx="3401280" cy="5538600"/>
          </a:xfrm>
        </p:grpSpPr>
        <p:sp>
          <p:nvSpPr>
            <p:cNvPr id="178" name="矩形 12"/>
            <p:cNvSpPr/>
            <p:nvPr/>
          </p:nvSpPr>
          <p:spPr>
            <a:xfrm>
              <a:off x="3454200" y="2449440"/>
              <a:ext cx="2214720" cy="32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直角三角形 12"/>
            <p:cNvSpPr/>
            <p:nvPr/>
          </p:nvSpPr>
          <p:spPr>
            <a:xfrm rot="18900000">
              <a:off x="3359160" y="691920"/>
              <a:ext cx="2405160" cy="2405160"/>
            </a:xfrm>
            <a:prstGeom prst="pie">
              <a:avLst/>
            </a:prstGeom>
            <a:gradFill rotWithShape="0">
              <a:gsLst>
                <a:gs pos="0">
                  <a:srgbClr val="f4db27"/>
                </a:gs>
                <a:gs pos="100000">
                  <a:srgbClr val="ff8f26"/>
                </a:gs>
              </a:gsLst>
              <a:lin ang="108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20"/>
            <p:cNvSpPr/>
            <p:nvPr/>
          </p:nvSpPr>
          <p:spPr>
            <a:xfrm>
              <a:off x="3411360" y="1258200"/>
              <a:ext cx="81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910000"/>
                  </a:solidFill>
                  <a:latin typeface="Impact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Box 15"/>
            <p:cNvSpPr/>
            <p:nvPr/>
          </p:nvSpPr>
          <p:spPr>
            <a:xfrm>
              <a:off x="4359600" y="1855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10000"/>
                  </a:solidFill>
                  <a:latin typeface="冬青黑体简体中文 W6"/>
                  <a:ea typeface="冬青黑体简体中文 W6"/>
                </a:rPr>
                <a:t>输入主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TextBox 16"/>
            <p:cNvSpPr/>
            <p:nvPr/>
          </p:nvSpPr>
          <p:spPr>
            <a:xfrm>
              <a:off x="3620520" y="3157200"/>
              <a:ext cx="148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Detail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Box 17"/>
            <p:cNvSpPr/>
            <p:nvPr/>
          </p:nvSpPr>
          <p:spPr>
            <a:xfrm>
              <a:off x="3623760" y="3917520"/>
              <a:ext cx="159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Symbol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18"/>
            <p:cNvSpPr/>
            <p:nvPr/>
          </p:nvSpPr>
          <p:spPr>
            <a:xfrm>
              <a:off x="3636000" y="4677840"/>
              <a:ext cx="13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Phot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组合 38"/>
          <p:cNvGrpSpPr/>
          <p:nvPr/>
        </p:nvGrpSpPr>
        <p:grpSpPr>
          <a:xfrm>
            <a:off x="5680800" y="194400"/>
            <a:ext cx="3401280" cy="5538240"/>
            <a:chOff x="5680800" y="194400"/>
            <a:chExt cx="3401280" cy="5538240"/>
          </a:xfrm>
        </p:grpSpPr>
        <p:sp>
          <p:nvSpPr>
            <p:cNvPr id="186" name="矩形 20"/>
            <p:cNvSpPr/>
            <p:nvPr/>
          </p:nvSpPr>
          <p:spPr>
            <a:xfrm>
              <a:off x="6273720" y="2449440"/>
              <a:ext cx="2214360" cy="32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直角三角形 12"/>
            <p:cNvSpPr/>
            <p:nvPr/>
          </p:nvSpPr>
          <p:spPr>
            <a:xfrm rot="18900000">
              <a:off x="6178680" y="691920"/>
              <a:ext cx="2404800" cy="2405160"/>
            </a:xfrm>
            <a:prstGeom prst="pie">
              <a:avLst/>
            </a:prstGeom>
            <a:gradFill rotWithShape="0">
              <a:gsLst>
                <a:gs pos="0">
                  <a:srgbClr val="f4db27"/>
                </a:gs>
                <a:gs pos="100000">
                  <a:srgbClr val="ff8f26"/>
                </a:gs>
              </a:gsLst>
              <a:lin ang="108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30"/>
            <p:cNvSpPr/>
            <p:nvPr/>
          </p:nvSpPr>
          <p:spPr>
            <a:xfrm>
              <a:off x="6244920" y="1258200"/>
              <a:ext cx="81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910000"/>
                  </a:solidFill>
                  <a:latin typeface="Impact"/>
                </a:rPr>
                <a:t>3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Box 25"/>
            <p:cNvSpPr/>
            <p:nvPr/>
          </p:nvSpPr>
          <p:spPr>
            <a:xfrm>
              <a:off x="7236000" y="1855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10000"/>
                  </a:solidFill>
                  <a:latin typeface="冬青黑体简体中文 W6"/>
                  <a:ea typeface="冬青黑体简体中文 W6"/>
                </a:rPr>
                <a:t>输入主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26"/>
            <p:cNvSpPr/>
            <p:nvPr/>
          </p:nvSpPr>
          <p:spPr>
            <a:xfrm>
              <a:off x="6440040" y="3157200"/>
              <a:ext cx="148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Detail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27"/>
            <p:cNvSpPr/>
            <p:nvPr/>
          </p:nvSpPr>
          <p:spPr>
            <a:xfrm>
              <a:off x="6443280" y="3917520"/>
              <a:ext cx="159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Symbol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28"/>
            <p:cNvSpPr/>
            <p:nvPr/>
          </p:nvSpPr>
          <p:spPr>
            <a:xfrm>
              <a:off x="6455160" y="4677840"/>
              <a:ext cx="13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10000"/>
                  </a:solidFill>
                  <a:latin typeface="微软雅黑"/>
                  <a:ea typeface="微软雅黑"/>
                </a:rPr>
                <a:t>Phot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圆角矩形 3"/>
          <p:cNvSpPr/>
          <p:nvPr/>
        </p:nvSpPr>
        <p:spPr>
          <a:xfrm>
            <a:off x="792000" y="2938320"/>
            <a:ext cx="7693200" cy="1714680"/>
          </a:xfrm>
          <a:prstGeom prst="roundRect">
            <a:avLst>
              <a:gd name="adj" fmla="val 6069"/>
            </a:avLst>
          </a:prstGeom>
          <a:noFill/>
          <a:ln w="2556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圆角矩形 4"/>
          <p:cNvSpPr/>
          <p:nvPr/>
        </p:nvSpPr>
        <p:spPr>
          <a:xfrm>
            <a:off x="6689880" y="1681200"/>
            <a:ext cx="1622160" cy="2158920"/>
          </a:xfrm>
          <a:custGeom>
            <a:avLst/>
            <a:gdLst>
              <a:gd name="textAreaLeft" fmla="*/ 43920 w 1622160"/>
              <a:gd name="textAreaRight" fmla="*/ 1578240 w 1622160"/>
              <a:gd name="textAreaTop" fmla="*/ 43920 h 2158920"/>
              <a:gd name="textAreaBottom" fmla="*/ 2115000 h 2158920"/>
            </a:gdLst>
            <a:ahLst/>
            <a:rect l="textAreaLeft" t="textAreaTop" r="textAreaRight" b="textAreaBottom"/>
            <a:pathLst>
              <a:path w="21600" h="28746">
                <a:moveTo>
                  <a:pt x="2006" y="0"/>
                </a:moveTo>
                <a:arcTo wR="2006" hR="2006" stAng="16200000" swAng="-5400000"/>
                <a:lnTo>
                  <a:pt x="0" y="26740"/>
                </a:lnTo>
                <a:arcTo wR="2006" hR="2006" stAng="10800000" swAng="-5400000"/>
                <a:lnTo>
                  <a:pt x="19594" y="28746"/>
                </a:lnTo>
                <a:arcTo wR="2006" hR="2006" stAng="5400000" swAng="-5400000"/>
                <a:lnTo>
                  <a:pt x="21600" y="2006"/>
                </a:lnTo>
                <a:arcTo wR="2006" hR="2006" stAng="0" swAng="-5400000"/>
                <a:close/>
              </a:path>
            </a:pathLst>
          </a:cu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圆角矩形 5"/>
          <p:cNvSpPr/>
          <p:nvPr/>
        </p:nvSpPr>
        <p:spPr>
          <a:xfrm>
            <a:off x="4786200" y="1684440"/>
            <a:ext cx="1622520" cy="2160360"/>
          </a:xfrm>
          <a:custGeom>
            <a:avLst/>
            <a:gdLst>
              <a:gd name="textAreaLeft" fmla="*/ 43920 w 1622520"/>
              <a:gd name="textAreaRight" fmla="*/ 1578600 w 1622520"/>
              <a:gd name="textAreaTop" fmla="*/ 43920 h 2160360"/>
              <a:gd name="textAreaBottom" fmla="*/ 2116440 h 2160360"/>
            </a:gdLst>
            <a:ahLst/>
            <a:rect l="textAreaLeft" t="textAreaTop" r="textAreaRight" b="textAreaBottom"/>
            <a:pathLst>
              <a:path w="21600" h="28758">
                <a:moveTo>
                  <a:pt x="2006" y="0"/>
                </a:moveTo>
                <a:arcTo wR="2006" hR="2006" stAng="16200000" swAng="-5400000"/>
                <a:lnTo>
                  <a:pt x="0" y="26752"/>
                </a:lnTo>
                <a:arcTo wR="2006" hR="2006" stAng="10800000" swAng="-5400000"/>
                <a:lnTo>
                  <a:pt x="19594" y="28758"/>
                </a:lnTo>
                <a:arcTo wR="2006" hR="2006" stAng="5400000" swAng="-5400000"/>
                <a:lnTo>
                  <a:pt x="21600" y="2006"/>
                </a:lnTo>
                <a:arcTo wR="2006" hR="2006" stAng="0" swAng="-5400000"/>
                <a:close/>
              </a:path>
            </a:pathLst>
          </a:cu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圆角矩形 6"/>
          <p:cNvSpPr/>
          <p:nvPr/>
        </p:nvSpPr>
        <p:spPr>
          <a:xfrm>
            <a:off x="2879640" y="1689120"/>
            <a:ext cx="1622520" cy="2158920"/>
          </a:xfrm>
          <a:custGeom>
            <a:avLst/>
            <a:gdLst>
              <a:gd name="textAreaLeft" fmla="*/ 43920 w 1622520"/>
              <a:gd name="textAreaRight" fmla="*/ 1578600 w 1622520"/>
              <a:gd name="textAreaTop" fmla="*/ 43920 h 2158920"/>
              <a:gd name="textAreaBottom" fmla="*/ 2115000 h 2158920"/>
            </a:gdLst>
            <a:ahLst/>
            <a:rect l="textAreaLeft" t="textAreaTop" r="textAreaRight" b="textAreaBottom"/>
            <a:pathLst>
              <a:path w="21600" h="28739">
                <a:moveTo>
                  <a:pt x="2006" y="0"/>
                </a:moveTo>
                <a:arcTo wR="2006" hR="2006" stAng="16200000" swAng="-5400000"/>
                <a:lnTo>
                  <a:pt x="0" y="26733"/>
                </a:lnTo>
                <a:arcTo wR="2006" hR="2006" stAng="10800000" swAng="-5400000"/>
                <a:lnTo>
                  <a:pt x="19594" y="28739"/>
                </a:lnTo>
                <a:arcTo wR="2006" hR="2006" stAng="5400000" swAng="-5400000"/>
                <a:lnTo>
                  <a:pt x="21600" y="2006"/>
                </a:lnTo>
                <a:arcTo wR="2006" hR="2006" stAng="0" swAng="-5400000"/>
                <a:close/>
              </a:path>
            </a:pathLst>
          </a:cu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圆角矩形 7"/>
          <p:cNvSpPr/>
          <p:nvPr/>
        </p:nvSpPr>
        <p:spPr>
          <a:xfrm>
            <a:off x="971640" y="1677960"/>
            <a:ext cx="1622160" cy="2158920"/>
          </a:xfrm>
          <a:custGeom>
            <a:avLst/>
            <a:gdLst>
              <a:gd name="textAreaLeft" fmla="*/ 43920 w 1622160"/>
              <a:gd name="textAreaRight" fmla="*/ 1578240 w 1622160"/>
              <a:gd name="textAreaTop" fmla="*/ 43920 h 2158920"/>
              <a:gd name="textAreaBottom" fmla="*/ 2115000 h 2158920"/>
            </a:gdLst>
            <a:ahLst/>
            <a:rect l="textAreaLeft" t="textAreaTop" r="textAreaRight" b="textAreaBottom"/>
            <a:pathLst>
              <a:path w="21600" h="28746">
                <a:moveTo>
                  <a:pt x="2006" y="0"/>
                </a:moveTo>
                <a:arcTo wR="2006" hR="2006" stAng="16200000" swAng="-5400000"/>
                <a:lnTo>
                  <a:pt x="0" y="26740"/>
                </a:lnTo>
                <a:arcTo wR="2006" hR="2006" stAng="10800000" swAng="-5400000"/>
                <a:lnTo>
                  <a:pt x="19594" y="28746"/>
                </a:lnTo>
                <a:arcTo wR="2006" hR="2006" stAng="5400000" swAng="-5400000"/>
                <a:lnTo>
                  <a:pt x="21600" y="2006"/>
                </a:lnTo>
                <a:arcTo wR="2006" hR="2006" stAng="0" swAng="-5400000"/>
                <a:close/>
              </a:path>
            </a:pathLst>
          </a:custGeom>
          <a:gradFill rotWithShape="0">
            <a:gsLst>
              <a:gs pos="0">
                <a:srgbClr val="f4db27"/>
              </a:gs>
              <a:gs pos="100000">
                <a:srgbClr val="ff8f2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"/>
          <p:cNvSpPr/>
          <p:nvPr/>
        </p:nvSpPr>
        <p:spPr>
          <a:xfrm>
            <a:off x="2340000" y="4292640"/>
            <a:ext cx="4392720" cy="75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971640" y="1849320"/>
            <a:ext cx="16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2865600" y="1849320"/>
            <a:ext cx="15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24"/>
          <p:cNvSpPr/>
          <p:nvPr/>
        </p:nvSpPr>
        <p:spPr>
          <a:xfrm>
            <a:off x="4819680" y="1849320"/>
            <a:ext cx="155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6734160" y="1849320"/>
            <a:ext cx="163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0000"/>
                </a:solidFill>
                <a:latin typeface="冬青黑体简体中文 W3"/>
                <a:ea typeface="冬青黑体简体中文 W3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878040" y="322596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输入主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2749680" y="32259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输入主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4687920" y="3224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输入主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34"/>
          <p:cNvSpPr/>
          <p:nvPr/>
        </p:nvSpPr>
        <p:spPr>
          <a:xfrm>
            <a:off x="6643800" y="321300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10000"/>
                </a:solidFill>
                <a:latin typeface="冬青黑体简体中文 W6"/>
                <a:ea typeface="冬青黑体简体中文 W6"/>
              </a:rPr>
              <a:t>输入主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椭圆 17"/>
          <p:cNvSpPr/>
          <p:nvPr/>
        </p:nvSpPr>
        <p:spPr>
          <a:xfrm>
            <a:off x="1566720" y="2725560"/>
            <a:ext cx="360360" cy="3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椭圆 18"/>
          <p:cNvSpPr/>
          <p:nvPr/>
        </p:nvSpPr>
        <p:spPr>
          <a:xfrm>
            <a:off x="3483000" y="27576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椭圆 19"/>
          <p:cNvSpPr/>
          <p:nvPr/>
        </p:nvSpPr>
        <p:spPr>
          <a:xfrm>
            <a:off x="5370480" y="27576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椭圆 20"/>
          <p:cNvSpPr/>
          <p:nvPr/>
        </p:nvSpPr>
        <p:spPr>
          <a:xfrm>
            <a:off x="7307280" y="27496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1598040" y="2714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6"/>
          <p:cNvSpPr/>
          <p:nvPr/>
        </p:nvSpPr>
        <p:spPr>
          <a:xfrm>
            <a:off x="3513960" y="2741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7"/>
          <p:cNvSpPr/>
          <p:nvPr/>
        </p:nvSpPr>
        <p:spPr>
          <a:xfrm>
            <a:off x="5403240" y="2741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8"/>
          <p:cNvSpPr/>
          <p:nvPr/>
        </p:nvSpPr>
        <p:spPr>
          <a:xfrm>
            <a:off x="7340040" y="2741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6" descr="C:\Users\Soloman\Desktop\九逸作品 印章1.png"/>
          <p:cNvPicPr/>
          <p:nvPr/>
        </p:nvPicPr>
        <p:blipFill>
          <a:blip r:embed="rId1"/>
          <a:srcRect l="0" t="0" r="0" b="50009"/>
          <a:stretch/>
        </p:blipFill>
        <p:spPr>
          <a:xfrm>
            <a:off x="4140360" y="1197000"/>
            <a:ext cx="888840" cy="20350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1650960" y="3537000"/>
            <a:ext cx="58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01:56:26Z</dcterms:created>
  <dc:creator>Peng Jinfeng</dc:creator>
  <dc:description/>
  <dc:language>en-US</dc:language>
  <cp:lastModifiedBy>未知用户</cp:lastModifiedBy>
  <dcterms:modified xsi:type="dcterms:W3CDTF">2016-01-15T04:01:00Z</dcterms:modified>
  <cp:revision>15</cp:revision>
  <dc:subject/>
  <dc:title>06flash</dc:title>
</cp:coreProperties>
</file>