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0671-E7B6-4D58-81F3-F15DEEDD1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5FD0-5434-45BE-A9D8-A34247C54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2316-3808-425E-B040-8635222AE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E4A1-0886-4CE8-A537-B6122D5E1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32CA8-5969-4FDE-8DC2-A9E67A862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C0173-054F-4B50-89D8-F2952770D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4A8FD-C3B2-49FC-8048-ABCC21FCF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1539F-D225-4E9B-A22C-1D58ECE4F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67D1F-1287-489F-A537-0F9A755AF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3357B-5755-440E-9569-94710616E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E0A2A-9779-45B6-B960-35007F8C9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F9C3-9D41-462D-9D1B-BDFACF0B4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4BD93-8AED-45FB-A2DB-E4397B688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C278E-B0CD-41AA-ACC2-6424F0DF0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3CC4C-80DF-4E45-8FAC-4FFD96D69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651CB-8B6C-4A98-8EAD-1560AC363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ED767-53EC-450B-B29A-6956B3759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8752-3706-4B6B-AAC8-1C0D6CD01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A996-64F1-42C3-AFA3-70C3D6C3D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207C-B513-4FB2-ABF7-B842A4AE1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92FB-B614-4299-B899-CDEC1159B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0BD5-8B9E-4349-AFDE-9C7569ECD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850A-8BBF-4041-B95D-9754CCA2D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2177-7D4F-4932-89B4-6BAAFA1DB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1" name=""/>
            <p:cNvSpPr/>
            <p:nvPr/>
          </p:nvSpPr>
          <p:spPr>
            <a:xfrm>
              <a:off x="62208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2208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2208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2208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2208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2208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2208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32876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32876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32876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2876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32876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32876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132876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04300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204300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04300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204300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4300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204300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04300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274932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74932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274932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274932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74932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74932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74932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5600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45600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45600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45600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45600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45600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45600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171680" y="0"/>
              <a:ext cx="3204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171680" y="320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171680" y="1605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171680" y="224640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171680" y="353088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171680" y="4173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171680" y="6099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87836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87836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7836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87836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87836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87836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7836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5846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5846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5846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5846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5846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5846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5846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2992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2992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2992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2992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2992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2992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2992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00560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00560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00560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0560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00560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0560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00560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7119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7119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7119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7119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7119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7119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7119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4265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4265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4265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4265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4265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4265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4265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66640" y="5208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147" name=""/>
            <p:cNvSpPr/>
            <p:nvPr/>
          </p:nvSpPr>
          <p:spPr>
            <a:xfrm>
              <a:off x="1079280" y="34448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193400" y="36806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473120" y="36324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455120" y="37234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450080" y="37468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518840" y="37062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161" name=""/>
            <p:cNvSpPr/>
            <p:nvPr/>
          </p:nvSpPr>
          <p:spPr>
            <a:xfrm>
              <a:off x="1079280" y="45529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193400" y="47887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473120" y="47404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455120" y="48315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450080" y="48549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518840" y="48142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175" name=""/>
            <p:cNvSpPr/>
            <p:nvPr/>
          </p:nvSpPr>
          <p:spPr>
            <a:xfrm>
              <a:off x="1079280" y="55627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193400" y="57985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473120" y="57502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455120" y="58413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450080" y="58647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518840" y="58240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189" name=""/>
            <p:cNvSpPr/>
            <p:nvPr/>
          </p:nvSpPr>
          <p:spPr>
            <a:xfrm>
              <a:off x="393480" y="39625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07600" y="41983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87320" y="41500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69320" y="42411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64280" y="42645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33040" y="42238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203" name=""/>
            <p:cNvSpPr/>
            <p:nvPr/>
          </p:nvSpPr>
          <p:spPr>
            <a:xfrm>
              <a:off x="393480" y="507060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07600" y="530640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87320" y="525816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69320" y="53492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64280" y="537264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33040" y="533196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217" name=""/>
            <p:cNvSpPr/>
            <p:nvPr/>
          </p:nvSpPr>
          <p:spPr>
            <a:xfrm>
              <a:off x="393480" y="61214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7600" y="63572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87320" y="63090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69320" y="64000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64280" y="64234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33040" y="63828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231" name=""/>
            <p:cNvSpPr/>
            <p:nvPr/>
          </p:nvSpPr>
          <p:spPr>
            <a:xfrm>
              <a:off x="7041600" y="-7920"/>
              <a:ext cx="2102760" cy="191412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" name="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233" name="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485120" y="965880"/>
                <a:ext cx="18612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7314120" y="1054440"/>
                <a:ext cx="16308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7211520" y="476640"/>
                <a:ext cx="534960" cy="24228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7818120" y="1162800"/>
                <a:ext cx="383760" cy="39240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8700840" y="76572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8831880" y="750240"/>
                <a:ext cx="30168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8820360" y="900360"/>
                <a:ext cx="325080" cy="14256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8566200" y="103536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8625960" y="1158840"/>
                <a:ext cx="443880" cy="11124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8598600" y="1247400"/>
                <a:ext cx="455040" cy="36540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8895240" y="1100880"/>
                <a:ext cx="25776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3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B404B-4B73-4847-8440-968A5DD4B03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4761000" y="20520"/>
            <a:ext cx="4438440" cy="4038840"/>
          </a:xfrm>
          <a:custGeom>
            <a:avLst/>
            <a:gdLst/>
            <a:ahLst/>
            <a:rect l="l" t="t" r="r" b="b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289" name="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/>
              <a:ahLst/>
              <a:rect l="l" t="t" r="r" b="b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702040" y="2068200"/>
              <a:ext cx="382320" cy="45468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351400" y="2254680"/>
              <a:ext cx="334440" cy="60912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141160" y="1036080"/>
              <a:ext cx="1097640" cy="51120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385680" y="2482920"/>
              <a:ext cx="787680" cy="827640"/>
            </a:xfrm>
            <a:custGeom>
              <a:avLst/>
              <a:gdLst/>
              <a:ahLst/>
              <a:rect l="l" t="t" r="r" b="b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197560" y="1645560"/>
              <a:ext cx="805680" cy="154080"/>
            </a:xfrm>
            <a:custGeom>
              <a:avLst/>
              <a:gdLst/>
              <a:ahLst/>
              <a:rect l="l" t="t" r="r" b="b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442000" y="1929960"/>
              <a:ext cx="667080" cy="30060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921080" y="2214720"/>
              <a:ext cx="1122120" cy="268200"/>
            </a:xfrm>
            <a:custGeom>
              <a:avLst/>
              <a:gdLst/>
              <a:ahLst/>
              <a:rect l="l" t="t" r="r" b="b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043120" y="2475000"/>
              <a:ext cx="911520" cy="23472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986960" y="2661840"/>
              <a:ext cx="933840" cy="771120"/>
            </a:xfrm>
            <a:custGeom>
              <a:avLst/>
              <a:gdLst/>
              <a:ahLst/>
              <a:rect l="l" t="t" r="r" b="b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596440" y="2352960"/>
              <a:ext cx="528840" cy="1372680"/>
            </a:xfrm>
            <a:custGeom>
              <a:avLst/>
              <a:gdLst/>
              <a:ahLst/>
              <a:rect l="l" t="t" r="r" b="b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303" name=""/>
            <p:cNvSpPr/>
            <p:nvPr/>
          </p:nvSpPr>
          <p:spPr>
            <a:xfrm>
              <a:off x="60948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0948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0948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0948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0948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0948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0948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31616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31616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31616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31616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31616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31616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31616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03040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03040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03040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03040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03040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03040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03040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73672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73672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73672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73672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73672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73672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73672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44340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4340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44340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44340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44340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44340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44340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159080" y="36360"/>
              <a:ext cx="3204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159080" y="3571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159080" y="16416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159080" y="2282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159080" y="356724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159080" y="42102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159080" y="6135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86576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6576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86576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86576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86576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86576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6576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5720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5720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5720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5720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720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5720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5720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2866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2866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2866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2866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2866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2866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2866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99300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99300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99300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99300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99300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99300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99300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6993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6993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6993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6993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6993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6993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6993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84139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84139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4139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4139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4139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84139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84139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54040" y="524520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dt" idx="4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 type="ftr" idx="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9FAB6-3E5D-49B6-8D21-AE92B6935E3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453" name=""/>
            <p:cNvSpPr/>
            <p:nvPr/>
          </p:nvSpPr>
          <p:spPr>
            <a:xfrm>
              <a:off x="192240" y="4724280"/>
              <a:ext cx="328320" cy="1285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52600" y="5470200"/>
              <a:ext cx="136440" cy="1620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23720" y="5535360"/>
              <a:ext cx="120960" cy="21600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52440" y="5101920"/>
              <a:ext cx="385920" cy="18432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436760" y="5317920"/>
              <a:ext cx="280800" cy="572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531800" y="5310000"/>
              <a:ext cx="217800" cy="1285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339920" y="5519520"/>
              <a:ext cx="393480" cy="954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379520" y="5606640"/>
              <a:ext cx="322200" cy="8892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363680" y="5679720"/>
              <a:ext cx="328680" cy="2732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581120" y="5551200"/>
              <a:ext cx="200160" cy="50472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baike.baidu.com/view/81346.htm" TargetMode="External"/><Relationship Id="rId2" Type="http://schemas.openxmlformats.org/officeDocument/2006/relationships/hyperlink" Target="http://baike.baidu.com/view/1689.htm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10920" y="1341000"/>
            <a:ext cx="744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500" spc="-1" strike="noStrike">
                <a:solidFill>
                  <a:srgbClr val="e40000"/>
                </a:solidFill>
                <a:latin typeface="Arial"/>
                <a:ea typeface="楷体_GB2312"/>
              </a:rPr>
              <a:t>学习雷锋好榜样</a:t>
            </a:r>
            <a:endParaRPr b="0" lang="en-US" sz="6500" spc="-1" strike="noStrike">
              <a:solidFill>
                <a:srgbClr val="e4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他背起背包过地下通道时，看见一位白发苍苍的老大娘，拄着棍，背了个大包袱，很吃力地一步步迈着，雷锋走上前去问道：“大娘，您到哪去？”老人上气不接下气地说：“俺从关内来，到抚顺去看儿子！”雷锋一听跟自己同路，立刻把大包袱接过来，用手扶着老人说：“走，大娘，我送您到抚顺。”老人感动极了，一口一个好孩子地夸他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3708360" y="692280"/>
            <a:ext cx="21589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楷体_GB2312"/>
              </a:rPr>
              <a:t>好事</a:t>
            </a:r>
            <a:endParaRPr b="1" lang="en-US" sz="40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</p:spTree>
  </p:cSld>
  <p:transition spd="med">
    <p:blinds dir="vert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/>
          </p:nvPr>
        </p:nvSpPr>
        <p:spPr>
          <a:xfrm>
            <a:off x="609120" y="1599840"/>
            <a:ext cx="40006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从一九六一年开始，雷锋经常应邀去外地作报告，他出差的机会多了，为人民服务的机会就多了，人们流传着这样一句话：“雷锋出差一千里，好事做了一火车”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762080" y="1599840"/>
            <a:ext cx="40006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雷锋就是选择永不停息地，全心全意地为人民做好事，难怪人们一见到为人民做好事的人就想起雷锋。因为他是我们的好榜样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3780000" y="476280"/>
            <a:ext cx="172872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楷体_GB2312"/>
              </a:rPr>
              <a:t>事例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</p:spTree>
  </p:cSld>
  <p:transition spd="med">
    <p:blinds dir="vert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/>
          <p:nvPr/>
        </p:nvSpPr>
        <p:spPr>
          <a:xfrm>
            <a:off x="179280" y="0"/>
            <a:ext cx="511344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《你，浪花里的一滴水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在这里， 我要歌唱一个人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他不是将军， 却立了无数功勋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他不是文豪， 却写下不朽诗文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他如此平凡，如此年青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像一滴小小的春雨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却渗透— 亿万人的心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为什么呵为什么，六亿人民的心里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都念着这个二十二岁士兵的姓名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他啊， 是一滴水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却能够反映了整个太阳的光辉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他啊， 是刚展翅的鸟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却能够一心向着党飞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!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他啊， 是才点亮的灯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只不过每一分光都没浪费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他啊， 是刚敲响的鼓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却能把每一声都化成雷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!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啊，雷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4967280" y="260280"/>
            <a:ext cx="4176720" cy="61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你不为自己编歌曲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你不为自己织罗衣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  你不为自己梳羽毛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  你不为个人流一滴泪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  啊，雷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  你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《国际歌》里的一个      音符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你，红旗上的一根纤维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你，花丛中的红花一瓣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你，浪花里最清的一滴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青春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!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永生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!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壮丽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看列兵雷锋呵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一步一个回声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一步一个歌曲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直响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未来的无穷世纪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5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5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5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5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5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5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5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5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52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52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52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52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52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52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5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5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5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5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5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5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500"/>
                                        <p:tgtEl>
                                          <p:spTgt spid="5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53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40000"/>
                </a:solidFill>
                <a:latin typeface="Arial"/>
              </a:rPr>
              <a:t>雷锋精神 代代传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一是一，二是二，不缩小，不扩大。学雷锋，见行动，进教室，开窗户。洒洒水，扫扫地，擦黑板，抹桌子，擦凳子。小同学，勤学习，多思考，齐进取，爱祖国，爱人民，做一名，好学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5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5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40000"/>
                </a:solidFill>
                <a:latin typeface="Arial"/>
                <a:ea typeface="楷体_GB2312"/>
              </a:rPr>
              <a:t>雷锋名言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朵鲜花打扮不出美丽的春天，一个人先进总是单枪匹马，众人先进才能移山填海。 ——雷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滴水只有放进大海里才永远不会干涸，一个人只有当他把自己和集体事业融合在一起的时候才能最有力量。 ——雷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谁要是游戏人生，他就一事无成；谁不能主宰自己，永远是一个奴隶。━━雷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8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5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5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5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Picture 6" descr="PM_027_jpg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536" name="WordArt 7"/>
          <p:cNvSpPr txBox="1"/>
          <p:nvPr/>
        </p:nvSpPr>
        <p:spPr>
          <a:xfrm>
            <a:off x="2195640" y="2492280"/>
            <a:ext cx="4392360" cy="2386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66"/>
                </a:solidFill>
                <a:latin typeface="宋体"/>
              </a:rPr>
              <a:t>说一说我们身边的雷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66"/>
              </a:solidFill>
              <a:latin typeface="宋体"/>
              <a:ea typeface="宋体"/>
            </a:endParaRPr>
          </a:p>
        </p:txBody>
      </p:sp>
    </p:spTree>
  </p:cSld>
  <p:transition spd="med"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2268000" y="-360"/>
            <a:ext cx="520884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40000"/>
                </a:solidFill>
                <a:latin typeface="Arial"/>
                <a:ea typeface="楷体_GB2312"/>
              </a:rPr>
              <a:t>学习雷锋好榜样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609120" y="836640"/>
            <a:ext cx="815364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学习雷锋好榜样 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忠于革命忠于党 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爱憎分明不忘本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立场坚定斗志强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立场坚定斗志强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!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学习雷锋好榜样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艰苦朴素永不忘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愿做革命的螺丝钉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集体主义思想放光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集体主义思想放光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4211640" y="981000"/>
            <a:ext cx="4427640" cy="58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学习雷锋好榜样 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毛主席的教导记心上 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全心全意为人民 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共产主义品德多高尚 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共产主义品德多高尚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!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学习雷锋好榜样 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毛泽东思想来武装 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保卫祖国握紧枪 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继续革命当闯将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继续革命当闯将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!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0" name="" descr=""/>
          <p:cNvPicPr/>
          <p:nvPr/>
        </p:nvPicPr>
        <p:blipFill>
          <a:blip r:embed="rId1"/>
          <a:stretch/>
        </p:blipFill>
        <p:spPr>
          <a:xfrm>
            <a:off x="1692360" y="333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390" dur="indefinite" restart="never" nodeType="tmRoot">
          <p:childTnLst>
            <p:seq>
              <p:cTn id="391" restart="whenNotActive" nodeType="interactiveSeq" fill="hold">
                <p:stCondLst>
                  <p:cond evt="onClick">
                    <p:tgtEl>
                      <p:spTgt spid="540"/>
                    </p:tgtEl>
                  </p:cond>
                </p:stCondLst>
                <p:childTnLst>
                  <p:par>
                    <p:cTn id="392" fill="hold">
                      <p:stCondLst>
                        <p:cond evt="onClick">
                          <p:tgtEl>
                            <p:spTgt spid="540"/>
                          </p:tgtEl>
                        </p:cond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5" dur="135524" fill="hold"/>
                                        <p:tgtEl>
                                          <p:spTgt spid="5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 txBox="1"/>
          <p:nvPr/>
        </p:nvSpPr>
        <p:spPr>
          <a:xfrm>
            <a:off x="250920" y="1413000"/>
            <a:ext cx="8424720" cy="41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楷体_GB2312"/>
              </a:rPr>
              <a:t>谢谢！</a:t>
            </a:r>
            <a:r>
              <a:rPr b="1" lang="en-US" sz="4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楷体_GB2312"/>
              </a:rPr>
              <a:t>*</a:t>
            </a:r>
            <a:endParaRPr b="1" lang="en-US" sz="4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楷体_GB2312"/>
              <a:ea typeface="楷体_GB2312"/>
            </a:endParaRPr>
          </a:p>
        </p:txBody>
      </p:sp>
    </p:spTree>
  </p:cSld>
  <p:transition spd="med">
    <p:blinds dir="vert"/>
  </p:transition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067280" cy="6858000"/>
          </a:xfrm>
          <a:prstGeom prst="rect">
            <a:avLst/>
          </a:prstGeom>
          <a:ln w="0">
            <a:noFill/>
          </a:ln>
        </p:spPr>
      </p:pic>
      <p:pic>
        <p:nvPicPr>
          <p:cNvPr id="505" name="" descr=""/>
          <p:cNvPicPr/>
          <p:nvPr/>
        </p:nvPicPr>
        <p:blipFill>
          <a:blip r:embed="rId2"/>
          <a:stretch/>
        </p:blipFill>
        <p:spPr>
          <a:xfrm>
            <a:off x="4932360" y="0"/>
            <a:ext cx="4211640" cy="6858000"/>
          </a:xfrm>
          <a:prstGeom prst="rect">
            <a:avLst/>
          </a:prstGeom>
          <a:ln w="0">
            <a:noFill/>
          </a:ln>
        </p:spPr>
      </p:pic>
      <p:sp>
        <p:nvSpPr>
          <p:cNvPr id="506" name=""/>
          <p:cNvSpPr txBox="1"/>
          <p:nvPr/>
        </p:nvSpPr>
        <p:spPr>
          <a:xfrm rot="5400000">
            <a:off x="2231640" y="3249720"/>
            <a:ext cx="4608720" cy="792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宋体"/>
              </a:rPr>
              <a:t>雷锋叔叔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 spd="med">
    <p:blinds dir="vert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4174920" cy="3240000"/>
          </a:xfrm>
          <a:prstGeom prst="rect">
            <a:avLst/>
          </a:prstGeom>
          <a:ln w="0">
            <a:noFill/>
          </a:ln>
        </p:spPr>
      </p:pic>
      <p:pic>
        <p:nvPicPr>
          <p:cNvPr id="508" name="" descr=""/>
          <p:cNvPicPr/>
          <p:nvPr/>
        </p:nvPicPr>
        <p:blipFill>
          <a:blip r:embed="rId2"/>
          <a:stretch/>
        </p:blipFill>
        <p:spPr>
          <a:xfrm>
            <a:off x="755640" y="3284640"/>
            <a:ext cx="4033800" cy="3422520"/>
          </a:xfrm>
          <a:prstGeom prst="rect">
            <a:avLst/>
          </a:prstGeom>
          <a:ln w="0">
            <a:noFill/>
          </a:ln>
        </p:spPr>
      </p:pic>
      <p:pic>
        <p:nvPicPr>
          <p:cNvPr id="509" name="" descr=""/>
          <p:cNvPicPr/>
          <p:nvPr/>
        </p:nvPicPr>
        <p:blipFill>
          <a:blip r:embed="rId3"/>
          <a:stretch/>
        </p:blipFill>
        <p:spPr>
          <a:xfrm>
            <a:off x="5043600" y="765000"/>
            <a:ext cx="4100400" cy="50403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" descr=""/>
          <p:cNvPicPr/>
          <p:nvPr/>
        </p:nvPicPr>
        <p:blipFill>
          <a:blip r:embed="rId1"/>
          <a:stretch/>
        </p:blipFill>
        <p:spPr>
          <a:xfrm>
            <a:off x="324000" y="115920"/>
            <a:ext cx="4176720" cy="3132000"/>
          </a:xfrm>
          <a:prstGeom prst="rect">
            <a:avLst/>
          </a:prstGeom>
          <a:ln w="0">
            <a:noFill/>
          </a:ln>
        </p:spPr>
      </p:pic>
      <p:pic>
        <p:nvPicPr>
          <p:cNvPr id="511" name="" descr=""/>
          <p:cNvPicPr/>
          <p:nvPr/>
        </p:nvPicPr>
        <p:blipFill>
          <a:blip r:embed="rId2"/>
          <a:stretch/>
        </p:blipFill>
        <p:spPr>
          <a:xfrm>
            <a:off x="684360" y="3357720"/>
            <a:ext cx="3528720" cy="3389040"/>
          </a:xfrm>
          <a:prstGeom prst="rect">
            <a:avLst/>
          </a:prstGeom>
          <a:ln w="0">
            <a:noFill/>
          </a:ln>
        </p:spPr>
      </p:pic>
      <p:pic>
        <p:nvPicPr>
          <p:cNvPr id="512" name="" descr=""/>
          <p:cNvPicPr/>
          <p:nvPr/>
        </p:nvPicPr>
        <p:blipFill>
          <a:blip r:embed="rId3"/>
          <a:stretch/>
        </p:blipFill>
        <p:spPr>
          <a:xfrm>
            <a:off x="4716360" y="549360"/>
            <a:ext cx="4260960" cy="56894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796000" y="333360"/>
            <a:ext cx="273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40000"/>
                </a:solidFill>
                <a:latin typeface="Arial"/>
                <a:ea typeface="楷体_GB2312"/>
              </a:rPr>
              <a:t>雷锋简介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-360" y="189000"/>
            <a:ext cx="565164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</a:t>
            </a:r>
            <a:r>
              <a:rPr b="1" lang="zh-CN" sz="3400" spc="-1" strike="noStrike">
                <a:solidFill>
                  <a:srgbClr val="000000"/>
                </a:solidFill>
                <a:latin typeface="华文新魏"/>
                <a:ea typeface="华文新魏"/>
              </a:rPr>
              <a:t>雷锋（</a:t>
            </a:r>
            <a:r>
              <a:rPr b="1" lang="zh-CN" sz="3400" spc="-1" strike="noStrike">
                <a:solidFill>
                  <a:srgbClr val="000000"/>
                </a:solidFill>
                <a:latin typeface="华文新魏"/>
                <a:ea typeface="华文新魏"/>
              </a:rPr>
              <a:t>1940~1962</a:t>
            </a:r>
            <a:r>
              <a:rPr b="1" lang="zh-CN" sz="3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同志是中国家喻户晓的全心全意</a:t>
            </a:r>
            <a:r>
              <a:rPr b="0" lang="zh-CN" sz="3400" spc="-1" strike="noStrike" u="sng">
                <a:solidFill>
                  <a:srgbClr val="0066cc"/>
                </a:solidFill>
                <a:uFillTx/>
                <a:latin typeface="华文新魏"/>
                <a:ea typeface="华文新魏"/>
                <a:hlinkClick r:id="rId1"/>
              </a:rPr>
              <a:t>为人民服务</a:t>
            </a:r>
            <a:r>
              <a:rPr b="1" lang="zh-CN" sz="3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楷模，共产主义战士；他作为一名普通的中国人民解放军战士，在他短暂的一生中却助人无数，伟大领袖</a:t>
            </a:r>
            <a:r>
              <a:rPr b="0" lang="zh-CN" sz="3400" spc="-1" strike="noStrike" u="sng">
                <a:solidFill>
                  <a:srgbClr val="0066cc"/>
                </a:solidFill>
                <a:uFillTx/>
                <a:latin typeface="华文新魏"/>
                <a:ea typeface="华文新魏"/>
                <a:hlinkClick r:id="rId2"/>
              </a:rPr>
              <a:t>毛泽东</a:t>
            </a:r>
            <a:r>
              <a:rPr b="1" lang="zh-CN" sz="3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主席于</a:t>
            </a:r>
            <a:r>
              <a:rPr b="1" lang="zh-CN" sz="3400" spc="-1" strike="noStrike">
                <a:solidFill>
                  <a:srgbClr val="000000"/>
                </a:solidFill>
                <a:latin typeface="华文新魏"/>
                <a:ea typeface="华文新魏"/>
              </a:rPr>
              <a:t>1963</a:t>
            </a:r>
            <a:r>
              <a:rPr b="1" lang="zh-CN" sz="3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年</a:t>
            </a:r>
            <a:r>
              <a:rPr b="1" lang="zh-CN" sz="34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1" lang="zh-CN" sz="3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月</a:t>
            </a:r>
            <a:r>
              <a:rPr b="1" lang="zh-CN" sz="3400" spc="-1" strike="noStrike">
                <a:solidFill>
                  <a:srgbClr val="000000"/>
                </a:solidFill>
                <a:latin typeface="华文新魏"/>
                <a:ea typeface="华文新魏"/>
              </a:rPr>
              <a:t>5</a:t>
            </a:r>
            <a:r>
              <a:rPr b="1" lang="zh-CN" sz="3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日亲笔为他题词“向雷锋同志学习”，并把</a:t>
            </a:r>
            <a:r>
              <a:rPr b="1" lang="zh-CN" sz="34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1" lang="zh-CN" sz="3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月</a:t>
            </a:r>
            <a:r>
              <a:rPr b="1" lang="zh-CN" sz="3400" spc="-1" strike="noStrike">
                <a:solidFill>
                  <a:srgbClr val="000000"/>
                </a:solidFill>
                <a:latin typeface="华文新魏"/>
                <a:ea typeface="华文新魏"/>
              </a:rPr>
              <a:t>5</a:t>
            </a:r>
            <a:r>
              <a:rPr b="1" lang="zh-CN" sz="3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日定为学雷锋纪念日；一部可歌可泣的《雷锋日记》令读者无不为之动容。“雷锋精神”激励着一代又一代人学习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" descr=""/>
          <p:cNvPicPr/>
          <p:nvPr/>
        </p:nvPicPr>
        <p:blipFill>
          <a:blip r:embed="rId3"/>
          <a:stretch/>
        </p:blipFill>
        <p:spPr>
          <a:xfrm>
            <a:off x="5435640" y="1341360"/>
            <a:ext cx="3492360" cy="45370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9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40000"/>
                </a:solidFill>
                <a:latin typeface="Arial"/>
                <a:ea typeface="楷体_GB2312"/>
              </a:rPr>
              <a:t>雷锋的苦难童年</a:t>
            </a:r>
            <a:br>
              <a:rPr sz="4000"/>
            </a:br>
            <a:endParaRPr b="0" lang="en-US" sz="40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40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是雷锋出生的时候，正处于抗日战争时期，人民生活于水深火热之中；雷锋曾在一篇日记中写道：“我家里很穷，父亲、母亲、哥哥、弟弟，都死在民族敌人和阶级敌人的手里，这血海深仇，我永远铭记在心中。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雷锋叔叔的精神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1042920" y="2060640"/>
            <a:ext cx="7416720" cy="29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行楷"/>
              </a:rPr>
              <a:t>助人为乐</a:t>
            </a:r>
            <a:endParaRPr b="1" lang="en-US" sz="96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行楷"/>
              <a:ea typeface="华文行楷"/>
            </a:endParaRPr>
          </a:p>
        </p:txBody>
      </p:sp>
    </p:spTree>
  </p:cSld>
  <p:transition spd="med">
    <p:blinds dir="vert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77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6" dur="770" fill="hold"/>
                                        <p:tgtEl>
                                          <p:spTgt spid="51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8" dur="77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0" dur="77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250920" y="1628640"/>
            <a:ext cx="815328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次雷锋外出在沈阳车站换车的时候，一出检票口，发现一群人围着一个背着小孩的中年妇女，原来这位妇女从辽宁去吉林看丈夫，车票和钱丢了。雷锋用自己的津贴费买了一张去吉林的火车票塞到大嫂手里，大嫂含着眼泪说：“小兄弟，你叫什么名字，是哪个单位的？”雷锋说：“我叫解放军，就在部队工作。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3851280" y="620640"/>
            <a:ext cx="2016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楷体_GB2312"/>
              </a:rPr>
              <a:t>好事</a:t>
            </a:r>
            <a:endParaRPr b="0" lang="en-US" sz="4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1979640" y="5661000"/>
            <a:ext cx="5111640" cy="80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行楷"/>
              </a:rPr>
              <a:t>“</a:t>
            </a:r>
            <a:r>
              <a:rPr b="1" lang="zh-CN" sz="4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行楷"/>
              </a:rPr>
              <a:t>做好事不留名”</a:t>
            </a:r>
            <a:endParaRPr b="1" lang="en-US" sz="4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行楷"/>
              <a:ea typeface="华文行楷"/>
            </a:endParaRPr>
          </a:p>
        </p:txBody>
      </p:sp>
    </p:spTree>
  </p:cSld>
  <p:transition spd="med">
    <p:blinds dir="vert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5T05:26:05Z</dcterms:created>
  <dc:creator>User</dc:creator>
  <dc:description/>
  <dc:language>en-US</dc:language>
  <cp:lastModifiedBy>china</cp:lastModifiedBy>
  <dcterms:modified xsi:type="dcterms:W3CDTF">2012-03-08T17:17:44Z</dcterms:modified>
  <cp:revision>8</cp:revision>
  <dc:subject/>
  <dc:title>幻灯片 1</dc:title>
</cp:coreProperties>
</file>