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6.png" ContentType="image/png"/>
  <Override PartName="/ppt/media/image6.png" ContentType="image/png"/>
  <Override PartName="/ppt/media/wind.wav" ContentType="audio/x-wav"/>
  <Override PartName="/ppt/media/image1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3.jpeg" ContentType="image/jpeg"/>
  <Override PartName="/ppt/media/image25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1EA-952E-45CE-AAEF-87C8BE2E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5BA-7140-4567-A5FB-F2ABE48F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F64-8C73-43EC-96AA-F3E7BBDA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A91-1E97-48B1-9BD4-0395E96C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D3A-5452-41EA-8EAA-CF763628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E35-EBF8-4481-97FF-4C446127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66A-B0F5-4536-B9F0-A789DFB9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E2F-550D-40C5-976D-4A994967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9A8-7887-4C8F-96D6-E5C35596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FBF-0214-4E41-81BE-E8E0CCF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02F-6598-4143-8D1F-BF8E8C9D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1A8-AA68-4BA3-BB16-F577C16E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2183-D5A0-4543-983C-6A2FB99FCA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slide14.xml"/><Relationship Id="rId4" Type="http://schemas.openxmlformats.org/officeDocument/2006/relationships/image" Target="../media/image22.png"/><Relationship Id="rId5" Type="http://schemas.openxmlformats.org/officeDocument/2006/relationships/slide" Target="slide5.xml"/><Relationship Id="rId6" Type="http://schemas.openxmlformats.org/officeDocument/2006/relationships/image" Target="../media/image22.png"/><Relationship Id="rId7" Type="http://schemas.openxmlformats.org/officeDocument/2006/relationships/slide" Target="slide16.xml"/><Relationship Id="rId8" Type="http://schemas.openxmlformats.org/officeDocument/2006/relationships/image" Target="../media/image22.png"/><Relationship Id="rId9" Type="http://schemas.openxmlformats.org/officeDocument/2006/relationships/slide" Target="slide18.xml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7174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3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     “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寒食节”的源头，应为远古时期人类的火崇拜。古人的生活离不开火，但是，火又往往给人类造成极大的灾害，于是古人便认为火有神灵，要祀火。各家所祀之火，每年又要止熄一次。然后再重新燃起新火，称为改火。改火时，要举行隆重的祭祖活动，将谷神稷的象征物焚烧，称为人牺。相沿成俗，便形成了后来的禁火节。</a:t>
            </a:r>
            <a:r>
              <a:rPr b="0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62064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7499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禁火节后来又转化为寒食节，用以纪念春秋时期晋国的名臣义士介子推。传说晋文公流亡期间，介子推曾经割股为他充饥。晋文公归国为君后，分封群臣时却忘记了介子推。介子推不愿夸功争宠，携老母隐居于绵山。后来晋文公亲自到绵山恭请介子推，介子推不愿为官，躲藏山里。文公手下放火焚山，原意是想逼介子推露面，结果介子推抱着母亲被烧死在一棵大树下。为了纪念这位忠臣义士，人们在介子推死难之日不生火做饭，要吃冷食，称为寒食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后来，由于清明节与寒食节日子接近，渐渐地清明与寒食就合二为一了，寒食节成了清明节的一个别称，也成了清明节的一个习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开始，我国将清明节认定为法定节假日，放假一天。至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又改为三天。一直延续至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33336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55640" y="765000"/>
            <a:ext cx="365760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清明节的习俗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5013360"/>
            <a:ext cx="271440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组讨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"/>
          <p:cNvSpPr txBox="1"/>
          <p:nvPr/>
        </p:nvSpPr>
        <p:spPr>
          <a:xfrm rot="21203400">
            <a:off x="755280" y="2060280"/>
            <a:ext cx="453564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你知道哪些？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2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清明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1970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清明节的习俗是丰富有趣的，除了讲究禁火、扫墓，还有踏青、荡秋千、踢蹴鞠、打马球、插柳等一系列风俗体育活动。相传 这是因为寒食节要寒食禁火，为了防止寒食冷餐伤身，所以大家来参加一些体育活动，以锻炼身体。清明节，民间忌使针，忌洗衣，大部分地区妇女忌行路。傍晚以前，要在大门前洒一条灰线，据说可以阻止鬼魂进宅。 因此，这个节日中既有祭扫新坟生离死别的悲酸泪，又有踏青游玩的欢笑声，是一个富有特色的节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75480" y="1197000"/>
            <a:ext cx="3333600" cy="396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56372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荡秋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这是中国古代清明节习俗。秋千，意即揪着皮绳而迁移。它的历史很古老，最早叫千秋，后为了避忌讳，改之为秋千。古时的秋千多用树桠枝为架，再栓上彩带做成。后来逐步发展为用两根绳索加上踏板的秋千。荡秋千不仅可以增进健康，而且可以培养勇敢精神，至今为人们特别是儿童所喜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清明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bright="30000"/>
          </a:blip>
          <a:srcRect l="0" t="0" r="0" b="58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53276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踏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　又叫春游。古时叫探春、寻春等。四月清明，春回大地，自然界到处呈现一派生机勃勃的景象，正是郊游的大好时光。我国民间长期保持着清明踏青的习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>
            <a:lum bright="24000"/>
          </a:blip>
          <a:srcRect l="0" t="0" r="0" b="27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476360" y="691920"/>
            <a:ext cx="62625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植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　清明前后，春阳照临，春雨飞洒，种植树苗成活率高，成长快。因此，自古以来，我国就有清明植树的习惯。有人还把清明节叫作“植树节”。植树风俗一直流传至今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bright="18000"/>
          </a:blip>
          <a:srcRect l="0" t="0" r="0" b="37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5832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放风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　放风筝也是清明时节人们所喜爱的活动。每逢清明时节，人们不仅白天放，夜间也放。夜里在风筝下或风稳拉线上挂上一串串彩色的小灯笼，像闪烁的明星，被称为“神灯”。过去，有的人把风筝放上蓝天后，便剪断牵线，任凭清风把它们送往天涯海角，据说这样能除病消灾，给自己带来好运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354560" y="1197000"/>
            <a:ext cx="4789440" cy="4118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扫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清明扫墓，谓之对祖先的“思时之敬”。其习俗由来已久。明《帝京景物略》载：“三月清明日，男清明祭祖，担提尊榼，轿马后挂楮锭，粲粲然满道也。拜者、酹者、哭者、为墓除草添土者，焚楮锭次，以纸钱置坟头。望中无纸钱，则孤坟矣。哭罢，不归也，趋芳树，择园圃，列坐尽醉。”其实，扫墓在秦以前就有了，但不一定是在清明之际，清明扫墓则是秦以后的事。到唐朝才开始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37460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03280" y="242100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99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9595b9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清明节扫墓是中华民族的一大习俗。为了更好的继承和发扬这一名族传统，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年正式将清明节确定为我国的法定假日。为了缅怀革命先烈，进行爱国主义教育，传承民族传统， 继承革命遗志，让我们共同踏上被记忆尘封已久的革命道路，共同追忆那红色足迹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753" t="0" r="0" b="3798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770400">
            <a:off x="3850920" y="3114720"/>
            <a:ext cx="3457440" cy="31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47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三三班清明节主题班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6772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28813_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4365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8813_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31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28813_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16360" y="134136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28813_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940360" y="2565360"/>
            <a:ext cx="935280" cy="9349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9"/>
          <p:cNvSpPr txBox="1"/>
          <p:nvPr/>
        </p:nvSpPr>
        <p:spPr>
          <a:xfrm>
            <a:off x="4572000" y="4797360"/>
            <a:ext cx="32670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沿着先烈的足迹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050920" y="3573360"/>
            <a:ext cx="5133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为逝者献上最真挚的祝福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140000" cy="184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348000" y="407664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50920" y="260280"/>
            <a:ext cx="48798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缅怀感恩</a:t>
            </a:r>
            <a:endParaRPr b="1" i="1" lang="en-US" sz="6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5" name=""/>
          <p:cNvSpPr/>
          <p:nvPr/>
        </p:nvSpPr>
        <p:spPr>
          <a:xfrm>
            <a:off x="904680" y="722160"/>
            <a:ext cx="911520" cy="61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祝福永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29040" y="0"/>
            <a:ext cx="911520" cy="61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遥寄思念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429160" cy="3876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79280" y="4276800"/>
            <a:ext cx="4086360" cy="2581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876920" cy="5084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549360"/>
            <a:ext cx="144612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04640"/>
            <a:ext cx="411480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515700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《站在烈士纪念碑前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誓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189000"/>
            <a:ext cx="633708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插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据说，插柳的风俗，也是为了纪念“教民稼穑”的农事祖师神农氏的，后来由此发展出祈求长寿的意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的地方，人们把柳枝插在屋檐下，以预报天气，古 谚有“柳条青，雨蒙蒙；柳条干，晴了天”的说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黄巢起义时规定，以“清明为期，戴柳为号”。起义失败后，戴柳的习俗渐被淘汰，只有插柳盛行不衰。杨柳有强大的生命力，俗话说：“有心栽花花不发，无心插柳柳成荫。”柳条插土就活，插到哪里，活到哪里，年年插柳，处处成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清明插柳戴柳还有一种说法：原来中国人以清明、七月半和十月朔为三大鬼节，是百鬼出没讨索之时。人们为防止鬼的侵扰迫害，而插柳戴柳。柳在人们的心目中有辟邪的功用。受佛教的影响，人们认为柳可以却鬼，而称之为“鬼怖木”，观世音以柳枝沾水济度众生。北魏贾思勰《齐民要术》里说：“取柳枝著户上，百鬼不入家。”清明既是鬼节，值此柳条发芽时节，人们自然纷纷插柳戴柳以辟邪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0550600">
            <a:off x="395280" y="188640"/>
            <a:ext cx="3252960" cy="371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647400">
            <a:off x="2987640" y="475920"/>
            <a:ext cx="5867280" cy="3895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 rot="201600">
            <a:off x="1331640" y="2637000"/>
            <a:ext cx="5329080" cy="399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1121200">
            <a:off x="407160" y="701280"/>
            <a:ext cx="7993080" cy="2837160"/>
          </a:xfrm>
          <a:prstGeom prst="rect">
            <a:avLst/>
          </a:prstGeom>
          <a:solidFill>
            <a:srgbClr val="bbe0e3"/>
          </a:solidFill>
          <a:ln w="792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看到了这些在中国得到传播的西方文化，结合刚才我们了解的中国传统文化，谈谈你的看法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舞台蓝色帷幕高清图片素材-维奇网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19280" y="2637000"/>
            <a:ext cx="6192720" cy="1014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本次班会到此结束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788000" y="5373720"/>
            <a:ext cx="30193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0" t="0" r="1507" b="7194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5280" y="2602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清明节是农历二十四节气之一，在仲春与暮春之交，也就是冬至后的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。中国汉族传统的清明节大约始于周代，距今已有二千五百多年的历史。《历书》：“春分后十五日，斗指丁，为清明，时万物皆洁齐而清明，盖时当气清景明，万物皆显，因此得名。”清明节是一个祭祀祖先的节日，传统活动为扫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3284640"/>
            <a:ext cx="158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简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0" t="0" r="0" b="72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755640" y="549360"/>
            <a:ext cx="3933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清明节的起源？</a:t>
            </a:r>
            <a:endParaRPr b="0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19280" y="2852640"/>
            <a:ext cx="642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请同学们小组讨论……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35712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4000" y="-27000"/>
            <a:ext cx="215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黑体"/>
              </a:rPr>
              <a:t>节日起源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3" name=""/>
          <p:cNvSpPr/>
          <p:nvPr/>
        </p:nvSpPr>
        <p:spPr>
          <a:xfrm>
            <a:off x="-36360" y="765000"/>
            <a:ext cx="91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明节是我国民间重要的传统节日，是重要的八个节日：上元、清明、立夏、端午、中元、中秋、冬至和除夕之一。一般是在 公历的四月五日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其节期很长，有十日前八日后及十日前十日后两种说法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近二十天内均属清明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6360" y="3675240"/>
            <a:ext cx="5292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明节”的得名还源于我国农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节气中的清明节气。冬至后第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就是清明节气。清明节气共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作为节气的清明，时间在春分之后。这时冬天已去，春意盎然，天气清朗，四野明净，大自然处处显示出勃勃生机。用“清明”称这个时期，是再恰当不过的一个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6360" y="220500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清明节的起源，据传始于古代帝王将相“墓祭”之礼，后来民间亦相仿效，于此日祭祖扫墓，历代沿袭而成为中华民族一种固定的风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410920" y="2205000"/>
            <a:ext cx="3745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请抢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明节作为我国重要的传统节日之一，历来受到人们的重视。在古代有许多文人骚客也借清明节来绘景、抒情或励志，这些名篇佳作也成了我们民族文化的重要组成部分。请在下列横线上写出你所积累的与清明节有关的古诗文名句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.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.   B.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.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你运用对联知识写出下联或上联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流水夕阳千古恨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月明星稀祭扫多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从下列句子中选出属于清明节谚语的一则（   ）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上钩钩云，地上雨淋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插柳挂青，福降农家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勤是摇钱树，俭是聚宝盆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寒大寒，杀猪过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2891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清明时节雨纷纷，路上行人欲断魂。（杜牧《清明》）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12891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白下有山皆绕郭，清明无客不思家。（高启《清明呈馆中诸公》）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2708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春风落日万人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3068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山清水秀风光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3710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阅读下面一则新闻，简要概括其主要内容。（不超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）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清明节本来是清新的日子，是对先人进行祭奠的节日。然而，近年来，清明节却不那么清明了，清明节成了“浪费节”。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末至清明节前后，哈尔滨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墓区及殡仪馆迎来祭扫高峰，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市民参加清明祭扫，平均每个家庭都要烧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左右的祭品。其实，不仅是哈尔滨，这在全国也是一种普遍现象，应该引起人们的反思了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古代清明节除了到郊外祭祀先人外，文人踏青的风气也极盛行。下面这首诗就生动地描绘出清明节的景色，请你赏析并按要求回答问题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                             咏柳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贺知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碧玉妆成一树高，万条垂下绿丝绦，不知细叶谁裁出，二月春风似剪刀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这首诗的后两句历来为人们所称道，请你说说它好在哪里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诗中流露出作者怎样的感情？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212580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清明节浪费现象应该引起人们的反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4508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春风”本来是无形的、不可捉摸的，但诗人却用“似剪刀”将它形象化地描绘了出来，这“剪刀”裁出嫩绿的柳叶给大地换上了新妆，写出了春的活力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595008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诗人通过赞美柳树，表达了对春天的无限热爱之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7280" y="249228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简体"/>
              </a:rPr>
              <a:t>清明节在很多地方都有着寒食的习俗，你知道“寒食”的起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47628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435640" y="5013360"/>
            <a:ext cx="28670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请举手回答……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3:32:53Z</dcterms:created>
  <dc:creator>武嘉鑫</dc:creator>
  <dc:description/>
  <dc:language>en-US</dc:language>
  <cp:lastModifiedBy>李继锋</cp:lastModifiedBy>
  <dcterms:modified xsi:type="dcterms:W3CDTF">2013-04-09T08:59:53Z</dcterms:modified>
  <cp:revision>10</cp:revision>
  <dc:subject/>
  <dc:title>幻灯片 1</dc:title>
</cp:coreProperties>
</file>