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D3A-3F1D-4D07-857E-9A2DAF6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908-67CE-452A-878E-F6B83ED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A94-F342-4F13-8D09-BD47E6C7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B60-F2FC-46DC-910F-6A4725BB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6450-C24D-4B58-A2EF-3829282C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463-9C69-4021-9FEB-E92B3880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FD5E-C528-413F-A037-59DDCEBA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506-7D5B-45FC-85C6-321AADE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3430-1BF1-4AB6-82CC-902EE0E3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3BF-51F6-4706-828E-C07E0812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F202-3DFB-48FC-9783-57FDA8E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42E-2C9F-489F-9ECC-F865DB3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E3B-E553-48EC-AFC0-E54A8BE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CB77-9EFC-4D98-900A-AD09D793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DBE5-5919-4B74-8980-F80CDF4D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1691-24A7-42C5-93DF-45E4F6EB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468-4032-4F3D-9FD6-2B6C9CB7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6C7C-68A0-4C8C-AEF3-08981C90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36A0-7791-4520-91D6-8CE11E05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D9B3-8CDD-4962-B888-92759AD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6F6E-ED50-4AA7-A27F-CC605AD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3B0B-C37E-4950-8542-D7AA23BD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3E7-EEFB-4BC9-9D3E-F4BA395D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74A2-BE43-41F4-89F7-94105EEA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F5C3-8DFA-4A10-869E-8055F74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A5D1-F509-4412-8BE7-51889A9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E4AA-6147-411E-9778-CD10E99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F34-7258-422E-8199-01CD8BDE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1560-9227-4891-8146-AFFA572E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CF9A-4C98-4CDF-8AAE-F874A05B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BA09-E4FF-4C3D-A095-B64A6734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D349-64A0-4CB6-8199-C225CAE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5269-0257-4E27-9E4F-020B2F52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042-79B5-4E83-87A9-757D0BD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7D46-BD5C-4409-891C-DCE22F49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DF1C-71C0-4C0E-A6F6-16B00023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E0F8-7F99-40A6-B44F-EE9F7F7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B7B3-D64A-4752-96B6-A72982A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05E6-97CB-46D7-87CE-76D0619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398D-CCFD-4A97-B33F-81B62984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12D0-AA26-4E2B-9FF3-8DC91B71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5E0D-3064-4062-B6C0-096F8512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26FB-3E6F-4B4D-9765-9768901D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FB4-FD55-4107-8FC1-74C68BFF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C6E-AB4B-4133-8C16-1D2E801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15C-7DCE-47C5-9C2C-B8876BC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16A-3CEF-4A10-BD93-F8F20C8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C33-0FF2-43F7-AFF4-6E02E38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B823-3260-4984-9DAA-F5797E32C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B8C7-155C-4D2D-A59A-8A1AA31384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047-3615-4DFA-81A0-906D36C94B2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803-04E1-48F7-B709-79B748EA5B0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0" y="306864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妇女节主题班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奎文实小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班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619280" y="1197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感恩母亲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成功的时候，谁都是朋友。但只有母亲……，她是失败时的伴侣。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郑振铎（中国文史家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世界上其它一切都是假的、空的，惟有母爱才是真的、永恒的。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普列姆昌德（印度小说家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什么母亲的温柔会感人泪下呢？因为母亲对儿女的操劳是无代价的。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铃木健二（日本作家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献给母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静静地在一枝花朵上坐着，已经和书本融为一体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书本因为她的专注而张大无数只忘情的、黑色的眼睛一一一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多么美丽而沉静！那些年头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我以品尝这样的情景健康生长。她轻轻的诵读在空气中荡起浪花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热爱浪花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嗅怀乡的大海！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-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如此弯腰的姿势，使阳光碰弯在地上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如此雪白的头发，使每个冬天都变得纯洁而美好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-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苍老的母亲！长过我一生的阅读！静传地坐在初春料峭的寒意上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浪花层层装缀我的岁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在走向大海的学生时代，我一首壮美的诗篇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已等待着你的诵读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无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一条青春的河突然间哗地流走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妈妈！我在一片蓝天旁边停下来，我的自行车斜靠在阳光上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水下的蓝天深广的水：无边的云朵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遍地流浪的云朵这时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我生活中的花朵猛然盛开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这是遍地凌乱的美！我痛饮浪花，在自行车上踏浪远去车轮滚滚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我远了，远了――彻底地消失！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剩下我的身体在一大片无尽涌动的蓝色旁边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剩下我的诗篇记载着生命，盛开着命中的花朵――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剩下我青山绿水，生活、劳动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剩下我以母亲的献诗而活着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活着，忧郁、歌唱、满怀希望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等着自己归来！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8920" y="-247680"/>
            <a:ext cx="8785080" cy="71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妇女节又称‘国际妇女节‘是世界各国妇女争取和平、平等、发展的节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节期在每年三月八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个世纪以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各国妇女为争取到这一权利做出了不懈的努力和斗争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47640" y="62064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黑体"/>
              </a:rPr>
              <a:t>三八妇女节的来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85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美国纽约的服装和纺织女工举行了一次抗议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反对非人道的工作环境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1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时工作制和低薪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游行者被警察围攻并赶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年以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又是在三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些妇女组织了第一个工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0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15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名妇女在纽约市游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要求缩短工作时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提高劳动报酬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享有选举权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禁止使用童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她们提出的口号是‘面包和玫瑰‘；面包象征经济保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玫瑰象征较好的生活质量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五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美国社会党决定以二月的最后一个星期日做为国内的妇女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看完这些故事你有什么感受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你的母亲是怎样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感恩方案”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一） 了解妈妈、长辈对我的爱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问一问妈妈，自己是怎样降临到这个世界上的，妈妈在怀着“我”的时候我有没有“调皮”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和全家人一起看看小时候的照片，请爸爸妈妈讲讲“我”小时候的故事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大家说说记忆中父母作出的最让自己感动的事情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二）了解妈妈、长辈的艰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听妈妈讲培养我成长的故事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听妈妈讲他的工作、学习的故事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三）我们对妈妈、长辈的爱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想想我们对妈妈、长辈做过些什么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说说还有哪些方面做得还不够，以后有什么打算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四）真情回馈、温情行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为母亲、为奶奶、为外婆倒杯水，捶捶背、洗洗脚…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 给妈妈做一张画着自己小手的贺卡，写一篇真情酿成的美文，悄悄地放在妈妈的枕头底下！让妈妈感受到其中的甜蜜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1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德国社会学家蔡特金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ClaraZetkin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建议为了纪念美国服装工人的罢工应设定一天当“国际妇女节”。该建议被在哥本哈根召开的国际妇女社会学家会议接受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并未定出具体日期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1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俄国妇女号召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罢工以要求“面包和和平”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抗议恶劣的工作环境和食物短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天依据俄国使用的儒略历是当月的最后一个星期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折合成欧洲广范使用的格里高历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2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国共产党在广州召开了第一次“三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八”节纪念大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国中央人民政府作出决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将三月八日定为妇女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该日全国妇女放假半天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举行各种仪式的纪念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祝庆活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7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联合国采纳了一项决议声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联合国妇女权益和和平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一种的某一天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服从各成员国的历史和传统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联合国而言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国际妇女节订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且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7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开始南非妇女节时间有别于国际妇女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56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百名黑人妇女在比勒陀利亚举行示威游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抗议当局推行种族隔离的“通行证法”。新南非政府将这一天定为妇女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纪念南非妇女在争取平等斗争中所作的贡献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并将这一天定为全国公假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每年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南非各地的妇女纷纷举行各种形式的庆祝活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要求实现男女平等、结束党派冲突与暴力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保证妇女生存权益和反对性骚扰与性犯罪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消除旧南非种族隔离制度造成的根深蒂固的歧视妇女的影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母亲的诠释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M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many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妈妈给了我很多很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ol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妈妈为我操心，白发已爬上了您的头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T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tears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您为我流过不少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H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heart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您有一颗慈祥温暖的心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E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eyes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您注视我的目光总是充满着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R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right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您从不欺骗我们，教导我们去做正          确的事情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我被感动着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请听小故事：《古老而永恒的丰碑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一</a:t>
            </a: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：在贵州发生的缆车事故中，缆车以疯狂的速度下坠，在撞击地面的一瞬间，一对夫妇同时举起两岁半的儿子结果夫妻双双遇难</a:t>
            </a: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而儿子却安然无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二</a:t>
            </a: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：当年唐山大地震中，人们在清理废墟时，发现一位母亲割破血管用热血哺育怀中的婴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三</a:t>
            </a:r>
            <a:r>
              <a:rPr b="1" lang="zh-CN" sz="32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：在汶川地震中，抢救人员发现她的时候，她已经死了，是被垮下的房子压死的，看到她死亡的姿势，双膝跪着，整个上身向前匍匐着，双手扶着地支撑着身体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身体被压的变形了，救援人员突然喊“有人，有个孩子 ，还活着”。 经过一番努力，人们小心的把挡着她的废墟清理开，在她的身体下面躺着她的孩子，包在一个红色带黄花的小被子里，大概有</a:t>
            </a: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个月大，因为母亲身体庇护着，他毫发未伤，他熟睡的脸让所有在场的人感到很温暖。 随行的医生过来解开被子准备做些检查，发现有一部手机塞在被子里，医生下意识的看了下手机屏幕，发现屏幕上是一条已经写好的短信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亲爱的宝贝，如果你能活着，一定要记住我爱你”</a:t>
            </a:r>
            <a:r>
              <a:rPr b="1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，看惯了生离死别的医生却在这一刻落泪了，手机传递着，每个看到短信的人都落泪了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名人 名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的嘴唇所能发出的最甜美的字眼，就是“母亲”，最美好的呼唤，就是“妈妈”。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纪伯伦（黎巴嫩诗人、散文作家、画家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宽广博大的人生海洋中，母亲的爱就像一座小岛，是避开汹涌波涛的平安宁静之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莱斯（英国词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3:17:26Z</dcterms:created>
  <dc:creator>USER</dc:creator>
  <dc:description/>
  <dc:language>en-US</dc:language>
  <cp:lastModifiedBy>530La</cp:lastModifiedBy>
  <dcterms:modified xsi:type="dcterms:W3CDTF">2013-03-07T14:42:16Z</dcterms:modified>
  <cp:revision>7</cp:revision>
  <dc:subject/>
  <dc:title>感恩母亲 </dc:title>
</cp:coreProperties>
</file>