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8E-F021-4AB6-ADBA-FE2704BD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910-64EE-475B-AFEA-F3FD106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47B-22AD-4CBB-83E3-968C49BD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A4E-7AAD-47A6-A2C7-79BB8E1D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6D0-F46D-41D3-9293-9F180E4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D3C-BA8A-420C-ACFF-7ECAE125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231-4E57-4AA5-9DD3-4DFDA02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324-AE0C-4170-B329-E8150045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136-548A-4B69-BDEC-28DC0CBA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73A-2838-42FB-AD8C-A2AB915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75E-0CD4-4955-AA5D-12D93C6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534-1987-47AE-96E1-0885CD3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9277-607E-48F3-901B-C303BE2281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54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期末动员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484280"/>
            <a:ext cx="6769080" cy="410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加油！冲刺！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4149720"/>
            <a:ext cx="2156040" cy="243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84720" y="5373720"/>
            <a:ext cx="49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285264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在这关键时期，我们</a:t>
            </a:r>
            <a:r>
              <a:rPr b="1" lang="zh-CN" sz="4000" spc="-1" strike="noStrike">
                <a:solidFill>
                  <a:srgbClr val="bbe0e3"/>
                </a:solidFill>
                <a:latin typeface="Arial Narrow"/>
                <a:ea typeface="华文行楷"/>
              </a:rPr>
              <a:t>当然一定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要有所作为，刻苦努力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981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即将来临的期末考试，你又该如何做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53400" y="1917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第一、你的奋斗目标和竞争对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42120" y="28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第二、你目前所处的位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628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第三、你的行动和思想状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73040" y="54936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行楷"/>
              </a:rPr>
              <a:t>在刻苦奋斗的过程中必须明确的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22560" y="1125360"/>
            <a:ext cx="3838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读书改变命运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刻苦成就未来；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心态决定一切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挑战生理极限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549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期末考试仅有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周的时间，如果考前各科复习都能科学有效的话，结果能使你总成绩再提高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！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好吓人，让人梦想！但仔细分析起来并不奇怪，也并非不可能。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到四科，每科只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如果通过复习，巩固了基础，加强了审题、书写规范的训练，每科提高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-1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完全有可能的。因此，在今天的班会上，我要向同学们喊出一个口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684680"/>
            <a:ext cx="79250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为提高总分而战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——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这就是我们考前的任务和目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5560"/>
            <a:ext cx="899172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141300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</a:t>
            </a:r>
            <a:r>
              <a:rPr b="1" lang="zh-CN" sz="8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既然我们选择了远方，就只顾风雨兼程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4292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、仔细制定一个考前复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484280"/>
            <a:ext cx="7199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考试，肯定比你有经验，要参照老师的计划安排，结合自身情况制订一个既与老师计划一致又符合自己实际的计划来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。在自己支配的学习时间内，要认真安排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7620120" cy="53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二、有效利用复习时间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恩格斯说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没有计划的学习简直就是荒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好与差的一个重要区别就在于有无计划。有适用的复习计划，能统筹兼顾地安排好各科学习，这就是学习优良者的共同点。有的同学认为，跟着老师走、按着学校的要求办就可以了。这种想法不对。学校和老师的计划主要是从教的角度，针对全体同学订的，除了遵照执行以外，还应针对自己的情况，从学的角度制订出个人的复习计划。互相配合，才能收到更好的复习效果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64600" y="1125360"/>
            <a:ext cx="86281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有了复习计划，就要有效地利用时间。离期末考试只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周时间了，所以我们要以迎接期末考试的复习为重心。做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充分利用往往被浪费或认为无足轻重的小块时间，这样就能获得比别人更多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通过自我控制，养成好习惯，改掉坏习惯。如：聊天、没有节制地玩、无目的的东张西望、无目的的看与学习无关的书、看或写不必要的东西等等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26560" y="1125000"/>
            <a:ext cx="76201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三、讲究复习方法，提高复习效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三要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，对知识和概念的来龙去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要搞清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既要注重结果，更要注重过程，只有把过程搞清楚，才能在知识迁移中融会贯通，举一反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，对知识和概念的易混点也就是难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要归纳类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即要辩别易混点的区别与内在联系，建议同学们尽量找出自己的疑难问题，记录在册，及时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，对知识和概念的运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要依据学科思维方式去思考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掌握学科的思维方式和思想方法，考试答题规范有序，避免不合符规范而扣分，该得的分没有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840720" cy="524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6360" y="620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请同学们看几幅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 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三练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就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练“审题”与“破题”的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要善于在以能力立意的问题中捕捉隐含条件，找到解决问题的关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二练“开放性”与“多角度”的思维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一个问题要善于从多角度多侧面去分析，使知识“迁移”和“再生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三练“经典题例”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本上或课堂上老师讲到的典型题例往往是经典的题目，是重难点的剖析，应特别注意分析的思路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7885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特别提醒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在复习阶段一定要注意各科时间上的合理分配，要齐头并进。各科要均衡发展，不能对优势学科掉以轻心，也不能对薄弱学科失去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效率第一，适可而止。效率是成功的关键，尤其是课堂效率，能一节课完成的任务，决不拖到下一节。能一分钟做完的事决不用两分钟。但劳累决不能过度，头疼时要大胆休息，或变换学习科目及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6917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3</a:t>
            </a: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互帮互学，共同受益。，个人成绩的取得，实际上是集体共同进步的结果。好问能使人受益匪浅，多向老师请教，多与同学交流，整天把自己局限于个人狭小的思维空间上，得不偿失。多鼓励同学，鼓舞别人的过程自己也受到了鼓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620640"/>
            <a:ext cx="7596360" cy="17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不断变化学习内容和学习方式，避免单科独进，方法单一，使各科内容的交替进行，耳眼口手脑并用，听说读写算并进，学习方式多样化。高效地利用时间。</a:t>
            </a: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心静如水，别浮躁，贵在坚持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要立志把凳子坐穿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。谁坐到最后，谁就会胜利，谁坚持到最后，谁就会成功。快到考试了，连凳子都坐不住，还想得高分？要有任外边翻江蹈海，我自岿然不动的气魄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92240" y="549360"/>
            <a:ext cx="89517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6</a:t>
            </a: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考前时间不很多了，心态最重要，心态好就必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en-US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吃好、睡好、玩好、信心好、心情好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35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5029200" cy="3200400"/>
          </a:xfrm>
          <a:prstGeom prst="cloudCallout">
            <a:avLst>
              <a:gd name="adj1" fmla="val 45800"/>
              <a:gd name="adj2" fmla="val 5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280"/>
            <a:ext cx="5796000" cy="3505320"/>
          </a:xfrm>
          <a:prstGeom prst="cloudCallout">
            <a:avLst>
              <a:gd name="adj1" fmla="val 39375"/>
              <a:gd name="adj2" fmla="val 6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55736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的进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是家长和老师最大的骄傲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8351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是我们默默关注的目光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304920"/>
            <a:ext cx="7885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我们最棒    自信向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 </a:t>
            </a:r>
            <a:r>
              <a:rPr b="1" i="1" lang="zh-CN" sz="6000" spc="-1" strike="noStrike">
                <a:solidFill>
                  <a:srgbClr val="ffff00"/>
                </a:solidFill>
                <a:latin typeface="华文隶书"/>
                <a:ea typeface="华文隶书"/>
              </a:rPr>
              <a:t>团结自强   共创辉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08000" y="1197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今天的成就是因为昨天的积累，明天的成功则有赖于今天的努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86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华文隶书"/>
              </a:rPr>
              <a:t>因为你有选择，你主宰自己的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8526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学习中。这要靠我们的意志，但更重要的是建立一个良好的生活习惯和学习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18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功无捷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682560" y="-169920"/>
            <a:ext cx="10294920" cy="731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92280"/>
            <a:ext cx="87361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曾用智慧培育理想，曾用汗水浇灌希望，曾经踏过书山坎坷，也曾渡过学海茫茫。我们走过的每一步，都奠定了成功的基石。在今后的日子里，我们还需奋斗，让飞翔的梦在期末考中张开翅膀，让雄心与智慧在期末考中闪光，让期末考试成为每位同学的一种美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076640"/>
            <a:ext cx="9144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为了父母的微笑，相信自己吧，咱们一定会成功 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若你的父母真是其中的一员，你该怎样让常年在外奔波的父母，在即将到来的寒假中因你而微笑呢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6712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4076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请同学们谈谈自己的想法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05264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友情提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28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距离</a:t>
            </a: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期末考试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仅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429264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xx</a:t>
            </a:r>
            <a:r>
              <a:rPr b="1" lang="zh-CN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3493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今天是</a:t>
            </a:r>
            <a:r>
              <a:rPr b="1" lang="en-US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201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8920" y="155736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亲爱的同学们，我觉得你们能做的，就是在即将到来期末考试中，以优异的成绩来报答自己的父母，让他们开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>liusibo</dc:creator>
  <dc:description/>
  <dc:language>en-US</dc:language>
  <cp:lastModifiedBy>微软用户</cp:lastModifiedBy>
  <dcterms:modified xsi:type="dcterms:W3CDTF">2015-11-26T03:28:06Z</dcterms:modified>
  <cp:revision>111</cp:revision>
  <dc:subject/>
  <dc:title>几个小故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