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gif" ContentType="image/gif"/>
  <Override PartName="/ppt/media/image13.jpeg" ContentType="image/jpeg"/>
  <Override PartName="/ppt/media/image10.jpeg" ContentType="image/jpeg"/>
  <Override PartName="/ppt/media/image8.jpeg" ContentType="image/jpeg"/>
  <Override PartName="/ppt/media/image9.gif" ContentType="image/gi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8C0C-75FF-4C16-BCF4-3F7DFA3B1A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9017-4A54-40CE-AF5F-C68405EB5D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9BF-8BF5-4B44-970B-74549EB0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63A-F7D7-47B2-A115-5969BB9E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1377A-4635-41E5-893C-B4F71ABD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D727A-45CA-4370-AFD2-E0C27016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17E6E-7572-4F8D-ABA2-E17B9891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CA845-DA1D-4BD6-AED0-DEC1F6E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1F90D-3FC7-4FEF-B3BC-02C8BD8C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AEB01-9485-4C8E-876D-9B6C8729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879F0-AD1E-4547-AAE1-CBD38AB1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A4239-B131-45B2-AE4C-943DEF46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CE41F-286D-447F-B9A4-7387E333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F147C-C016-4A31-BD2B-11A07627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9EE-E2CC-47F5-878B-14E7FDA8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4BDC4-7BF9-4098-BFD1-0461527C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8B538-FC50-42B3-8286-EF848857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DE353-0097-4DAB-994C-86DBC9D2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04844-B2A8-4565-81CF-37F8E1F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CA2DF-778B-4AE5-BC8F-A89DC2E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DD8E4-079D-4199-84C2-F7569C04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1A6A6-F3E2-4C1B-9C79-138E7A4D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5399B-2989-4846-B15A-031C8B9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11B44-5430-437E-B39F-9F13316E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A92A8-E04D-443E-AC0B-22E0B294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9DF-833D-4617-A4FF-D65809BF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AFEFB-2A09-4DA6-B1FE-751A019F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77318-D0CB-485B-94FB-139638DB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8C1C9-7C08-457C-95F6-F1373876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0FE9F-9623-4471-B2E5-285706EF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B8766-98F2-4FB4-AC3D-75D6347E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F53B6-BB7A-44EA-9A2D-23F94546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6D7C8-96C8-40D9-AC98-8342A2C0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74286-1EBC-4324-8941-2C6D306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B0F4F-8D0F-4371-B1E7-0958349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E18AC-2AB0-4B75-9139-09D59CC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7F7A-C9B5-4C07-BD18-2AA7F90D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70286-A50F-4A95-BD80-41447BF7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79E70-7456-447B-86A2-9B8953F5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AC62D-F4A7-4310-9CF9-77E58B34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3421-65AE-4D14-839F-3A4A335F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08F0-74CB-4823-8EBD-1123D92C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285-736F-4695-BAB7-2D2F58DD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7FEB-B239-4C4B-A57E-CFDE1335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1E58-B309-4B9B-A88A-478E7842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8FD2-2778-41B8-B4EF-1CA65E3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818-1089-451C-B86E-2A5F54C9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7D51-A9A1-4E9A-8226-18EEABF9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5B86-99CD-4E26-8263-D260B89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C67C-B822-4814-BEE7-22083671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5E34-CEBD-420A-9BE7-25F44A12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344D-EC2F-41BB-BCAB-02205FC6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1A3A-02E3-4663-BFA8-B1CAB341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78AA-96F8-4919-A0D5-EF5767D8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198F-CEB7-4E7D-B24F-9D6A8B8D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474E-C9C7-4E02-8BA8-BE2F6467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9A29-0B2E-47F2-8891-79F4C0C1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3EE-2141-4827-8D31-59B8291A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4C9B-E0D2-4A6A-998F-659850B2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9F8E-E1C3-4CB0-80B1-2841ADE9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C2F4-9576-470C-9F25-18D80A19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0968-AFEC-4523-AE72-F76C60D0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1819-804F-4C2E-84D3-9A7751E4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65D9-8931-4949-9C92-02428734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C3C9-6A73-4AAD-AF5F-ED9503A9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A9CF9-6920-46A1-89C1-C56826BE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A718-E0CA-445F-9A07-0640B451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8217-6E81-421D-944C-38B45867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369-51A6-4954-8F92-D2D6E8C2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B40C-8A2B-4A1C-8D80-0880683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6434-9C90-44CF-9473-5260DEF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1CB4-FD9C-47F7-ABA9-90BFD91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191E-1D21-42D3-B058-22B883C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098B-C1B8-4B59-AB5C-85DEAE93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9747D-5107-4F68-8DEC-FFB4F8A5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4BE2-11E2-4B8A-8F86-24ACA0D8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BAB1-BF26-4198-B469-2BCB3754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4CCA-F306-424B-986F-C7081664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9128-54A5-441C-93D5-94398C24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3AE-99B7-4F93-8974-8DC00C0D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A128A-27C8-4852-B31B-0855842E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6828-093A-494D-898C-F418B257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36F49-B688-4406-8932-73E350AF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94261-AFDB-45BD-AE38-ED13AB5D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56003-E031-48AD-B7D8-9CDC44B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5586-373D-4F88-950A-5D975533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4634F-1417-4945-934F-6B430E3F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F03B-C19C-4149-896A-FDBE99E5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62FB-BD2A-4AC0-B0B7-F9DD6ED6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9949-B2EE-4907-9BFE-31270F73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FF9-0499-4205-B4EC-3C71B3E1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1510-AD95-4CF7-AFC5-6E7CBE6D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00621-4FC4-462B-B1D0-FA2C6844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C1014-FD80-4A84-9624-AE237EC1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968F-AFAF-48C7-8731-E9D56F02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6A1C4-1CEB-4D7C-A8BF-FB03E754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2B768-0ABE-4E2B-BCEE-1D4B99E2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4B440-E220-48FF-8495-0DF2B8C3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ACB8A-420B-46F2-ABEA-421B99AF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CC99-3E9A-4905-B57B-A2E25C8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B3EC-7270-4297-93CE-87AF028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8FE-A537-4ED4-9CA4-53F1D8C3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DE04A-EA1A-4707-B428-3AED841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FB4C0-369D-477A-AFC2-A6797D16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CA7C3-8D8E-4DBC-B970-3F0BB15A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E979-BBA1-4A69-A4A3-500045B7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7B61C-28BB-4952-B521-25294963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DE3A-4F8B-4EE8-A79A-4927F76D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D1419-F748-448D-BA1D-711905AF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595B-5F4F-4A46-9CBA-B9D3844A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DEAC-A148-47C3-927E-D87A93C5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D0889-6476-4B78-8290-9E0533F1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5EE-4C53-4C95-93F8-3DC71E87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A3072-A61B-42BF-B718-7CB61E8F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8310-6827-4A9D-B3C4-BAA3019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33C6-8673-4CD3-B7DE-7C2D542C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B78EB-D820-48D4-97D9-497711B8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9DF2E-D8CD-4F1B-A92B-8F10FC0C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F0EA0-A3A8-4DC7-AF28-BA82487E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05952-A641-4690-A850-5CE07552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3E11-55A6-4621-AF57-1C65109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24F2-52E2-4040-8DE8-A11997AA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B8A50-019B-4A5B-AADB-F5C46291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29F-B8A6-4DF9-A7D9-CD38AD2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65A48-902A-4530-AFB9-26EF6EEE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53ABD-27CB-41B8-BE73-8ADBEA28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3E62F-C51D-44CD-B2D9-6963B7FE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3CDC-6B37-42EB-9333-48E6E3C3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4D1F9-78A3-4F02-9C8F-014E9A8A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26691-463B-4255-BDE0-B6922954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0B10C-6D58-4915-86F5-6F0384D9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14138-31F7-40F9-819D-B3FDADF1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6640E-9D67-4CC4-A388-90EC8517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EE6DE-89C5-4F99-BA15-5F7C301B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EBFE-7887-4543-998F-1DE50163728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EE6A-C87B-4745-BA45-B0324F6BD90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A861-B3BB-49F7-B5D8-82F8A8F3750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F554-F00B-403B-855E-28734D1CFB2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B438-1349-4475-BBB7-44336DDD0B4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990C-3131-4D1E-948E-19D836E79F1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B48C-6170-4C6A-8004-E09FFD168A2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6DB5-846A-4ABA-9E01-2C4F715CAB2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CDD1-C7C1-43FD-A901-07490A58301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3862-133C-4B81-8157-9FFCDFDE995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4763-A8B7-4070-A311-24B99934D6B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9" descr="2011052107243239_s"/>
          <p:cNvPicPr/>
          <p:nvPr/>
        </p:nvPicPr>
        <p:blipFill>
          <a:blip r:embed="rId2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718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2f2f"/>
                </a:solidFill>
                <a:latin typeface="Franklin Gothic Medium"/>
                <a:ea typeface="华文新魏"/>
              </a:rPr>
              <a:t>国庆假后收心教育</a:t>
            </a:r>
            <a:endParaRPr b="0" lang="en-US" sz="7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Franklin Gothic Book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http://img.xiaba.cvimage.cn/4cbc5fd27cbaf06a3e48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Book"/>
              </a:rPr>
              <a:t>在此，我们希望各位同学们好好学习，不做被时间抛弃的人，我想各位一定在国庆期间做好了完美的学习计划，好好努力，加油！！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矩形 4"/>
          <p:cNvSpPr/>
          <p:nvPr/>
        </p:nvSpPr>
        <p:spPr>
          <a:xfrm>
            <a:off x="571680" y="457200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一 一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http://img.xiaba.cvimage.cn/4cbc5cb22228dda47646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22" name="Picture 4" descr="http://img.xiaba.cvimage.cn/4cbc5cb22228dda476460000.jpg"/>
          <p:cNvPicPr/>
          <p:nvPr/>
        </p:nvPicPr>
        <p:blipFill>
          <a:blip r:embed="rId3"/>
          <a:stretch/>
        </p:blipFill>
        <p:spPr>
          <a:xfrm>
            <a:off x="477360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523" name="矩形 4" descr=""/>
          <p:cNvPicPr/>
          <p:nvPr/>
        </p:nvPicPr>
        <p:blipFill>
          <a:blip r:embed="rId4"/>
          <a:stretch/>
        </p:blipFill>
        <p:spPr>
          <a:xfrm>
            <a:off x="2066760" y="1792440"/>
            <a:ext cx="6510600" cy="1139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http://attach.bbs.china.com.cn/forum/201106/03/115316r3vme0e0nvzrvou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一个包子和土豆打架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结果土豆把包子打死了。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猜一食物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}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包子死了，他的爸爸来找土豆报仇。土豆知道打不过，就逃啊逃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一条河把土豆给拦住了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猜一蔬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}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4" name="Picture 8" descr="http://88.gaosu.com/q/2011-8-22/110cb99aed58dccbf76ef3ed1f269390.gif"/>
          <p:cNvPicPr/>
          <p:nvPr/>
        </p:nvPicPr>
        <p:blipFill>
          <a:blip r:embed="rId3"/>
          <a:stretch/>
        </p:blipFill>
        <p:spPr>
          <a:xfrm>
            <a:off x="5500800" y="4500720"/>
            <a:ext cx="221436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www.zlcool.com/d/file/2010/10/14/b3fb323199dc049989d012003873b0d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18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Franklin Gothic Book"/>
              </a:rPr>
              <a:t>答案：豆沙包       答案：荷兰豆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5" descr="300001041563130037199002342"/>
          <p:cNvPicPr/>
          <p:nvPr/>
        </p:nvPicPr>
        <p:blipFill>
          <a:blip r:embed="rId2"/>
          <a:stretch/>
        </p:blipFill>
        <p:spPr>
          <a:xfrm>
            <a:off x="250920" y="0"/>
            <a:ext cx="8893080" cy="666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假期，同学们有没有做些有意义的事，          有没有去哪里玩，有没有好好复习呢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5" descr="2011051823134687_S"/>
          <p:cNvPicPr/>
          <p:nvPr/>
        </p:nvPicPr>
        <p:blipFill>
          <a:blip r:embed="rId2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不做被时间放弃的人 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Book"/>
              </a:rPr>
              <a:t>金风送爽，天高云淡，在这个花果飘香的季节里，我们迎来了祖国的生日。 　　转眼间，十一国庆假一闪而过，在这个假期里，相信同学们做了不少有意义的事情，比如社会实践调查等等，我们从中也学到了很多在学校里学不到的东西，使我们受益终生。回过头来看，在短短的一个月里，我们学到了很多的知识，可是懂得越多，就越能感觉到知识的广阔，这样看来我们的时间似乎不够，不足以被我们支配了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http://pica.nipic.com/2008-02-22/200822203437704_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Franklin Gothic Book"/>
              </a:rPr>
              <a:t>大家知道什么是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Franklin Gothic Book"/>
              </a:rPr>
              <a:t>时间吗？？？？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http://img.xiaba.cvimage.cn/4cbc5fd358eeb9b33e46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时间到底是什么呢？时间对于不同的人              有不同的意义。对于活着的人来说，时间          是生命；对于从事经济工作的人来说，              时间是金钱；对于做学问的人来说，时间          是资本；对于无聊的人来说，时间是债              务；对于我们来说，时间是财富，是资本，     是命运，是千金难买的无价之宝。 　　                        莎士比亚说：放弃时间的人，时间也放弃他。 　　愿我们永远不被时间放弃！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http://sports.shangdu.com/file/upload/2011_11/05/63456092624269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秀秀你的学习计划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说说你认为好的收心方法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讲讲你的学习目标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http://img.xiaba.cvimage.cn/4cbc5cb376d854d47644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现在，我们来完已个                                          游戏，它叫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8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Franklin Gothic Book"/>
              </a:rPr>
              <a:t>成语接龙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59:33Z</dcterms:created>
  <dc:creator>微软用户</dc:creator>
  <dc:description/>
  <dc:language>en-US</dc:language>
  <cp:lastModifiedBy>admin</cp:lastModifiedBy>
  <dcterms:modified xsi:type="dcterms:W3CDTF">2012-10-24T07:45:40Z</dcterms:modified>
  <cp:revision>14</cp:revision>
  <dc:subject/>
  <dc:title>国庆假后收心教育</dc:title>
</cp:coreProperties>
</file>