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1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34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CB3-CC28-4491-AF14-A7D10B20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243-2CA4-4C0A-A2E1-92D44089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59A-A128-4917-821F-33BB8632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B59-74EC-4CBD-B5A1-AD35AE87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F663-CDFE-4B40-A00D-1E4E219D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DA85-23CD-4051-B324-AB333253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F9DE-3478-4438-8925-2563912E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6943-9100-446A-8527-69ABBF0D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4D80-A55C-4181-B9B3-96843436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20E3-3930-42D6-B83A-A13CB8F5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6E05-AA2B-4686-BB20-54F6036F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8DC-C4F5-4CAF-8D51-234D6290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096D-72C2-40EE-A144-D80A4C16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061-89C3-4EBE-8D89-F5C606B0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0B9A-48E0-45C5-9773-F8EC892D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59E9-CA55-4C2F-9F9D-E4491494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2546-2282-4CA0-AF35-E37C0FC8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B9B-4C9E-4FA8-9DE5-452A07C7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DE9-8AAF-4222-9A97-C04BB3FC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2D9-D7C1-4588-9E99-FC434403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F7C-1DDC-44F6-8D5E-D1C32844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219-532D-491F-8B60-4995C301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7C1-004B-4830-B201-ABDFDAFB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EDF-D6E4-4F88-8FC8-440FE85E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6BCD-5879-4F30-99EC-B138FDD4CD2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6.jpg"/>
          <p:cNvPicPr/>
          <p:nvPr/>
        </p:nvPicPr>
        <p:blipFill>
          <a:blip r:embed="rId2"/>
          <a:stretch/>
        </p:blipFill>
        <p:spPr>
          <a:xfrm>
            <a:off x="0" y="0"/>
            <a:ext cx="914868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F15C-6C53-4CCE-975F-34678F6E675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1268280"/>
            <a:ext cx="86421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68280"/>
            <a:ext cx="9120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0" y="635040"/>
            <a:ext cx="9212400" cy="5584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文本占位符 2" descr=""/>
          <p:cNvPicPr/>
          <p:nvPr/>
        </p:nvPicPr>
        <p:blipFill>
          <a:blip r:embed="rId1"/>
          <a:stretch/>
        </p:blipFill>
        <p:spPr>
          <a:xfrm>
            <a:off x="1440" y="1417680"/>
            <a:ext cx="6731280" cy="5440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409160" y="1417680"/>
            <a:ext cx="1277640" cy="918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19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日建立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上海社会主义青年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文本占位符 2" descr=""/>
          <p:cNvPicPr/>
          <p:nvPr/>
        </p:nvPicPr>
        <p:blipFill>
          <a:blip r:embed="rId1"/>
          <a:stretch/>
        </p:blipFill>
        <p:spPr>
          <a:xfrm>
            <a:off x="3240" y="1417680"/>
            <a:ext cx="6010200" cy="5441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4560" y="1417680"/>
            <a:ext cx="729000" cy="489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192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月，赵世炎、周恩来、李维汉在法国巴黎创立了“欧旅中国少年共产党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文本占位符 2" descr=""/>
          <p:cNvPicPr/>
          <p:nvPr/>
        </p:nvPicPr>
        <p:blipFill>
          <a:blip r:embed="rId1"/>
          <a:stretch/>
        </p:blipFill>
        <p:spPr>
          <a:xfrm>
            <a:off x="0" y="1419120"/>
            <a:ext cx="6480000" cy="5440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60520" y="1419120"/>
            <a:ext cx="1826280" cy="51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月正式成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中国新民主主义青年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268280"/>
            <a:ext cx="86421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68280"/>
            <a:ext cx="9120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5589720"/>
            <a:ext cx="77914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拥抱篇</a:t>
            </a:r>
            <a:r>
              <a:rPr b="1" lang="en-US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-</a:t>
            </a:r>
            <a:r>
              <a:rPr b="1" lang="zh-CN" sz="8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走进家乡</a:t>
            </a:r>
            <a:endParaRPr b="1" lang="en-US" sz="8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rcRect l="1932" t="17188" r="1907" b="13768"/>
          <a:stretch/>
        </p:blipFill>
        <p:spPr>
          <a:xfrm>
            <a:off x="630360" y="1224000"/>
            <a:ext cx="80215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文本占位符 2" descr=""/>
          <p:cNvPicPr/>
          <p:nvPr/>
        </p:nvPicPr>
        <p:blipFill>
          <a:blip r:embed="rId1"/>
          <a:stretch/>
        </p:blipFill>
        <p:spPr>
          <a:xfrm>
            <a:off x="663480" y="1527120"/>
            <a:ext cx="7920000" cy="4781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1268280"/>
            <a:ext cx="86421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268280"/>
            <a:ext cx="9120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71640" y="2708280"/>
            <a:ext cx="720072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快板《了不起》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274680"/>
            <a:ext cx="51912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行动篇</a:t>
            </a:r>
            <a:r>
              <a:rPr b="1" lang="en-US" sz="8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-</a:t>
            </a:r>
            <a:r>
              <a:rPr b="1" lang="zh-CN" sz="8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提升自我</a:t>
            </a:r>
            <a:endParaRPr b="1" lang="en-US" sz="8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1268280"/>
            <a:ext cx="86421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268280"/>
            <a:ext cx="9120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11200" y="308628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我骄傲，我是共青团员</a:t>
            </a:r>
            <a:endParaRPr b="1" lang="en-US" sz="6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640" y="1268280"/>
            <a:ext cx="236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诗朗诵</a:t>
            </a:r>
            <a:endParaRPr b="0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pic>
        <p:nvPicPr>
          <p:cNvPr id="146" name="秋日私语" descr=""/>
          <p:cNvPicPr/>
          <p:nvPr/>
        </p:nvPicPr>
        <p:blipFill>
          <a:blip r:embed="rId3"/>
          <a:stretch/>
        </p:blipFill>
        <p:spPr>
          <a:xfrm>
            <a:off x="8172360" y="61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248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268280"/>
            <a:ext cx="86421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68280"/>
            <a:ext cx="9120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692360" y="1989000"/>
            <a:ext cx="5759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共青团员大擂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标题占位符 1" descr=""/>
          <p:cNvPicPr/>
          <p:nvPr/>
        </p:nvPicPr>
        <p:blipFill>
          <a:blip r:embed="rId1"/>
          <a:stretch/>
        </p:blipFill>
        <p:spPr>
          <a:xfrm>
            <a:off x="0" y="682560"/>
            <a:ext cx="9185400" cy="5480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744680" y="549360"/>
            <a:ext cx="139932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f497d"/>
                </a:solidFill>
                <a:latin typeface="Arial"/>
                <a:ea typeface="楷体_GB2312"/>
              </a:rPr>
              <a:t>一家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1" descr="13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" descr="6.png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" descr="7.png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" descr="8.png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0" y="19044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" descr="11.png"/>
          <p:cNvPicPr/>
          <p:nvPr/>
        </p:nvPicPr>
        <p:blipFill>
          <a:blip r:embed="rId6"/>
          <a:srcRect l="0" t="6662" r="90838" b="19997"/>
          <a:stretch/>
        </p:blipFill>
        <p:spPr>
          <a:xfrm>
            <a:off x="0" y="457200"/>
            <a:ext cx="838080" cy="50292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12.png"/>
          <p:cNvPicPr/>
          <p:nvPr/>
        </p:nvPicPr>
        <p:blipFill>
          <a:blip r:embed="rId7"/>
          <a:srcRect l="85471" t="6510" r="0" b="20616"/>
          <a:stretch/>
        </p:blipFill>
        <p:spPr>
          <a:xfrm>
            <a:off x="7815240" y="446040"/>
            <a:ext cx="1328760" cy="4997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7" descr="10.png"/>
          <p:cNvPicPr/>
          <p:nvPr/>
        </p:nvPicPr>
        <p:blipFill>
          <a:blip r:embed="rId8"/>
          <a:srcRect l="5969" t="3580" r="2981" b="17613"/>
          <a:stretch/>
        </p:blipFill>
        <p:spPr>
          <a:xfrm>
            <a:off x="546120" y="246240"/>
            <a:ext cx="8325000" cy="54036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9.png"/>
          <p:cNvPicPr/>
          <p:nvPr/>
        </p:nvPicPr>
        <p:blipFill>
          <a:blip r:embed="rId9"/>
          <a:srcRect l="28656" t="14526" r="30148" b="35521"/>
          <a:stretch/>
        </p:blipFill>
        <p:spPr>
          <a:xfrm>
            <a:off x="2620800" y="996840"/>
            <a:ext cx="3765600" cy="34243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2" descr="14.png"/>
          <p:cNvPicPr/>
          <p:nvPr/>
        </p:nvPicPr>
        <p:blipFill>
          <a:blip r:embed="rId10"/>
          <a:srcRect l="12584" t="38392" r="0" b="19540"/>
          <a:stretch/>
        </p:blipFill>
        <p:spPr>
          <a:xfrm>
            <a:off x="1150920" y="2631960"/>
            <a:ext cx="7993080" cy="28861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3" descr="15.png"/>
          <p:cNvPicPr/>
          <p:nvPr/>
        </p:nvPicPr>
        <p:blipFill>
          <a:blip r:embed="rId11"/>
          <a:srcRect l="0" t="54027" r="72073" b="22989"/>
          <a:stretch/>
        </p:blipFill>
        <p:spPr>
          <a:xfrm>
            <a:off x="0" y="3705120"/>
            <a:ext cx="2554200" cy="15764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4" descr="16.png"/>
          <p:cNvPicPr/>
          <p:nvPr/>
        </p:nvPicPr>
        <p:blipFill>
          <a:blip r:embed="rId12"/>
          <a:srcRect l="14828" t="42073" r="31554" b="28964"/>
          <a:stretch/>
        </p:blipFill>
        <p:spPr>
          <a:xfrm>
            <a:off x="1355760" y="2884320"/>
            <a:ext cx="4903920" cy="1987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86080" y="333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永远跟党走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—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五四献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2960" y="569124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乌鲁木齐市第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74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学八（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班主题团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league" descr=""/>
          <p:cNvPicPr/>
          <p:nvPr/>
        </p:nvPicPr>
        <p:blipFill>
          <a:blip r:embed="rId13"/>
          <a:stretch/>
        </p:blipFill>
        <p:spPr>
          <a:xfrm>
            <a:off x="8566200" y="6210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7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autoRev="1" nodeType="withEffect" fill="hold" presetClass="emph" presetID="6" repeatCount="2000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6" repeatCount="3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1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713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6110280" y="38160"/>
            <a:ext cx="288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250920" y="1989000"/>
            <a:ext cx="8020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楷体"/>
              </a:rPr>
              <a:t>我志愿加入中国共产主义青年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楷体"/>
              </a:rPr>
              <a:t>坚决拥护中国共产党的领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楷体"/>
              </a:rPr>
              <a:t>遵守团的章程，执行团的决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楷体"/>
              </a:rPr>
              <a:t>履行团员义务，严守团的纪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楷体"/>
              </a:rPr>
              <a:t>勤奋学习，积极工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楷体"/>
              </a:rPr>
              <a:t>吃苦在前，享受在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楷体"/>
              </a:rPr>
              <a:t>为共产主义事业而奋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1166760"/>
            <a:ext cx="7200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"/>
              </a:rPr>
              <a:t>重温誓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177840" y="0"/>
            <a:ext cx="93218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2" descr="7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3" descr="13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" descr="6.png"/>
          <p:cNvPicPr/>
          <p:nvPr/>
        </p:nvPicPr>
        <p:blipFill>
          <a:blip r:embed="rId3"/>
          <a:stretch/>
        </p:blipFill>
        <p:spPr>
          <a:xfrm>
            <a:off x="3240" y="231840"/>
            <a:ext cx="9137520" cy="54738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" descr="7.png"/>
          <p:cNvPicPr/>
          <p:nvPr/>
        </p:nvPicPr>
        <p:blipFill>
          <a:blip r:embed="rId4"/>
          <a:stretch/>
        </p:blipFill>
        <p:spPr>
          <a:xfrm>
            <a:off x="0" y="258840"/>
            <a:ext cx="9144000" cy="54054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6" descr="8.png"/>
          <p:cNvPicPr/>
          <p:nvPr/>
        </p:nvPicPr>
        <p:blipFill>
          <a:blip r:embed="rId5"/>
          <a:srcRect l="0" t="2782" r="0" b="17015"/>
          <a:stretch/>
        </p:blipFill>
        <p:spPr>
          <a:xfrm>
            <a:off x="0" y="19044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7" descr="11.png"/>
          <p:cNvPicPr/>
          <p:nvPr/>
        </p:nvPicPr>
        <p:blipFill>
          <a:blip r:embed="rId6"/>
          <a:srcRect l="0" t="6662" r="90838" b="19997"/>
          <a:stretch/>
        </p:blipFill>
        <p:spPr>
          <a:xfrm>
            <a:off x="0" y="457200"/>
            <a:ext cx="838080" cy="50292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12.png"/>
          <p:cNvPicPr/>
          <p:nvPr/>
        </p:nvPicPr>
        <p:blipFill>
          <a:blip r:embed="rId7"/>
          <a:srcRect l="85471" t="6510" r="0" b="20616"/>
          <a:stretch/>
        </p:blipFill>
        <p:spPr>
          <a:xfrm>
            <a:off x="7815240" y="446040"/>
            <a:ext cx="1328760" cy="49975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10.png"/>
          <p:cNvPicPr/>
          <p:nvPr/>
        </p:nvPicPr>
        <p:blipFill>
          <a:blip r:embed="rId8"/>
          <a:srcRect l="5969" t="3580" r="2981" b="17613"/>
          <a:stretch/>
        </p:blipFill>
        <p:spPr>
          <a:xfrm>
            <a:off x="546120" y="246240"/>
            <a:ext cx="8325000" cy="54036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" descr="9.png"/>
          <p:cNvPicPr/>
          <p:nvPr/>
        </p:nvPicPr>
        <p:blipFill>
          <a:blip r:embed="rId9"/>
          <a:srcRect l="28656" t="14526" r="30148" b="35521"/>
          <a:stretch/>
        </p:blipFill>
        <p:spPr>
          <a:xfrm>
            <a:off x="2620800" y="996840"/>
            <a:ext cx="3765600" cy="342432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1" descr="14.png"/>
          <p:cNvPicPr/>
          <p:nvPr/>
        </p:nvPicPr>
        <p:blipFill>
          <a:blip r:embed="rId10"/>
          <a:srcRect l="12584" t="38392" r="0" b="19540"/>
          <a:stretch/>
        </p:blipFill>
        <p:spPr>
          <a:xfrm>
            <a:off x="1150920" y="2631960"/>
            <a:ext cx="7993080" cy="28861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2" descr="15.png"/>
          <p:cNvPicPr/>
          <p:nvPr/>
        </p:nvPicPr>
        <p:blipFill>
          <a:blip r:embed="rId11"/>
          <a:srcRect l="0" t="54027" r="72073" b="22989"/>
          <a:stretch/>
        </p:blipFill>
        <p:spPr>
          <a:xfrm>
            <a:off x="0" y="3705120"/>
            <a:ext cx="2554200" cy="1576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3" descr="16.png"/>
          <p:cNvPicPr/>
          <p:nvPr/>
        </p:nvPicPr>
        <p:blipFill>
          <a:blip r:embed="rId12"/>
          <a:srcRect l="14828" t="42073" r="31554" b="28964"/>
          <a:stretch/>
        </p:blipFill>
        <p:spPr>
          <a:xfrm>
            <a:off x="1355760" y="2884320"/>
            <a:ext cx="4903920" cy="198756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14" descr=""/>
          <p:cNvPicPr/>
          <p:nvPr/>
        </p:nvPicPr>
        <p:blipFill>
          <a:blip r:embed="rId13"/>
          <a:stretch/>
        </p:blipFill>
        <p:spPr>
          <a:xfrm>
            <a:off x="963720" y="5754600"/>
            <a:ext cx="721656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7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autoRev="1" nodeType="withEffect" fill="hold" presetClass="emph" presetID="6" repeatCount="2000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26" repeatCount="3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1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3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514440" y="2409840"/>
            <a:ext cx="82296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回顾篇</a:t>
            </a:r>
            <a:r>
              <a:rPr b="1" lang="en-US" sz="8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- </a:t>
            </a:r>
            <a:r>
              <a:rPr b="1" lang="zh-CN" sz="8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走进历史</a:t>
            </a:r>
            <a:endParaRPr b="1" lang="en-US" sz="8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886200"/>
            <a:ext cx="845820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怀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那激动人心的故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那逝去的日子</a:t>
            </a:r>
            <a:r>
              <a:rPr b="0" lang="zh-CN" sz="4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305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7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1268280"/>
            <a:ext cx="86421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760" y="793800"/>
            <a:ext cx="9120240" cy="16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四青年节是为纪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9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中国学生爱国运动而设立的节日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8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延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之久的第一次世界大战以英、美、法等国的胜利和德、奥等国的失败而结束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9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获胜的协约国在巴黎凡尔赛宫召开和平会议。中华民国作为战胜国参加会议。中华民国代表在会上提出废除外国在华特权，取消二十一条等正当要求，均遭拒绝。会议竟决定日本接管德国在华的各种特权。对这丧权辱国的条约，中华民国代表居然准备签字承认。消息传来，举国震怒，群情激愤。以学生为先导的五四爱国运动就如火山爆发一般地开始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3440" y="2347920"/>
            <a:ext cx="1540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文本占位符 2" descr=""/>
          <p:cNvPicPr/>
          <p:nvPr/>
        </p:nvPicPr>
        <p:blipFill>
          <a:blip r:embed="rId1"/>
          <a:stretch/>
        </p:blipFill>
        <p:spPr>
          <a:xfrm>
            <a:off x="1440" y="1270080"/>
            <a:ext cx="5291280" cy="5587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165880" y="1098720"/>
            <a:ext cx="729000" cy="575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三所高校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3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多名学生代表遂推举代表请求会见四国公使。仅美国使馆人员接受了学生的陈词书，英法意使馆均以公使不在为由拒绝接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文本占位符 2" descr=""/>
          <p:cNvPicPr/>
          <p:nvPr/>
        </p:nvPicPr>
        <p:blipFill>
          <a:blip r:embed="rId1"/>
          <a:stretch/>
        </p:blipFill>
        <p:spPr>
          <a:xfrm>
            <a:off x="3240" y="1417680"/>
            <a:ext cx="5289480" cy="5440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988760" y="1289160"/>
            <a:ext cx="1155240" cy="55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3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余名学生在烈日下整整晒了两个小时，见使馆区不能通过，更加义愤满腔，队伍转向赵家楼曹汝霖住宅。学生大队涌入，痛打了正在曹宅的驻日公使章宗祥。学生遍寻曹汝霖不着，激愤之下，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分左右怒烧其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文本占位符 2" descr=""/>
          <p:cNvPicPr/>
          <p:nvPr/>
        </p:nvPicPr>
        <p:blipFill>
          <a:blip r:embed="rId1"/>
          <a:stretch/>
        </p:blipFill>
        <p:spPr>
          <a:xfrm>
            <a:off x="3240" y="1417680"/>
            <a:ext cx="5807160" cy="5440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744680" y="549360"/>
            <a:ext cx="1399320" cy="64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此次爱国运动，得到了全国人民的支持和响应。在全国人民的斗争下，“五四”运动得到了伟大胜利。他是新民主主义革命的开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8640" y="12700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，一批批优秀青年在党的领导下踏上了波澜壮阔的奋斗征程。“五四”运动中锻炼出一批杰出的青年运动领袖，陈独秀、李大钊、毛泽东他们用行动在捍卫国家的尊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文本占位符 2" descr=""/>
          <p:cNvPicPr/>
          <p:nvPr/>
        </p:nvPicPr>
        <p:blipFill>
          <a:blip r:embed="rId1"/>
          <a:stretch/>
        </p:blipFill>
        <p:spPr>
          <a:xfrm>
            <a:off x="0" y="4149720"/>
            <a:ext cx="2413080" cy="2708280"/>
          </a:xfrm>
          <a:prstGeom prst="rect">
            <a:avLst/>
          </a:prstGeom>
          <a:ln w="0">
            <a:noFill/>
          </a:ln>
        </p:spPr>
      </p:pic>
      <p:pic>
        <p:nvPicPr>
          <p:cNvPr id="118" name="文本占位符 2" descr=""/>
          <p:cNvPicPr/>
          <p:nvPr/>
        </p:nvPicPr>
        <p:blipFill>
          <a:blip r:embed="rId2"/>
          <a:stretch/>
        </p:blipFill>
        <p:spPr>
          <a:xfrm>
            <a:off x="3132000" y="4151160"/>
            <a:ext cx="2160720" cy="2706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15240" y="4870440"/>
            <a:ext cx="6678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陈独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44200" y="4851360"/>
            <a:ext cx="667800" cy="200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李大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77440" y="4676760"/>
            <a:ext cx="457200" cy="21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491680" y="4662360"/>
            <a:ext cx="4572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79400" y="4678200"/>
            <a:ext cx="1155240" cy="163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13440" y="4151160"/>
            <a:ext cx="215892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文本占位符 2" descr=""/>
          <p:cNvPicPr/>
          <p:nvPr/>
        </p:nvPicPr>
        <p:blipFill>
          <a:blip r:embed="rId1"/>
          <a:stretch/>
        </p:blipFill>
        <p:spPr>
          <a:xfrm>
            <a:off x="0" y="1417680"/>
            <a:ext cx="5292720" cy="5440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61120" y="1417680"/>
            <a:ext cx="3531960" cy="544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192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月间，陈独秀中国共产党的早期组织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---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共产主义小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8:37:17Z</dcterms:created>
  <dc:creator>锐普PPT</dc:creator>
  <dc:description/>
  <cp:keywords/>
  <dc:language>en-US</dc:language>
  <cp:lastModifiedBy>Windows 用户</cp:lastModifiedBy>
  <dcterms:modified xsi:type="dcterms:W3CDTF">2012-04-24T08:37:21Z</dcterms:modified>
  <cp:revision>56</cp:revision>
  <dc:subject/>
  <dc:title>中国共青团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