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CE9-A954-4476-B3FA-AD8FA36A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252-271D-4F28-A145-CCC93B53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29C-E9FC-4310-8E4F-E7F0CCAA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1E7-50AF-4949-BFA5-38DBCC94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DE1-CFB7-4306-8CB0-E0A3A612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56C-23AD-48E6-96A9-649796F4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20A-E346-4243-A9ED-EB79CD68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E41-C908-42B6-8C47-C9F598EA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6EC-749B-430B-91A5-5FCBDC04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E6C-C8A9-444E-907A-E9663499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B25-9C6F-483E-9FC6-9FC27A92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604-6777-4229-B685-E952CB59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B18B-4519-4B8B-AE46-32F5005191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87360" y="0"/>
            <a:ext cx="656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19080"/>
            <a:ext cx="8675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36520"/>
            <a:ext cx="914400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-12600"/>
            <a:ext cx="763272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20760"/>
            <a:ext cx="914400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95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55960" y="0"/>
            <a:ext cx="503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89040" y="0"/>
            <a:ext cx="59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00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9400" y="0"/>
            <a:ext cx="578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41440"/>
            <a:ext cx="914400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1:18:02Z</dcterms:created>
  <dc:creator>微软中国</dc:creator>
  <dc:description/>
  <dc:language>en-US</dc:language>
  <cp:lastModifiedBy>微软中国</cp:lastModifiedBy>
  <dcterms:modified xsi:type="dcterms:W3CDTF">2013-04-04T13:16:10Z</dcterms:modified>
  <cp:revision>3</cp:revision>
  <dc:subject/>
  <dc:title>幻灯片 1</dc:title>
</cp:coreProperties>
</file>