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9AD-0B00-4A80-85B9-E0FCB991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C5F-60AE-48EA-B655-13CEF51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6D2-3F5D-460F-B922-C5A9FC7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7AB-D762-4A4B-A7E1-D9180D10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DB9-7D96-49E0-86B1-9891F79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8E6-065F-40AA-B72F-2B7781E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B7F-8C02-447C-ACE5-0B0BD080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190-1848-4912-BA06-1591E91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7AB-50C8-4EB7-90BE-ECFBD9C8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AE0-71A4-45F0-A8E1-E6B1748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188-4D71-49DB-BC7D-E34B236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567-6510-4A47-B7E8-25C028D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8A4F-00DD-417D-B4F1-0D9F093CA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8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8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8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8.pn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8.png"/><Relationship Id="rId28" Type="http://schemas.openxmlformats.org/officeDocument/2006/relationships/image" Target="../media/image21.png"/><Relationship Id="rId29" Type="http://schemas.openxmlformats.org/officeDocument/2006/relationships/image" Target="../media/image22.png"/><Relationship Id="rId30" Type="http://schemas.openxmlformats.org/officeDocument/2006/relationships/image" Target="../media/image8.png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22"/>
          <p:cNvGrpSpPr/>
          <p:nvPr/>
        </p:nvGrpSpPr>
        <p:grpSpPr>
          <a:xfrm>
            <a:off x="642960" y="1650960"/>
            <a:ext cx="7867800" cy="3778200"/>
            <a:chOff x="642960" y="1650960"/>
            <a:chExt cx="7867800" cy="3778200"/>
          </a:xfrm>
        </p:grpSpPr>
        <p:grpSp>
          <p:nvGrpSpPr>
            <p:cNvPr id="307" name="五边形 10"/>
            <p:cNvGrpSpPr/>
            <p:nvPr/>
          </p:nvGrpSpPr>
          <p:grpSpPr>
            <a:xfrm>
              <a:off x="642960" y="3619440"/>
              <a:ext cx="3065400" cy="1809720"/>
              <a:chOff x="642960" y="3619440"/>
              <a:chExt cx="3065400" cy="1809720"/>
            </a:xfrm>
          </p:grpSpPr>
          <p:pic>
            <p:nvPicPr>
              <p:cNvPr id="308" name="五边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960" y="3619440"/>
                <a:ext cx="306540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769680" y="3727080"/>
                <a:ext cx="2407680" cy="15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燕尾形 11"/>
            <p:cNvGrpSpPr/>
            <p:nvPr/>
          </p:nvGrpSpPr>
          <p:grpSpPr>
            <a:xfrm>
              <a:off x="2917080" y="3619440"/>
              <a:ext cx="3224880" cy="1809720"/>
              <a:chOff x="2917080" y="3619440"/>
              <a:chExt cx="3224880" cy="1809720"/>
            </a:xfrm>
          </p:grpSpPr>
          <p:pic>
            <p:nvPicPr>
              <p:cNvPr id="311" name="燕尾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7080" y="3619440"/>
                <a:ext cx="322488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3860640" y="3727080"/>
                <a:ext cx="1346040" cy="15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燕尾形 12"/>
            <p:cNvGrpSpPr/>
            <p:nvPr/>
          </p:nvGrpSpPr>
          <p:grpSpPr>
            <a:xfrm>
              <a:off x="5285880" y="3579840"/>
              <a:ext cx="3224880" cy="1809720"/>
              <a:chOff x="5285880" y="3579840"/>
              <a:chExt cx="3224880" cy="1809720"/>
            </a:xfrm>
          </p:grpSpPr>
          <p:pic>
            <p:nvPicPr>
              <p:cNvPr id="314" name="燕尾形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285880" y="3579840"/>
                <a:ext cx="3224880" cy="18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6227280" y="3686760"/>
                <a:ext cx="1346040" cy="15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椭圆 14"/>
            <p:cNvGrpSpPr/>
            <p:nvPr/>
          </p:nvGrpSpPr>
          <p:grpSpPr>
            <a:xfrm>
              <a:off x="902520" y="1707480"/>
              <a:ext cx="2073240" cy="1996920"/>
              <a:chOff x="902520" y="1707480"/>
              <a:chExt cx="2073240" cy="1996920"/>
            </a:xfrm>
          </p:grpSpPr>
          <p:pic>
            <p:nvPicPr>
              <p:cNvPr id="317" name="椭圆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902520" y="1707480"/>
                <a:ext cx="2073240" cy="19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314360" y="2092320"/>
                <a:ext cx="1248840" cy="11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椭圆 17"/>
            <p:cNvGrpSpPr/>
            <p:nvPr/>
          </p:nvGrpSpPr>
          <p:grpSpPr>
            <a:xfrm>
              <a:off x="3265560" y="1673640"/>
              <a:ext cx="2079000" cy="1996920"/>
              <a:chOff x="3265560" y="1673640"/>
              <a:chExt cx="2079000" cy="1996920"/>
            </a:xfrm>
          </p:grpSpPr>
          <p:pic>
            <p:nvPicPr>
              <p:cNvPr id="320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5560" y="1673640"/>
                <a:ext cx="2079000" cy="19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3680280" y="2057040"/>
                <a:ext cx="1248840" cy="11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椭圆 20"/>
            <p:cNvGrpSpPr/>
            <p:nvPr/>
          </p:nvGrpSpPr>
          <p:grpSpPr>
            <a:xfrm>
              <a:off x="5622480" y="1650960"/>
              <a:ext cx="2073240" cy="1996920"/>
              <a:chOff x="5622480" y="1650960"/>
              <a:chExt cx="2073240" cy="1996920"/>
            </a:xfrm>
          </p:grpSpPr>
          <p:pic>
            <p:nvPicPr>
              <p:cNvPr id="323" name="椭圆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622480" y="1650960"/>
                <a:ext cx="2073240" cy="19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6035760" y="2034360"/>
                <a:ext cx="1248840" cy="11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1354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3"/>
          <p:cNvSpPr/>
          <p:nvPr/>
        </p:nvSpPr>
        <p:spPr>
          <a:xfrm>
            <a:off x="6712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435492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5"/>
          <p:cNvSpPr/>
          <p:nvPr/>
        </p:nvSpPr>
        <p:spPr>
          <a:xfrm>
            <a:off x="1354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3783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5"/>
          <p:cNvSpPr/>
          <p:nvPr/>
        </p:nvSpPr>
        <p:spPr>
          <a:xfrm>
            <a:off x="6283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2"/>
          <p:cNvSpPr/>
          <p:nvPr/>
        </p:nvSpPr>
        <p:spPr>
          <a:xfrm>
            <a:off x="2968560" y="2830680"/>
            <a:ext cx="4135680" cy="2880"/>
          </a:xfrm>
          <a:prstGeom prst="line">
            <a:avLst/>
          </a:prstGeom>
          <a:ln w="2844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2"/>
          <p:cNvSpPr/>
          <p:nvPr/>
        </p:nvSpPr>
        <p:spPr>
          <a:xfrm>
            <a:off x="2932200" y="4540320"/>
            <a:ext cx="4135320" cy="3240"/>
          </a:xfrm>
          <a:prstGeom prst="line">
            <a:avLst/>
          </a:prstGeom>
          <a:ln w="2844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96"/>
          <p:cNvSpPr/>
          <p:nvPr/>
        </p:nvSpPr>
        <p:spPr>
          <a:xfrm>
            <a:off x="2571840" y="1763640"/>
            <a:ext cx="396720" cy="419040"/>
          </a:xfrm>
          <a:prstGeom prst="ellipse">
            <a:avLst/>
          </a:prstGeom>
          <a:noFill/>
          <a:ln w="7632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7"/>
          <p:cNvSpPr/>
          <p:nvPr/>
        </p:nvSpPr>
        <p:spPr>
          <a:xfrm>
            <a:off x="2571840" y="2619360"/>
            <a:ext cx="396720" cy="419040"/>
          </a:xfrm>
          <a:prstGeom prst="ellipse">
            <a:avLst/>
          </a:prstGeom>
          <a:noFill/>
          <a:ln w="7632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98"/>
          <p:cNvSpPr/>
          <p:nvPr/>
        </p:nvSpPr>
        <p:spPr>
          <a:xfrm>
            <a:off x="2571840" y="3473280"/>
            <a:ext cx="396720" cy="419400"/>
          </a:xfrm>
          <a:prstGeom prst="ellipse">
            <a:avLst/>
          </a:prstGeom>
          <a:noFill/>
          <a:ln w="7632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99"/>
          <p:cNvSpPr/>
          <p:nvPr/>
        </p:nvSpPr>
        <p:spPr>
          <a:xfrm>
            <a:off x="2571840" y="4327560"/>
            <a:ext cx="396720" cy="419040"/>
          </a:xfrm>
          <a:prstGeom prst="ellipse">
            <a:avLst/>
          </a:prstGeom>
          <a:noFill/>
          <a:ln w="7632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2"/>
          <p:cNvSpPr/>
          <p:nvPr/>
        </p:nvSpPr>
        <p:spPr>
          <a:xfrm>
            <a:off x="2968560" y="1973160"/>
            <a:ext cx="4135680" cy="3240"/>
          </a:xfrm>
          <a:prstGeom prst="line">
            <a:avLst/>
          </a:prstGeom>
          <a:ln w="2844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1"/>
          <p:cNvSpPr/>
          <p:nvPr/>
        </p:nvSpPr>
        <p:spPr>
          <a:xfrm>
            <a:off x="3554280" y="1714680"/>
            <a:ext cx="2803680" cy="458640"/>
          </a:xfrm>
          <a:prstGeom prst="rect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2"/>
          <p:cNvSpPr/>
          <p:nvPr/>
        </p:nvSpPr>
        <p:spPr>
          <a:xfrm>
            <a:off x="2932200" y="3683160"/>
            <a:ext cx="4135320" cy="2880"/>
          </a:xfrm>
          <a:prstGeom prst="line">
            <a:avLst/>
          </a:prstGeom>
          <a:ln w="2844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3"/>
          <p:cNvSpPr/>
          <p:nvPr/>
        </p:nvSpPr>
        <p:spPr>
          <a:xfrm>
            <a:off x="3556080" y="2684520"/>
            <a:ext cx="2801880" cy="458640"/>
          </a:xfrm>
          <a:prstGeom prst="rect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4"/>
          <p:cNvSpPr/>
          <p:nvPr/>
        </p:nvSpPr>
        <p:spPr>
          <a:xfrm>
            <a:off x="3571920" y="3429000"/>
            <a:ext cx="2801880" cy="458640"/>
          </a:xfrm>
          <a:prstGeom prst="rect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5"/>
          <p:cNvSpPr/>
          <p:nvPr/>
        </p:nvSpPr>
        <p:spPr>
          <a:xfrm>
            <a:off x="3571920" y="4398840"/>
            <a:ext cx="2803320" cy="459000"/>
          </a:xfrm>
          <a:prstGeom prst="rect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4992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569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49784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圆角矩形 16"/>
          <p:cNvSpPr/>
          <p:nvPr/>
        </p:nvSpPr>
        <p:spPr>
          <a:xfrm>
            <a:off x="2593800" y="273852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49168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7"/>
          <p:cNvSpPr/>
          <p:nvPr/>
        </p:nvSpPr>
        <p:spPr>
          <a:xfrm>
            <a:off x="2714760" y="279396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椭圆 2"/>
          <p:cNvGrpSpPr/>
          <p:nvPr/>
        </p:nvGrpSpPr>
        <p:grpSpPr>
          <a:xfrm>
            <a:off x="6497640" y="2779560"/>
            <a:ext cx="493560" cy="974880"/>
            <a:chOff x="6497640" y="2779560"/>
            <a:chExt cx="493560" cy="974880"/>
          </a:xfrm>
        </p:grpSpPr>
        <p:pic>
          <p:nvPicPr>
            <p:cNvPr id="65" name="椭圆 2" descr=""/>
            <p:cNvPicPr/>
            <p:nvPr/>
          </p:nvPicPr>
          <p:blipFill>
            <a:blip r:embed="rId1"/>
            <a:stretch/>
          </p:blipFill>
          <p:spPr>
            <a:xfrm>
              <a:off x="6497640" y="2779560"/>
              <a:ext cx="4935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500880" y="2784600"/>
              <a:ext cx="484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2"/>
          <p:cNvGrpSpPr/>
          <p:nvPr/>
        </p:nvGrpSpPr>
        <p:grpSpPr>
          <a:xfrm>
            <a:off x="6705720" y="2895480"/>
            <a:ext cx="255600" cy="712800"/>
            <a:chOff x="6705720" y="2895480"/>
            <a:chExt cx="255600" cy="712800"/>
          </a:xfrm>
        </p:grpSpPr>
        <p:pic>
          <p:nvPicPr>
            <p:cNvPr id="68" name="椭圆 2" descr=""/>
            <p:cNvPicPr/>
            <p:nvPr/>
          </p:nvPicPr>
          <p:blipFill>
            <a:blip r:embed="rId2"/>
            <a:stretch/>
          </p:blipFill>
          <p:spPr>
            <a:xfrm>
              <a:off x="6705720" y="2895480"/>
              <a:ext cx="2556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710400" y="2901960"/>
              <a:ext cx="244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等腰三角形 12"/>
          <p:cNvSpPr/>
          <p:nvPr/>
        </p:nvSpPr>
        <p:spPr>
          <a:xfrm rot="5400000">
            <a:off x="6617880" y="318600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25"/>
          <p:cNvSpPr/>
          <p:nvPr/>
        </p:nvSpPr>
        <p:spPr>
          <a:xfrm>
            <a:off x="2593800" y="142884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6c19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6"/>
          <p:cNvSpPr/>
          <p:nvPr/>
        </p:nvSpPr>
        <p:spPr>
          <a:xfrm>
            <a:off x="2714760" y="148428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椭圆 2"/>
          <p:cNvGrpSpPr/>
          <p:nvPr/>
        </p:nvGrpSpPr>
        <p:grpSpPr>
          <a:xfrm>
            <a:off x="6497640" y="1457280"/>
            <a:ext cx="493560" cy="974880"/>
            <a:chOff x="6497640" y="1457280"/>
            <a:chExt cx="493560" cy="974880"/>
          </a:xfrm>
        </p:grpSpPr>
        <p:pic>
          <p:nvPicPr>
            <p:cNvPr id="74" name="椭圆 2" descr=""/>
            <p:cNvPicPr/>
            <p:nvPr/>
          </p:nvPicPr>
          <p:blipFill>
            <a:blip r:embed="rId3"/>
            <a:stretch/>
          </p:blipFill>
          <p:spPr>
            <a:xfrm>
              <a:off x="6497640" y="1457280"/>
              <a:ext cx="49356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500880" y="1460520"/>
              <a:ext cx="4842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椭圆 2"/>
          <p:cNvGrpSpPr/>
          <p:nvPr/>
        </p:nvGrpSpPr>
        <p:grpSpPr>
          <a:xfrm>
            <a:off x="6705720" y="1584360"/>
            <a:ext cx="255600" cy="714240"/>
            <a:chOff x="6705720" y="1584360"/>
            <a:chExt cx="255600" cy="714240"/>
          </a:xfrm>
        </p:grpSpPr>
        <p:pic>
          <p:nvPicPr>
            <p:cNvPr id="77" name="椭圆 2" descr=""/>
            <p:cNvPicPr/>
            <p:nvPr/>
          </p:nvPicPr>
          <p:blipFill>
            <a:blip r:embed="rId4"/>
            <a:stretch/>
          </p:blipFill>
          <p:spPr>
            <a:xfrm>
              <a:off x="6705720" y="1584360"/>
              <a:ext cx="255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710400" y="1592280"/>
              <a:ext cx="244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等腰三角形 22"/>
          <p:cNvSpPr/>
          <p:nvPr/>
        </p:nvSpPr>
        <p:spPr>
          <a:xfrm rot="5400000">
            <a:off x="6617880" y="1882440"/>
            <a:ext cx="2174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4"/>
          <p:cNvSpPr/>
          <p:nvPr/>
        </p:nvSpPr>
        <p:spPr>
          <a:xfrm>
            <a:off x="2593800" y="4048200"/>
            <a:ext cx="4478400" cy="1054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56c19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35"/>
          <p:cNvSpPr/>
          <p:nvPr/>
        </p:nvSpPr>
        <p:spPr>
          <a:xfrm>
            <a:off x="2714760" y="4103640"/>
            <a:ext cx="4117680" cy="968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cecec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椭圆 2"/>
          <p:cNvGrpSpPr/>
          <p:nvPr/>
        </p:nvGrpSpPr>
        <p:grpSpPr>
          <a:xfrm>
            <a:off x="6497640" y="4091040"/>
            <a:ext cx="493560" cy="974520"/>
            <a:chOff x="6497640" y="4091040"/>
            <a:chExt cx="493560" cy="974520"/>
          </a:xfrm>
        </p:grpSpPr>
        <p:pic>
          <p:nvPicPr>
            <p:cNvPr id="83" name="椭圆 2" descr=""/>
            <p:cNvPicPr/>
            <p:nvPr/>
          </p:nvPicPr>
          <p:blipFill>
            <a:blip r:embed="rId5"/>
            <a:stretch/>
          </p:blipFill>
          <p:spPr>
            <a:xfrm>
              <a:off x="6497640" y="4091040"/>
              <a:ext cx="4935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500880" y="4094280"/>
              <a:ext cx="484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椭圆 2"/>
          <p:cNvGrpSpPr/>
          <p:nvPr/>
        </p:nvGrpSpPr>
        <p:grpSpPr>
          <a:xfrm>
            <a:off x="6705720" y="4206960"/>
            <a:ext cx="255600" cy="712800"/>
            <a:chOff x="6705720" y="4206960"/>
            <a:chExt cx="255600" cy="712800"/>
          </a:xfrm>
        </p:grpSpPr>
        <p:pic>
          <p:nvPicPr>
            <p:cNvPr id="86" name="椭圆 2" descr=""/>
            <p:cNvPicPr/>
            <p:nvPr/>
          </p:nvPicPr>
          <p:blipFill>
            <a:blip r:embed="rId6"/>
            <a:stretch/>
          </p:blipFill>
          <p:spPr>
            <a:xfrm>
              <a:off x="6705720" y="4206960"/>
              <a:ext cx="2556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710400" y="4211640"/>
              <a:ext cx="2444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等腰三角形 31"/>
          <p:cNvSpPr/>
          <p:nvPr/>
        </p:nvSpPr>
        <p:spPr>
          <a:xfrm rot="5400000">
            <a:off x="6601680" y="4502880"/>
            <a:ext cx="217440" cy="18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38"/>
          <p:cNvGrpSpPr/>
          <p:nvPr/>
        </p:nvGrpSpPr>
        <p:grpSpPr>
          <a:xfrm>
            <a:off x="3099600" y="2319840"/>
            <a:ext cx="163080" cy="569880"/>
            <a:chOff x="3099600" y="2319840"/>
            <a:chExt cx="163080" cy="569880"/>
          </a:xfrm>
        </p:grpSpPr>
        <p:sp>
          <p:nvSpPr>
            <p:cNvPr id="90" name="椭圆 39"/>
            <p:cNvSpPr/>
            <p:nvPr/>
          </p:nvSpPr>
          <p:spPr>
            <a:xfrm rot="4460400">
              <a:off x="3094560" y="2729520"/>
              <a:ext cx="17280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0"/>
            <p:cNvSpPr/>
            <p:nvPr/>
          </p:nvSpPr>
          <p:spPr>
            <a:xfrm rot="4460400">
              <a:off x="3109320" y="2344320"/>
              <a:ext cx="142920" cy="1206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41"/>
            <p:cNvGrpSpPr/>
            <p:nvPr/>
          </p:nvGrpSpPr>
          <p:grpSpPr>
            <a:xfrm>
              <a:off x="3135240" y="2363400"/>
              <a:ext cx="90720" cy="471960"/>
              <a:chOff x="3135240" y="2363400"/>
              <a:chExt cx="90720" cy="471960"/>
            </a:xfrm>
          </p:grpSpPr>
          <p:grpSp>
            <p:nvGrpSpPr>
              <p:cNvPr id="93" name="椭圆 42"/>
              <p:cNvGrpSpPr/>
              <p:nvPr/>
            </p:nvGrpSpPr>
            <p:grpSpPr>
              <a:xfrm>
                <a:off x="3135240" y="2712960"/>
                <a:ext cx="89640" cy="122400"/>
                <a:chOff x="3135240" y="2712960"/>
                <a:chExt cx="89640" cy="122400"/>
              </a:xfrm>
            </p:grpSpPr>
            <p:pic>
              <p:nvPicPr>
                <p:cNvPr id="94" name="椭圆 42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3135240" y="2712600"/>
                  <a:ext cx="8964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5440200">
                  <a:off x="3145320" y="2749320"/>
                  <a:ext cx="705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椭圆 43"/>
              <p:cNvGrpSpPr/>
              <p:nvPr/>
            </p:nvGrpSpPr>
            <p:grpSpPr>
              <a:xfrm>
                <a:off x="3136320" y="2363400"/>
                <a:ext cx="89640" cy="122400"/>
                <a:chOff x="3136320" y="2363400"/>
                <a:chExt cx="89640" cy="122400"/>
              </a:xfrm>
            </p:grpSpPr>
            <p:pic>
              <p:nvPicPr>
                <p:cNvPr id="97" name="椭圆 43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3136320" y="2363040"/>
                  <a:ext cx="8964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5440200">
                  <a:off x="3146400" y="2398320"/>
                  <a:ext cx="705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矩形 44"/>
              <p:cNvSpPr/>
              <p:nvPr/>
            </p:nvSpPr>
            <p:spPr>
              <a:xfrm rot="5440800">
                <a:off x="2987280" y="2584080"/>
                <a:ext cx="373320" cy="4536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组合 45"/>
          <p:cNvGrpSpPr/>
          <p:nvPr/>
        </p:nvGrpSpPr>
        <p:grpSpPr>
          <a:xfrm>
            <a:off x="3242880" y="2321280"/>
            <a:ext cx="164520" cy="571680"/>
            <a:chOff x="3242880" y="2321280"/>
            <a:chExt cx="164520" cy="571680"/>
          </a:xfrm>
        </p:grpSpPr>
        <p:sp>
          <p:nvSpPr>
            <p:cNvPr id="101" name="椭圆 46"/>
            <p:cNvSpPr/>
            <p:nvPr/>
          </p:nvSpPr>
          <p:spPr>
            <a:xfrm rot="4460400">
              <a:off x="323856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7"/>
            <p:cNvSpPr/>
            <p:nvPr/>
          </p:nvSpPr>
          <p:spPr>
            <a:xfrm rot="4460400">
              <a:off x="325332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组合 50"/>
            <p:cNvGrpSpPr/>
            <p:nvPr/>
          </p:nvGrpSpPr>
          <p:grpSpPr>
            <a:xfrm>
              <a:off x="3278160" y="2364840"/>
              <a:ext cx="92160" cy="473400"/>
              <a:chOff x="3278160" y="2364840"/>
              <a:chExt cx="92160" cy="473400"/>
            </a:xfrm>
          </p:grpSpPr>
          <p:grpSp>
            <p:nvGrpSpPr>
              <p:cNvPr id="104" name="椭圆 49"/>
              <p:cNvGrpSpPr/>
              <p:nvPr/>
            </p:nvGrpSpPr>
            <p:grpSpPr>
              <a:xfrm>
                <a:off x="3278160" y="2711520"/>
                <a:ext cx="91080" cy="126720"/>
                <a:chOff x="3278160" y="2711520"/>
                <a:chExt cx="91080" cy="126720"/>
              </a:xfrm>
            </p:grpSpPr>
            <p:pic>
              <p:nvPicPr>
                <p:cNvPr id="105" name="椭圆 49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3278160" y="2711160"/>
                  <a:ext cx="91080" cy="12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 rot="5440200">
                  <a:off x="3287160" y="2749320"/>
                  <a:ext cx="69840" cy="5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椭圆 50"/>
              <p:cNvGrpSpPr/>
              <p:nvPr/>
            </p:nvGrpSpPr>
            <p:grpSpPr>
              <a:xfrm>
                <a:off x="3279240" y="2364840"/>
                <a:ext cx="91080" cy="120960"/>
                <a:chOff x="3279240" y="2364840"/>
                <a:chExt cx="91080" cy="120960"/>
              </a:xfrm>
            </p:grpSpPr>
            <p:pic>
              <p:nvPicPr>
                <p:cNvPr id="108" name="椭圆 50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3279240" y="2364480"/>
                  <a:ext cx="91080" cy="12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5440200">
                  <a:off x="3288240" y="2400120"/>
                  <a:ext cx="69840" cy="5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矩形 51"/>
              <p:cNvSpPr/>
              <p:nvPr/>
            </p:nvSpPr>
            <p:spPr>
              <a:xfrm rot="5440800">
                <a:off x="3129120" y="2585160"/>
                <a:ext cx="371160" cy="4608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组合 52"/>
          <p:cNvGrpSpPr/>
          <p:nvPr/>
        </p:nvGrpSpPr>
        <p:grpSpPr>
          <a:xfrm>
            <a:off x="6024240" y="2319480"/>
            <a:ext cx="164520" cy="570240"/>
            <a:chOff x="6024240" y="2319480"/>
            <a:chExt cx="164520" cy="570240"/>
          </a:xfrm>
        </p:grpSpPr>
        <p:sp>
          <p:nvSpPr>
            <p:cNvPr id="112" name="椭圆 53"/>
            <p:cNvSpPr/>
            <p:nvPr/>
          </p:nvSpPr>
          <p:spPr>
            <a:xfrm rot="4460400">
              <a:off x="6019920" y="272844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54"/>
            <p:cNvSpPr/>
            <p:nvPr/>
          </p:nvSpPr>
          <p:spPr>
            <a:xfrm rot="4460400">
              <a:off x="6034680" y="2343600"/>
              <a:ext cx="14292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57"/>
            <p:cNvGrpSpPr/>
            <p:nvPr/>
          </p:nvGrpSpPr>
          <p:grpSpPr>
            <a:xfrm>
              <a:off x="6059520" y="2363040"/>
              <a:ext cx="92160" cy="472320"/>
              <a:chOff x="6059520" y="2363040"/>
              <a:chExt cx="92160" cy="472320"/>
            </a:xfrm>
          </p:grpSpPr>
          <p:grpSp>
            <p:nvGrpSpPr>
              <p:cNvPr id="115" name="椭圆 56"/>
              <p:cNvGrpSpPr/>
              <p:nvPr/>
            </p:nvGrpSpPr>
            <p:grpSpPr>
              <a:xfrm>
                <a:off x="6059520" y="2712960"/>
                <a:ext cx="91080" cy="122400"/>
                <a:chOff x="6059520" y="2712960"/>
                <a:chExt cx="91080" cy="122400"/>
              </a:xfrm>
            </p:grpSpPr>
            <p:pic>
              <p:nvPicPr>
                <p:cNvPr id="116" name="椭圆 56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6059520" y="2712600"/>
                  <a:ext cx="9108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 rot="5440200">
                  <a:off x="6069240" y="2748600"/>
                  <a:ext cx="70560" cy="5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椭圆 57"/>
              <p:cNvGrpSpPr/>
              <p:nvPr/>
            </p:nvGrpSpPr>
            <p:grpSpPr>
              <a:xfrm>
                <a:off x="6060600" y="2363040"/>
                <a:ext cx="91080" cy="122400"/>
                <a:chOff x="6060600" y="2363040"/>
                <a:chExt cx="91080" cy="122400"/>
              </a:xfrm>
            </p:grpSpPr>
            <p:pic>
              <p:nvPicPr>
                <p:cNvPr id="119" name="椭圆 57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6060600" y="2362680"/>
                  <a:ext cx="91080" cy="12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"/>
                <p:cNvSpPr/>
                <p:nvPr/>
              </p:nvSpPr>
              <p:spPr>
                <a:xfrm rot="5440200">
                  <a:off x="6070320" y="2397600"/>
                  <a:ext cx="70560" cy="5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58"/>
              <p:cNvSpPr/>
              <p:nvPr/>
            </p:nvSpPr>
            <p:spPr>
              <a:xfrm rot="5440800">
                <a:off x="5910840" y="2583720"/>
                <a:ext cx="373320" cy="46080"/>
              </a:xfrm>
              <a:prstGeom prst="rect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组合 59"/>
          <p:cNvGrpSpPr/>
          <p:nvPr/>
        </p:nvGrpSpPr>
        <p:grpSpPr>
          <a:xfrm>
            <a:off x="6167160" y="2321280"/>
            <a:ext cx="164520" cy="571680"/>
            <a:chOff x="6167160" y="2321280"/>
            <a:chExt cx="164520" cy="571680"/>
          </a:xfrm>
        </p:grpSpPr>
        <p:sp>
          <p:nvSpPr>
            <p:cNvPr id="123" name="椭圆 60"/>
            <p:cNvSpPr/>
            <p:nvPr/>
          </p:nvSpPr>
          <p:spPr>
            <a:xfrm rot="4460400">
              <a:off x="6162840" y="2731680"/>
              <a:ext cx="17280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61"/>
            <p:cNvSpPr/>
            <p:nvPr/>
          </p:nvSpPr>
          <p:spPr>
            <a:xfrm rot="4460400">
              <a:off x="6177600" y="2345040"/>
              <a:ext cx="142560" cy="1224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64"/>
            <p:cNvGrpSpPr/>
            <p:nvPr/>
          </p:nvGrpSpPr>
          <p:grpSpPr>
            <a:xfrm>
              <a:off x="6202440" y="2364840"/>
              <a:ext cx="91440" cy="473400"/>
              <a:chOff x="6202440" y="2364840"/>
              <a:chExt cx="91440" cy="473400"/>
            </a:xfrm>
          </p:grpSpPr>
          <p:grpSp>
            <p:nvGrpSpPr>
              <p:cNvPr id="126" name="椭圆 63"/>
              <p:cNvGrpSpPr/>
              <p:nvPr/>
            </p:nvGrpSpPr>
            <p:grpSpPr>
              <a:xfrm>
                <a:off x="6202440" y="2711520"/>
                <a:ext cx="90720" cy="126720"/>
                <a:chOff x="6202440" y="2711520"/>
                <a:chExt cx="90720" cy="126720"/>
              </a:xfrm>
            </p:grpSpPr>
            <p:pic>
              <p:nvPicPr>
                <p:cNvPr id="127" name="椭圆 63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6202440" y="2711160"/>
                  <a:ext cx="90720" cy="126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5440200">
                  <a:off x="6212160" y="2748240"/>
                  <a:ext cx="6984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椭圆 64"/>
              <p:cNvGrpSpPr/>
              <p:nvPr/>
            </p:nvGrpSpPr>
            <p:grpSpPr>
              <a:xfrm>
                <a:off x="6203160" y="2364840"/>
                <a:ext cx="90720" cy="120960"/>
                <a:chOff x="6203160" y="2364840"/>
                <a:chExt cx="90720" cy="120960"/>
              </a:xfrm>
            </p:grpSpPr>
            <p:pic>
              <p:nvPicPr>
                <p:cNvPr id="130" name="椭圆 64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6203160" y="2364480"/>
                  <a:ext cx="90720" cy="12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5440200">
                  <a:off x="6212880" y="2399040"/>
                  <a:ext cx="69840" cy="5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矩形 65"/>
              <p:cNvSpPr/>
              <p:nvPr/>
            </p:nvSpPr>
            <p:spPr>
              <a:xfrm rot="5440800">
                <a:off x="6053760" y="2584440"/>
                <a:ext cx="371160" cy="48600"/>
              </a:xfrm>
              <a:prstGeom prst="rect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椭圆 67"/>
          <p:cNvSpPr/>
          <p:nvPr/>
        </p:nvSpPr>
        <p:spPr>
          <a:xfrm rot="4460400">
            <a:off x="3094560" y="403920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68"/>
          <p:cNvSpPr/>
          <p:nvPr/>
        </p:nvSpPr>
        <p:spPr>
          <a:xfrm rot="4460400">
            <a:off x="3109320" y="3654000"/>
            <a:ext cx="14292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71"/>
          <p:cNvGrpSpPr/>
          <p:nvPr/>
        </p:nvGrpSpPr>
        <p:grpSpPr>
          <a:xfrm>
            <a:off x="3135240" y="3673440"/>
            <a:ext cx="91440" cy="471960"/>
            <a:chOff x="3135240" y="3673440"/>
            <a:chExt cx="91440" cy="471960"/>
          </a:xfrm>
        </p:grpSpPr>
        <p:grpSp>
          <p:nvGrpSpPr>
            <p:cNvPr id="136" name="椭圆 70"/>
            <p:cNvGrpSpPr/>
            <p:nvPr/>
          </p:nvGrpSpPr>
          <p:grpSpPr>
            <a:xfrm>
              <a:off x="3135240" y="4023360"/>
              <a:ext cx="90360" cy="122040"/>
              <a:chOff x="3135240" y="4023360"/>
              <a:chExt cx="90360" cy="122040"/>
            </a:xfrm>
          </p:grpSpPr>
          <p:pic>
            <p:nvPicPr>
              <p:cNvPr id="137" name="椭圆 70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3135240" y="4023000"/>
                <a:ext cx="9036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 rot="5440200">
                <a:off x="3145680" y="4058640"/>
                <a:ext cx="7020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椭圆 71"/>
            <p:cNvGrpSpPr/>
            <p:nvPr/>
          </p:nvGrpSpPr>
          <p:grpSpPr>
            <a:xfrm>
              <a:off x="3136320" y="3673440"/>
              <a:ext cx="90360" cy="122040"/>
              <a:chOff x="3136320" y="3673440"/>
              <a:chExt cx="90360" cy="122040"/>
            </a:xfrm>
          </p:grpSpPr>
          <p:pic>
            <p:nvPicPr>
              <p:cNvPr id="140" name="椭圆 7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3136320" y="3673080"/>
                <a:ext cx="9036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5440200">
                <a:off x="3146760" y="3707640"/>
                <a:ext cx="7020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矩形 72"/>
            <p:cNvSpPr/>
            <p:nvPr/>
          </p:nvSpPr>
          <p:spPr>
            <a:xfrm rot="5440800">
              <a:off x="2988000" y="3893040"/>
              <a:ext cx="372960" cy="45720"/>
            </a:xfrm>
            <a:prstGeom prst="rect">
              <a:avLst/>
            </a:pr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74"/>
          <p:cNvSpPr/>
          <p:nvPr/>
        </p:nvSpPr>
        <p:spPr>
          <a:xfrm rot="4460400">
            <a:off x="3238560" y="404136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75"/>
          <p:cNvSpPr/>
          <p:nvPr/>
        </p:nvSpPr>
        <p:spPr>
          <a:xfrm rot="4460400">
            <a:off x="3251880" y="3656520"/>
            <a:ext cx="144360" cy="1209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8"/>
          <p:cNvGrpSpPr/>
          <p:nvPr/>
        </p:nvGrpSpPr>
        <p:grpSpPr>
          <a:xfrm>
            <a:off x="3278160" y="3675240"/>
            <a:ext cx="91440" cy="473400"/>
            <a:chOff x="3278160" y="3675240"/>
            <a:chExt cx="91440" cy="473400"/>
          </a:xfrm>
        </p:grpSpPr>
        <p:grpSp>
          <p:nvGrpSpPr>
            <p:cNvPr id="146" name="椭圆 77"/>
            <p:cNvGrpSpPr/>
            <p:nvPr/>
          </p:nvGrpSpPr>
          <p:grpSpPr>
            <a:xfrm>
              <a:off x="3278160" y="4021920"/>
              <a:ext cx="90360" cy="126720"/>
              <a:chOff x="3278160" y="4021920"/>
              <a:chExt cx="90360" cy="126720"/>
            </a:xfrm>
          </p:grpSpPr>
          <p:pic>
            <p:nvPicPr>
              <p:cNvPr id="147" name="椭圆 77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3278160" y="4021560"/>
                <a:ext cx="90360" cy="12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 rot="5440200">
                <a:off x="3286440" y="4059360"/>
                <a:ext cx="6984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椭圆 78"/>
            <p:cNvGrpSpPr/>
            <p:nvPr/>
          </p:nvGrpSpPr>
          <p:grpSpPr>
            <a:xfrm>
              <a:off x="3279240" y="3675240"/>
              <a:ext cx="90360" cy="120960"/>
              <a:chOff x="3279240" y="3675240"/>
              <a:chExt cx="90360" cy="120960"/>
            </a:xfrm>
          </p:grpSpPr>
          <p:pic>
            <p:nvPicPr>
              <p:cNvPr id="150" name="椭圆 78" descr=""/>
              <p:cNvPicPr/>
              <p:nvPr/>
            </p:nvPicPr>
            <p:blipFill>
              <a:blip r:embed="rId23"/>
              <a:stretch/>
            </p:blipFill>
            <p:spPr>
              <a:xfrm rot="21599400">
                <a:off x="3279240" y="3674880"/>
                <a:ext cx="90360" cy="1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 rot="5440200">
                <a:off x="3287520" y="3710520"/>
                <a:ext cx="6984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矩形 79"/>
            <p:cNvSpPr/>
            <p:nvPr/>
          </p:nvSpPr>
          <p:spPr>
            <a:xfrm rot="5440800">
              <a:off x="3128760" y="3894840"/>
              <a:ext cx="371160" cy="45720"/>
            </a:xfrm>
            <a:prstGeom prst="rect">
              <a:avLst/>
            </a:pr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椭圆 81"/>
          <p:cNvSpPr/>
          <p:nvPr/>
        </p:nvSpPr>
        <p:spPr>
          <a:xfrm rot="4460400">
            <a:off x="6019920" y="4038120"/>
            <a:ext cx="17280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82"/>
          <p:cNvSpPr/>
          <p:nvPr/>
        </p:nvSpPr>
        <p:spPr>
          <a:xfrm rot="4460400">
            <a:off x="6034680" y="3653280"/>
            <a:ext cx="14292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85"/>
          <p:cNvGrpSpPr/>
          <p:nvPr/>
        </p:nvGrpSpPr>
        <p:grpSpPr>
          <a:xfrm>
            <a:off x="6059520" y="3673440"/>
            <a:ext cx="91440" cy="471960"/>
            <a:chOff x="6059520" y="3673440"/>
            <a:chExt cx="91440" cy="471960"/>
          </a:xfrm>
        </p:grpSpPr>
        <p:grpSp>
          <p:nvGrpSpPr>
            <p:cNvPr id="156" name="椭圆 84"/>
            <p:cNvGrpSpPr/>
            <p:nvPr/>
          </p:nvGrpSpPr>
          <p:grpSpPr>
            <a:xfrm>
              <a:off x="6059520" y="4023360"/>
              <a:ext cx="90360" cy="122040"/>
              <a:chOff x="6059520" y="4023360"/>
              <a:chExt cx="90360" cy="122040"/>
            </a:xfrm>
          </p:grpSpPr>
          <p:pic>
            <p:nvPicPr>
              <p:cNvPr id="157" name="椭圆 84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6059520" y="4023000"/>
                <a:ext cx="9036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5440200">
                <a:off x="6068520" y="4058640"/>
                <a:ext cx="7020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椭圆 85"/>
            <p:cNvGrpSpPr/>
            <p:nvPr/>
          </p:nvGrpSpPr>
          <p:grpSpPr>
            <a:xfrm>
              <a:off x="6060600" y="3673440"/>
              <a:ext cx="90360" cy="122040"/>
              <a:chOff x="6060600" y="3673440"/>
              <a:chExt cx="90360" cy="122040"/>
            </a:xfrm>
          </p:grpSpPr>
          <p:pic>
            <p:nvPicPr>
              <p:cNvPr id="160" name="椭圆 85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6060600" y="3673080"/>
                <a:ext cx="9036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5440200">
                <a:off x="6069600" y="3707640"/>
                <a:ext cx="70200" cy="4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矩形 86"/>
            <p:cNvSpPr/>
            <p:nvPr/>
          </p:nvSpPr>
          <p:spPr>
            <a:xfrm rot="5440800">
              <a:off x="5910480" y="3893040"/>
              <a:ext cx="372960" cy="45720"/>
            </a:xfrm>
            <a:prstGeom prst="rect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椭圆 88"/>
          <p:cNvSpPr/>
          <p:nvPr/>
        </p:nvSpPr>
        <p:spPr>
          <a:xfrm rot="4460400">
            <a:off x="6163200" y="4042440"/>
            <a:ext cx="172800" cy="1206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89"/>
          <p:cNvSpPr/>
          <p:nvPr/>
        </p:nvSpPr>
        <p:spPr>
          <a:xfrm rot="4460400">
            <a:off x="6176880" y="3655800"/>
            <a:ext cx="144360" cy="122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92"/>
          <p:cNvGrpSpPr/>
          <p:nvPr/>
        </p:nvGrpSpPr>
        <p:grpSpPr>
          <a:xfrm>
            <a:off x="6202080" y="3675240"/>
            <a:ext cx="92520" cy="473400"/>
            <a:chOff x="6202080" y="3675240"/>
            <a:chExt cx="92520" cy="473400"/>
          </a:xfrm>
        </p:grpSpPr>
        <p:grpSp>
          <p:nvGrpSpPr>
            <p:cNvPr id="166" name="椭圆 91"/>
            <p:cNvGrpSpPr/>
            <p:nvPr/>
          </p:nvGrpSpPr>
          <p:grpSpPr>
            <a:xfrm>
              <a:off x="6202080" y="4021920"/>
              <a:ext cx="91800" cy="126720"/>
              <a:chOff x="6202080" y="4021920"/>
              <a:chExt cx="91800" cy="126720"/>
            </a:xfrm>
          </p:grpSpPr>
          <p:pic>
            <p:nvPicPr>
              <p:cNvPr id="167" name="椭圆 91" descr=""/>
              <p:cNvPicPr/>
              <p:nvPr/>
            </p:nvPicPr>
            <p:blipFill>
              <a:blip r:embed="rId28"/>
              <a:stretch/>
            </p:blipFill>
            <p:spPr>
              <a:xfrm rot="21599400">
                <a:off x="6202080" y="4021560"/>
                <a:ext cx="91800" cy="12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 rot="5440200">
                <a:off x="6212520" y="4057200"/>
                <a:ext cx="6984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椭圆 92"/>
            <p:cNvGrpSpPr/>
            <p:nvPr/>
          </p:nvGrpSpPr>
          <p:grpSpPr>
            <a:xfrm>
              <a:off x="6202800" y="3675240"/>
              <a:ext cx="91800" cy="120960"/>
              <a:chOff x="6202800" y="3675240"/>
              <a:chExt cx="91800" cy="120960"/>
            </a:xfrm>
          </p:grpSpPr>
          <p:pic>
            <p:nvPicPr>
              <p:cNvPr id="170" name="椭圆 92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6202800" y="3674880"/>
                <a:ext cx="91800" cy="12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 rot="5440200">
                <a:off x="6213240" y="3708360"/>
                <a:ext cx="6984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矩形 93"/>
            <p:cNvSpPr/>
            <p:nvPr/>
          </p:nvSpPr>
          <p:spPr>
            <a:xfrm rot="5440800">
              <a:off x="6054480" y="3892680"/>
              <a:ext cx="371160" cy="50400"/>
            </a:xfrm>
            <a:prstGeom prst="rect">
              <a:avLst/>
            </a:pr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40690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069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饼形 17"/>
          <p:cNvSpPr/>
          <p:nvPr/>
        </p:nvSpPr>
        <p:spPr>
          <a:xfrm rot="5400000">
            <a:off x="793800" y="2918520"/>
            <a:ext cx="7567920" cy="7569000"/>
          </a:xfrm>
          <a:prstGeom prst="pi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饼形 18"/>
          <p:cNvSpPr/>
          <p:nvPr/>
        </p:nvSpPr>
        <p:spPr>
          <a:xfrm rot="5400000">
            <a:off x="1125000" y="3206520"/>
            <a:ext cx="6945480" cy="7018200"/>
          </a:xfrm>
          <a:prstGeom prst="pie">
            <a:avLst/>
          </a:prstGeom>
          <a:solidFill>
            <a:srgbClr val="56c19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饼形 19"/>
          <p:cNvSpPr/>
          <p:nvPr/>
        </p:nvSpPr>
        <p:spPr>
          <a:xfrm rot="5400000">
            <a:off x="2203920" y="4353480"/>
            <a:ext cx="4751280" cy="4752720"/>
          </a:xfrm>
          <a:prstGeom prst="pi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饼形 20"/>
          <p:cNvSpPr/>
          <p:nvPr/>
        </p:nvSpPr>
        <p:spPr>
          <a:xfrm rot="5400000">
            <a:off x="2370240" y="4505760"/>
            <a:ext cx="4442040" cy="4443480"/>
          </a:xfrm>
          <a:prstGeom prst="pie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上箭头 21"/>
          <p:cNvSpPr/>
          <p:nvPr/>
        </p:nvSpPr>
        <p:spPr>
          <a:xfrm rot="17587200">
            <a:off x="1835280" y="5434920"/>
            <a:ext cx="374760" cy="1092240"/>
          </a:xfrm>
          <a:prstGeom prst="upArrow">
            <a:avLst>
              <a:gd name="adj1" fmla="val 25259"/>
              <a:gd name="adj2" fmla="val 993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上箭头 22"/>
          <p:cNvSpPr/>
          <p:nvPr/>
        </p:nvSpPr>
        <p:spPr>
          <a:xfrm rot="19066800">
            <a:off x="2662200" y="4223880"/>
            <a:ext cx="374760" cy="1092240"/>
          </a:xfrm>
          <a:prstGeom prst="upArrow">
            <a:avLst>
              <a:gd name="adj1" fmla="val 25259"/>
              <a:gd name="adj2" fmla="val 993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上箭头 23"/>
          <p:cNvSpPr/>
          <p:nvPr/>
        </p:nvSpPr>
        <p:spPr>
          <a:xfrm>
            <a:off x="4417920" y="3757680"/>
            <a:ext cx="376200" cy="1092240"/>
          </a:xfrm>
          <a:prstGeom prst="upArrow">
            <a:avLst>
              <a:gd name="adj1" fmla="val 25259"/>
              <a:gd name="adj2" fmla="val 993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上箭头 24"/>
          <p:cNvSpPr/>
          <p:nvPr/>
        </p:nvSpPr>
        <p:spPr>
          <a:xfrm rot="2426400">
            <a:off x="6062400" y="4149360"/>
            <a:ext cx="374400" cy="1092240"/>
          </a:xfrm>
          <a:prstGeom prst="upArrow">
            <a:avLst>
              <a:gd name="adj1" fmla="val 25259"/>
              <a:gd name="adj2" fmla="val 994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上箭头 25"/>
          <p:cNvSpPr/>
          <p:nvPr/>
        </p:nvSpPr>
        <p:spPr>
          <a:xfrm rot="4413000">
            <a:off x="6833880" y="5398920"/>
            <a:ext cx="374760" cy="1092240"/>
          </a:xfrm>
          <a:prstGeom prst="upArrow">
            <a:avLst>
              <a:gd name="adj1" fmla="val 25259"/>
              <a:gd name="adj2" fmla="val 993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26"/>
          <p:cNvSpPr/>
          <p:nvPr/>
        </p:nvSpPr>
        <p:spPr>
          <a:xfrm>
            <a:off x="428760" y="4986360"/>
            <a:ext cx="1027080" cy="1027080"/>
          </a:xfrm>
          <a:prstGeom prst="ellips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7"/>
          <p:cNvSpPr/>
          <p:nvPr/>
        </p:nvSpPr>
        <p:spPr>
          <a:xfrm>
            <a:off x="1677960" y="3297240"/>
            <a:ext cx="1027080" cy="1025640"/>
          </a:xfrm>
          <a:prstGeom prst="ellips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8"/>
          <p:cNvSpPr/>
          <p:nvPr/>
        </p:nvSpPr>
        <p:spPr>
          <a:xfrm>
            <a:off x="6505560" y="3324240"/>
            <a:ext cx="1027080" cy="1027080"/>
          </a:xfrm>
          <a:prstGeom prst="ellips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29"/>
          <p:cNvSpPr/>
          <p:nvPr/>
        </p:nvSpPr>
        <p:spPr>
          <a:xfrm>
            <a:off x="7586640" y="5024520"/>
            <a:ext cx="1027080" cy="1027080"/>
          </a:xfrm>
          <a:prstGeom prst="ellips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32"/>
          <p:cNvSpPr/>
          <p:nvPr/>
        </p:nvSpPr>
        <p:spPr>
          <a:xfrm>
            <a:off x="3943440" y="2252520"/>
            <a:ext cx="1311120" cy="1311480"/>
          </a:xfrm>
          <a:prstGeom prst="ellipse">
            <a:avLst/>
          </a:prstGeom>
          <a:solidFill>
            <a:srgbClr val="f49168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40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76410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688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2"/>
          <p:cNvSpPr/>
          <p:nvPr/>
        </p:nvSpPr>
        <p:spPr>
          <a:xfrm>
            <a:off x="2214720" y="3613320"/>
            <a:ext cx="2563560" cy="2109600"/>
          </a:xfrm>
          <a:prstGeom prst="rect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2222640" y="1357200"/>
            <a:ext cx="2563560" cy="2108160"/>
          </a:xfrm>
          <a:prstGeom prst="rect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角三角形 14"/>
          <p:cNvSpPr/>
          <p:nvPr/>
        </p:nvSpPr>
        <p:spPr>
          <a:xfrm rot="5400000">
            <a:off x="2297160" y="1490400"/>
            <a:ext cx="768240" cy="717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角三角形 19"/>
          <p:cNvSpPr/>
          <p:nvPr/>
        </p:nvSpPr>
        <p:spPr>
          <a:xfrm flipV="1" rot="5400000">
            <a:off x="6561000" y="1525680"/>
            <a:ext cx="765360" cy="6825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角三角形 24"/>
          <p:cNvSpPr/>
          <p:nvPr/>
        </p:nvSpPr>
        <p:spPr>
          <a:xfrm flipV="1" rot="16200000">
            <a:off x="2286000" y="4913280"/>
            <a:ext cx="765360" cy="711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角三角形 7"/>
          <p:cNvSpPr/>
          <p:nvPr/>
        </p:nvSpPr>
        <p:spPr>
          <a:xfrm rot="16200000">
            <a:off x="6578640" y="4808520"/>
            <a:ext cx="745920" cy="6984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2"/>
          <p:cNvSpPr/>
          <p:nvPr/>
        </p:nvSpPr>
        <p:spPr>
          <a:xfrm>
            <a:off x="3250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3"/>
          <p:cNvSpPr/>
          <p:nvPr/>
        </p:nvSpPr>
        <p:spPr>
          <a:xfrm>
            <a:off x="553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"/>
          <p:cNvSpPr/>
          <p:nvPr/>
        </p:nvSpPr>
        <p:spPr>
          <a:xfrm>
            <a:off x="3250080" y="413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5"/>
          <p:cNvSpPr/>
          <p:nvPr/>
        </p:nvSpPr>
        <p:spPr>
          <a:xfrm>
            <a:off x="53931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915080" y="3621240"/>
            <a:ext cx="2565360" cy="2108160"/>
          </a:xfrm>
          <a:prstGeom prst="rect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4923000" y="1365120"/>
            <a:ext cx="2563560" cy="2108160"/>
          </a:xfrm>
          <a:prstGeom prst="rect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41"/>
          <p:cNvSpPr/>
          <p:nvPr/>
        </p:nvSpPr>
        <p:spPr>
          <a:xfrm flipH="1" rot="16200000">
            <a:off x="6613200" y="1526400"/>
            <a:ext cx="770040" cy="717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3"/>
          <p:cNvSpPr/>
          <p:nvPr/>
        </p:nvSpPr>
        <p:spPr>
          <a:xfrm flipH="1" flipV="1" rot="5400000">
            <a:off x="6603120" y="4892400"/>
            <a:ext cx="765000" cy="7099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5355000" y="2293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4"/>
          <p:cNvSpPr/>
          <p:nvPr/>
        </p:nvSpPr>
        <p:spPr>
          <a:xfrm>
            <a:off x="5355000" y="42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圆角矩形 11"/>
          <p:cNvSpPr/>
          <p:nvPr/>
        </p:nvSpPr>
        <p:spPr>
          <a:xfrm>
            <a:off x="644400" y="2433600"/>
            <a:ext cx="1792440" cy="352440"/>
          </a:xfrm>
          <a:prstGeom prst="roundRect">
            <a:avLst>
              <a:gd name="adj" fmla="val 50000"/>
            </a:avLst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2"/>
          <p:cNvSpPr/>
          <p:nvPr/>
        </p:nvSpPr>
        <p:spPr>
          <a:xfrm>
            <a:off x="571680" y="2903400"/>
            <a:ext cx="1947600" cy="1359000"/>
          </a:xfrm>
          <a:prstGeom prst="roundRect">
            <a:avLst>
              <a:gd name="adj" fmla="val 12852"/>
            </a:avLst>
          </a:prstGeom>
          <a:noFill/>
          <a:ln w="7632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25"/>
          <p:cNvSpPr/>
          <p:nvPr/>
        </p:nvSpPr>
        <p:spPr>
          <a:xfrm>
            <a:off x="2676600" y="2433600"/>
            <a:ext cx="1792080" cy="352440"/>
          </a:xfrm>
          <a:prstGeom prst="roundRect">
            <a:avLst>
              <a:gd name="adj" fmla="val 50000"/>
            </a:avLst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26"/>
          <p:cNvSpPr/>
          <p:nvPr/>
        </p:nvSpPr>
        <p:spPr>
          <a:xfrm>
            <a:off x="2603520" y="2897280"/>
            <a:ext cx="1947960" cy="1358640"/>
          </a:xfrm>
          <a:prstGeom prst="roundRect">
            <a:avLst>
              <a:gd name="adj" fmla="val 12852"/>
            </a:avLst>
          </a:prstGeom>
          <a:noFill/>
          <a:ln w="7632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33"/>
          <p:cNvSpPr/>
          <p:nvPr/>
        </p:nvSpPr>
        <p:spPr>
          <a:xfrm>
            <a:off x="4716360" y="2433600"/>
            <a:ext cx="1792440" cy="352440"/>
          </a:xfrm>
          <a:prstGeom prst="roundRect">
            <a:avLst>
              <a:gd name="adj" fmla="val 50000"/>
            </a:avLst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34"/>
          <p:cNvSpPr/>
          <p:nvPr/>
        </p:nvSpPr>
        <p:spPr>
          <a:xfrm>
            <a:off x="4643280" y="2927520"/>
            <a:ext cx="1947960" cy="1358640"/>
          </a:xfrm>
          <a:prstGeom prst="roundRect">
            <a:avLst>
              <a:gd name="adj" fmla="val 12852"/>
            </a:avLst>
          </a:prstGeom>
          <a:noFill/>
          <a:ln w="76320">
            <a:solidFill>
              <a:srgbClr val="56c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31"/>
          <p:cNvSpPr/>
          <p:nvPr/>
        </p:nvSpPr>
        <p:spPr>
          <a:xfrm>
            <a:off x="6748560" y="2428920"/>
            <a:ext cx="1792080" cy="352440"/>
          </a:xfrm>
          <a:prstGeom prst="roundRect">
            <a:avLst>
              <a:gd name="adj" fmla="val 50000"/>
            </a:avLst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32"/>
          <p:cNvSpPr/>
          <p:nvPr/>
        </p:nvSpPr>
        <p:spPr>
          <a:xfrm>
            <a:off x="6675480" y="2927520"/>
            <a:ext cx="1947960" cy="1358640"/>
          </a:xfrm>
          <a:prstGeom prst="roundRect">
            <a:avLst>
              <a:gd name="adj" fmla="val 12852"/>
            </a:avLst>
          </a:prstGeom>
          <a:noFill/>
          <a:ln w="76320">
            <a:solidFill>
              <a:srgbClr val="f491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3069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714096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4"/>
          <p:cNvSpPr/>
          <p:nvPr/>
        </p:nvSpPr>
        <p:spPr>
          <a:xfrm>
            <a:off x="51422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5"/>
          <p:cNvSpPr/>
          <p:nvPr/>
        </p:nvSpPr>
        <p:spPr>
          <a:xfrm>
            <a:off x="106884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椭圆 10"/>
          <p:cNvSpPr/>
          <p:nvPr/>
        </p:nvSpPr>
        <p:spPr>
          <a:xfrm>
            <a:off x="6281640" y="1703520"/>
            <a:ext cx="1332000" cy="1333440"/>
          </a:xfrm>
          <a:prstGeom prst="ellips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空心弧 11"/>
          <p:cNvSpPr/>
          <p:nvPr/>
        </p:nvSpPr>
        <p:spPr>
          <a:xfrm>
            <a:off x="6031080" y="1454040"/>
            <a:ext cx="1833480" cy="1832040"/>
          </a:xfrm>
          <a:prstGeom prst="pi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2"/>
          <p:cNvSpPr/>
          <p:nvPr/>
        </p:nvSpPr>
        <p:spPr>
          <a:xfrm>
            <a:off x="1677960" y="3773520"/>
            <a:ext cx="1333440" cy="1332000"/>
          </a:xfrm>
          <a:prstGeom prst="ellips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空心弧 13"/>
          <p:cNvSpPr/>
          <p:nvPr/>
        </p:nvSpPr>
        <p:spPr>
          <a:xfrm flipV="1">
            <a:off x="1428840" y="3521880"/>
            <a:ext cx="1833480" cy="1833480"/>
          </a:xfrm>
          <a:prstGeom prst="pi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6"/>
          <p:cNvSpPr/>
          <p:nvPr/>
        </p:nvSpPr>
        <p:spPr>
          <a:xfrm>
            <a:off x="4748040" y="3846600"/>
            <a:ext cx="1333800" cy="1333440"/>
          </a:xfrm>
          <a:prstGeom prst="ellipse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7"/>
          <p:cNvSpPr/>
          <p:nvPr/>
        </p:nvSpPr>
        <p:spPr>
          <a:xfrm>
            <a:off x="3213000" y="1708200"/>
            <a:ext cx="1333440" cy="1333440"/>
          </a:xfrm>
          <a:prstGeom prst="ellipse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等腰三角形 6"/>
          <p:cNvSpPr/>
          <p:nvPr/>
        </p:nvSpPr>
        <p:spPr>
          <a:xfrm>
            <a:off x="3112920" y="2916360"/>
            <a:ext cx="1533600" cy="507960"/>
          </a:xfrm>
          <a:prstGeom prst="pie">
            <a:avLst/>
          </a:prstGeom>
          <a:solidFill>
            <a:srgbClr val="56c1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空心弧 19"/>
          <p:cNvSpPr/>
          <p:nvPr/>
        </p:nvSpPr>
        <p:spPr>
          <a:xfrm>
            <a:off x="2963880" y="1457280"/>
            <a:ext cx="1832040" cy="1833480"/>
          </a:xfrm>
          <a:prstGeom prst="pie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等腰三角形 6"/>
          <p:cNvSpPr/>
          <p:nvPr/>
        </p:nvSpPr>
        <p:spPr>
          <a:xfrm flipV="1">
            <a:off x="4648320" y="3445920"/>
            <a:ext cx="1533240" cy="507960"/>
          </a:xfrm>
          <a:prstGeom prst="pie">
            <a:avLst/>
          </a:prstGeom>
          <a:solidFill>
            <a:srgbClr val="56c19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等腰三角形 6"/>
          <p:cNvSpPr/>
          <p:nvPr/>
        </p:nvSpPr>
        <p:spPr>
          <a:xfrm flipV="1">
            <a:off x="1577880" y="3372840"/>
            <a:ext cx="1533600" cy="507960"/>
          </a:xfrm>
          <a:prstGeom prst="pie">
            <a:avLst/>
          </a:prstGeom>
          <a:solidFill>
            <a:srgbClr val="f491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等腰三角形 6"/>
          <p:cNvSpPr/>
          <p:nvPr/>
        </p:nvSpPr>
        <p:spPr>
          <a:xfrm>
            <a:off x="6181560" y="2916360"/>
            <a:ext cx="1532160" cy="507960"/>
          </a:xfrm>
          <a:prstGeom prst="pie">
            <a:avLst/>
          </a:prstGeom>
          <a:solidFill>
            <a:srgbClr val="f4916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空心弧 24"/>
          <p:cNvSpPr/>
          <p:nvPr/>
        </p:nvSpPr>
        <p:spPr>
          <a:xfrm flipV="1">
            <a:off x="4498920" y="3594960"/>
            <a:ext cx="1832040" cy="1833480"/>
          </a:xfrm>
          <a:prstGeom prst="pie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3392640" y="215280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4927680" y="4295880"/>
            <a:ext cx="9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6459480" y="215280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1857240" y="423396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3426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3"/>
          <p:cNvSpPr/>
          <p:nvPr/>
        </p:nvSpPr>
        <p:spPr>
          <a:xfrm>
            <a:off x="6498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4"/>
          <p:cNvSpPr/>
          <p:nvPr/>
        </p:nvSpPr>
        <p:spPr>
          <a:xfrm>
            <a:off x="4926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17830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10"/>
          <p:cNvGrpSpPr/>
          <p:nvPr/>
        </p:nvGrpSpPr>
        <p:grpSpPr>
          <a:xfrm>
            <a:off x="1535040" y="1547640"/>
            <a:ext cx="936720" cy="3803760"/>
            <a:chOff x="1535040" y="1547640"/>
            <a:chExt cx="936720" cy="3803760"/>
          </a:xfrm>
        </p:grpSpPr>
        <p:sp>
          <p:nvSpPr>
            <p:cNvPr id="269" name="矩形 27"/>
            <p:cNvSpPr/>
            <p:nvPr/>
          </p:nvSpPr>
          <p:spPr>
            <a:xfrm>
              <a:off x="1535040" y="1547640"/>
              <a:ext cx="936720" cy="3803760"/>
            </a:xfrm>
            <a:prstGeom prst="pie">
              <a:avLst/>
            </a:prstGeom>
            <a:noFill/>
            <a:ln w="19080">
              <a:solidFill>
                <a:srgbClr val="56c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12"/>
            <p:cNvSpPr/>
            <p:nvPr/>
          </p:nvSpPr>
          <p:spPr>
            <a:xfrm>
              <a:off x="1535040" y="3368520"/>
              <a:ext cx="865440" cy="0"/>
            </a:xfrm>
            <a:prstGeom prst="line">
              <a:avLst/>
            </a:prstGeom>
            <a:ln w="19080">
              <a:solidFill>
                <a:srgbClr val="56c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 1"/>
          <p:cNvSpPr/>
          <p:nvPr/>
        </p:nvSpPr>
        <p:spPr>
          <a:xfrm>
            <a:off x="2182680" y="1214280"/>
            <a:ext cx="6337440" cy="690840"/>
          </a:xfrm>
          <a:prstGeom prst="pi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"/>
          <p:cNvSpPr/>
          <p:nvPr/>
        </p:nvSpPr>
        <p:spPr>
          <a:xfrm>
            <a:off x="2182680" y="3075120"/>
            <a:ext cx="6337440" cy="688680"/>
          </a:xfrm>
          <a:prstGeom prst="pie">
            <a:avLst/>
          </a:prstGeom>
          <a:solidFill>
            <a:srgbClr val="56c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"/>
          <p:cNvSpPr/>
          <p:nvPr/>
        </p:nvSpPr>
        <p:spPr>
          <a:xfrm>
            <a:off x="2182680" y="4933800"/>
            <a:ext cx="6337440" cy="690840"/>
          </a:xfrm>
          <a:prstGeom prst="pie">
            <a:avLst/>
          </a:prstGeom>
          <a:solidFill>
            <a:srgbClr val="f4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795960" y="118188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6c19a"/>
                </a:solidFill>
                <a:latin typeface="微软雅黑"/>
                <a:ea typeface="微软雅黑"/>
              </a:rPr>
              <a:t>您的标题写在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4354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3"/>
          <p:cNvSpPr/>
          <p:nvPr/>
        </p:nvSpPr>
        <p:spPr>
          <a:xfrm>
            <a:off x="428364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65"/>
          <p:cNvSpPr/>
          <p:nvPr/>
        </p:nvSpPr>
        <p:spPr>
          <a:xfrm>
            <a:off x="1285920" y="4489560"/>
            <a:ext cx="3084480" cy="61740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椭圆 12"/>
          <p:cNvGrpSpPr/>
          <p:nvPr/>
        </p:nvGrpSpPr>
        <p:grpSpPr>
          <a:xfrm>
            <a:off x="1311120" y="1920960"/>
            <a:ext cx="2955960" cy="2949480"/>
            <a:chOff x="1311120" y="1920960"/>
            <a:chExt cx="2955960" cy="2949480"/>
          </a:xfrm>
        </p:grpSpPr>
        <p:pic>
          <p:nvPicPr>
            <p:cNvPr id="285" name="椭圆 12" descr=""/>
            <p:cNvPicPr/>
            <p:nvPr/>
          </p:nvPicPr>
          <p:blipFill>
            <a:blip r:embed="rId1"/>
            <a:stretch/>
          </p:blipFill>
          <p:spPr>
            <a:xfrm>
              <a:off x="1311120" y="1920960"/>
              <a:ext cx="295596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rot="1267200">
              <a:off x="1758600" y="2363400"/>
              <a:ext cx="2065320" cy="20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椭圆 2"/>
          <p:cNvGrpSpPr/>
          <p:nvPr/>
        </p:nvGrpSpPr>
        <p:grpSpPr>
          <a:xfrm>
            <a:off x="1316160" y="1670040"/>
            <a:ext cx="2944800" cy="1262160"/>
            <a:chOff x="1316160" y="1670040"/>
            <a:chExt cx="2944800" cy="1262160"/>
          </a:xfrm>
        </p:grpSpPr>
        <p:pic>
          <p:nvPicPr>
            <p:cNvPr id="288" name="椭圆 2" descr=""/>
            <p:cNvPicPr/>
            <p:nvPr/>
          </p:nvPicPr>
          <p:blipFill>
            <a:blip r:embed="rId2"/>
            <a:stretch/>
          </p:blipFill>
          <p:spPr>
            <a:xfrm>
              <a:off x="1316160" y="1670040"/>
              <a:ext cx="29448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14440" y="1717560"/>
              <a:ext cx="275292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Box 14"/>
          <p:cNvSpPr/>
          <p:nvPr/>
        </p:nvSpPr>
        <p:spPr>
          <a:xfrm>
            <a:off x="2041560" y="2039760"/>
            <a:ext cx="17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4892760" y="4489560"/>
            <a:ext cx="3084480" cy="61740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椭圆 18"/>
          <p:cNvGrpSpPr/>
          <p:nvPr/>
        </p:nvGrpSpPr>
        <p:grpSpPr>
          <a:xfrm>
            <a:off x="4919760" y="1920960"/>
            <a:ext cx="2949480" cy="2949480"/>
            <a:chOff x="4919760" y="1920960"/>
            <a:chExt cx="2949480" cy="2949480"/>
          </a:xfrm>
        </p:grpSpPr>
        <p:pic>
          <p:nvPicPr>
            <p:cNvPr id="293" name="椭圆 18" descr=""/>
            <p:cNvPicPr/>
            <p:nvPr/>
          </p:nvPicPr>
          <p:blipFill>
            <a:blip r:embed="rId3"/>
            <a:stretch/>
          </p:blipFill>
          <p:spPr>
            <a:xfrm>
              <a:off x="4919760" y="1920960"/>
              <a:ext cx="29494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rot="1267200">
              <a:off x="5365440" y="2363400"/>
              <a:ext cx="2065320" cy="20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椭圆 2"/>
          <p:cNvGrpSpPr/>
          <p:nvPr/>
        </p:nvGrpSpPr>
        <p:grpSpPr>
          <a:xfrm>
            <a:off x="4925880" y="1670040"/>
            <a:ext cx="2938680" cy="1262160"/>
            <a:chOff x="4925880" y="1670040"/>
            <a:chExt cx="2938680" cy="1262160"/>
          </a:xfrm>
        </p:grpSpPr>
        <p:pic>
          <p:nvPicPr>
            <p:cNvPr id="296" name="椭圆 2" descr=""/>
            <p:cNvPicPr/>
            <p:nvPr/>
          </p:nvPicPr>
          <p:blipFill>
            <a:blip r:embed="rId4"/>
            <a:stretch/>
          </p:blipFill>
          <p:spPr>
            <a:xfrm>
              <a:off x="4925880" y="1670040"/>
              <a:ext cx="29386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021280" y="1717560"/>
              <a:ext cx="275256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20"/>
          <p:cNvSpPr/>
          <p:nvPr/>
        </p:nvSpPr>
        <p:spPr>
          <a:xfrm>
            <a:off x="5648400" y="2039760"/>
            <a:ext cx="17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3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4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未知用户</cp:lastModifiedBy>
  <dcterms:modified xsi:type="dcterms:W3CDTF">2016-02-25T01:12:03Z</dcterms:modified>
  <cp:revision>299</cp:revision>
  <dc:subject/>
  <dc:title>幻灯片 1</dc:title>
</cp:coreProperties>
</file>