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B35-2577-4424-9C9B-0717787D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C1C-1CB9-4020-A0DF-021EE90B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B01-8D43-4CF1-8A0D-0F5CF28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7F2-82B5-4B2F-8913-B6C70316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5B9-498A-4CA5-9503-A48F288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ADC-B028-42D3-BE24-B8622996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F68-37B9-492A-BD02-9EB8F22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135-1E84-41A9-9DED-C0D9A77E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F9E-E99C-4E28-859C-502AEE7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E16-43F7-422D-B1C8-BAD2B22C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E7D-56B1-4FB3-8292-62CDC368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3A8-5141-4B6D-8A61-6122132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BDF-F083-4EB1-823A-9C120B0568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50720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7150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明节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354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783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783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133236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5355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283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212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22184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569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783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640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498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22184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69292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926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355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83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07212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997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783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74268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3711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7212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998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783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微软用户</cp:lastModifiedBy>
  <dcterms:modified xsi:type="dcterms:W3CDTF">2014-03-31T07:01:30Z</dcterms:modified>
  <cp:revision>36</cp:revision>
  <dc:subject/>
  <dc:title>幻灯片 1</dc:title>
</cp:coreProperties>
</file>