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51450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241-8219-48B9-A13C-A26064C6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BEC-5DD1-4AC0-9485-E5DCC133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FC4-F657-41B4-ACE0-6A3CF265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3026-0CFD-4154-B162-7729B5E0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42A0-F184-4F3D-985A-000A6FB8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91AF-CE9A-4013-A46D-58ABCED7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722E-DD22-4522-8F2C-F5023C2E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7BD8-8E21-48D3-B49F-CD9EAC59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D9B8-1445-493B-8DB2-C69D787D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7A78-4568-4980-A82C-E03FAB0A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0D1E-E192-4902-BF4A-0051DC37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4E0-FD03-4743-A7C3-0C9734BD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F087-E29A-49C7-9057-6C85F30C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45FE-E081-41A7-8B24-DF1DE6A2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19F5-50BF-4FE3-94AB-137EDD94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833C-BB32-42FC-82A8-E7A20DF8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50C3-DE0E-44D7-91CE-9CFAD6C8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88B-9C0F-4102-AEC4-68342866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C0D-519C-4EC8-BC42-55C3C7CA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BA5-63E2-40FD-BE62-77460C25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F92-8C2E-4033-8B4D-2B124E77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396-31E6-468E-B927-8C5178F1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DA3-C213-4019-859B-4520FE26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B51-202D-4505-BFDE-78E512C7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pic5.nipic.com/20091225/2246031_180212008642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889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Users\x200\Desktop\buick_logo.png"/>
          <p:cNvPicPr/>
          <p:nvPr/>
        </p:nvPicPr>
        <p:blipFill>
          <a:blip r:embed="rId3"/>
          <a:stretch/>
        </p:blipFill>
        <p:spPr>
          <a:xfrm>
            <a:off x="301680" y="131760"/>
            <a:ext cx="1179360" cy="3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8855-236E-4030-BEE6-37FBA2D8FC1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40C1-DC8F-4AB7-A0E9-9E9619CEA1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4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7238880" y="4629240"/>
            <a:ext cx="16765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02888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5013-D7FC-446B-8861-69675C9B4898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013C-4F14-4247-A0CD-22B7E64633D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pic5.nipic.com/20091225/2246031_180212008642_2.jpg"/>
          <p:cNvPicPr/>
          <p:nvPr/>
        </p:nvPicPr>
        <p:blipFill>
          <a:blip r:embed="rId1"/>
          <a:stretch/>
        </p:blipFill>
        <p:spPr>
          <a:xfrm>
            <a:off x="0" y="1581120"/>
            <a:ext cx="9144000" cy="1897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324000" y="1924200"/>
            <a:ext cx="8499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浙江荣通市场部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6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营销工作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809880" y="28004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叶盖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6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6" descr="屏幕快照 2013-12-05 下午5.42.4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08000" y="698400"/>
          <a:ext cx="8680320" cy="4213080"/>
        </p:xfrm>
        <a:graphic>
          <a:graphicData uri="http://schemas.openxmlformats.org/drawingml/2006/table">
            <a:tbl>
              <a:tblPr/>
              <a:tblGrid>
                <a:gridCol w="623880"/>
                <a:gridCol w="1114560"/>
                <a:gridCol w="2271600"/>
                <a:gridCol w="3833640"/>
                <a:gridCol w="836640"/>
              </a:tblGrid>
              <a:tr h="318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Calibri"/>
                          <a:ea typeface="微软雅黑"/>
                        </a:rPr>
                        <a:t>内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5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年要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Calibri"/>
                          <a:ea typeface="微软雅黑"/>
                        </a:rPr>
                        <a:t>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813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弥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弥补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未做好基础工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微信平台的应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断的吸收粉丝，提高信息传播效果，另一方面提高客户对平台的利用率，做成真正意义的服务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之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客流分车型的数据收集及分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天收集数据，每周分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活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KPI/LEADS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数据指标的完成和录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次活动建立合理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KPI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指标，对活动效果及时准确录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DO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售后活动常态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个季度要有售后推广促销活动，每年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基盘客户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全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28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提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提高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在做但没做好的工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网络营销计划和内容管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网络营销内容的要求及管理，对网络负责人进行目标跟踪（每天至少一篇，少发一次扣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元，每月上报给销售经理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5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市场活动后续总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做好每次活动后的总结，制作存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广宣计划的目的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月制定广宣计划，避免为了广宣而广宣，一定要有目的性，评估广宣性价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27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挖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潜客挖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潜客挖掘做到更细、更准。除了传统广告、网络等收集潜客之外，向乡村、社区、机关系统、小团体等渠道进行拓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新媒体和高性价比媒体挖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媒体挖掘以能够长期投放的渠道为主，能让客户被动接受为原则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异业联合挖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与其他行业联合开展活动，造势共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标题 1"/>
          <p:cNvSpPr/>
          <p:nvPr/>
        </p:nvSpPr>
        <p:spPr>
          <a:xfrm>
            <a:off x="900000" y="1492200"/>
            <a:ext cx="77724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  <a:ea typeface="方正姚体"/>
              </a:rPr>
              <a:t>How to </a:t>
            </a: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achieve</a:t>
            </a:r>
            <a:r>
              <a:rPr b="0" lang="en-US" sz="4400" spc="-1" strike="noStrike">
                <a:solidFill>
                  <a:srgbClr val="000000"/>
                </a:solidFill>
                <a:latin typeface="Rockwell"/>
                <a:ea typeface="方正姚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927800" y="2819520"/>
            <a:ext cx="575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Rockwell"/>
                <a:ea typeface="方正姚体"/>
              </a:rPr>
              <a:t>如何实现</a:t>
            </a:r>
            <a:r>
              <a:rPr b="0" lang="zh-CN" sz="4400" spc="-1" strike="noStrike">
                <a:solidFill>
                  <a:srgbClr val="000000"/>
                </a:solidFill>
                <a:latin typeface="Rockwell"/>
                <a:ea typeface="方正姚体"/>
              </a:rPr>
              <a:t>201</a:t>
            </a:r>
            <a:r>
              <a:rPr b="0" lang="en-US" sz="4400" spc="-1" strike="noStrike">
                <a:solidFill>
                  <a:srgbClr val="000000"/>
                </a:solidFill>
                <a:latin typeface="Rockwell"/>
                <a:ea typeface="方正姚体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Rockwell"/>
                <a:ea typeface="方正姚体"/>
              </a:rPr>
              <a:t>年市场部工作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414720" y="84312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cc"/>
                </a:solidFill>
                <a:latin typeface="Tahoma"/>
                <a:ea typeface="黑体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900000" y="987480"/>
            <a:ext cx="8050320" cy="12600"/>
          </a:xfrm>
          <a:prstGeom prst="line">
            <a:avLst/>
          </a:prstGeom>
          <a:ln w="50760">
            <a:solidFill>
              <a:srgbClr val="8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947880" y="930240"/>
            <a:ext cx="144360" cy="73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2098800" y="930240"/>
            <a:ext cx="144360" cy="73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747880" y="930240"/>
            <a:ext cx="144720" cy="73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3467160" y="930240"/>
            <a:ext cx="144360" cy="73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4114800" y="930240"/>
            <a:ext cx="144360" cy="73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5338800" y="930240"/>
            <a:ext cx="144360" cy="73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5987880" y="930240"/>
            <a:ext cx="144720" cy="73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6707160" y="930240"/>
            <a:ext cx="144360" cy="73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7356600" y="930240"/>
            <a:ext cx="144360" cy="73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8004240" y="930240"/>
            <a:ext cx="144360" cy="73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522440" y="930240"/>
            <a:ext cx="144360" cy="73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4691160" y="930240"/>
            <a:ext cx="144360" cy="73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>
            <a:off x="442800" y="1143000"/>
            <a:ext cx="360360" cy="7938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793800"/>
              <a:gd name="textAreaBottom" fmla="*/ 776520 h 793800"/>
            </a:gdLst>
            <a:ahLst/>
            <a:rect l="textAreaLeft" t="textAreaTop" r="textAreaRight" b="textAreaBottom"/>
            <a:pathLst>
              <a:path w="21600" h="47554">
                <a:moveTo>
                  <a:pt x="3600" y="0"/>
                </a:moveTo>
                <a:arcTo wR="3600" hR="3600" stAng="16200000" swAng="-5400000"/>
                <a:lnTo>
                  <a:pt x="0" y="43954"/>
                </a:lnTo>
                <a:arcTo wR="3600" hR="3600" stAng="10800000" swAng="-5400000"/>
                <a:lnTo>
                  <a:pt x="18000" y="47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eece1"/>
          </a:solidFill>
          <a:ln w="38160">
            <a:solidFill>
              <a:srgbClr val="ffffff"/>
            </a:solidFill>
            <a:beve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2060"/>
                </a:solidFill>
                <a:latin typeface="Tahoma"/>
                <a:ea typeface="黑体"/>
              </a:rPr>
              <a:t>媒介投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>
            <a:off x="442800" y="2079720"/>
            <a:ext cx="360360" cy="8985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898560"/>
              <a:gd name="textAreaBottom" fmla="*/ 881280 h 898560"/>
            </a:gdLst>
            <a:ahLst/>
            <a:rect l="textAreaLeft" t="textAreaTop" r="textAreaRight" b="textAreaBottom"/>
            <a:pathLst>
              <a:path w="21600" h="53828">
                <a:moveTo>
                  <a:pt x="3600" y="0"/>
                </a:moveTo>
                <a:arcTo wR="3600" hR="3600" stAng="16200000" swAng="-5400000"/>
                <a:lnTo>
                  <a:pt x="0" y="50228"/>
                </a:lnTo>
                <a:arcTo wR="3600" hR="3600" stAng="10800000" swAng="-5400000"/>
                <a:lnTo>
                  <a:pt x="18000" y="53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eece1"/>
          </a:solidFill>
          <a:ln w="38160">
            <a:solidFill>
              <a:srgbClr val="ffffff"/>
            </a:solidFill>
            <a:beve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2060"/>
                </a:solidFill>
                <a:latin typeface="Tahoma"/>
                <a:ea typeface="黑体"/>
              </a:rPr>
              <a:t>线下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1"/>
          <p:cNvSpPr/>
          <p:nvPr/>
        </p:nvSpPr>
        <p:spPr>
          <a:xfrm>
            <a:off x="439560" y="3121200"/>
            <a:ext cx="360720" cy="790560"/>
          </a:xfrm>
          <a:custGeom>
            <a:avLst/>
            <a:gdLst>
              <a:gd name="textAreaLeft" fmla="*/ 17280 w 360720"/>
              <a:gd name="textAreaRight" fmla="*/ 343440 w 360720"/>
              <a:gd name="textAreaTop" fmla="*/ 17280 h 790560"/>
              <a:gd name="textAreaBottom" fmla="*/ 773280 h 790560"/>
            </a:gdLst>
            <a:ahLst/>
            <a:rect l="textAreaLeft" t="textAreaTop" r="textAreaRight" b="textAreaBottom"/>
            <a:pathLst>
              <a:path w="21600" h="47313">
                <a:moveTo>
                  <a:pt x="3600" y="0"/>
                </a:moveTo>
                <a:arcTo wR="3600" hR="3600" stAng="16200000" swAng="-5400000"/>
                <a:lnTo>
                  <a:pt x="0" y="43713"/>
                </a:lnTo>
                <a:arcTo wR="3600" hR="3600" stAng="10800000" swAng="-5400000"/>
                <a:lnTo>
                  <a:pt x="18000" y="47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eece1"/>
          </a:solidFill>
          <a:ln w="38160">
            <a:solidFill>
              <a:srgbClr val="ffffff"/>
            </a:solidFill>
            <a:beve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2060"/>
                </a:solidFill>
                <a:latin typeface="Tahoma"/>
                <a:ea typeface="黑体"/>
              </a:rPr>
              <a:t>车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2"/>
          <p:cNvSpPr/>
          <p:nvPr/>
        </p:nvSpPr>
        <p:spPr>
          <a:xfrm>
            <a:off x="439560" y="4041720"/>
            <a:ext cx="360720" cy="1006560"/>
          </a:xfrm>
          <a:custGeom>
            <a:avLst/>
            <a:gdLst>
              <a:gd name="textAreaLeft" fmla="*/ 17280 w 360720"/>
              <a:gd name="textAreaRight" fmla="*/ 343440 w 360720"/>
              <a:gd name="textAreaTop" fmla="*/ 17280 h 1006560"/>
              <a:gd name="textAreaBottom" fmla="*/ 989280 h 1006560"/>
            </a:gdLst>
            <a:ahLst/>
            <a:rect l="textAreaLeft" t="textAreaTop" r="textAreaRight" b="textAreaBottom"/>
            <a:pathLst>
              <a:path w="21600" h="60234">
                <a:moveTo>
                  <a:pt x="3600" y="0"/>
                </a:moveTo>
                <a:arcTo wR="3600" hR="3600" stAng="16200000" swAng="-5400000"/>
                <a:lnTo>
                  <a:pt x="0" y="56634"/>
                </a:lnTo>
                <a:arcTo wR="3600" hR="3600" stAng="10800000" swAng="-5400000"/>
                <a:lnTo>
                  <a:pt x="18000" y="60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eece1"/>
          </a:solidFill>
          <a:ln w="38160">
            <a:solidFill>
              <a:srgbClr val="ffffff"/>
            </a:solidFill>
            <a:beve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2060"/>
                </a:solidFill>
                <a:latin typeface="Tahoma"/>
                <a:ea typeface="黑体"/>
              </a:rPr>
              <a:t>展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4"/>
          <p:cNvSpPr/>
          <p:nvPr/>
        </p:nvSpPr>
        <p:spPr>
          <a:xfrm>
            <a:off x="871560" y="1317600"/>
            <a:ext cx="1319040" cy="306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ffffff"/>
            </a:solidFill>
            <a:beve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黑体"/>
              </a:rPr>
              <a:t>、荣通别克新春购车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3"/>
          <p:cNvSpPr/>
          <p:nvPr/>
        </p:nvSpPr>
        <p:spPr>
          <a:xfrm>
            <a:off x="1371600" y="2144160"/>
            <a:ext cx="857160" cy="30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黑体"/>
              </a:rPr>
              <a:t>汽车下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3"/>
          <p:cNvSpPr/>
          <p:nvPr/>
        </p:nvSpPr>
        <p:spPr>
          <a:xfrm>
            <a:off x="1260360" y="2716200"/>
            <a:ext cx="1355760" cy="30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黑体"/>
              </a:rPr>
              <a:t>开春第一团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4"/>
          <p:cNvSpPr/>
          <p:nvPr/>
        </p:nvSpPr>
        <p:spPr>
          <a:xfrm>
            <a:off x="2514600" y="3143160"/>
            <a:ext cx="1357200" cy="6447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黑体"/>
              </a:rPr>
              <a:t>4</a:t>
            </a: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黑体"/>
              </a:rPr>
              <a:t>月和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黑体"/>
              </a:rPr>
              <a:t>5</a:t>
            </a: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黑体"/>
              </a:rPr>
              <a:t>月各一次恒龙广场车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4"/>
          <p:cNvSpPr/>
          <p:nvPr/>
        </p:nvSpPr>
        <p:spPr>
          <a:xfrm>
            <a:off x="5872320" y="3143160"/>
            <a:ext cx="1285560" cy="6447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黑体"/>
              </a:rPr>
              <a:t>10</a:t>
            </a: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黑体"/>
              </a:rPr>
              <a:t>月恒龙广场秋季车展和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黑体"/>
              </a:rPr>
              <a:t>11</a:t>
            </a: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黑体"/>
              </a:rPr>
              <a:t>月百强县车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8"/>
          <p:cNvSpPr/>
          <p:nvPr/>
        </p:nvSpPr>
        <p:spPr>
          <a:xfrm>
            <a:off x="942840" y="4429080"/>
            <a:ext cx="1428840" cy="5716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19080">
            <a:solidFill>
              <a:srgbClr val="ffffff"/>
            </a:solidFill>
            <a:beve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黑体"/>
              </a:rPr>
              <a:t>新春展厅促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3"/>
          <p:cNvSpPr/>
          <p:nvPr/>
        </p:nvSpPr>
        <p:spPr>
          <a:xfrm>
            <a:off x="2371680" y="2429640"/>
            <a:ext cx="857160" cy="30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黑体"/>
              </a:rPr>
              <a:t>试驾有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3"/>
          <p:cNvSpPr/>
          <p:nvPr/>
        </p:nvSpPr>
        <p:spPr>
          <a:xfrm>
            <a:off x="3443400" y="2286720"/>
            <a:ext cx="857160" cy="30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黑体"/>
              </a:rPr>
              <a:t>别克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黑体"/>
              </a:rPr>
              <a:t>S</a:t>
            </a: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黑体"/>
              </a:rPr>
              <a:t>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3"/>
          <p:cNvSpPr/>
          <p:nvPr/>
        </p:nvSpPr>
        <p:spPr>
          <a:xfrm>
            <a:off x="3371760" y="2715840"/>
            <a:ext cx="1500120" cy="30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黑体"/>
              </a:rPr>
              <a:t>外展、外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3"/>
          <p:cNvSpPr/>
          <p:nvPr/>
        </p:nvSpPr>
        <p:spPr>
          <a:xfrm>
            <a:off x="5014800" y="2532240"/>
            <a:ext cx="1428840" cy="30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黑体"/>
              </a:rPr>
              <a:t>公益品牌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8"/>
          <p:cNvSpPr/>
          <p:nvPr/>
        </p:nvSpPr>
        <p:spPr>
          <a:xfrm>
            <a:off x="2514600" y="4429080"/>
            <a:ext cx="928800" cy="5716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19080">
            <a:solidFill>
              <a:srgbClr val="ffffff"/>
            </a:solidFill>
            <a:beve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黑体"/>
              </a:rPr>
              <a:t>五一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5872320" y="4429080"/>
            <a:ext cx="928440" cy="5716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19080">
            <a:solidFill>
              <a:srgbClr val="ffffff"/>
            </a:solidFill>
            <a:beve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黑体"/>
              </a:rPr>
              <a:t>十一购车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8"/>
          <p:cNvSpPr/>
          <p:nvPr/>
        </p:nvSpPr>
        <p:spPr>
          <a:xfrm>
            <a:off x="3871800" y="4429080"/>
            <a:ext cx="928800" cy="5716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19080">
            <a:solidFill>
              <a:srgbClr val="ffffff"/>
            </a:solidFill>
            <a:beve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黑体"/>
              </a:rPr>
              <a:t>端午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6586560" y="2318760"/>
            <a:ext cx="1000080" cy="30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黑体"/>
              </a:rPr>
              <a:t>基盘客户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4"/>
          <p:cNvSpPr/>
          <p:nvPr/>
        </p:nvSpPr>
        <p:spPr>
          <a:xfrm>
            <a:off x="2266920" y="1251360"/>
            <a:ext cx="1285920" cy="5086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ffffff"/>
            </a:solidFill>
            <a:beve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黑体"/>
              </a:rPr>
              <a:t>、全新君越上市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黑体"/>
              </a:rPr>
              <a:t>、车展主题宣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4"/>
          <p:cNvSpPr/>
          <p:nvPr/>
        </p:nvSpPr>
        <p:spPr>
          <a:xfrm>
            <a:off x="3728880" y="1317960"/>
            <a:ext cx="1000440" cy="306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ffffff"/>
            </a:solidFill>
            <a:beve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黑体"/>
              </a:rPr>
              <a:t>促销团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4"/>
          <p:cNvSpPr/>
          <p:nvPr/>
        </p:nvSpPr>
        <p:spPr>
          <a:xfrm>
            <a:off x="4943520" y="1317960"/>
            <a:ext cx="1000080" cy="306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ffffff"/>
            </a:solidFill>
            <a:beve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黑体"/>
              </a:rPr>
              <a:t>品牌宣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4"/>
          <p:cNvSpPr/>
          <p:nvPr/>
        </p:nvSpPr>
        <p:spPr>
          <a:xfrm>
            <a:off x="6086520" y="1318680"/>
            <a:ext cx="1000080" cy="306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ffffff"/>
            </a:solidFill>
            <a:beve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黑体"/>
              </a:rPr>
              <a:t>车展主题宣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4"/>
          <p:cNvSpPr/>
          <p:nvPr/>
        </p:nvSpPr>
        <p:spPr>
          <a:xfrm>
            <a:off x="7229520" y="1318680"/>
            <a:ext cx="1000080" cy="306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ffffff"/>
            </a:solidFill>
            <a:beve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黑体"/>
              </a:rPr>
              <a:t>年底促销宣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12720" y="628560"/>
            <a:ext cx="842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ece1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            2         3           4           5           6           7           8            9           10         11         12  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3"/>
          <p:cNvSpPr/>
          <p:nvPr/>
        </p:nvSpPr>
        <p:spPr>
          <a:xfrm>
            <a:off x="2340000" y="2095560"/>
            <a:ext cx="1071360" cy="30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黑体"/>
              </a:rPr>
              <a:t>全新君越上市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9" name="直接箭头连接符 3"/>
          <p:cNvCxnSpPr/>
          <p:nvPr/>
        </p:nvCxnSpPr>
        <p:spPr>
          <a:xfrm flipV="1">
            <a:off x="179280" y="771120"/>
            <a:ext cx="849888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" name="圆角矩形 11"/>
          <p:cNvSpPr/>
          <p:nvPr/>
        </p:nvSpPr>
        <p:spPr>
          <a:xfrm>
            <a:off x="255600" y="914400"/>
            <a:ext cx="2143080" cy="5047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——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圆角矩形 15"/>
          <p:cNvSpPr/>
          <p:nvPr/>
        </p:nvSpPr>
        <p:spPr>
          <a:xfrm>
            <a:off x="252360" y="4371840"/>
            <a:ext cx="2143080" cy="5763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—1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 17"/>
          <p:cNvSpPr/>
          <p:nvPr/>
        </p:nvSpPr>
        <p:spPr>
          <a:xfrm>
            <a:off x="2687760" y="857160"/>
            <a:ext cx="6421320" cy="5619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好新春广宣为主。车型以提升昂科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0T/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誉度为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圆角矩形 22"/>
          <p:cNvSpPr/>
          <p:nvPr/>
        </p:nvSpPr>
        <p:spPr>
          <a:xfrm>
            <a:off x="2700360" y="4371840"/>
            <a:ext cx="6408720" cy="6271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年末促销活动启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别克品牌公益活动推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售后基盘回馈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 12"/>
          <p:cNvSpPr/>
          <p:nvPr/>
        </p:nvSpPr>
        <p:spPr>
          <a:xfrm>
            <a:off x="254160" y="1494000"/>
            <a:ext cx="2143080" cy="11509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5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圆角矩形 19"/>
          <p:cNvSpPr/>
          <p:nvPr/>
        </p:nvSpPr>
        <p:spPr>
          <a:xfrm>
            <a:off x="2700360" y="1492200"/>
            <a:ext cx="6408720" cy="11527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别克全新全新君越上市，做好新车的传播工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加大全新英朗和威朗的促销力度，线下活动频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利用好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下旬的春季车展，为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Q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量目标打好基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份推出售后初夏季节性产品的促销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集团推荐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政商推荐会开启，加大与此类客户的交流合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 13"/>
          <p:cNvSpPr/>
          <p:nvPr/>
        </p:nvSpPr>
        <p:spPr>
          <a:xfrm>
            <a:off x="252360" y="2789280"/>
            <a:ext cx="2143080" cy="5032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——7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20"/>
          <p:cNvSpPr/>
          <p:nvPr/>
        </p:nvSpPr>
        <p:spPr>
          <a:xfrm>
            <a:off x="2627280" y="2787480"/>
            <a:ext cx="6408720" cy="5032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基盘客户活动推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做好淡季品牌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14"/>
          <p:cNvSpPr/>
          <p:nvPr/>
        </p:nvSpPr>
        <p:spPr>
          <a:xfrm>
            <a:off x="252360" y="3363840"/>
            <a:ext cx="2143080" cy="8938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——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21"/>
          <p:cNvSpPr/>
          <p:nvPr/>
        </p:nvSpPr>
        <p:spPr>
          <a:xfrm>
            <a:off x="2700360" y="3363840"/>
            <a:ext cx="6408720" cy="8953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利用好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秋季车展，完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Q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做好长假前售后季节性产品促销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AutoShape 3"/>
          <p:cNvCxnSpPr/>
          <p:nvPr/>
        </p:nvCxnSpPr>
        <p:spPr>
          <a:xfrm>
            <a:off x="2629080" y="628560"/>
            <a:ext cx="19440" cy="4534560"/>
          </a:xfrm>
          <a:prstGeom prst="straightConnector1">
            <a:avLst/>
          </a:prstGeom>
          <a:ln w="28440">
            <a:solidFill>
              <a:srgbClr val="c0504d"/>
            </a:solidFill>
            <a:prstDash val="sys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3286080" y="1785960"/>
            <a:ext cx="308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谢 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椭圆 13"/>
          <p:cNvSpPr/>
          <p:nvPr/>
        </p:nvSpPr>
        <p:spPr>
          <a:xfrm>
            <a:off x="973080" y="1362240"/>
            <a:ext cx="1673280" cy="1672920"/>
          </a:xfrm>
          <a:prstGeom prst="ellips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6"/>
          <p:cNvSpPr/>
          <p:nvPr/>
        </p:nvSpPr>
        <p:spPr>
          <a:xfrm>
            <a:off x="1130400" y="1774800"/>
            <a:ext cx="135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5"/>
          <p:cNvSpPr/>
          <p:nvPr/>
        </p:nvSpPr>
        <p:spPr>
          <a:xfrm>
            <a:off x="3276720" y="771480"/>
            <a:ext cx="34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姚体"/>
                <a:ea typeface="方正姚体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了解市场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7"/>
          <p:cNvSpPr/>
          <p:nvPr/>
        </p:nvSpPr>
        <p:spPr>
          <a:xfrm>
            <a:off x="3278160" y="184464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二、</a:t>
            </a:r>
            <a:r>
              <a:rPr b="0" lang="zh-CN" sz="2400" spc="-1" strike="noStrike">
                <a:solidFill>
                  <a:srgbClr val="000000"/>
                </a:solidFill>
                <a:latin typeface="Rockwell"/>
                <a:ea typeface="方正姚体"/>
              </a:rPr>
              <a:t>目标完成可以利用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8"/>
          <p:cNvSpPr/>
          <p:nvPr/>
        </p:nvSpPr>
        <p:spPr>
          <a:xfrm>
            <a:off x="3276720" y="2917800"/>
            <a:ext cx="51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三、</a:t>
            </a:r>
            <a:r>
              <a:rPr b="0" lang="zh-CN" sz="2400" spc="-1" strike="noStrike">
                <a:solidFill>
                  <a:srgbClr val="000000"/>
                </a:solidFill>
                <a:latin typeface="Rockwell"/>
                <a:ea typeface="方正姚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方正姚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Rockwell"/>
                <a:ea typeface="方正姚体"/>
              </a:rPr>
              <a:t>年市场部工作思路是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8"/>
          <p:cNvSpPr/>
          <p:nvPr/>
        </p:nvSpPr>
        <p:spPr>
          <a:xfrm>
            <a:off x="3286080" y="3867120"/>
            <a:ext cx="51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四、</a:t>
            </a:r>
            <a:r>
              <a:rPr b="0" lang="zh-CN" sz="2400" spc="-1" strike="noStrike">
                <a:solidFill>
                  <a:srgbClr val="000000"/>
                </a:solidFill>
                <a:latin typeface="Rockwell"/>
                <a:ea typeface="方正姚体"/>
              </a:rPr>
              <a:t>如何实现</a:t>
            </a:r>
            <a:r>
              <a:rPr b="0" lang="zh-CN" sz="2400" spc="-1" strike="noStrike">
                <a:solidFill>
                  <a:srgbClr val="000000"/>
                </a:solidFill>
                <a:latin typeface="Rockwell"/>
                <a:ea typeface="方正姚体"/>
              </a:rPr>
              <a:t>201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方正姚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Rockwell"/>
                <a:ea typeface="方正姚体"/>
              </a:rPr>
              <a:t>年市场部工作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108000" y="1563840"/>
            <a:ext cx="8569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6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别克整个产品线趋于成熟，市场部最重要的是依据总部及区域的要求开展市场活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市场部的工作重点是充分吸引潜客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6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市场部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UICK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要做到更加细致，及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、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市场部的工作转变点是更紧密地配合售后维护基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7410"/>
          <p:cNvSpPr/>
          <p:nvPr/>
        </p:nvSpPr>
        <p:spPr>
          <a:xfrm>
            <a:off x="325080" y="7016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序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标题 1"/>
          <p:cNvSpPr/>
          <p:nvPr/>
        </p:nvSpPr>
        <p:spPr>
          <a:xfrm>
            <a:off x="684360" y="1779480"/>
            <a:ext cx="77724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  <a:ea typeface="方正姚体"/>
              </a:rPr>
              <a:t>What is the target</a:t>
            </a:r>
            <a:r>
              <a:rPr b="0" lang="zh-CN" sz="4400" spc="-1" strike="noStrike">
                <a:solidFill>
                  <a:srgbClr val="000000"/>
                </a:solidFill>
                <a:latin typeface="Rockwell"/>
                <a:ea typeface="方正姚体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Rockwell"/>
                <a:ea typeface="方正姚体"/>
              </a:rPr>
              <a:t>了解市场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58840" y="628560"/>
            <a:ext cx="36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年目标（单位：批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6360" y="1060560"/>
          <a:ext cx="9072720" cy="2557440"/>
        </p:xfrm>
        <a:graphic>
          <a:graphicData uri="http://schemas.openxmlformats.org/drawingml/2006/table">
            <a:tbl>
              <a:tblPr/>
              <a:tblGrid>
                <a:gridCol w="649440"/>
                <a:gridCol w="645840"/>
                <a:gridCol w="648000"/>
                <a:gridCol w="647640"/>
                <a:gridCol w="647640"/>
                <a:gridCol w="649080"/>
                <a:gridCol w="646200"/>
                <a:gridCol w="649440"/>
                <a:gridCol w="649080"/>
                <a:gridCol w="646200"/>
                <a:gridCol w="649440"/>
                <a:gridCol w="647640"/>
                <a:gridCol w="647640"/>
                <a:gridCol w="64944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月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2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合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销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首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潜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104"/>
          <p:cNvSpPr/>
          <p:nvPr/>
        </p:nvSpPr>
        <p:spPr>
          <a:xfrm>
            <a:off x="5435640" y="3724200"/>
            <a:ext cx="35272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网络线索来店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0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市场活动每月不少于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基盘客户活动全年不少于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品牌活动全年不少于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明访市场部分不失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MC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部分得分全国排名前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微信公众平台粉丝超过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00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5"/>
          <p:cNvSpPr/>
          <p:nvPr/>
        </p:nvSpPr>
        <p:spPr>
          <a:xfrm>
            <a:off x="181080" y="37242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标确定依据：全年销量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展厅客流目标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5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批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标题 1"/>
          <p:cNvSpPr/>
          <p:nvPr/>
        </p:nvSpPr>
        <p:spPr>
          <a:xfrm>
            <a:off x="684360" y="1563840"/>
            <a:ext cx="777240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  <a:ea typeface="方正姚体"/>
              </a:rPr>
              <a:t>What can use</a:t>
            </a:r>
            <a:r>
              <a:rPr b="0" lang="zh-CN" sz="4400" spc="-1" strike="noStrike">
                <a:solidFill>
                  <a:srgbClr val="000000"/>
                </a:solidFill>
                <a:latin typeface="Rockwell"/>
                <a:ea typeface="方正姚体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Rockwell"/>
                <a:ea typeface="方正姚体"/>
              </a:rPr>
              <a:t>目标完成可以利用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23840" y="67932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市场费用预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9280" y="1203480"/>
          <a:ext cx="8712360" cy="3794040"/>
        </p:xfrm>
        <a:graphic>
          <a:graphicData uri="http://schemas.openxmlformats.org/drawingml/2006/table">
            <a:tbl>
              <a:tblPr/>
              <a:tblGrid>
                <a:gridCol w="950760"/>
                <a:gridCol w="2622600"/>
                <a:gridCol w="1641600"/>
                <a:gridCol w="3497400"/>
              </a:tblGrid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预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备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物料设计制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促销广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品牌广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网络营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6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汽车之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+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易车网集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市场活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2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车展、基盘客户活动、新车上市活动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售后活动及宣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其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活动用礼品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23840" y="679320"/>
            <a:ext cx="40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市场费用分月预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6360" y="1995480"/>
          <a:ext cx="9051840" cy="1246320"/>
        </p:xfrm>
        <a:graphic>
          <a:graphicData uri="http://schemas.openxmlformats.org/drawingml/2006/table">
            <a:tbl>
              <a:tblPr/>
              <a:tblGrid>
                <a:gridCol w="646200"/>
                <a:gridCol w="646200"/>
                <a:gridCol w="647640"/>
                <a:gridCol w="645840"/>
                <a:gridCol w="646200"/>
                <a:gridCol w="646200"/>
                <a:gridCol w="646200"/>
                <a:gridCol w="647640"/>
                <a:gridCol w="646200"/>
                <a:gridCol w="645840"/>
                <a:gridCol w="646200"/>
                <a:gridCol w="646200"/>
                <a:gridCol w="647640"/>
                <a:gridCol w="64764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  <a:ea typeface="微软雅黑"/>
                        </a:rPr>
                        <a:t>月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5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6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7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9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10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11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Calibri"/>
                          <a:ea typeface="微软雅黑"/>
                        </a:rPr>
                        <a:t>费用预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3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8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82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12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5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6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5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标题 1"/>
          <p:cNvSpPr/>
          <p:nvPr/>
        </p:nvSpPr>
        <p:spPr>
          <a:xfrm>
            <a:off x="684360" y="1779480"/>
            <a:ext cx="77724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What is the way of thinking</a:t>
            </a:r>
            <a:r>
              <a:rPr b="0" lang="en-US" sz="4400" spc="-1" strike="noStrike">
                <a:solidFill>
                  <a:srgbClr val="000000"/>
                </a:solidFill>
                <a:latin typeface="Rockwell"/>
                <a:ea typeface="方正姚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Rockwell"/>
                <a:ea typeface="方正姚体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Rockwell"/>
                <a:ea typeface="方正姚体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Rockwell"/>
                <a:ea typeface="方正姚体"/>
              </a:rPr>
              <a:t>年市场部工作思路是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07:25:00Z</dcterms:created>
  <dc:creator>season</dc:creator>
  <dc:description/>
  <cp:keywords/>
  <dc:language>en-US</dc:language>
  <cp:lastModifiedBy>未知用户</cp:lastModifiedBy>
  <dcterms:modified xsi:type="dcterms:W3CDTF">2016-01-18T07:22:36Z</dcterms:modified>
  <cp:revision>287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