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8D7-2EE9-41CA-86CD-25A74F47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442-5304-4047-A37C-9A95EA8E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A13-3235-4DBF-922A-5D932436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489-25F6-46C4-A189-A653285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25D-8464-468D-BB47-AE896D6F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821-5CB7-4D9C-9FA0-A94C755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437-6632-43F4-A578-B697BD8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3E6-7257-4027-A374-1243446B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C6E-A0B8-4918-9E9F-895B007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658-D0CC-474A-8C8A-074857A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D41-1CE1-4712-A833-E6CAC96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F7A-1D0C-41BF-8356-1217BD5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A49F4-1EBA-4D4B-BCFA-194809BFC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1938240"/>
            <a:ext cx="10080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武汉纺织大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经济学院分团委学生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纪检督学部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5—201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学年第二学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378000" y="249120"/>
            <a:ext cx="93265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457360" y="19335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233360" y="2624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1233360" y="40273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457360" y="33368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684600" y="2624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457360" y="4748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496b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679920" y="4027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496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6245280" y="357660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AutoShape 9"/>
          <p:cNvCxnSpPr>
            <a:stCxn id="49" idx="2"/>
            <a:endCxn id="50" idx="2"/>
          </p:cNvCxnSpPr>
          <p:nvPr/>
        </p:nvCxnSpPr>
        <p:spPr>
          <a:xfrm>
            <a:off x="4427280" y="4678200"/>
            <a:ext cx="18198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 Box 10"/>
          <p:cNvSpPr/>
          <p:nvPr/>
        </p:nvSpPr>
        <p:spPr>
          <a:xfrm>
            <a:off x="720720" y="360360"/>
            <a:ext cx="874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8000"/>
              </a:lnSpc>
              <a:buClr>
                <a:srgbClr val="133563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4800" spc="-1" strike="noStrike">
                <a:solidFill>
                  <a:srgbClr val="133563"/>
                </a:solidFill>
                <a:latin typeface="Arial"/>
              </a:rPr>
              <a:t>纪检督学部准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44360" y="125280"/>
            <a:ext cx="874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>
              <a:lnSpc>
                <a:spcPct val="118000"/>
              </a:lnSpc>
              <a:buClr>
                <a:srgbClr val="133563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800" spc="-1" strike="noStrike">
                <a:solidFill>
                  <a:srgbClr val="133563"/>
                </a:solidFill>
                <a:latin typeface="Arial"/>
              </a:rPr>
              <a:t>工作计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5800" y="1088640"/>
            <a:ext cx="510228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连同各部门做好迎新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好本部门招新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带好干事，做好日常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准备“意翔杯”辩论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好活动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好“寻找身边榜样”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总结经验教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好年终学期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3360" y="2268000"/>
            <a:ext cx="3251160" cy="42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7"/>
          <p:cNvCxnSpPr/>
          <p:nvPr/>
        </p:nvCxnSpPr>
        <p:spPr>
          <a:xfrm flipV="1">
            <a:off x="2184120" y="1418760"/>
            <a:ext cx="196740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直接箭头连接符 9"/>
          <p:cNvCxnSpPr/>
          <p:nvPr/>
        </p:nvCxnSpPr>
        <p:spPr>
          <a:xfrm flipV="1">
            <a:off x="2232000" y="1907280"/>
            <a:ext cx="194544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直接箭头连接符 11"/>
          <p:cNvCxnSpPr/>
          <p:nvPr/>
        </p:nvCxnSpPr>
        <p:spPr>
          <a:xfrm flipV="1">
            <a:off x="2374560" y="2487240"/>
            <a:ext cx="18565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直接箭头连接符 13"/>
          <p:cNvCxnSpPr/>
          <p:nvPr/>
        </p:nvCxnSpPr>
        <p:spPr>
          <a:xfrm flipV="1">
            <a:off x="2448000" y="3131280"/>
            <a:ext cx="177696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直接箭头连接符 15"/>
          <p:cNvCxnSpPr/>
          <p:nvPr/>
        </p:nvCxnSpPr>
        <p:spPr>
          <a:xfrm flipV="1">
            <a:off x="2374920" y="3590640"/>
            <a:ext cx="19677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直接箭头连接符 17"/>
          <p:cNvCxnSpPr/>
          <p:nvPr/>
        </p:nvCxnSpPr>
        <p:spPr>
          <a:xfrm flipV="1">
            <a:off x="2374560" y="4234680"/>
            <a:ext cx="180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直接箭头连接符 19"/>
          <p:cNvCxnSpPr/>
          <p:nvPr/>
        </p:nvCxnSpPr>
        <p:spPr>
          <a:xfrm flipV="1">
            <a:off x="2448000" y="4858920"/>
            <a:ext cx="17769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直接箭头连接符 21"/>
          <p:cNvCxnSpPr/>
          <p:nvPr/>
        </p:nvCxnSpPr>
        <p:spPr>
          <a:xfrm>
            <a:off x="2448000" y="5289120"/>
            <a:ext cx="183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>
            <a:off x="2879640" y="1790640"/>
            <a:ext cx="6429600" cy="43992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晨读点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20720" y="826920"/>
            <a:ext cx="87487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8000"/>
              </a:lnSpc>
              <a:buClr>
                <a:srgbClr val="133563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600" spc="-1" strike="noStrike">
                <a:solidFill>
                  <a:srgbClr val="133563"/>
                </a:solidFill>
                <a:latin typeface="Arial"/>
              </a:rPr>
              <a:t>常规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84360" y="1790640"/>
            <a:ext cx="917640" cy="43992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584360" y="2482920"/>
            <a:ext cx="917640" cy="43956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584360" y="4511520"/>
            <a:ext cx="917640" cy="43992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584360" y="3154320"/>
            <a:ext cx="917640" cy="43812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584360" y="3811680"/>
            <a:ext cx="917640" cy="43956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"/>
          <p:cNvSpPr/>
          <p:nvPr/>
        </p:nvSpPr>
        <p:spPr>
          <a:xfrm>
            <a:off x="2879640" y="3154320"/>
            <a:ext cx="6429600" cy="43812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协助大型活动部早点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"/>
          <p:cNvSpPr/>
          <p:nvPr/>
        </p:nvSpPr>
        <p:spPr>
          <a:xfrm>
            <a:off x="2879640" y="2482920"/>
            <a:ext cx="6429600" cy="43956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课间查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"/>
          <p:cNvSpPr/>
          <p:nvPr/>
        </p:nvSpPr>
        <p:spPr>
          <a:xfrm>
            <a:off x="2879640" y="3811680"/>
            <a:ext cx="6429600" cy="43956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协助宿管会查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"/>
          <p:cNvSpPr/>
          <p:nvPr/>
        </p:nvSpPr>
        <p:spPr>
          <a:xfrm>
            <a:off x="2879640" y="4500720"/>
            <a:ext cx="6429600" cy="43812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学生会成员考勤记录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办公室查班、大型活动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1"/>
          <p:cNvSpPr/>
          <p:nvPr/>
        </p:nvSpPr>
        <p:spPr>
          <a:xfrm>
            <a:off x="720720" y="3249720"/>
            <a:ext cx="2144880" cy="1685880"/>
          </a:xfrm>
          <a:prstGeom prst="ellipse">
            <a:avLst/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拓展部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"/>
          <p:cNvSpPr/>
          <p:nvPr/>
        </p:nvSpPr>
        <p:spPr>
          <a:xfrm>
            <a:off x="3575160" y="3514680"/>
            <a:ext cx="2112840" cy="1168560"/>
          </a:xfrm>
          <a:prstGeom prst="ellipse">
            <a:avLst/>
          </a:prstGeom>
          <a:solidFill>
            <a:srgbClr val="9c7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575160" y="5076720"/>
            <a:ext cx="2112840" cy="1168560"/>
          </a:xfrm>
          <a:prstGeom prst="ellipse">
            <a:avLst/>
          </a:prstGeom>
          <a:solidFill>
            <a:srgbClr val="9c7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3575160" y="1930320"/>
            <a:ext cx="2112840" cy="1168560"/>
          </a:xfrm>
          <a:prstGeom prst="ellipse">
            <a:avLst/>
          </a:prstGeom>
          <a:solidFill>
            <a:srgbClr val="9c7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688000" y="193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新生辩论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6"/>
          <p:cNvCxnSpPr>
            <a:stCxn id="75" idx="7"/>
            <a:endCxn id="78" idx="2"/>
          </p:cNvCxnSpPr>
          <p:nvPr/>
        </p:nvCxnSpPr>
        <p:spPr>
          <a:xfrm flipV="1">
            <a:off x="2550600" y="2514240"/>
            <a:ext cx="102492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7"/>
          <p:cNvCxnSpPr>
            <a:stCxn id="75" idx="5"/>
            <a:endCxn id="77" idx="2"/>
          </p:cNvCxnSpPr>
          <p:nvPr/>
        </p:nvCxnSpPr>
        <p:spPr>
          <a:xfrm>
            <a:off x="2550600" y="4687560"/>
            <a:ext cx="102492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8"/>
          <p:cNvCxnSpPr>
            <a:stCxn id="75" idx="6"/>
          </p:cNvCxnSpPr>
          <p:nvPr/>
        </p:nvCxnSpPr>
        <p:spPr>
          <a:xfrm>
            <a:off x="2865240" y="4092480"/>
            <a:ext cx="710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AutoShape 9"/>
          <p:cNvSpPr/>
          <p:nvPr/>
        </p:nvSpPr>
        <p:spPr>
          <a:xfrm>
            <a:off x="5688000" y="356544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寻找身边的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5688000" y="51274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20720" y="826920"/>
            <a:ext cx="87487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8000"/>
              </a:lnSpc>
              <a:buClr>
                <a:srgbClr val="133563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600" spc="-1" strike="noStrike">
                <a:solidFill>
                  <a:srgbClr val="133563"/>
                </a:solidFill>
                <a:latin typeface="Arial"/>
              </a:rPr>
              <a:t>拓展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209760" y="3213360"/>
            <a:ext cx="65516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谢谢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4535640" y="4356000"/>
            <a:ext cx="183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5-12-31T01:49:53Z</dcterms:modified>
  <cp:revision>5</cp:revision>
  <dc:subject/>
  <dc:title>PowerPoint 演示文稿</dc:title>
</cp:coreProperties>
</file>