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gif" ContentType="image/gif"/>
  <Override PartName="/ppt/media/chimes.wav" ContentType="audio/x-wav"/>
  <Override PartName="/ppt/media/image7.jpeg" ContentType="image/jpe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7DF37-C101-4EF8-8A2E-665CAF46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725E4-EF95-4B34-A663-92ED7E9A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E2ED8-41AA-401E-A90F-B36DF27B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16922-A654-4276-A87B-6C44D425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E20C-9524-4C69-BCD0-456C420B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E9D4-5C7D-4335-867F-60EC5C841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9CF8D-1F18-436E-BF0E-B585652A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C86A-234F-4261-B2F8-40DD6A27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693D-F41F-470A-A46F-8F629431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DD46-6AB5-4AE8-B78C-95154498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60D0-E71B-49A7-A463-77399F568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97FA9-FE18-4F90-B1AD-B59424D9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DBF7-E25C-457B-A63D-3A34DE1F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CEBB1-AA57-4A11-A51E-20619559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069A-9D0E-446E-9869-49311ADB2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A664A-62E1-4872-A88C-8A71D4C2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6515-1588-40BA-84BE-63E447CE5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6AA9F-255C-4B55-A6C6-799989F9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E2E03-59D4-4539-8A8B-2FBA57F4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24A6D-506A-4948-B7BF-8A38352B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EECB5-51FB-432A-98E3-C9D9268D4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DA7B8-3FC6-492B-A52D-EB58DC7A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DA177-FF3A-4563-B46C-BA13F735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FFAD7-3F7C-486A-8C72-67DCBCA8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21F38-1B69-4BD6-91B2-315EAB6A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EFCF6-DA2F-4D44-BC0A-6AB4F6DF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8D67C-8B9E-4EDF-872C-C5F97D05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7740D-B44C-42AD-AC9E-B553D058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23994-A3FE-40A9-9916-9FE0C0EF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72FBB-9F2E-4F0F-8B16-4F5BBF3EB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17CA9-F20E-4AF1-9E90-D5F28F1E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17CE5-7C52-45C5-821D-DC4504B5D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54319-0FD1-47C6-B15C-D7ABC2C0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B57FC-CFC3-4C67-B4D9-63BEDE55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0CC8C-08E0-47D0-B478-5875B4C7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9A787-AC90-41C6-BBE9-F4C6C481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D9F0F-1F05-46C0-9E9F-A1931BC1E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A2A2E-CCEE-4D0B-BB72-E3AB2BE59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80EB3-80F1-4CC4-BA0B-AE2B8480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5460E-9CAB-4B6B-A567-78FAAEFF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C54D9-7DD6-4204-AD98-CE5E3484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0BB30-36E2-48BD-B07F-E30D61394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F4AFD-93A1-4293-842D-25AF9038C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48999-55FE-4B5D-AF68-5BA3B16C0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53648-36ED-4B72-90E0-3C2782D8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F178D-A32A-480D-BA28-434AB93A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86FA73-CD6E-4B8E-B0ED-915301B9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C54E5-5E12-453E-A64F-DC86F1F62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132E9-EDD8-4868-B025-5A756149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AF56E2-ADCB-442E-A1E3-437281F3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79504-A952-4EBF-A3A5-741F8BBF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BEECE-F292-4687-A763-2347C518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89A4E-8096-4B15-90DD-636C73A5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BA6CC-50FD-47E6-8D9C-809E7EAC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1FF50-E269-46D8-84B3-BC344853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7D191-BFD6-48A3-B11C-C0F4A238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26D2F-60DB-4EDD-8808-8CA62004D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0A929-41CB-40C3-B148-5EAB4A26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011B1-25E8-43BD-9E03-4A60E52B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082BC-0FA2-4D39-9A84-E22E7DDC9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D267B-0022-4E8B-96CB-B0D52D8F0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BE210-DE2F-4BB2-A032-7CAD2791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54C65-1636-44EF-9221-CF96904C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846A2-BEF6-4F8E-9158-D17B0F49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D1C9D-2EF5-4378-BD96-9F51A5F4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18345-35D2-41D6-9AD5-D7CE2998B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D8FFB-6FDF-461D-AD75-19F866A2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7393C-A992-43AE-93D9-45BF086F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AB7D01-F44E-4086-B447-482A62D7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1579F-D530-4DF8-BF8A-BCFC8ED3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0995F-7CF1-44FC-BFC4-AAA70687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44A21-3241-458A-B650-C67BDFB4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D5F06-A92C-4110-ACA2-0D7D2E9A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494E0-4DD7-490D-9CC9-1D4B240D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B1F72-8D70-4ABC-8A61-7A49BA0B4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F01F5-FBA7-4B52-80B4-984A4FC5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81CAFE-0FBB-4A6A-B213-9C85FCA9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6C193-7355-4159-B966-527C2FB8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43A08-6EF7-4DD0-94C6-53CF2133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09CA4-DD2B-4861-BA5D-D6669049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61114-A970-4DB8-BBDB-B98800E8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3FB53-6DEC-49B8-AE1A-CEE426B2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5C107-887B-4D38-AF4D-911CCC8A5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C2C85-9600-4C87-877C-0411102E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C06C1-840B-4F7B-8C9A-850C6C97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8D5F2-C10F-4CD3-BE2A-F32E9D85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347C0-9CC5-4BE6-9812-229AE13F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D464BF-C45A-463D-B78B-E69CCCB2F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520DE-729F-46BB-A8E2-D26711EC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97054D-E149-4234-99A5-EE3DBBEAB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88B4AA-6A74-435D-A278-0C8EAB52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F76299-A054-430A-9EF1-74342A50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DC25CE-B66E-4DC9-AE16-3890F528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AC2519-4F92-449F-9E81-EABEA369E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637FFB-2C8B-4626-94B7-4C277BD1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3A10F8-33D5-4093-8C6D-6039A15C2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40EF-7319-4A43-A7E9-761EB7E79E6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64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65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7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68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3A16-45C3-4C4A-BC38-78969A50AED8}" type="slidenum">
              <a:rPr b="1" lang="en-US" sz="26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30E2-682D-4003-A912-B82C66709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53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54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5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6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57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8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9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60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61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62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63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64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6600"/>
                    </a:gs>
                    <a:gs pos="100000">
                      <a:srgbClr val="003366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165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99"/>
                    </a:gs>
                    <a:gs pos="100000">
                      <a:srgbClr val="ff66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66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67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8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>
                      <a:gd name="textAreaLeft" fmla="*/ 0 w 884520"/>
                      <a:gd name="textAreaRight" fmla="*/ 884880 w 88452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9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0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71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>
                      <a:gd name="textAreaLeft" fmla="*/ 0 w 931320"/>
                      <a:gd name="textAreaRight" fmla="*/ 93168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>
                      <a:gd name="textAreaLeft" fmla="*/ 0 w 499680"/>
                      <a:gd name="textAreaRight" fmla="*/ 500040 w 499680"/>
                      <a:gd name="textAreaTop" fmla="*/ 0 h 279360"/>
                      <a:gd name="textAreaBottom" fmla="*/ 279720 h 279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3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74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>
                      <a:gd name="textAreaLeft" fmla="*/ 0 w 890280"/>
                      <a:gd name="textAreaRight" fmla="*/ 89064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>
                      <a:gd name="textAreaLeft" fmla="*/ 0 w 478080"/>
                      <a:gd name="textAreaRight" fmla="*/ 47844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77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>
                      <a:gd name="textAreaLeft" fmla="*/ 0 w 461880"/>
                      <a:gd name="textAreaRight" fmla="*/ 462240 w 46188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9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80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>
                      <a:gd name="textAreaLeft" fmla="*/ 0 w 792720"/>
                      <a:gd name="textAreaRight" fmla="*/ 793080 w 79272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>
                      <a:gd name="textAreaLeft" fmla="*/ 0 w 425880"/>
                      <a:gd name="textAreaRight" fmla="*/ 426240 w 4258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2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83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4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>
                      <a:gd name="textAreaLeft" fmla="*/ 0 w 386640"/>
                      <a:gd name="textAreaRight" fmla="*/ 387000 w 38664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5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86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88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89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1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92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>
                      <a:gd name="textAreaLeft" fmla="*/ -360 w 931320"/>
                      <a:gd name="textAreaRight" fmla="*/ 931320 w 93132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3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4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95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>
                      <a:gd name="textAreaLeft" fmla="*/ 360 w 890640"/>
                      <a:gd name="textAreaRight" fmla="*/ 891360 w 89064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>
                      <a:gd name="textAreaLeft" fmla="*/ 360 w 478080"/>
                      <a:gd name="textAreaRight" fmla="*/ 478800 w 478080"/>
                      <a:gd name="textAreaTop" fmla="*/ 0 h 244080"/>
                      <a:gd name="textAreaBottom" fmla="*/ 244440 h 244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7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98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9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>
                      <a:gd name="textAreaLeft" fmla="*/ -360 w 461880"/>
                      <a:gd name="textAreaRight" fmla="*/ 461880 w 46188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0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01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>
                      <a:gd name="textAreaLeft" fmla="*/ -360 w 792360"/>
                      <a:gd name="textAreaRight" fmla="*/ 792360 w 79236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>
                      <a:gd name="textAreaLeft" fmla="*/ 360 w 425520"/>
                      <a:gd name="textAreaRight" fmla="*/ 426240 w 425520"/>
                      <a:gd name="textAreaTop" fmla="*/ 0 h 249840"/>
                      <a:gd name="textAreaBottom" fmla="*/ 250200 h 2498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3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04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>
                      <a:gd name="textAreaLeft" fmla="*/ -360 w 387000"/>
                      <a:gd name="textAreaRight" fmla="*/ 387000 w 38700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6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07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8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9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10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>
                      <a:gd name="textAreaLeft" fmla="*/ 360 w 632160"/>
                      <a:gd name="textAreaRight" fmla="*/ 632880 w 63216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2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13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>
                      <a:gd name="textAreaLeft" fmla="*/ 360 w 633600"/>
                      <a:gd name="textAreaRight" fmla="*/ 634320 w 63360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4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>
                      <a:gd name="textAreaLeft" fmla="*/ 360 w 339840"/>
                      <a:gd name="textAreaRight" fmla="*/ 340560 w 3398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5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16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>
                      <a:gd name="textAreaLeft" fmla="*/ -360 w 641880"/>
                      <a:gd name="textAreaRight" fmla="*/ 641880 w 64188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7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>
                      <a:gd name="textAreaLeft" fmla="*/ 0 w 345240"/>
                      <a:gd name="textAreaRight" fmla="*/ 345240 w 34524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18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19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09800"/>
                      <a:gd name="textAreaBottom" fmla="*/ 110160 h 1098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>
                      <a:gd name="textAreaLeft" fmla="*/ -360 w 303480"/>
                      <a:gd name="textAreaRight" fmla="*/ 303480 w 30348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1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22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3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>
                      <a:gd name="textAreaLeft" fmla="*/ 360 w 292320"/>
                      <a:gd name="textAreaRight" fmla="*/ 293040 w 292320"/>
                      <a:gd name="textAreaTop" fmla="*/ 0 h 172800"/>
                      <a:gd name="textAreaBottom" fmla="*/ 172800 h 1728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4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25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>
                      <a:gd name="textAreaLeft" fmla="*/ 0 w 632160"/>
                      <a:gd name="textAreaRight" fmla="*/ 632520 w 63216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7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28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520"/>
                      <a:gd name="textAreaBottom" fmla="*/ 110880 h 1105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>
                      <a:gd name="textAreaLeft" fmla="*/ 0 w 339840"/>
                      <a:gd name="textAreaRight" fmla="*/ 340200 w 33984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230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9966"/>
                    </a:gs>
                    <a:gs pos="100000">
                      <a:srgbClr val="ffff99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231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>
                    <a:gd name="textAreaLeft" fmla="*/ 360 w 282240"/>
                    <a:gd name="textAreaRight" fmla="*/ 282960 w 282240"/>
                    <a:gd name="textAreaTop" fmla="*/ 0 h 117720"/>
                    <a:gd name="textAreaBottom" fmla="*/ 118080 h 11772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3366"/>
                    </a:gs>
                    <a:gs pos="100000">
                      <a:srgbClr val="ff996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232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33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>
                      <a:gd name="textAreaLeft" fmla="*/ 0 w 545040"/>
                      <a:gd name="textAreaRight" fmla="*/ 545400 w 545040"/>
                      <a:gd name="textAreaTop" fmla="*/ 0 h 94320"/>
                      <a:gd name="textAreaBottom" fmla="*/ 94680 h 943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>
                      <a:gd name="textAreaLeft" fmla="*/ 0 w 292320"/>
                      <a:gd name="textAreaRight" fmla="*/ 292680 w 292320"/>
                      <a:gd name="textAreaTop" fmla="*/ 0 h 148320"/>
                      <a:gd name="textAreaBottom" fmla="*/ 148680 h 1483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5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36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>
                      <a:gd name="textAreaLeft" fmla="*/ 0 w 592560"/>
                      <a:gd name="textAreaRight" fmla="*/ 592920 w 592560"/>
                      <a:gd name="textAreaTop" fmla="*/ 0 h 138240"/>
                      <a:gd name="textAreaBottom" fmla="*/ 138600 h 1382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>
                      <a:gd name="textAreaLeft" fmla="*/ 0 w 317880"/>
                      <a:gd name="textAreaRight" fmla="*/ 318240 w 317880"/>
                      <a:gd name="textAreaTop" fmla="*/ 0 h 216360"/>
                      <a:gd name="textAreaBottom" fmla="*/ 216720 h 216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39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>
                      <a:gd name="textAreaLeft" fmla="*/ 0 w 488880"/>
                      <a:gd name="textAreaRight" fmla="*/ 489240 w 488880"/>
                      <a:gd name="textAreaTop" fmla="*/ 0 h 43920"/>
                      <a:gd name="textAreaBottom" fmla="*/ 44280 h 43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>
                      <a:gd name="textAreaLeft" fmla="*/ 0 w 262440"/>
                      <a:gd name="textAreaRight" fmla="*/ 262800 w 262440"/>
                      <a:gd name="textAreaTop" fmla="*/ 0 h 69120"/>
                      <a:gd name="textAreaBottom" fmla="*/ 69480 h 691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1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42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>
                      <a:gd name="textAreaLeft" fmla="*/ 360 w 884160"/>
                      <a:gd name="textAreaRight" fmla="*/ 88488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>
                      <a:gd name="textAreaLeft" fmla="*/ -360 w 474120"/>
                      <a:gd name="textAreaRight" fmla="*/ 474120 w 47412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4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45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>
                      <a:gd name="textAreaLeft" fmla="*/ -360 w 818280"/>
                      <a:gd name="textAreaRight" fmla="*/ 818280 w 81828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6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>
                      <a:gd name="textAreaLeft" fmla="*/ 360 w 439200"/>
                      <a:gd name="textAreaRight" fmla="*/ 439920 w 43920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47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48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>
                      <a:gd name="textAreaLeft" fmla="*/ -360 w 785160"/>
                      <a:gd name="textAreaRight" fmla="*/ 785160 w 785160"/>
                      <a:gd name="textAreaTop" fmla="*/ 0 h 144000"/>
                      <a:gd name="textAreaBottom" fmla="*/ 144360 h 144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9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>
                      <a:gd name="textAreaLeft" fmla="*/ 360 w 421200"/>
                      <a:gd name="textAreaRight" fmla="*/ 421920 w 421200"/>
                      <a:gd name="textAreaTop" fmla="*/ 0 h 226440"/>
                      <a:gd name="textAreaBottom" fmla="*/ 226800 h 226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0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51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>
                      <a:gd name="textAreaLeft" fmla="*/ 0 w 884880"/>
                      <a:gd name="textAreaRight" fmla="*/ 885240 w 88488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2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1640"/>
                      <a:gd name="textAreaBottom" fmla="*/ 252000 h 251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3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54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>
                      <a:gd name="textAreaLeft" fmla="*/ 0 w 846720"/>
                      <a:gd name="textAreaRight" fmla="*/ 847080 w 84672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5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6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57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>
                      <a:gd name="textAreaLeft" fmla="*/ 0 w 821160"/>
                      <a:gd name="textAreaRight" fmla="*/ 821520 w 8211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8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>
                      <a:gd name="textAreaLeft" fmla="*/ 0 w 440280"/>
                      <a:gd name="textAreaRight" fmla="*/ 440640 w 44028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59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60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>
                      <a:gd name="textAreaLeft" fmla="*/ 0 w 754920"/>
                      <a:gd name="textAreaRight" fmla="*/ 755280 w 754920"/>
                      <a:gd name="textAreaTop" fmla="*/ 0 h 126000"/>
                      <a:gd name="textAreaBottom" fmla="*/ 126360 h 126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1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>
                      <a:gd name="textAreaLeft" fmla="*/ 0 w 405360"/>
                      <a:gd name="textAreaRight" fmla="*/ 405720 w 405360"/>
                      <a:gd name="textAreaTop" fmla="*/ 0 h 198000"/>
                      <a:gd name="textAreaBottom" fmla="*/ 198360 h 198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62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63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>
                      <a:gd name="textAreaLeft" fmla="*/ 0 w 737640"/>
                      <a:gd name="textAreaRight" fmla="*/ 738000 w 737640"/>
                      <a:gd name="textAreaTop" fmla="*/ 0 h 96480"/>
                      <a:gd name="textAreaBottom" fmla="*/ 96840 h 964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99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4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>
                      <a:gd name="textAreaLeft" fmla="*/ 0 w 395640"/>
                      <a:gd name="textAreaRight" fmla="*/ 396000 w 39564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003366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265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>
                  <a:gd name="textAreaLeft" fmla="*/ 360 w 249840"/>
                  <a:gd name="textAreaRight" fmla="*/ 250560 w 24984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9680"/>
                  <a:gd name="textAreaBottom" fmla="*/ 1220040 h 121968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>
                  <a:gd name="textAreaLeft" fmla="*/ 0 w 515520"/>
                  <a:gd name="textAreaRight" fmla="*/ 515880 w 515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>
                  <a:gd name="textAreaLeft" fmla="*/ 0 w 248400"/>
                  <a:gd name="textAreaRight" fmla="*/ 248760 w 24840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-360 h 429480"/>
                  <a:gd name="textAreaBottom" fmla="*/ 429480 h 429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>
                  <a:gd name="textAreaLeft" fmla="*/ -360 w 948600"/>
                  <a:gd name="textAreaRight" fmla="*/ 948600 w 94860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>
                  <a:gd name="textAreaLeft" fmla="*/ 0 w 391320"/>
                  <a:gd name="textAreaRight" fmla="*/ 391680 w 391320"/>
                  <a:gd name="textAreaTop" fmla="*/ 0 h 1182960"/>
                  <a:gd name="textAreaBottom" fmla="*/ 1183320 h 118296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>
                  <a:gd name="textAreaLeft" fmla="*/ -360 w 556200"/>
                  <a:gd name="textAreaRight" fmla="*/ 556200 w 55620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>
                  <a:gd name="textAreaLeft" fmla="*/ 0 w 778680"/>
                  <a:gd name="textAreaRight" fmla="*/ 779040 w 778680"/>
                  <a:gd name="textAreaTop" fmla="*/ 0 h 548280"/>
                  <a:gd name="textAreaBottom" fmla="*/ 548280 h 5482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5480"/>
                  <a:gd name="textAreaBottom" fmla="*/ 735840 h 7354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>
                  <a:gd name="textAreaLeft" fmla="*/ -360 w 226440"/>
                  <a:gd name="textAreaRight" fmla="*/ 226440 w 22644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C2F7-818B-419B-9CD5-9C3F4FE3EAE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2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81DC-B738-4F56-87D7-06FF78DA6E3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9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9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6699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49A6-A4B0-432A-B695-84D8F2936239}" type="slidenum">
              <a:rPr b="1" lang="en-US" sz="2600" spc="-1" strike="noStrike">
                <a:solidFill>
                  <a:srgbClr val="6699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19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0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21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C851-6E03-4B17-BA31-E51D51A69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9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480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81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ff6600"/>
                  </a:gs>
                  <a:gs pos="100000">
                    <a:srgbClr val="003366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2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99ff"/>
                  </a:gs>
                  <a:gs pos="100000">
                    <a:srgbClr val="ff66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483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484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8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8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6600"/>
                      </a:gs>
                      <a:gs pos="100000">
                        <a:srgbClr val="003366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7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66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488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89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90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1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2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93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4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5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96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7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9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0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01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02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3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04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05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07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08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9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10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11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2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13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14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5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16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17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8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19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20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1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22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23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4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2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26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28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29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0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31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32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3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34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35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6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37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3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9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40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41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42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43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44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45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3366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46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47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48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49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50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51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552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9966"/>
                      </a:gs>
                      <a:gs pos="100000">
                        <a:srgbClr val="ffff99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3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3366"/>
                      </a:gs>
                      <a:gs pos="100000">
                        <a:srgbClr val="ff9966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554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55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56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57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58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59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60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61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62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63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64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65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66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67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68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69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70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ffff99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71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72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73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74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75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76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77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78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79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80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81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82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83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58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85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ff99"/>
                        </a:gs>
                        <a:gs pos="100000">
                          <a:srgbClr val="ff99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86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9966"/>
                        </a:gs>
                        <a:gs pos="100000">
                          <a:srgbClr val="003366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grpSp>
            <p:nvGrpSpPr>
              <p:cNvPr id="587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588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589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0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1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2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3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99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4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ff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5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f99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596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ff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97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598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5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6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0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99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1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f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99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101B-3670-4D8D-91EB-9F75F611D020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294760" cy="4782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Tahoma"/>
              </a:rPr>
              <a:t>感恩母亲</a:t>
            </a:r>
            <a:br>
              <a:rPr sz="8000"/>
            </a:br>
            <a:r>
              <a:rPr b="0" lang="zh-CN" sz="66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——</a:t>
            </a: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妇女节主题班会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                               六年三班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55" name="20100828221805123f8f1a5840a163715cd83b5c2ea713.mp3" descr=""/>
          <p:cNvPicPr/>
          <p:nvPr/>
        </p:nvPicPr>
        <p:blipFill>
          <a:blip r:embed="rId2"/>
          <a:stretch/>
        </p:blipFill>
        <p:spPr>
          <a:xfrm>
            <a:off x="8028000" y="602136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65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65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1904" fill="hold"/>
                                        <p:tgtEl>
                                          <p:spTgt spid="6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结束：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感恩方案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8816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（一） 了解妈妈、长辈对我的爱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问一问妈妈，自己是怎样降临到这个世界上的，妈妈在怀着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的时候我有没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调皮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和全家人一起看看小时候的照片，请爸爸妈妈讲讲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我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小时候的故事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大家说说记忆中父母作出的最让自己感动的事情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（二）了解妈妈、长辈的艰辛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听妈妈讲培养我成长的故事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听妈妈讲他的工作、学习的故事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（三）我们对妈妈、长辈的爱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想想我们对妈妈、长辈做过些什么？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说说还有哪些方面做得还不够，以后有什么打算？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（四）真情回馈、温情行动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为母亲、为奶奶、为外婆倒杯水，捶捶背、洗洗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Arial Black"/>
              </a:rPr>
              <a:t>、 给妈妈做一张画着自己小手的贺卡，写一篇真情酿成的美文，悄悄地放在妈妈的枕头底下！让妈妈感受到其中的甜蜜。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名人 名言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①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人的嘴唇所能发出的最甜美的字眼，就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母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，最美好的呼唤，就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妈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。    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           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—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纪伯伦（黎巴嫩诗人、散文作家、画家）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②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在宽广博大的人生海洋中，母亲的爱就像一座小岛，是避开汹涌波涛的平安宁静之地。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—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莱斯（英国词人）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8280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 ③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成功的时候，谁都是朋友。但只有母亲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，她是失败时的伴侣。           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—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郑振铎（中国文史家）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④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世界上其它一切都是假的、空的，惟有母爱才是真的、永恒的。            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—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普列姆昌德（印度小说家）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⑤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为什么母亲的温柔会感人泪下呢？因为母亲对儿女的操劳是无代价的。    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———</a:t>
            </a:r>
            <a:r>
              <a:rPr b="0" lang="zh-CN" sz="3200" spc="-1" strike="noStrike">
                <a:solidFill>
                  <a:srgbClr val="ffffff"/>
                </a:solidFill>
                <a:latin typeface="Arial Black"/>
              </a:rPr>
              <a:t>铃木健二（日本作家）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" descr="0013"/>
          <p:cNvPicPr/>
          <p:nvPr/>
        </p:nvPicPr>
        <p:blipFill>
          <a:blip r:embed="rId1"/>
          <a:stretch/>
        </p:blipFill>
        <p:spPr>
          <a:xfrm>
            <a:off x="539640" y="40464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zh-CN" sz="8000" spc="-1" strike="noStrike">
                <a:solidFill>
                  <a:srgbClr val="ff0000"/>
                </a:solidFill>
                <a:latin typeface="Arial Black"/>
              </a:rPr>
              <a:t>祝妈妈节日快乐！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79" name="Picture 4" descr="Img200332510431587"/>
          <p:cNvPicPr/>
          <p:nvPr/>
        </p:nvPicPr>
        <p:blipFill>
          <a:blip r:embed="rId2"/>
          <a:stretch/>
        </p:blipFill>
        <p:spPr>
          <a:xfrm>
            <a:off x="685800" y="3429000"/>
            <a:ext cx="2266920" cy="2990880"/>
          </a:xfrm>
          <a:prstGeom prst="rect">
            <a:avLst/>
          </a:prstGeom>
          <a:ln w="0">
            <a:noFill/>
          </a:ln>
        </p:spPr>
      </p:pic>
      <p:pic>
        <p:nvPicPr>
          <p:cNvPr id="680" name="20100828221805123f8f1a5840a163715cd83b5c2ea713.mp3" descr=""/>
          <p:cNvPicPr/>
          <p:nvPr/>
        </p:nvPicPr>
        <p:blipFill>
          <a:blip r:embed="rId3"/>
          <a:stretch/>
        </p:blipFill>
        <p:spPr>
          <a:xfrm>
            <a:off x="7885080" y="5877000"/>
            <a:ext cx="71928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11904" fill="hold"/>
                                        <p:tgtEl>
                                          <p:spTgt spid="6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妇女节又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国际妇女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是世界各国妇女争取和平、平等、发展的节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节期在每年三月八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一个世纪以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各国妇女为争取到这一权利做出了不懈的努力和斗争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WordArt 12"/>
          <p:cNvSpPr txBox="1"/>
          <p:nvPr/>
        </p:nvSpPr>
        <p:spPr>
          <a:xfrm>
            <a:off x="1547640" y="620640"/>
            <a:ext cx="58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黑体"/>
              </a:rPr>
              <a:t>三八妇女节的来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0" y="836280"/>
            <a:ext cx="8964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857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美国纽约的服装和纺织女工举行了一次抗议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反对非人道的工作环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1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小时工作制和低薪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游行者被警察围攻并赶散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两年以后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又是在三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这些妇女组织了第一个工会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0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150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名妇女在纽约市游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要求缩短工作时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提高劳动报酬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享有选举权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禁止使用童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她们提出的口号是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面包和玫瑰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；面包象征经济保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玫瑰象征较好的生活质量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五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美国社会党决定以二月的最后一个星期日做为国内的妇女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4358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10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德国社会学家蔡特金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(ClaraZetkin)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建议为了纪念美国服装工人的罢工应设定一天当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国际妇女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该建议被在哥本哈根召开的国际妇女社会学家会议接受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但并未定出具体日期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17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俄国妇女号召在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罢工以要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面包和和平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抗议恶劣的工作环境和食物短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这天依据俄国使用的儒略历是当月的最后一个星期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折合成欧洲广范使用的格里高历是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日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24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中国共产党在广州召开了第一次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三、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节纪念大会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94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我国中央人民政府作出决定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将三月八日定为妇女节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该日全国妇女放假半天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举行各种仪式的纪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祝庆活动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9152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77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2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联合国采纳了一项决议声明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联合国妇女权益和和平日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在一种的某一天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服从各成员国的历史和传统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对联合国而言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国际妇女节订为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日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且从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75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年开始南非妇女节时间有别于国际妇女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956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日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数百名黑人妇女在比勒陀利亚举行示威游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抗议当局推行种族隔离的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通行证法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新南非政府将这一天定为妇女节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以纪念南非妇女在争取平等斗争中所作的贡献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并将这一天定为全国公假日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从此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每年的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日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南非各地的妇女纷纷举行各种形式的庆祝活动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要求实现男女平等、结束党派冲突与暴力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保证妇女生存权益和反对性骚扰与性犯罪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Tahoma"/>
              </a:rPr>
              <a:t>以消除旧南非种族隔离制度造成的根深蒂固的歧视妇女的影响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2" descr="2289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3" descr="cd"/>
          <p:cNvPicPr/>
          <p:nvPr/>
        </p:nvPicPr>
        <p:blipFill>
          <a:blip r:embed="rId2"/>
          <a:stretch/>
        </p:blipFill>
        <p:spPr>
          <a:xfrm>
            <a:off x="3419640" y="3500280"/>
            <a:ext cx="2857320" cy="298152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4"/>
          <p:cNvSpPr/>
          <p:nvPr/>
        </p:nvSpPr>
        <p:spPr>
          <a:xfrm>
            <a:off x="1676520" y="476280"/>
            <a:ext cx="5775120" cy="1312920"/>
          </a:xfrm>
          <a:prstGeom prst="rect">
            <a:avLst/>
          </a:prstGeom>
          <a:solidFill>
            <a:srgbClr val="e4f8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华文彩云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彩云"/>
              </a:rPr>
              <a:t>父母怎么给你过生日的？你知道父母的生日吗？你给他们过过生日吗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  <p:sndAc>
      <p:stSnd>
        <p:snd r:embed="rId3" name="chimes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2" descr="23454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 txBox="1"/>
          <p:nvPr/>
        </p:nvSpPr>
        <p:spPr>
          <a:xfrm>
            <a:off x="752040" y="1742400"/>
            <a:ext cx="7639920" cy="40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听故事，谈感想。</a:t>
            </a:r>
            <a:br>
              <a:rPr sz="4000"/>
            </a:b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2" descr="217193"/>
          <p:cNvPicPr/>
          <p:nvPr/>
        </p:nvPicPr>
        <p:blipFill>
          <a:blip r:embed="rId1"/>
          <a:stretch/>
        </p:blipFill>
        <p:spPr>
          <a:xfrm>
            <a:off x="0" y="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 txBox="1"/>
          <p:nvPr/>
        </p:nvSpPr>
        <p:spPr>
          <a:xfrm>
            <a:off x="792720" y="609840"/>
            <a:ext cx="7558560" cy="461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讨论：怎样让母亲过一个难忘的三八节？</a:t>
            </a:r>
            <a:br>
              <a:rPr sz="54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AutoShape 4"/>
          <p:cNvSpPr/>
          <p:nvPr/>
        </p:nvSpPr>
        <p:spPr>
          <a:xfrm>
            <a:off x="7620120" y="6019920"/>
            <a:ext cx="838080" cy="53316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3945" h="21600">
                <a:moveTo>
                  <a:pt x="0" y="0"/>
                </a:moveTo>
                <a:lnTo>
                  <a:pt x="33945" y="0"/>
                </a:lnTo>
                <a:lnTo>
                  <a:pt x="33945" y="21600"/>
                </a:lnTo>
                <a:lnTo>
                  <a:pt x="0" y="21600"/>
                </a:lnTo>
                <a:close/>
              </a:path>
              <a:path fill="lightenLess" w="33945" h="21600">
                <a:moveTo>
                  <a:pt x="0" y="0"/>
                </a:moveTo>
                <a:lnTo>
                  <a:pt x="33945" y="0"/>
                </a:lnTo>
                <a:lnTo>
                  <a:pt x="32545" y="1400"/>
                </a:lnTo>
                <a:lnTo>
                  <a:pt x="1400" y="1400"/>
                </a:lnTo>
                <a:close/>
              </a:path>
              <a:path fill="darken" w="33945" h="21600">
                <a:moveTo>
                  <a:pt x="33945" y="0"/>
                </a:moveTo>
                <a:lnTo>
                  <a:pt x="33945" y="21600"/>
                </a:lnTo>
                <a:lnTo>
                  <a:pt x="32545" y="20200"/>
                </a:lnTo>
                <a:lnTo>
                  <a:pt x="32545" y="1400"/>
                </a:lnTo>
                <a:close/>
              </a:path>
              <a:path fill="darkenLess" w="33945" h="21600">
                <a:moveTo>
                  <a:pt x="33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5" y="20200"/>
                </a:lnTo>
                <a:close/>
              </a:path>
              <a:path fill="lighten" w="33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45" h="21600">
                <a:moveTo>
                  <a:pt x="9966" y="7493"/>
                </a:moveTo>
                <a:lnTo>
                  <a:pt x="13474" y="7493"/>
                </a:lnTo>
                <a:lnTo>
                  <a:pt x="13474" y="12828"/>
                </a:lnTo>
                <a:cubicBezTo>
                  <a:pt x="13474" y="13751"/>
                  <a:pt x="14274" y="14482"/>
                  <a:pt x="15310" y="14482"/>
                </a:cubicBezTo>
                <a:lnTo>
                  <a:pt x="16972" y="14482"/>
                </a:lnTo>
                <a:cubicBezTo>
                  <a:pt x="18008" y="14482"/>
                  <a:pt x="18809" y="13751"/>
                  <a:pt x="18809" y="12828"/>
                </a:cubicBezTo>
                <a:lnTo>
                  <a:pt x="18809" y="7493"/>
                </a:lnTo>
                <a:lnTo>
                  <a:pt x="16972" y="7493"/>
                </a:lnTo>
                <a:lnTo>
                  <a:pt x="20480" y="3985"/>
                </a:lnTo>
                <a:lnTo>
                  <a:pt x="24153" y="7493"/>
                </a:lnTo>
                <a:lnTo>
                  <a:pt x="22317" y="7493"/>
                </a:lnTo>
                <a:lnTo>
                  <a:pt x="22317" y="12828"/>
                </a:lnTo>
                <a:cubicBezTo>
                  <a:pt x="22317" y="15596"/>
                  <a:pt x="19740" y="18155"/>
                  <a:pt x="16972" y="18155"/>
                </a:cubicBezTo>
                <a:lnTo>
                  <a:pt x="15310" y="18155"/>
                </a:lnTo>
                <a:cubicBezTo>
                  <a:pt x="12542" y="18155"/>
                  <a:pt x="9966" y="15596"/>
                  <a:pt x="9966" y="12828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2" descr="0013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Arial"/>
              </a:rPr>
              <a:t>讨论：</a:t>
            </a:r>
            <a:r>
              <a:rPr b="0" lang="zh-CN" sz="7200" spc="-1" strike="noStrike">
                <a:solidFill>
                  <a:srgbClr val="ff0000"/>
                </a:solidFill>
                <a:latin typeface="Arial"/>
              </a:rPr>
              <a:t>以后我们该怎样回报父母？</a:t>
            </a:r>
            <a:endParaRPr b="0" lang="en-US" sz="7200" spc="-1" strike="noStrike">
              <a:solidFill>
                <a:srgbClr val="007572"/>
              </a:solidFill>
              <a:latin typeface="Arial"/>
            </a:endParaRPr>
          </a:p>
        </p:txBody>
      </p:sp>
      <p:pic>
        <p:nvPicPr>
          <p:cNvPr id="671" name="Picture 4" descr="Img200332510431587"/>
          <p:cNvPicPr/>
          <p:nvPr/>
        </p:nvPicPr>
        <p:blipFill>
          <a:blip r:embed="rId2"/>
          <a:stretch/>
        </p:blipFill>
        <p:spPr>
          <a:xfrm>
            <a:off x="685800" y="3429000"/>
            <a:ext cx="226692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7T03:17:26Z</dcterms:created>
  <dc:creator>USER</dc:creator>
  <dc:description/>
  <dc:language>en-US</dc:language>
  <cp:lastModifiedBy>Administrator</cp:lastModifiedBy>
  <dcterms:modified xsi:type="dcterms:W3CDTF">2015-03-02T08:57:48Z</dcterms:modified>
  <cp:revision>5</cp:revision>
  <dc:subject/>
  <dc:title>感恩母亲 </dc:title>
</cp:coreProperties>
</file>