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BA0-2D08-4CA0-AAA8-2A411924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75E-309B-4C25-8747-666A9FA4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291-53E0-4C65-BBD7-992E32B6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970-EEC3-4D90-AF8B-A49A30DD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15D-FA8B-47A4-BE6C-B9EAC5DE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94F-FBF7-4F56-AEA2-6B08B4C1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D03-56FA-496B-8ABD-C0E75BF2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037-9C90-4295-A24C-125A4739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7D5-9867-49B7-AF0A-820A73D4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063-5A06-4D04-824A-03E2681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77B-8BFD-496A-A164-F11B7A43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3BF-B556-4A89-B28C-01E56E25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3127-0A9D-48E9-9819-0F2D3AECAA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00280" y="4273560"/>
            <a:ext cx="52866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484488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3500280" y="4844880"/>
            <a:ext cx="2643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000680" y="49878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691920" y="64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1640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711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85488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997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997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763560" y="78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068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426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9979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763560" y="71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212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997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569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763560" y="857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1408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354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5283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63560" y="78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283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63560" y="71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354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068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855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23600" y="64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3547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1711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426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997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63560" y="71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497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926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微软用户</cp:lastModifiedBy>
  <dcterms:modified xsi:type="dcterms:W3CDTF">2014-12-15T08:25:57Z</dcterms:modified>
  <cp:revision>114</cp:revision>
  <dc:subject/>
  <dc:title>幻灯片 1</dc:title>
</cp:coreProperties>
</file>