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DFB-3564-4E61-9C34-0DB741EA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F91-5567-4150-B3C2-7B8F785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5AC-E200-4CDA-8317-59ACFA54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C01-A64F-433F-8A66-49FFB895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E3A-E5C3-4A56-BE33-88115D4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AED-5B56-480D-BB96-4F0D866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64F-1912-4333-853F-53731DD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ABD-1FD1-4366-A516-EB32F3BB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9A0-E0DC-443C-AC9A-6FBEBE9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DFB-89FB-47D1-8B3E-3FDB6AF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BD0-04F8-4B3B-A13A-52D6043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DD1-556E-493A-90B0-602F2AD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BBE-1394-4162-90AC-6DB738880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635280" y="2446200"/>
            <a:ext cx="19638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11120" y="1700280"/>
            <a:ext cx="542124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8800" bIns="22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清明节是农历二十四节气之一，在仲春与暮春之交，也就是冬至后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天。中国汉族传统的清明节大约始于周代，距今已有二千五百多年的历史。《历书》：“春分后十五日，斗指丁，为清明，时万物皆洁齐而清明，盖时当气清景明，万物皆显，因此得名。”清明一到，气温升高，正是春耕春种的大好时节，故有“清明前后，种瓜点豆”之说。清明节是一个祭祀祖先的节日，传统活动为扫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381168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扫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4916160" cy="423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924360" y="1484280"/>
            <a:ext cx="4687920" cy="468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6240" y="5367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92360" y="21747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明节的习俗是丰富有趣的，除了讲究禁火、扫墓，还有踏青、荡秋千、踢蹴鞠、打马球、插柳等一系列风俗体育活动。相传  清明节扫墓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68360" y="2590920"/>
            <a:ext cx="479592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pc</dc:creator>
  <dc:description/>
  <dc:language>en-US</dc:language>
  <cp:lastModifiedBy>admin</cp:lastModifiedBy>
  <dcterms:modified xsi:type="dcterms:W3CDTF">2015-03-30T02:09:33Z</dcterms:modified>
  <cp:revision>111</cp:revision>
  <dc:subject/>
  <dc:title>幻灯片 1</dc:title>
</cp:coreProperties>
</file>