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gif" ContentType="image/gif"/>
  <Override PartName="/ppt/media/image2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22.jpeg" ContentType="image/jpeg"/>
  <Override PartName="/ppt/media/image26.png" ContentType="image/png"/>
  <Override PartName="/ppt/media/image17.jpeg" ContentType="image/jpeg"/>
  <Override PartName="/ppt/media/image23.gif" ContentType="image/gif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C169-F6C4-496B-AB7C-F425F3FF5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BBBB-F983-47C0-9555-7ACD21148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E3F6-CD67-4F05-849B-9F909DDD8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3891-3928-4A55-81BE-0114F3E6A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B921E-795F-4363-A270-283DFFDE7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6A316-E39C-48FE-B606-F541164D8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32ECB-CFD0-4D54-B752-6E11B4CC6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07EEB-4E18-46AB-9657-C307328F9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EBA6A-10B6-4E05-94A1-A79E4586C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64F05-A4F9-405D-853A-48D48D2E4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8797E-FD84-46A3-8878-A7A505E9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3434-6A9B-4085-98D8-337587C82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67518-5D6D-4A83-ABCC-75CAB1F4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8E900-A19B-4C7C-971F-48DE03EF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119B7-60C7-44DD-8B1B-E980FF9BF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7B9C3-38F1-4709-AAAC-C6F1587BE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04BAA-3897-4BC5-94A0-4251C34BA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30C8-A893-41A4-92A0-82607EC81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406F-B716-4DA1-859C-3D08718FB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6AA5-F36B-4670-8D5C-CAD2AEA2B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D3FB-7645-48EB-BE86-C2A79AB0B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0930-8249-4019-B3B6-96500C30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358F-9B2A-48E1-911A-765766B0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C0BE-C042-4F35-93F2-121D7B2D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F807-CCB2-4658-B228-A5B298146AA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0B26F-1D55-45FF-882A-D2AF17F32B2F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00"/>
                </a:solidFill>
                <a:latin typeface="Times New Roman"/>
              </a:rPr>
              <a:t>期末复习主题班会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529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864072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6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24000" y="1188360"/>
            <a:ext cx="8496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</a:t>
            </a:r>
            <a:r>
              <a:rPr b="1" lang="zh-CN" sz="6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苦不苦，想想父母背朝黄天面朝土；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</a:t>
            </a:r>
            <a:r>
              <a:rPr b="1" lang="zh-CN" sz="6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累不累，想想爸妈走南闯北受的罪！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258920" y="404640"/>
            <a:ext cx="7885080" cy="58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332000" y="62064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若你的父母真是其中的一员，你该怎样让常年在外奔波的父母，因你的努力而微笑呢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67120" y="4797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103480" y="1994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213372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面对即将来临的期末考试，你又该如何做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-360" y="115560"/>
            <a:ext cx="8991720" cy="59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755640" y="1413000"/>
            <a:ext cx="7848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  </a:t>
            </a:r>
            <a:r>
              <a:rPr b="1" lang="zh-CN" sz="80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既然我们选择了远方，就只顾风雨兼程！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特别提醒</a:t>
            </a: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58560" y="-360"/>
            <a:ext cx="788508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、在复习阶段一定要注意各科时间上的合理分配，要齐头并进。一花独秀不是春，百花齐放春满园。各科要均衡发展，每门功课都要复习到位，不能对优势学科掉以轻心，也不能对薄弱学科失去信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、效率第一，适可而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能一节课完成的任务，决不拖到下一节。能一分钟做完的事决不用两分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但劳累决不能过度，决不能学到自己头疼时还学。只要是学到感觉要疼，脑子要管了，就要大胆休息，或变换学习科目及方式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40000" y="1989000"/>
            <a:ext cx="568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547640" y="189000"/>
            <a:ext cx="7596360" cy="14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、任何单一的活动持续时间过长，都会引起人的厌倦疲劳，注意力分散，从而降低学习效率。所以要不断变化学习内容和学习方式，避免单科独进，方法单一，使各科内容的交替进行，耳眼口手脑并用，听说读写算并进，学习方式多样化。换新的方式学习新的内容时，对原有的学习来说实质上就是一种休息，这样高效地利用时间，可以更快更好地获取知识。 </a:t>
            </a:r>
            <a:br>
              <a:rPr sz="2800"/>
            </a:b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、心静如水，别浮躁，贵在坚持。要立志把凳子坐穿。我要说，谁坐到最后，谁就会胜利，谁坚持到最后，谁就会成功。快到考试了，连凳子都坐不住，还想得高分？要有任外边翻江蹈海，我自岿然不动的气魄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92240" y="0"/>
            <a:ext cx="89517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2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6</a:t>
            </a:r>
            <a:r>
              <a:rPr b="1" lang="zh-CN" sz="35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、集中精力，心无旁骛。考前时间不很多了，别在计较那些小事，别把心思用在学习之外的事情上。每个同学都要相信自己，顶得住，站得稳，按照学校部署，稳扎稳打，用实际行动去争取本来属于自己的成功。</a:t>
            </a: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请同学们看一组图片。你的父母会身在其中吗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84360" y="33336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你是否知道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9640" y="1557360"/>
            <a:ext cx="87487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你的进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</a:t>
            </a:r>
            <a:r>
              <a:rPr b="1" lang="zh-CN" sz="4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是家长和老师最大的骄傲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3933720"/>
            <a:ext cx="83516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你拼搏的身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</a:t>
            </a:r>
            <a:r>
              <a:rPr b="1" lang="zh-CN" sz="4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是多少人默默关注的目光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0" y="0"/>
            <a:ext cx="9144000" cy="55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是雄鹰就要搏击长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是骏马就要驰骋千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在最后两个星期里</a:t>
            </a:r>
            <a:r>
              <a:rPr b="1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用时间和汗水书写一份满意的答卷</a:t>
            </a:r>
            <a:r>
              <a:rPr b="1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考完试</a:t>
            </a:r>
            <a:r>
              <a:rPr b="1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你可以大声地告诉你父母</a:t>
            </a:r>
            <a:r>
              <a:rPr b="1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你问心无愧</a:t>
            </a:r>
            <a:r>
              <a:rPr b="1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你无愧于这一年的学习</a:t>
            </a:r>
            <a:r>
              <a:rPr b="1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-684360" y="-171360"/>
            <a:ext cx="10296720" cy="73134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-181080" y="260280"/>
            <a:ext cx="873612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们曾用智慧培育理想，曾用汗水浇灌希望，曾经踏过书山坎坷，也曾渡过学海茫茫。我们走过的每一步，都奠定了成功的基石。在今后的日子里，我们还需奋斗，让飞翔的梦在期末考中张开翅膀，让雄心与智慧在期末考中闪光，让期末考试成为我们的一种美丽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40766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</a:rPr>
              <a:t>       </a:t>
            </a:r>
            <a:r>
              <a:rPr b="1" lang="zh-CN" sz="4800" spc="-1" strike="noStrike">
                <a:solidFill>
                  <a:srgbClr val="cc0000"/>
                </a:solidFill>
                <a:latin typeface="Times New Roman"/>
              </a:rPr>
              <a:t>为了父母的微笑，相信自己吧，咱们一定会成功 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-396720" y="-171360"/>
            <a:ext cx="101534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33480"/>
            <a:ext cx="9144000" cy="67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-684360" y="-316080"/>
            <a:ext cx="9828360" cy="71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3T07:24:32Z</dcterms:created>
  <dc:creator>liusibo</dc:creator>
  <dc:description/>
  <dc:language>en-US</dc:language>
  <cp:lastModifiedBy>*</cp:lastModifiedBy>
  <dcterms:modified xsi:type="dcterms:W3CDTF">2012-06-06T05:05:17Z</dcterms:modified>
  <cp:revision>106</cp:revision>
  <dc:subject/>
  <dc:title>几个小故事</dc:title>
</cp:coreProperties>
</file>