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7B2-0240-42E7-A9B4-114D9D0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8C5-8559-4E4E-BB6B-4B2F48D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DA0-4930-473D-B516-AA3064DF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83B-F087-48FA-A04D-450BDD00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06B3-94E4-4109-BB44-D5E5280F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5A9-6C1E-420B-8F05-69B6E90D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A2F2-5DDF-475A-8BA9-3399CED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919E-FCF0-44E8-951B-769BFF9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4871-5955-4A51-8755-71BE50C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3AB5-61E4-4177-8C95-7E92CE0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9E2-03EE-4373-A530-358D045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16F-2864-4D0A-B5BB-31740AB9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7D7-9657-4539-8EE5-8FF2414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A373-E018-4D1C-B36B-FED9F31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25AD-250B-4D4F-B993-E91340D3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4DD4-DAA1-4D79-8F25-59758153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FA06-0D0D-4619-BFFA-A334B95B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FAA-99AA-495E-8E75-E0866FE0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D43-5CD6-40FC-B58C-BEC873C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C7A-1954-4617-82D2-BE0CDE1C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7A9-96F4-49E3-A95B-C3165453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FC6-683A-47F9-ABF6-C561A86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DBB-4475-42B6-A531-42909FC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D34-3998-44A5-8F8F-8E5679C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FCF-2FD5-4532-9F97-88AB9F28894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72E-CFD5-4CC3-9AD4-B01CEE38A75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굴림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cb1fe"/>
                </a:solidFill>
                <a:latin typeface="좋은 귀염둥이빼로"/>
                <a:ea typeface="좋은 귀염둥이빼로"/>
              </a:rPr>
              <a:t> </a:t>
            </a:r>
            <a:r>
              <a:rPr b="1" lang="zh-CN" sz="7200" spc="-1" strike="noStrike">
                <a:solidFill>
                  <a:srgbClr val="5cb1fe"/>
                </a:solidFill>
                <a:latin typeface="좋은 귀염둥이빼로"/>
                <a:ea typeface="좋은 귀염둥이빼로"/>
              </a:rPr>
              <a:t>前台工作职责</a:t>
            </a:r>
            <a:endParaRPr b="1" lang="en-US" sz="7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rot="20496000">
            <a:off x="468360" y="4220640"/>
            <a:ext cx="237636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1280"/>
            <a:ext cx="3781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800" spc="-1" strike="noStrike">
              <a:solidFill>
                <a:srgbClr val="006600"/>
              </a:solidFill>
              <a:latin typeface="Arial"/>
              <a:ea typeface="좋은 귀염둥이빼로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95280" y="1844640"/>
            <a:ext cx="504720" cy="433080"/>
            <a:chOff x="395280" y="1844640"/>
            <a:chExt cx="504720" cy="433080"/>
          </a:xfrm>
        </p:grpSpPr>
        <p:sp>
          <p:nvSpPr>
            <p:cNvPr id="143" name=""/>
            <p:cNvSpPr/>
            <p:nvPr/>
          </p:nvSpPr>
          <p:spPr>
            <a:xfrm>
              <a:off x="424800" y="2094120"/>
              <a:ext cx="445320" cy="18360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1844640"/>
              <a:ext cx="504720" cy="380160"/>
            </a:xfrm>
            <a:prstGeom prst="rect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95280" y="2421000"/>
            <a:ext cx="504720" cy="482040"/>
            <a:chOff x="395280" y="2421000"/>
            <a:chExt cx="504720" cy="482040"/>
          </a:xfrm>
        </p:grpSpPr>
        <p:sp>
          <p:nvSpPr>
            <p:cNvPr id="146" name=""/>
            <p:cNvSpPr/>
            <p:nvPr/>
          </p:nvSpPr>
          <p:spPr>
            <a:xfrm>
              <a:off x="424800" y="2698560"/>
              <a:ext cx="44532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280" y="2421000"/>
              <a:ext cx="504720" cy="42300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ee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71640" y="2205000"/>
            <a:ext cx="77040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95280" y="3068640"/>
            <a:ext cx="504720" cy="431280"/>
            <a:chOff x="395280" y="3068640"/>
            <a:chExt cx="504720" cy="431280"/>
          </a:xfrm>
        </p:grpSpPr>
        <p:sp>
          <p:nvSpPr>
            <p:cNvPr id="150" name=""/>
            <p:cNvSpPr/>
            <p:nvPr/>
          </p:nvSpPr>
          <p:spPr>
            <a:xfrm>
              <a:off x="424800" y="3317040"/>
              <a:ext cx="445320" cy="1828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280" y="3068640"/>
              <a:ext cx="504720" cy="378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71640" y="2276640"/>
            <a:ext cx="7704000" cy="579240"/>
            <a:chOff x="971640" y="2276640"/>
            <a:chExt cx="7704000" cy="579240"/>
          </a:xfrm>
        </p:grpSpPr>
        <p:sp>
          <p:nvSpPr>
            <p:cNvPr id="153" name=""/>
            <p:cNvSpPr/>
            <p:nvPr/>
          </p:nvSpPr>
          <p:spPr>
            <a:xfrm>
              <a:off x="971640" y="28033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4440" y="227664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71640" y="2924280"/>
            <a:ext cx="7704000" cy="579240"/>
            <a:chOff x="971640" y="2924280"/>
            <a:chExt cx="7704000" cy="579240"/>
          </a:xfrm>
        </p:grpSpPr>
        <p:sp>
          <p:nvSpPr>
            <p:cNvPr id="156" name=""/>
            <p:cNvSpPr/>
            <p:nvPr/>
          </p:nvSpPr>
          <p:spPr>
            <a:xfrm>
              <a:off x="971640" y="345096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4440" y="292428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95280" y="3645000"/>
            <a:ext cx="504720" cy="433080"/>
            <a:chOff x="395280" y="3645000"/>
            <a:chExt cx="504720" cy="433080"/>
          </a:xfrm>
        </p:grpSpPr>
        <p:sp>
          <p:nvSpPr>
            <p:cNvPr id="159" name=""/>
            <p:cNvSpPr/>
            <p:nvPr/>
          </p:nvSpPr>
          <p:spPr>
            <a:xfrm>
              <a:off x="424800" y="3894480"/>
              <a:ext cx="445320" cy="18360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5280" y="3645000"/>
              <a:ext cx="504720" cy="380160"/>
            </a:xfrm>
            <a:prstGeom prst="rect">
              <a:avLst/>
            </a:prstGeom>
            <a:solidFill>
              <a:srgbClr val="81f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71640" y="3500280"/>
            <a:ext cx="7704000" cy="581400"/>
            <a:chOff x="971640" y="3500280"/>
            <a:chExt cx="7704000" cy="581400"/>
          </a:xfrm>
        </p:grpSpPr>
        <p:sp>
          <p:nvSpPr>
            <p:cNvPr id="162" name=""/>
            <p:cNvSpPr/>
            <p:nvPr/>
          </p:nvSpPr>
          <p:spPr>
            <a:xfrm>
              <a:off x="971640" y="403200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5880" y="35002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356000" y="1844640"/>
            <a:ext cx="505080" cy="433080"/>
            <a:chOff x="4356000" y="1844640"/>
            <a:chExt cx="505080" cy="433080"/>
          </a:xfrm>
        </p:grpSpPr>
        <p:sp>
          <p:nvSpPr>
            <p:cNvPr id="165" name=""/>
            <p:cNvSpPr/>
            <p:nvPr/>
          </p:nvSpPr>
          <p:spPr>
            <a:xfrm>
              <a:off x="4385520" y="2094120"/>
              <a:ext cx="445680" cy="18360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1844640"/>
              <a:ext cx="505080" cy="380160"/>
            </a:xfrm>
            <a:prstGeom prst="rect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00000" y="4076640"/>
            <a:ext cx="7704360" cy="581400"/>
            <a:chOff x="900000" y="4076640"/>
            <a:chExt cx="7704360" cy="581400"/>
          </a:xfrm>
        </p:grpSpPr>
        <p:sp>
          <p:nvSpPr>
            <p:cNvPr id="168" name=""/>
            <p:cNvSpPr/>
            <p:nvPr/>
          </p:nvSpPr>
          <p:spPr>
            <a:xfrm>
              <a:off x="900000" y="4608360"/>
              <a:ext cx="770436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74960" y="4076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56000" y="2349360"/>
            <a:ext cx="505080" cy="482400"/>
            <a:chOff x="4356000" y="2349360"/>
            <a:chExt cx="505080" cy="482400"/>
          </a:xfrm>
        </p:grpSpPr>
        <p:sp>
          <p:nvSpPr>
            <p:cNvPr id="171" name=""/>
            <p:cNvSpPr/>
            <p:nvPr/>
          </p:nvSpPr>
          <p:spPr>
            <a:xfrm>
              <a:off x="4385520" y="2627280"/>
              <a:ext cx="4456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56000" y="2349360"/>
              <a:ext cx="505080" cy="42336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ee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356000" y="3068640"/>
            <a:ext cx="505080" cy="431280"/>
            <a:chOff x="4356000" y="3068640"/>
            <a:chExt cx="505080" cy="431280"/>
          </a:xfrm>
        </p:grpSpPr>
        <p:sp>
          <p:nvSpPr>
            <p:cNvPr id="174" name=""/>
            <p:cNvSpPr/>
            <p:nvPr/>
          </p:nvSpPr>
          <p:spPr>
            <a:xfrm>
              <a:off x="4385520" y="3317040"/>
              <a:ext cx="445680" cy="1828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3068640"/>
              <a:ext cx="505080" cy="378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71640" y="1844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制作与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242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制度监督与完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99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会议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364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办公用品申领与保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184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卫生监督与处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2349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23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如何整理与保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306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报销单的填写及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表格制作与整理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92000" y="3715920"/>
            <a:ext cx="446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981000"/>
            <a:ext cx="74167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制作人员登记、入职、转正、离职、工作移交表便于在职人员的管理和工作的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制作办公用品申领单、加班单、假条、罚款单、人员去向表等，并在实际工作中加以落实和完善，便于工作的开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制作固定资产登记表便于对公司物品的管理，制作人员考勤表便于对员工上班情况的考察和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制作完成的各类表格，都将按照一定的类别进行分组，分成人员登记组、业务组、公司制度组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制作完成的各类表格，都将打印一份留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rot="18480600">
            <a:off x="1331640" y="3685680"/>
            <a:ext cx="3571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620720" y="2139840"/>
            <a:ext cx="5913720" cy="2308320"/>
            <a:chOff x="1620720" y="2139840"/>
            <a:chExt cx="5913720" cy="2308320"/>
          </a:xfrm>
        </p:grpSpPr>
        <p:sp>
          <p:nvSpPr>
            <p:cNvPr id="189" name=""/>
            <p:cNvSpPr/>
            <p:nvPr/>
          </p:nvSpPr>
          <p:spPr>
            <a:xfrm>
              <a:off x="1620720" y="2219400"/>
              <a:ext cx="209736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437080" y="2219400"/>
              <a:ext cx="209736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56000" y="2139840"/>
              <a:ext cx="625680" cy="230832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430360" y="1125360"/>
            <a:ext cx="4266720" cy="1093320"/>
            <a:chOff x="2430360" y="1125360"/>
            <a:chExt cx="4266720" cy="1093320"/>
          </a:xfrm>
        </p:grpSpPr>
        <p:grpSp>
          <p:nvGrpSpPr>
            <p:cNvPr id="193" name=""/>
            <p:cNvGrpSpPr/>
            <p:nvPr/>
          </p:nvGrpSpPr>
          <p:grpSpPr>
            <a:xfrm>
              <a:off x="2430360" y="1125360"/>
              <a:ext cx="4266720" cy="1093320"/>
              <a:chOff x="2430360" y="1125360"/>
              <a:chExt cx="4266720" cy="1093320"/>
            </a:xfrm>
          </p:grpSpPr>
          <p:sp>
            <p:nvSpPr>
              <p:cNvPr id="194" name=""/>
              <p:cNvSpPr/>
              <p:nvPr/>
            </p:nvSpPr>
            <p:spPr>
              <a:xfrm>
                <a:off x="2430360" y="1125360"/>
                <a:ext cx="4266720" cy="109332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93000" y="1218240"/>
                <a:ext cx="4132440" cy="9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24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32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782800" y="1470960"/>
              <a:ext cx="35575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356480" y="5632200"/>
            <a:ext cx="1320840" cy="532440"/>
            <a:chOff x="1356480" y="5632200"/>
            <a:chExt cx="1320840" cy="532440"/>
          </a:xfrm>
        </p:grpSpPr>
        <p:grpSp>
          <p:nvGrpSpPr>
            <p:cNvPr id="198" name=""/>
            <p:cNvGrpSpPr/>
            <p:nvPr/>
          </p:nvGrpSpPr>
          <p:grpSpPr>
            <a:xfrm>
              <a:off x="1590120" y="5635800"/>
              <a:ext cx="1087200" cy="509040"/>
              <a:chOff x="1590120" y="5635800"/>
              <a:chExt cx="1087200" cy="509040"/>
            </a:xfrm>
          </p:grpSpPr>
          <p:sp>
            <p:nvSpPr>
              <p:cNvPr id="199" name=""/>
              <p:cNvSpPr/>
              <p:nvPr/>
            </p:nvSpPr>
            <p:spPr>
              <a:xfrm flipH="1" flipV="1" rot="3964800">
                <a:off x="2171880" y="5496840"/>
                <a:ext cx="20772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 rot="4780200">
                <a:off x="2049840" y="5546160"/>
                <a:ext cx="20772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 rot="5076000">
                <a:off x="1974960" y="5554440"/>
                <a:ext cx="20772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 rot="5608200">
                <a:off x="1883880" y="5560560"/>
                <a:ext cx="20772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356480" y="5632200"/>
              <a:ext cx="1082520" cy="532440"/>
              <a:chOff x="1356480" y="5632200"/>
              <a:chExt cx="1082520" cy="532440"/>
            </a:xfrm>
          </p:grpSpPr>
          <p:sp>
            <p:nvSpPr>
              <p:cNvPr id="204" name=""/>
              <p:cNvSpPr/>
              <p:nvPr/>
            </p:nvSpPr>
            <p:spPr>
              <a:xfrm flipH="1" flipV="1" rot="5317800">
                <a:off x="1938600" y="5557680"/>
                <a:ext cx="2091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 rot="6133800">
                <a:off x="1809000" y="5555520"/>
                <a:ext cx="2091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 rot="6429000">
                <a:off x="1735560" y="5534640"/>
                <a:ext cx="2091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 rot="6961200">
                <a:off x="1650240" y="5505120"/>
                <a:ext cx="2091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 rot="5400000">
            <a:off x="586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755640" y="3324240"/>
            <a:ext cx="2448000" cy="55404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332136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3492360" y="3324240"/>
            <a:ext cx="2448000" cy="47628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058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9440" y="3324240"/>
            <a:ext cx="2448000" cy="4762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00360" y="141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制度监督与完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400536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制定的公司制度各条各款都将严格按照文件执行，不因私人情绪对任何员工所违规行为包庇或刻意隐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933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针对各部门人员的处罚要及时提醒，不要姑息养奸，处罚与奖励必须得到当事人的确认与签字方可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40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在制度实行过程中如遇到一些现实问题，应及时对制度进行补充和完善，方便日后工作的开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044720" y="2781360"/>
            <a:ext cx="7414560" cy="3456000"/>
            <a:chOff x="1044720" y="2781360"/>
            <a:chExt cx="7414560" cy="3456000"/>
          </a:xfrm>
        </p:grpSpPr>
        <p:sp>
          <p:nvSpPr>
            <p:cNvPr id="222" name=""/>
            <p:cNvSpPr/>
            <p:nvPr/>
          </p:nvSpPr>
          <p:spPr>
            <a:xfrm>
              <a:off x="388440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5072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44720" y="3070080"/>
              <a:ext cx="3311280" cy="28800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4343"/>
                </a:gs>
                <a:gs pos="50000">
                  <a:srgbClr val="ff6161"/>
                </a:gs>
                <a:gs pos="100000">
                  <a:srgbClr val="b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8128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78680" y="2781360"/>
              <a:ext cx="1519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>
              <a:hlinkClick r:id="rId1" action="ppaction://hlinksldjump"/>
            </p:cNvPr>
            <p:cNvSpPr/>
            <p:nvPr/>
          </p:nvSpPr>
          <p:spPr>
            <a:xfrm>
              <a:off x="5074920" y="3070080"/>
              <a:ext cx="3384360" cy="2880000"/>
            </a:xfrm>
            <a:prstGeom prst="roundRect">
              <a:avLst>
                <a:gd name="adj" fmla="val 757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1044720" y="197244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76720" y="198828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2133720"/>
            <a:ext cx="13348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630360"/>
            <a:ext cx="820872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564000" y="198828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667640" y="198828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836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会议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3213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314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会议召开前</a:t>
            </a:r>
            <a:r>
              <a:rPr b="0" lang="en-US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将通知通过邮件和短信方式传达给会议参加人员，并将不能准时参加人员及原因及时上报，做好会议前期准备工作。会议过程中做好会议记录工作，针对重要的会议提案要及时反馈到个人，会后及时整理记录并下发到每个参加会议人员邮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起草公司会议通知，与下发重要文件和会议执行的各项流程。下发之前必须认真检查并与各部门进行详细沟通，避免出现错误与漏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8360" y="549360"/>
            <a:ext cx="532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办公用品申领与保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1557360"/>
            <a:ext cx="813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办公用品统一保管在仓库内，并做好库存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申领办公用品必须由当事人签字方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月月底各部门将次月所需办公用品汇总上报，各部门需要的办公用品要及时申办采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公司固定资产的盘点与维护工作，固定资产有损换要及时申报并修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卫生监督与处罚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472428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79640" y="5950080"/>
            <a:ext cx="651816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357336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4000" y="1989000"/>
            <a:ext cx="1744200" cy="4103640"/>
            <a:chOff x="324000" y="1989000"/>
            <a:chExt cx="1744200" cy="4103640"/>
          </a:xfrm>
        </p:grpSpPr>
        <p:cxnSp>
          <p:nvCxnSpPr>
            <p:cNvPr id="245" name=""/>
            <p:cNvCxnSpPr>
              <a:stCxn id="246" idx="0"/>
              <a:endCxn id="247" idx="0"/>
            </p:cNvCxnSpPr>
            <p:nvPr/>
          </p:nvCxnSpPr>
          <p:spPr>
            <a:xfrm>
              <a:off x="1177920" y="3731760"/>
              <a:ext cx="5040" cy="575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48" name=""/>
            <p:cNvCxnSpPr>
              <a:stCxn id="249" idx="0"/>
              <a:endCxn id="250" idx="0"/>
            </p:cNvCxnSpPr>
            <p:nvPr/>
          </p:nvCxnSpPr>
          <p:spPr>
            <a:xfrm>
              <a:off x="1177920" y="4876920"/>
              <a:ext cx="504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51" name=""/>
            <p:cNvCxnSpPr/>
            <p:nvPr/>
          </p:nvCxnSpPr>
          <p:spPr>
            <a:xfrm>
              <a:off x="1204560" y="2491920"/>
              <a:ext cx="180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252" name=""/>
            <p:cNvGrpSpPr/>
            <p:nvPr/>
          </p:nvGrpSpPr>
          <p:grpSpPr>
            <a:xfrm>
              <a:off x="324000" y="3154320"/>
              <a:ext cx="1717560" cy="2938320"/>
              <a:chOff x="324000" y="3154320"/>
              <a:chExt cx="1717560" cy="293832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324000" y="4307040"/>
                <a:ext cx="1717560" cy="642600"/>
                <a:chOff x="324000" y="4307040"/>
                <a:chExt cx="1717560" cy="6426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25160" y="4677120"/>
                  <a:ext cx="1514880" cy="2725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24000" y="4307040"/>
                  <a:ext cx="171756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deec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24000" y="5457960"/>
                <a:ext cx="1717560" cy="634680"/>
                <a:chOff x="324000" y="5457960"/>
                <a:chExt cx="1717560" cy="6346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5160" y="5823360"/>
                  <a:ext cx="1514880" cy="26928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24000" y="5457960"/>
                  <a:ext cx="171756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d6ebf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4000" y="3154320"/>
                <a:ext cx="1717560" cy="652320"/>
                <a:chOff x="324000" y="3154320"/>
                <a:chExt cx="1717560" cy="6523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160" y="3530160"/>
                  <a:ext cx="1514880" cy="27648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24000" y="3154320"/>
                  <a:ext cx="1717560" cy="57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319"/>
                    </a:gs>
                    <a:gs pos="100000">
                      <a:srgbClr val="fedf8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350640" y="1989000"/>
              <a:ext cx="1717560" cy="652320"/>
              <a:chOff x="350640" y="1989000"/>
              <a:chExt cx="1717560" cy="652320"/>
            </a:xfrm>
          </p:grpSpPr>
          <p:sp>
            <p:nvSpPr>
              <p:cNvPr id="259" name=""/>
              <p:cNvSpPr/>
              <p:nvPr/>
            </p:nvSpPr>
            <p:spPr>
              <a:xfrm>
                <a:off x="451800" y="2364840"/>
                <a:ext cx="1514880" cy="276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0640" y="1989000"/>
                <a:ext cx="1717560" cy="57240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2411280" y="3860640"/>
            <a:ext cx="576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公区域内禁止乱丢果皮纸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公区域内禁止吸烟，发现每次乐捐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40000" y="494172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保持办公环境清洁整齐是每位员工的责任和义务，望各位同事互相监督，为创造美好的办公环境和氛围共同努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763640" y="249228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2060640"/>
            <a:ext cx="59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员工应严格按照值日表进行卫生打扫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0000" y="3141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当天值日人员应保持办公环境一天的清洁与整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资料如何整理与保管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各部门上交的文件都将放在所属部门的文件夹中统一保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根据文件类型，例如业务类、报销类、人员登记变动类等进行分类整理，保管在各自的文件夹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电脑中的资料进行备份，避免丢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将资料进行整理，重要文件分开存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好员工人事档案材料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、完善员工人事档案的管理，严格借档手续，社会保险的投保、申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2195640" y="549360"/>
            <a:ext cx="4266720" cy="1092960"/>
            <a:chOff x="2195640" y="549360"/>
            <a:chExt cx="4266720" cy="1092960"/>
          </a:xfrm>
        </p:grpSpPr>
        <p:grpSp>
          <p:nvGrpSpPr>
            <p:cNvPr id="269" name=""/>
            <p:cNvGrpSpPr/>
            <p:nvPr/>
          </p:nvGrpSpPr>
          <p:grpSpPr>
            <a:xfrm>
              <a:off x="2195640" y="549360"/>
              <a:ext cx="4266720" cy="1092960"/>
              <a:chOff x="2195640" y="549360"/>
              <a:chExt cx="4266720" cy="1092960"/>
            </a:xfrm>
          </p:grpSpPr>
          <p:sp>
            <p:nvSpPr>
              <p:cNvPr id="270" name=""/>
              <p:cNvSpPr/>
              <p:nvPr/>
            </p:nvSpPr>
            <p:spPr>
              <a:xfrm>
                <a:off x="2195640" y="549360"/>
                <a:ext cx="4266720" cy="109296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58280" y="642240"/>
                <a:ext cx="4132440" cy="92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24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32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2548080" y="894600"/>
              <a:ext cx="355752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报销单的填写及报销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971640" y="2637000"/>
            <a:ext cx="7415280" cy="3456000"/>
            <a:chOff x="971640" y="2637000"/>
            <a:chExt cx="7415280" cy="3456000"/>
          </a:xfrm>
        </p:grpSpPr>
        <p:sp>
          <p:nvSpPr>
            <p:cNvPr id="274" name=""/>
            <p:cNvSpPr/>
            <p:nvPr/>
          </p:nvSpPr>
          <p:spPr>
            <a:xfrm>
              <a:off x="3811680" y="2637000"/>
              <a:ext cx="15408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8000" y="2637000"/>
              <a:ext cx="15408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1640" y="2925720"/>
              <a:ext cx="3311640" cy="28800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4343"/>
                </a:gs>
                <a:gs pos="50000">
                  <a:srgbClr val="ff6161"/>
                </a:gs>
                <a:gs pos="100000">
                  <a:srgbClr val="b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08560" y="2637000"/>
              <a:ext cx="15408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05960" y="2637000"/>
              <a:ext cx="15228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>
              <a:hlinkClick r:id="rId1" action="ppaction://hlinksldjump"/>
            </p:cNvPr>
            <p:cNvSpPr/>
            <p:nvPr/>
          </p:nvSpPr>
          <p:spPr>
            <a:xfrm>
              <a:off x="5002200" y="2925720"/>
              <a:ext cx="3384720" cy="28800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4901d"/>
                </a:gs>
                <a:gs pos="50000">
                  <a:srgbClr val="a8d02a"/>
                </a:gs>
                <a:gs pos="100000">
                  <a:srgbClr val="7490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V="1">
            <a:off x="5003640" y="1843920"/>
            <a:ext cx="79236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596360" y="184392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492360" y="184392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971640" y="184392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328464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报销单的填写必须和发票上显示金额一致，不得随意涂改发票及报销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328464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报销发票必须正规，及时上报，得到上级签字后方可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当月帐当月结，不得拖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报销单统一存放，保管在指定文件夹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admin</dc:creator>
  <dc:description/>
  <dc:language>en-US</dc:language>
  <cp:lastModifiedBy>微软用户</cp:lastModifiedBy>
  <dcterms:modified xsi:type="dcterms:W3CDTF">2012-04-19T07:48:52Z</dcterms:modified>
  <cp:revision>75</cp:revision>
  <dc:subject/>
  <dc:title>ThemeGallery PowerTemplate</dc:title>
</cp:coreProperties>
</file>