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F7F4-5ECE-4232-9215-7FA123B4EF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标准字体 渐变色母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53AA-7DDA-4E7E-818A-30387D7D4CD3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页面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77E2-E628-4A60-96FE-FEA83BED8C77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图形的另一组布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D030-7163-48C8-9FB9-DD9C1A35E2DC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DF7F-6AEC-4208-BFDB-7710799F8EE3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E7CC-1F3D-488E-99C5-0C916A007A35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金属字效果与倒影效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6DBF-52C1-426C-8923-6707C33B86F7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abriola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字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8F99-7F2B-445C-B414-BE18C6728708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手写风格的字体 活跃气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C520-2310-4985-B957-7F1EA4E78FBA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正文与副标题字号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4457-44D1-4651-8D5A-61F989EAC267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文字体 微软雅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1760-9164-4170-993D-9EEA29D34887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几个要点与图形出场的效果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8AC5-D51E-4587-BF94-0A4A41FB09A0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形倒影效果的测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73B0-E6E7-4F7F-8C8B-6F2C120E977C}" type="slidenum">
              <a:rPr b="0" lang="zh-CN" sz="1200" spc="-1" strike="noStrike">
                <a:solidFill>
                  <a:srgbClr val="ffffff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e Copies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Color Your Trip Gill Sans M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lor Your Trip Aria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6951600" y="1841400"/>
            <a:ext cx="4592880" cy="63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4187880" y="2206800"/>
            <a:ext cx="4632120" cy="921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The End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谢 聆 听</a:t>
            </a:r>
            <a:endParaRPr b="0" lang="en-US" sz="8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矩形 4" descr=""/>
          <p:cNvPicPr/>
          <p:nvPr/>
        </p:nvPicPr>
        <p:blipFill>
          <a:blip r:embed="rId1"/>
          <a:stretch/>
        </p:blipFill>
        <p:spPr>
          <a:xfrm>
            <a:off x="3297240" y="3809880"/>
            <a:ext cx="64008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abriola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标题 3" descr=""/>
          <p:cNvPicPr/>
          <p:nvPr/>
        </p:nvPicPr>
        <p:blipFill>
          <a:blip r:embed="rId1"/>
          <a:stretch/>
        </p:blipFill>
        <p:spPr>
          <a:xfrm>
            <a:off x="1262160" y="2968560"/>
            <a:ext cx="1047888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Arial"/>
                <a:ea typeface="Arial"/>
              </a:rPr>
              <a:t>Apple Inc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Apple One-Year Limited Hardware Warrant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 念 设 计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 计 前 期 场 地 与 建 筑 方 案 设 计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Apple Everyth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gital Certificat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6" name="图片 3" descr="Brazil  Ipanema Bourbon.png"/>
          <p:cNvPicPr/>
          <p:nvPr/>
        </p:nvPicPr>
        <p:blipFill>
          <a:blip r:embed="rId1"/>
          <a:stretch/>
        </p:blipFill>
        <p:spPr>
          <a:xfrm>
            <a:off x="589284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4" descr="Columbia Marino Supremo.png"/>
          <p:cNvPicPr/>
          <p:nvPr/>
        </p:nvPicPr>
        <p:blipFill>
          <a:blip r:embed="rId2"/>
          <a:stretch/>
        </p:blipFill>
        <p:spPr>
          <a:xfrm>
            <a:off x="7294680" y="3546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5" descr="Mocha Java Decaf.png"/>
          <p:cNvPicPr/>
          <p:nvPr/>
        </p:nvPicPr>
        <p:blipFill>
          <a:blip r:embed="rId3"/>
          <a:stretch/>
        </p:blipFill>
        <p:spPr>
          <a:xfrm>
            <a:off x="873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59" name="图片 6" descr="Bella Vista.png"/>
          <p:cNvPicPr/>
          <p:nvPr/>
        </p:nvPicPr>
        <p:blipFill>
          <a:blip r:embed="rId4"/>
          <a:stretch/>
        </p:blipFill>
        <p:spPr>
          <a:xfrm>
            <a:off x="10174320" y="35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7" descr="Guatemala Antigua.png"/>
          <p:cNvPicPr/>
          <p:nvPr/>
        </p:nvPicPr>
        <p:blipFill>
          <a:blip r:embed="rId5"/>
          <a:stretch/>
        </p:blipFill>
        <p:spPr>
          <a:xfrm>
            <a:off x="5892840" y="50259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8" descr="House Blend Decaf.png"/>
          <p:cNvPicPr/>
          <p:nvPr/>
        </p:nvPicPr>
        <p:blipFill>
          <a:blip r:embed="rId6"/>
          <a:stretch/>
        </p:blipFill>
        <p:spPr>
          <a:xfrm>
            <a:off x="7294680" y="5021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9" descr="Breakfast Blend.png"/>
          <p:cNvPicPr/>
          <p:nvPr/>
        </p:nvPicPr>
        <p:blipFill>
          <a:blip r:embed="rId7"/>
          <a:stretch/>
        </p:blipFill>
        <p:spPr>
          <a:xfrm>
            <a:off x="873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0" descr="Mocha Java.png"/>
          <p:cNvPicPr/>
          <p:nvPr/>
        </p:nvPicPr>
        <p:blipFill>
          <a:blip r:embed="rId8"/>
          <a:stretch/>
        </p:blipFill>
        <p:spPr>
          <a:xfrm>
            <a:off x="10174320" y="5021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1" descr="Serena Organic Blend.png"/>
          <p:cNvPicPr/>
          <p:nvPr/>
        </p:nvPicPr>
        <p:blipFill>
          <a:blip r:embed="rId9"/>
          <a:stretch/>
        </p:blipFill>
        <p:spPr>
          <a:xfrm>
            <a:off x="5896080" y="64659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Shade Grown Decaf.png"/>
          <p:cNvPicPr/>
          <p:nvPr/>
        </p:nvPicPr>
        <p:blipFill>
          <a:blip r:embed="rId10"/>
          <a:stretch/>
        </p:blipFill>
        <p:spPr>
          <a:xfrm>
            <a:off x="7294680" y="6461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" descr="Panama 20La Florentina.png"/>
          <p:cNvPicPr/>
          <p:nvPr/>
        </p:nvPicPr>
        <p:blipFill>
          <a:blip r:embed="rId11"/>
          <a:stretch/>
        </p:blipFill>
        <p:spPr>
          <a:xfrm>
            <a:off x="8734320" y="6461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14" descr="Kona.png"/>
          <p:cNvPicPr/>
          <p:nvPr/>
        </p:nvPicPr>
        <p:blipFill>
          <a:blip r:embed="rId12"/>
          <a:stretch/>
        </p:blipFill>
        <p:spPr>
          <a:xfrm>
            <a:off x="10174320" y="64612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Steve Jobs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License Agree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pple One-Year Limited Hardware Warran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eral Termin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811080" indent="-4935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sent to Use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0" name="图片 5" descr="U2176P2DT20111006080222.jpg"/>
          <p:cNvPicPr/>
          <p:nvPr/>
        </p:nvPicPr>
        <p:blipFill>
          <a:blip r:embed="rId1"/>
          <a:stretch/>
        </p:blipFill>
        <p:spPr>
          <a:xfrm>
            <a:off x="6699240" y="2779560"/>
            <a:ext cx="5065560" cy="714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RL</dc:creator>
  <dc:description/>
  <dc:language>en-US</dc:language>
  <cp:lastModifiedBy>CARL</cp:lastModifiedBy>
  <dcterms:modified xsi:type="dcterms:W3CDTF">2012-01-05T09:15:02Z</dcterms:modified>
  <cp:revision>28</cp:revision>
  <dc:subject/>
  <dc:title>设计前期</dc:title>
</cp:coreProperties>
</file>