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8DDE-D2F2-414F-802D-AEA751EBC99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标准字体 渐变色母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197C-9225-49A2-B932-30763E4DF9A5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图形的页面布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9F14-9F8F-4ED4-A0BA-BEB3F8F20F9F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图形的另一组布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5F9A-5317-433D-98E8-07EAD30FE07C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结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B189-81F5-435E-B092-CFE025E33525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结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D73C-2566-4584-9BF0-5442F54B4E29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金属字效果与倒影效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46EB-C668-4FB9-ACEE-D1E19369C12C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Gabriola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字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D088-DE4D-4D1A-A733-F961A268C366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手写风格的字体 活跃气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A6E4-8163-4186-8A22-BC28962E4157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正文与副标题字号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66A0-1FBA-49B5-A0F2-6EF09270BDA8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文字体 微软雅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26EB-2EF4-4DFE-9507-2DF5214F3D8A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几个要点与图形出场的效果测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879D-A901-425D-A9F4-80AD23F77DA9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形倒影效果的测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670D-CA58-4146-A160-CBFDD37CD0D0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pple Inc.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le Copies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 MT"/>
              </a:rPr>
              <a:t>Color Your Trip Gill Sans M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Color Your Trip Aria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73" name="Picture 3" descr=""/>
          <p:cNvPicPr/>
          <p:nvPr/>
        </p:nvPicPr>
        <p:blipFill>
          <a:blip r:embed="rId1"/>
          <a:stretch/>
        </p:blipFill>
        <p:spPr>
          <a:xfrm>
            <a:off x="6951600" y="1841400"/>
            <a:ext cx="4592880" cy="636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pple Inc.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75" name="Picture 2" descr=""/>
          <p:cNvPicPr/>
          <p:nvPr/>
        </p:nvPicPr>
        <p:blipFill>
          <a:blip r:embed="rId1"/>
          <a:stretch/>
        </p:blipFill>
        <p:spPr>
          <a:xfrm>
            <a:off x="4187880" y="2206800"/>
            <a:ext cx="4632120" cy="921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3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Arial"/>
                <a:ea typeface="Arial"/>
              </a:rPr>
              <a:t>The End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Apple One-Year Limited Hardware Warranty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 谢 聆 听</a:t>
            </a:r>
            <a:endParaRPr b="0" lang="en-US" sz="8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Thank you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矩形 4" descr=""/>
          <p:cNvPicPr/>
          <p:nvPr/>
        </p:nvPicPr>
        <p:blipFill>
          <a:blip r:embed="rId1"/>
          <a:stretch/>
        </p:blipFill>
        <p:spPr>
          <a:xfrm>
            <a:off x="3297240" y="3809880"/>
            <a:ext cx="640080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abriola"/>
              </a:rPr>
              <a:t>Apple Inc.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标题 3" descr=""/>
          <p:cNvPicPr/>
          <p:nvPr/>
        </p:nvPicPr>
        <p:blipFill>
          <a:blip r:embed="rId1"/>
          <a:stretch/>
        </p:blipFill>
        <p:spPr>
          <a:xfrm>
            <a:off x="1262160" y="2968560"/>
            <a:ext cx="10478880" cy="382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Arial"/>
                <a:ea typeface="Arial"/>
              </a:rPr>
              <a:t>Apple Inc.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Apple One-Year Limited Hardware Warranty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概 念 设 计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 计 前 期 场 地 与 建 筑 方 案 设 计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pple Everything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oftware License Agreemen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pple One-Year Limited Hardware Warrant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Digital Certificat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42" name="图片 3" descr="Brazil  Ipanema Bourbon.png"/>
          <p:cNvPicPr/>
          <p:nvPr/>
        </p:nvPicPr>
        <p:blipFill>
          <a:blip r:embed="rId1"/>
          <a:stretch/>
        </p:blipFill>
        <p:spPr>
          <a:xfrm>
            <a:off x="5892840" y="3546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43" name="图片 4" descr="Columbia Marino Supremo.png"/>
          <p:cNvPicPr/>
          <p:nvPr/>
        </p:nvPicPr>
        <p:blipFill>
          <a:blip r:embed="rId2"/>
          <a:stretch/>
        </p:blipFill>
        <p:spPr>
          <a:xfrm>
            <a:off x="7294680" y="35463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44" name="图片 5" descr="Mocha Java Decaf.png"/>
          <p:cNvPicPr/>
          <p:nvPr/>
        </p:nvPicPr>
        <p:blipFill>
          <a:blip r:embed="rId3"/>
          <a:stretch/>
        </p:blipFill>
        <p:spPr>
          <a:xfrm>
            <a:off x="8734320" y="3546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45" name="图片 6" descr="Bella Vista.png"/>
          <p:cNvPicPr/>
          <p:nvPr/>
        </p:nvPicPr>
        <p:blipFill>
          <a:blip r:embed="rId4"/>
          <a:stretch/>
        </p:blipFill>
        <p:spPr>
          <a:xfrm>
            <a:off x="10174320" y="3546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7" descr="Guatemala Antigua.png"/>
          <p:cNvPicPr/>
          <p:nvPr/>
        </p:nvPicPr>
        <p:blipFill>
          <a:blip r:embed="rId5"/>
          <a:stretch/>
        </p:blipFill>
        <p:spPr>
          <a:xfrm>
            <a:off x="5892840" y="50259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8" descr="House Blend Decaf.png"/>
          <p:cNvPicPr/>
          <p:nvPr/>
        </p:nvPicPr>
        <p:blipFill>
          <a:blip r:embed="rId6"/>
          <a:stretch/>
        </p:blipFill>
        <p:spPr>
          <a:xfrm>
            <a:off x="7294680" y="50212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9" descr="Breakfast Blend.png"/>
          <p:cNvPicPr/>
          <p:nvPr/>
        </p:nvPicPr>
        <p:blipFill>
          <a:blip r:embed="rId7"/>
          <a:stretch/>
        </p:blipFill>
        <p:spPr>
          <a:xfrm>
            <a:off x="8734320" y="5021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49" name="图片 10" descr="Mocha Java.png"/>
          <p:cNvPicPr/>
          <p:nvPr/>
        </p:nvPicPr>
        <p:blipFill>
          <a:blip r:embed="rId8"/>
          <a:stretch/>
        </p:blipFill>
        <p:spPr>
          <a:xfrm>
            <a:off x="10174320" y="5021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50" name="图片 11" descr="Serena Organic Blend.png"/>
          <p:cNvPicPr/>
          <p:nvPr/>
        </p:nvPicPr>
        <p:blipFill>
          <a:blip r:embed="rId9"/>
          <a:stretch/>
        </p:blipFill>
        <p:spPr>
          <a:xfrm>
            <a:off x="5896080" y="646596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551" name="图片 12" descr="Shade Grown Decaf.png"/>
          <p:cNvPicPr/>
          <p:nvPr/>
        </p:nvPicPr>
        <p:blipFill>
          <a:blip r:embed="rId10"/>
          <a:stretch/>
        </p:blipFill>
        <p:spPr>
          <a:xfrm>
            <a:off x="7294680" y="646128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552" name="图片 13" descr="Panama 20La Florentina.png"/>
          <p:cNvPicPr/>
          <p:nvPr/>
        </p:nvPicPr>
        <p:blipFill>
          <a:blip r:embed="rId11"/>
          <a:stretch/>
        </p:blipFill>
        <p:spPr>
          <a:xfrm>
            <a:off x="8734320" y="646128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553" name="图片 14" descr="Kona.png"/>
          <p:cNvPicPr/>
          <p:nvPr/>
        </p:nvPicPr>
        <p:blipFill>
          <a:blip r:embed="rId12"/>
          <a:stretch/>
        </p:blipFill>
        <p:spPr>
          <a:xfrm>
            <a:off x="10174320" y="646128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pple Everything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oftware License Agreemen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pple One-Year Limited Hardware Warrant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Digital Certificat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56" name="图片 3" descr="Brazil  Ipanema Bourbon.png"/>
          <p:cNvPicPr/>
          <p:nvPr/>
        </p:nvPicPr>
        <p:blipFill>
          <a:blip r:embed="rId1"/>
          <a:stretch/>
        </p:blipFill>
        <p:spPr>
          <a:xfrm>
            <a:off x="5892840" y="3546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57" name="图片 4" descr="Columbia Marino Supremo.png"/>
          <p:cNvPicPr/>
          <p:nvPr/>
        </p:nvPicPr>
        <p:blipFill>
          <a:blip r:embed="rId2"/>
          <a:stretch/>
        </p:blipFill>
        <p:spPr>
          <a:xfrm>
            <a:off x="7294680" y="35463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58" name="图片 5" descr="Mocha Java Decaf.png"/>
          <p:cNvPicPr/>
          <p:nvPr/>
        </p:nvPicPr>
        <p:blipFill>
          <a:blip r:embed="rId3"/>
          <a:stretch/>
        </p:blipFill>
        <p:spPr>
          <a:xfrm>
            <a:off x="8734320" y="3546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59" name="图片 6" descr="Bella Vista.png"/>
          <p:cNvPicPr/>
          <p:nvPr/>
        </p:nvPicPr>
        <p:blipFill>
          <a:blip r:embed="rId4"/>
          <a:stretch/>
        </p:blipFill>
        <p:spPr>
          <a:xfrm>
            <a:off x="10174320" y="3546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60" name="图片 7" descr="Guatemala Antigua.png"/>
          <p:cNvPicPr/>
          <p:nvPr/>
        </p:nvPicPr>
        <p:blipFill>
          <a:blip r:embed="rId5"/>
          <a:stretch/>
        </p:blipFill>
        <p:spPr>
          <a:xfrm>
            <a:off x="5892840" y="50259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61" name="图片 8" descr="House Blend Decaf.png"/>
          <p:cNvPicPr/>
          <p:nvPr/>
        </p:nvPicPr>
        <p:blipFill>
          <a:blip r:embed="rId6"/>
          <a:stretch/>
        </p:blipFill>
        <p:spPr>
          <a:xfrm>
            <a:off x="7294680" y="50212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9" descr="Breakfast Blend.png"/>
          <p:cNvPicPr/>
          <p:nvPr/>
        </p:nvPicPr>
        <p:blipFill>
          <a:blip r:embed="rId7"/>
          <a:stretch/>
        </p:blipFill>
        <p:spPr>
          <a:xfrm>
            <a:off x="8734320" y="5021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10" descr="Mocha Java.png"/>
          <p:cNvPicPr/>
          <p:nvPr/>
        </p:nvPicPr>
        <p:blipFill>
          <a:blip r:embed="rId8"/>
          <a:stretch/>
        </p:blipFill>
        <p:spPr>
          <a:xfrm>
            <a:off x="10174320" y="5021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64" name="图片 11" descr="Serena Organic Blend.png"/>
          <p:cNvPicPr/>
          <p:nvPr/>
        </p:nvPicPr>
        <p:blipFill>
          <a:blip r:embed="rId9"/>
          <a:stretch/>
        </p:blipFill>
        <p:spPr>
          <a:xfrm>
            <a:off x="5896080" y="646596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565" name="图片 12" descr="Shade Grown Decaf.png"/>
          <p:cNvPicPr/>
          <p:nvPr/>
        </p:nvPicPr>
        <p:blipFill>
          <a:blip r:embed="rId10"/>
          <a:stretch/>
        </p:blipFill>
        <p:spPr>
          <a:xfrm>
            <a:off x="7294680" y="646128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13" descr="Panama 20La Florentina.png"/>
          <p:cNvPicPr/>
          <p:nvPr/>
        </p:nvPicPr>
        <p:blipFill>
          <a:blip r:embed="rId11"/>
          <a:stretch/>
        </p:blipFill>
        <p:spPr>
          <a:xfrm>
            <a:off x="8734320" y="646128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567" name="图片 14" descr="Kona.png"/>
          <p:cNvPicPr/>
          <p:nvPr/>
        </p:nvPicPr>
        <p:blipFill>
          <a:blip r:embed="rId12"/>
          <a:stretch/>
        </p:blipFill>
        <p:spPr>
          <a:xfrm>
            <a:off x="10174320" y="646128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Steve Job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oftware License Agreemen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pple One-Year Limited Hardware Warrant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General Terminat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nsent to Use of Data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70" name="图片 5" descr="U2176P2DT20111006080222.jpg"/>
          <p:cNvPicPr/>
          <p:nvPr/>
        </p:nvPicPr>
        <p:blipFill>
          <a:blip r:embed="rId1"/>
          <a:stretch/>
        </p:blipFill>
        <p:spPr>
          <a:xfrm>
            <a:off x="6699240" y="2779560"/>
            <a:ext cx="5065560" cy="7145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ARL</dc:creator>
  <dc:description/>
  <dc:language>en-US</dc:language>
  <cp:lastModifiedBy>CARL</cp:lastModifiedBy>
  <dcterms:modified xsi:type="dcterms:W3CDTF">2012-01-05T09:15:02Z</dcterms:modified>
  <cp:revision>28</cp:revision>
  <dc:subject/>
  <dc:title>设计前期</dc:title>
</cp:coreProperties>
</file>