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800-EB91-4CD3-8F8F-60CF9315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149-78EE-4B86-8E87-2C25BE84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D07-1A4E-4928-B683-90085C76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DB4-23ED-4C83-906C-35850094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69C-8CDB-4791-8AB7-02CFCBD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59D-7D20-45DE-8A07-13A237D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C2C-B3CF-41B2-8205-7FF9F850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D50-2CD9-4BA7-967A-CACF7EA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BDB-1A99-4500-A845-F71186E9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065-451F-4C7C-B671-A75686F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560-FABC-436D-9CBC-0758BD5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247-0E2B-4E77-9AAA-2E7C5EC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49D-1323-4C38-B719-DDABF69AF9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DC8A-4CE9-48FD-BE03-F93ECA7C72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587-A812-4357-AF7A-272AB4A0CF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F2E-3EFF-4E50-86A0-B860F210E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4AA-B2B0-4C41-A684-1D64DE64A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CFE-8EEF-4D62-8B10-E9BBF59C8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D17-3665-43D2-A222-7EFCB1CFB4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C91-ED5C-4232-A6CA-D665BE313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466-B18C-4F60-9FC5-4B610E335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1:21:00Z</dcterms:created>
  <dc:creator>User</dc:creator>
  <dc:description/>
  <dc:language>en-US</dc:language>
  <cp:lastModifiedBy>User</cp:lastModifiedBy>
  <dcterms:modified xsi:type="dcterms:W3CDTF">2015-12-17T00:56:0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