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608-554E-4423-9659-262FF4A0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282-3E7E-432F-95A9-62F39B0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F2FD7-7053-4AA7-9D73-06CA63F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61A62-63D3-4D1B-8AE9-DCB20850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FC865-70AC-45A4-9E1D-AB608A0D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6B3DC-911D-4D0F-AC13-BCB115D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CF390-79C6-439A-9913-BD91D32A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05985-CFB1-48CE-A826-0760F46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13578-257B-4E56-AF19-1A70233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E875-2498-4CA6-8225-0D462394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34657-A57F-4187-A795-5B1B70D9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84B21-C8E9-4E6F-9D4F-B0516EBC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20D-283E-47F6-876B-80FBE102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CD445-D73A-40AA-978F-87012866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A66C-D8CD-444C-99A4-2DDBFE8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D1B60-755F-4F31-A9BC-47D02E7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4E8D7-F613-4F23-A5E1-5285FCC3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ACA52-D2BF-4869-A24C-4C2FD506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F0069-6183-4FD9-888D-10B89A3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A9F31-6D4D-463E-ADA4-B55A2F4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DD06E-4F76-4F29-A9A5-2BBE2F8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88E8D-1149-4C42-92B5-D9E455C4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67B90-5420-4FCD-9698-F4C748AF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0F3-0D13-4DDD-9BF8-2587EA38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ACAC0-ED61-4169-A6A1-74BF6321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6F8CF-8E04-434B-ADEA-CDFF5D9B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83FF1-002D-4C58-9CE1-5F6F7ACD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137BC-9F42-4C20-946D-AD967E1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BA620-459C-4B38-8261-7064A91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C4749-638F-4308-9ADE-B284FC92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BAA70-4FD7-4546-AC1A-4DB57F1C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BCD31-BEC7-442B-ADFD-021DA977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A71FF-F916-46A3-92E5-BC2F956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7CD18-F85D-4B4C-8BD2-AEA4EA7E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704-DABA-49EB-91A1-527AA216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DCE0F-ED9E-4EB5-A565-E636BA3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072C0-BBAC-4277-989C-210A1F67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2DB2F-F220-46CE-921E-6D076B60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67482-5CBC-49DC-89F2-D53AAD32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DA078-97FC-4078-9103-5EA533BE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4BBC8-EA12-4D26-81B1-356A5C5C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235DC-F2E4-46E7-BE1C-801EA59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C1018-3FB1-4E21-AFDE-4F00D9F4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6A6A6-8C7D-42E2-8806-BAA4558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A5108-D13F-4966-81CB-10C4DAD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DB39-D982-4C22-919F-C994C0DE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CFD7D-0999-4416-95E2-9A312928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F3FD1-474A-4425-AA40-893AD7D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B64B6-EA24-466C-8C79-26FC62C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79EF6-AF12-489D-A9FC-C40190DD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869A-C22C-409E-A503-63CDE6E3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17188-593A-40F4-A7F7-E1AD57E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7369D-849F-4FC3-9B1A-DC9D64B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F54E2-AE08-4FD4-824E-8DB1FFC5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A26B6-22F7-43E8-88DD-3206655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13A80-7A21-4618-8C71-B761F04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413-76B9-432D-B3F1-B18686D6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8864A-B1E0-4C90-AFA3-0C4DF2D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E0331-CCCB-40AA-8944-7E897EC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D399B-082B-4C84-AC3F-AF1BCBD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F0699-3B79-41DA-B359-65DC1233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4F4B2-AEB9-4D9E-B108-4399DE8C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672BD-405C-456B-A258-CC82FDF5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4D4BA-7DE8-4031-9849-A7B7FF74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DB007-6B9C-4D8D-9B8A-420FCCE3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57629-620E-4426-8CEF-4009AFC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94037-A74C-4FCC-BB29-2EA4F55C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CCC-8A81-4F76-B618-6178EAC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F61BB-C647-43E0-B4D7-723DAE8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B97AC-C4AD-44EC-B903-A76CF4B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FBB46-4EDA-4D01-980C-09CA9C6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FCC66-63C7-4D3F-8DDB-12775B4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BF8F2-1C57-4068-B5B4-AFAD296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A2C31-F6C6-4002-8E5E-473C940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597F8-5464-4C7C-BB34-C7352CE6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BE87A-ECFD-403C-B784-B3CC010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FAE92-3CA8-45F8-B3CD-6B15C5CE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6B218-BFAD-4654-972F-613B35DF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36C5-8301-4C89-B978-1E414752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C9CB8-B9C3-464F-BF5F-E77ABFB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BCB37-8615-4D2C-9622-8B2901E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06E05-F8B7-491A-A155-998983F0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B3B5C-A0FF-46F0-872A-91A3A47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96523-F60F-4509-8614-0CFC3400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04046-EF17-4045-AE78-34C03F5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A38A1-4401-4D00-A774-27AA628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CADC4-E44C-47DC-9D33-D601C43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EF6BC-37A4-4BD3-9252-F9974332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5B44D-4214-4AC5-B524-DFFD1A9D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E888-0505-49E2-BDE3-73FE9CBE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E92EE-0E08-4A3D-A7AF-04E28C4A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82E98-D019-4513-B55C-517014C8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FE1A3-A73C-4A16-8BDE-5E13F781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C6D67-0476-48E7-94E8-6AB2AF52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3DDBB-3F79-43E4-A5AC-FDE536B0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711EB-7056-4BC0-973C-B40281AE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A58BE-FDFF-4BD8-BB9C-7986C90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DB323-8E08-491C-A1EE-5680169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E12BB-008F-4C8D-91E6-CAD62D06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18B1D-6998-4378-96D7-4EF87161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4719-6BDD-465E-BCFC-3642FCD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A7452-13C5-42C4-B07A-C4095770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B6138-9EF6-4483-9FF7-8FCA285C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D56D4-DCF4-403D-91A0-69FC815E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A7806-1B9E-4CE2-99AA-32D2D52F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F53AC-BB79-4339-A5F1-8E49D24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BDA7A-718D-4C0F-974D-F0BAD985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FA19D-5937-4010-8466-00F6C17B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1DB32-D571-4764-90EF-2FCF43BC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E85D6-BF55-4542-AFAE-D27C3BED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69E03-074B-4480-B1B5-37518AA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C1E-A25A-458C-BD7F-B97FC871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CC0-5C48-49BE-AA32-8ABB644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3CB7C-0ABF-4625-A56C-AC31803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1B6EF-ACE8-4141-B450-3C03937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1B2D0-8977-431E-9F49-23C84099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6AE0C-4890-4A05-AF9D-443383EA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5F9C3-D3C0-42FB-BADA-41FB0827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9C29B-3A1D-4048-9014-7B2A32A4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88F489-A48A-43A9-A2A4-0DC7C7E5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2E962-25B0-4039-B1DA-C608654F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2A94F-9825-434A-883C-D4F5E90E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EA369-471C-4680-A685-E7CDA9F5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593C-DFC0-4847-B118-9ADAD764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4370B-BA13-4DD8-9721-F73C3320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3E0A2-525B-4917-AA24-B45EAF9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F9CCE-45DD-4EA1-B954-D751E0B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E7A6D-E73B-4F0A-B6F0-7CBC0F7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5B181-62D2-4287-9300-C982779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84C14-7101-482F-A89E-0C2B049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7D171-E7A8-4CA4-A41C-29AF3DAE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0C82A-5FA6-4E3E-94C8-1450262A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358A7-5DCE-457A-82F8-8DC82E9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4437F-D90D-47F4-AFFC-8F75529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9F9E-3A4E-4797-8AA1-16DCC554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B5CE9-5F99-4A57-A222-14ED20C7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A1CD1-5454-4368-9557-E42F4838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B386E7-B461-4435-BD42-C3B6554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54D97-7E2B-4C20-9F1D-EF47A05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3587A-FFDA-4510-AE83-57B2B23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A56A1-7953-4D36-9F08-2A7550A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8F38B-F3DF-4C66-A055-5A1CDFD3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D258B-1953-494A-98AA-273E4701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61B7F-E28E-4D46-A912-2E0B9727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BE3E0-EF88-44DD-8A76-D7840FF5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A1F-9D6F-4A37-913C-AFE831DA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159BF-CE1C-46D0-BDA0-C4F138B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24171-700A-415D-A3D4-83CE344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0FCA0-F397-460D-B7E6-E049573A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4063E-2C13-4636-8FAD-43916986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8C9FD-E2BF-4119-A71C-7348AD30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356CD-A338-4C28-A0C8-819A55E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80EF6-564E-4369-88B2-37F3783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26D0D-04BE-475D-B7AB-E0501FAB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9746F-8521-435E-A6B0-A1D9BF7B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8A619-99AF-4C2B-A428-464D4344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A50D-3247-444F-AB7B-384825D8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F5E5E-012F-4AE0-ADA6-31D1E86D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46825C-85E1-4926-AECD-5840B6E0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36B80-8CE4-4CB4-A269-4DACA845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D0841-BEF8-4985-9AF4-5AA5AE3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A70F4-E541-4869-8F30-940FF95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9D5A2-1F71-4389-BD3D-B17CD366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ABD98-25A9-449E-BD7D-808BB730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48C6A-E173-4579-9ECE-3C0F81D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85F43-2D1C-4E8A-992B-465E781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59D37-3B49-4605-B2B1-F2BCEBB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306D-DCDA-4048-A632-9C4D5F4F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68FCB8-8886-4481-B2DD-8DB88F66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7A628-13BA-4C2F-913A-5C9C486F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E6482-19CA-4366-84F4-78AC1B61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292DD-ADF0-4A2E-BA08-539C1E09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2452D1-A397-416D-97DC-5E5EDF7D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727CB6-2AC0-46FE-B6C3-FC867AB1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1C8A4-936B-4F72-8BEE-3B99F422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BC0F2-7384-4248-BAC8-A219BE0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DCA5FA-6DE0-4750-BA31-9420104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A5D29-1D50-472E-96EC-AE96E67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4EC3-2210-41BE-BEA6-A913F50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270E9A-3627-434C-B7FD-7083397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83288-AAF6-4E12-9620-6D87E60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C5C75-72E9-4FF9-B6A8-44B9D34E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356483-ED8E-426A-BD6F-692B6250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4B5BD-6A0C-4DB2-9405-1BC0CB9A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D7D806-33E4-4149-B5E0-044E0999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90524-9CC7-4A2B-AF70-3BA3A0C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8274D-1838-4DD5-8A75-ED13090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8C94A-6E3E-4CC5-89AC-D4A0F616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C7838C-D973-40CE-A2B2-229FD754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59F8-D9F0-496F-A1E6-DAF535E1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B0FED-8A9C-41C5-A2B3-DBF6456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5EFF33-299E-415B-B8C1-33CF738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14757-7189-4722-840B-95406B7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DAF7C-EFF8-477D-A39D-C9EE9D1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C15B0-6D3E-4E0F-9F8D-22F6538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9F93E-38CB-4968-B9DE-909B3977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A1322-3FC4-4020-888E-19A0F9AA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BFBD0E-AF57-4BE9-9838-64B6BCA0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9D06B0-B3C4-4F32-A2AD-95ECC4E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40944D-053E-470F-A2BD-8CB054A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319B-6AD9-4C6C-ADC5-5FACA635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5D145-36E3-4955-9937-EDCE1D2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40DB54-083D-453C-970C-8DFB546E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E7CF7E-519D-4D1C-8137-0D5BFD4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9BA234-1EDD-473B-A8F3-05ADDB9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875180-4E67-44A0-853A-E6DCB1F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14D558-3FB5-496D-B4D1-8102325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BFEDF8-B0B1-4A74-8C78-5851A497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3467E0-6991-428D-8975-FF3C7927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831EA7-B095-4E2E-A75C-7DC1D953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E121-6E0A-4303-94C3-3BE669B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0F6-1021-46E8-A570-B3F1835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7791-AD27-4BA7-87C9-BE798A92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17BE-1287-4BBB-93BE-5C04499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ECAF-6D3D-4C12-861C-2A96649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E828-B517-44BA-89D6-B8800E9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8E48-4E2E-43DA-82A9-4169D5B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E036-CB27-453D-9E1E-286DC097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3F5D-7DE8-48A6-9596-6FAB9C5C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E3D0-C6B7-4F78-8704-1A15A14F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89CBA-C17A-4FCC-BE5E-24104D8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C6B56-27EB-4212-8ACA-6F4B40F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754-5ED3-4D4B-95FB-219F341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0607-C800-4F34-9BE9-37DC634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BF9B-9A31-4AB2-A556-7733A1AA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2FDF-D645-4B1E-AE9A-10FDE69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5079-F0E4-440F-ABA9-FEA3C16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A1D6-D060-4AA5-B495-338ECC7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F73F-5A7A-49C7-9344-69B8E82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8F6A-C7D8-4D08-A079-4EC031A7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4D1F-EAF4-4935-8150-5E7C1B59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3C78C-CEE0-4DC5-8961-B4841D14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A107A-2C83-4498-BF77-DB8AF764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F50-1A93-4C11-8319-B1959FD5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1AAF4-ADF4-41BC-A39C-E7F82FEF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48E8-2803-4E23-83EF-B385E6A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6F54-6752-4565-AC72-6402019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7646-B2B8-4873-8963-DC7E9905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1280-D4CF-4372-96C4-B5BC77D3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0198D-3538-4B1D-A520-B3EF3FC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5697-10A4-4FD5-9456-A0E82A87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7028-222C-42AB-8718-F46B393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5DBB-0781-40AF-8BC5-9FD6256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0C23-130F-4F4E-9F79-BC2E6B51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408-B50D-4165-AF50-52CD306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40E9-F1AB-40E1-BF4F-685D98FE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5A012-81C5-4A07-8A18-000B236F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F0964-0A59-448B-A850-2BBB870A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F000-7972-4488-A646-2AB6515B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0C0A-2761-4936-8AC1-5082E15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667AC-A4ED-47A6-8129-0588B47B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0869-7B52-4EB0-9E24-B56B8D91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ABAB-2F82-423F-8393-3023EA1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E663C-3E7E-4F3D-920E-C361EA1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AB62F-C8C8-4F14-9077-8A55569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561-9EFB-4D44-BEF1-2EAD809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54CB-A30D-45F8-A133-DCC603E4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41CD-67D6-46A2-BB8E-E42CD786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26522-9B8F-4EA5-B41A-476E736E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CAE8A-695E-4335-A675-E4B10048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5809-D30B-41F8-B5A5-792B7644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D4FF2-4D95-4D34-BF7A-F409894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0319-8725-4680-9A02-82F2DF4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4661-096F-45E9-A675-5EEBED4B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23C8-3B35-401E-A887-E38F135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D4AF-8944-466D-85A3-23E8CD7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0CC-9433-4749-88DB-EF319C6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C113-AA52-488C-889E-3368A58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E12D2-0039-40AA-BF94-5F95987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5C8E0-F8EA-4269-B82C-E83B5470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FAF63-D19D-4334-B55E-11161A16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19799-D7A2-4974-85D6-CC0D5DC3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C666-C1F3-448D-8630-0C643F46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BD086-C20E-4624-B498-33AD4D7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BA901-B3C1-42F5-9E2E-96A26FA3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384B-329C-4CC6-9BBA-6C074768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02CD8-7A1F-4339-A990-2F2C5E1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3A6-8353-4556-A67A-BE9EE30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81CC2-2031-47BD-9241-3B1AD103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25D70-92AF-48DF-B521-3ACAAA6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DD705-8AB0-4A40-8D0C-F1651B3C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3F61-61D4-4139-B12B-92F5122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796F2-724A-4DFE-BD80-DC418AB1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F65B1-8A14-4E3E-B0A2-47B27B92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A11C3-7BFA-40AB-8466-90068D63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1F33-9A16-41C8-A73D-02DA98D2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03F7-9087-4BBB-B6C5-F43CED7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643A8-F8D7-4896-8E9D-8B417E8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FB0-04BF-4C13-8ACF-AE1E37132A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0488-036E-4B9D-98F1-B6C28CA7CE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D88-5B8E-4D62-A1DF-029814E7FB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7B9D-2221-4B52-AAB8-D7EA7CCC72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E138-42B5-434A-A488-73FDF75B05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73D-EE3D-4906-B780-DD7343031B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AE76-389C-4C0E-81DB-5BEC9D7F1C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2FED-47A5-4971-9EA4-156DF9220E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CC4-71A2-46E5-B58A-68395411F4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CD43-BA4E-4BF1-9531-EEB5244044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1EF6-5D65-4AA0-9290-0315528599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048-D389-4359-AD0F-5708BCB37B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E3D4-ECF4-49E4-839E-D66644FC04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FF2C-4743-4329-8C49-8A519BF9F6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BF47-7871-4766-93E8-1B9C76E10F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31F-DD02-4E5B-900B-52BEF61ADD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FAB3-066D-4A03-BE94-DCA0C900BF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B2A9-2E51-4009-945B-B41D0CF41D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C32E-B0BA-4836-BB8F-1730DA2879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CE05-55AB-4349-B3D9-589BBAE341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2E1-D4E3-49BD-9588-FC3C78CEC7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A461-8456-48D3-A465-60FAFFDD7B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69B-13B6-4F26-839E-A92F8E316B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F087-1D3A-430D-9790-69BAFD9F0C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1.png"/><Relationship Id="rId38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2" descr=""/>
          <p:cNvPicPr/>
          <p:nvPr/>
        </p:nvPicPr>
        <p:blipFill>
          <a:blip r:embed="rId1"/>
          <a:stretch/>
        </p:blipFill>
        <p:spPr>
          <a:xfrm>
            <a:off x="615960" y="719280"/>
            <a:ext cx="10960200" cy="5637240"/>
          </a:xfrm>
          <a:prstGeom prst="rect">
            <a:avLst/>
          </a:prstGeom>
          <a:ln w="0">
            <a:noFill/>
          </a:ln>
        </p:spPr>
      </p:pic>
      <p:sp>
        <p:nvSpPr>
          <p:cNvPr id="985" name="矩形 9"/>
          <p:cNvSpPr/>
          <p:nvPr/>
        </p:nvSpPr>
        <p:spPr>
          <a:xfrm>
            <a:off x="7101000" y="5624640"/>
            <a:ext cx="1114200" cy="446040"/>
          </a:xfrm>
          <a:prstGeom prst="rect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11"/>
          <p:cNvSpPr/>
          <p:nvPr/>
        </p:nvSpPr>
        <p:spPr>
          <a:xfrm>
            <a:off x="5329080" y="1357200"/>
            <a:ext cx="1204920" cy="609840"/>
          </a:xfrm>
          <a:prstGeom prst="rect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3" descr=""/>
          <p:cNvPicPr/>
          <p:nvPr/>
        </p:nvPicPr>
        <p:blipFill>
          <a:blip r:embed="rId2"/>
          <a:stretch/>
        </p:blipFill>
        <p:spPr>
          <a:xfrm>
            <a:off x="5397480" y="1042920"/>
            <a:ext cx="1136520" cy="1608120"/>
          </a:xfrm>
          <a:prstGeom prst="rect">
            <a:avLst/>
          </a:prstGeom>
          <a:ln w="0">
            <a:noFill/>
          </a:ln>
        </p:spPr>
      </p:pic>
      <p:sp>
        <p:nvSpPr>
          <p:cNvPr id="988" name="矩形 14"/>
          <p:cNvSpPr/>
          <p:nvPr/>
        </p:nvSpPr>
        <p:spPr>
          <a:xfrm>
            <a:off x="266760" y="6700680"/>
            <a:ext cx="12192120" cy="127080"/>
          </a:xfrm>
          <a:prstGeom prst="rect">
            <a:avLst/>
          </a:prstGeom>
          <a:solidFill>
            <a:srgbClr val="ff64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5018760" y="4344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年终总结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灯片编号占位符 5"/>
          <p:cNvSpPr/>
          <p:nvPr/>
        </p:nvSpPr>
        <p:spPr>
          <a:xfrm>
            <a:off x="7250040" y="591804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3CD2-B91E-4B8A-A277-D630527D17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Group 42" descr=""/>
          <p:cNvPicPr/>
          <p:nvPr/>
        </p:nvPicPr>
        <p:blipFill>
          <a:blip r:embed="rId1"/>
          <a:stretch/>
        </p:blipFill>
        <p:spPr>
          <a:xfrm>
            <a:off x="2308320" y="2387520"/>
            <a:ext cx="2279520" cy="695520"/>
          </a:xfrm>
          <a:prstGeom prst="rect">
            <a:avLst/>
          </a:prstGeom>
          <a:ln w="0">
            <a:noFill/>
          </a:ln>
        </p:spPr>
      </p:pic>
      <p:pic>
        <p:nvPicPr>
          <p:cNvPr id="1204" name="Group 46" descr=""/>
          <p:cNvPicPr/>
          <p:nvPr/>
        </p:nvPicPr>
        <p:blipFill>
          <a:blip r:embed="rId2"/>
          <a:stretch/>
        </p:blipFill>
        <p:spPr>
          <a:xfrm>
            <a:off x="1908000" y="3181320"/>
            <a:ext cx="3108600" cy="647640"/>
          </a:xfrm>
          <a:prstGeom prst="rect">
            <a:avLst/>
          </a:prstGeom>
          <a:ln w="0">
            <a:noFill/>
          </a:ln>
        </p:spPr>
      </p:pic>
      <p:pic>
        <p:nvPicPr>
          <p:cNvPr id="1205" name="Group 50" descr=""/>
          <p:cNvPicPr/>
          <p:nvPr/>
        </p:nvPicPr>
        <p:blipFill>
          <a:blip r:embed="rId3"/>
          <a:stretch/>
        </p:blipFill>
        <p:spPr>
          <a:xfrm>
            <a:off x="1616040" y="3786120"/>
            <a:ext cx="3200400" cy="646200"/>
          </a:xfrm>
          <a:prstGeom prst="rect">
            <a:avLst/>
          </a:prstGeom>
          <a:ln w="0">
            <a:noFill/>
          </a:ln>
        </p:spPr>
      </p:pic>
      <p:pic>
        <p:nvPicPr>
          <p:cNvPr id="1206" name="Group 54" descr=""/>
          <p:cNvPicPr/>
          <p:nvPr/>
        </p:nvPicPr>
        <p:blipFill>
          <a:blip r:embed="rId4"/>
          <a:stretch/>
        </p:blipFill>
        <p:spPr>
          <a:xfrm>
            <a:off x="1163520" y="4370400"/>
            <a:ext cx="3348000" cy="7016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4" descr="I:\f\PPT库\剪影人物\191.png"/>
          <p:cNvPicPr/>
          <p:nvPr/>
        </p:nvPicPr>
        <p:blipFill>
          <a:blip r:embed="rId5"/>
          <a:stretch/>
        </p:blipFill>
        <p:spPr>
          <a:xfrm>
            <a:off x="5118120" y="4633920"/>
            <a:ext cx="295200" cy="992160"/>
          </a:xfrm>
          <a:prstGeom prst="rect">
            <a:avLst/>
          </a:prstGeom>
          <a:ln w="0">
            <a:noFill/>
          </a:ln>
        </p:spPr>
      </p:pic>
      <p:grpSp>
        <p:nvGrpSpPr>
          <p:cNvPr id="1208" name="Group 59"/>
          <p:cNvGrpSpPr/>
          <p:nvPr/>
        </p:nvGrpSpPr>
        <p:grpSpPr>
          <a:xfrm>
            <a:off x="6818400" y="4556160"/>
            <a:ext cx="785520" cy="1026720"/>
            <a:chOff x="6818400" y="4556160"/>
            <a:chExt cx="785520" cy="1026720"/>
          </a:xfrm>
        </p:grpSpPr>
        <p:pic>
          <p:nvPicPr>
            <p:cNvPr id="1209" name="Picture 2" descr="I:\f\PPT库\剪影人物\16.png"/>
            <p:cNvPicPr/>
            <p:nvPr/>
          </p:nvPicPr>
          <p:blipFill>
            <a:blip r:embed="rId6"/>
            <a:srcRect l="0" t="0" r="0" b="18963"/>
            <a:stretch/>
          </p:blipFill>
          <p:spPr>
            <a:xfrm>
              <a:off x="7095600" y="45561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2" descr="I:\f\PPT库\剪影人物\16.png"/>
            <p:cNvPicPr/>
            <p:nvPr/>
          </p:nvPicPr>
          <p:blipFill>
            <a:blip r:embed="rId7"/>
            <a:srcRect l="0" t="0" r="0" b="18963"/>
            <a:stretch/>
          </p:blipFill>
          <p:spPr>
            <a:xfrm>
              <a:off x="6974280" y="479988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2" descr="I:\f\PPT库\剪影人物\16.png"/>
            <p:cNvPicPr/>
            <p:nvPr/>
          </p:nvPicPr>
          <p:blipFill>
            <a:blip r:embed="rId8"/>
            <a:srcRect l="0" t="0" r="0" b="18963"/>
            <a:stretch/>
          </p:blipFill>
          <p:spPr>
            <a:xfrm>
              <a:off x="7218000" y="482004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2" descr="I:\f\PPT库\剪影人物\16.png"/>
            <p:cNvPicPr/>
            <p:nvPr/>
          </p:nvPicPr>
          <p:blipFill>
            <a:blip r:embed="rId9"/>
            <a:srcRect l="0" t="0" r="0" b="18963"/>
            <a:stretch/>
          </p:blipFill>
          <p:spPr>
            <a:xfrm>
              <a:off x="6818400" y="5162760"/>
              <a:ext cx="22824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Picture 2" descr="I:\f\PPT库\剪影人物\16.png"/>
            <p:cNvPicPr/>
            <p:nvPr/>
          </p:nvPicPr>
          <p:blipFill>
            <a:blip r:embed="rId10"/>
            <a:srcRect l="0" t="0" r="0" b="18963"/>
            <a:stretch/>
          </p:blipFill>
          <p:spPr>
            <a:xfrm>
              <a:off x="7085520" y="517104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Picture 2" descr="I:\f\PPT库\剪影人物\16.png"/>
            <p:cNvPicPr/>
            <p:nvPr/>
          </p:nvPicPr>
          <p:blipFill>
            <a:blip r:embed="rId11"/>
            <a:srcRect l="0" t="0" r="0" b="18963"/>
            <a:stretch/>
          </p:blipFill>
          <p:spPr>
            <a:xfrm>
              <a:off x="7376040" y="5167440"/>
              <a:ext cx="227880" cy="41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5" name="Group 66"/>
          <p:cNvGrpSpPr/>
          <p:nvPr/>
        </p:nvGrpSpPr>
        <p:grpSpPr>
          <a:xfrm>
            <a:off x="8966160" y="4276800"/>
            <a:ext cx="1619280" cy="1415880"/>
            <a:chOff x="8966160" y="4276800"/>
            <a:chExt cx="1619280" cy="1415880"/>
          </a:xfrm>
        </p:grpSpPr>
        <p:pic>
          <p:nvPicPr>
            <p:cNvPr id="1216" name="Picture 2" descr="I:\f\PPT库\剪影人物\16.png"/>
            <p:cNvPicPr/>
            <p:nvPr/>
          </p:nvPicPr>
          <p:blipFill>
            <a:blip r:embed="rId12"/>
            <a:srcRect l="0" t="0" r="0" b="18963"/>
            <a:stretch/>
          </p:blipFill>
          <p:spPr>
            <a:xfrm>
              <a:off x="9628560" y="427680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Picture 2" descr="I:\f\PPT库\剪影人物\16.png"/>
            <p:cNvPicPr/>
            <p:nvPr/>
          </p:nvPicPr>
          <p:blipFill>
            <a:blip r:embed="rId13"/>
            <a:srcRect l="0" t="0" r="0" b="18963"/>
            <a:stretch/>
          </p:blipFill>
          <p:spPr>
            <a:xfrm>
              <a:off x="9507240" y="452052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Picture 2" descr="I:\f\PPT库\剪影人物\16.png"/>
            <p:cNvPicPr/>
            <p:nvPr/>
          </p:nvPicPr>
          <p:blipFill>
            <a:blip r:embed="rId14"/>
            <a:srcRect l="0" t="0" r="0" b="18963"/>
            <a:stretch/>
          </p:blipFill>
          <p:spPr>
            <a:xfrm>
              <a:off x="9750960" y="454032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Picture 2" descr="I:\f\PPT库\剪影人物\16.png"/>
            <p:cNvPicPr/>
            <p:nvPr/>
          </p:nvPicPr>
          <p:blipFill>
            <a:blip r:embed="rId15"/>
            <a:srcRect l="0" t="0" r="0" b="18963"/>
            <a:stretch/>
          </p:blipFill>
          <p:spPr>
            <a:xfrm>
              <a:off x="9351000" y="487152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Picture 2" descr="I:\f\PPT库\剪影人物\16.png"/>
            <p:cNvPicPr/>
            <p:nvPr/>
          </p:nvPicPr>
          <p:blipFill>
            <a:blip r:embed="rId16"/>
            <a:srcRect l="0" t="0" r="0" b="18963"/>
            <a:stretch/>
          </p:blipFill>
          <p:spPr>
            <a:xfrm>
              <a:off x="9618120" y="487980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Picture 2" descr="I:\f\PPT库\剪影人物\16.png"/>
            <p:cNvPicPr/>
            <p:nvPr/>
          </p:nvPicPr>
          <p:blipFill>
            <a:blip r:embed="rId17"/>
            <a:srcRect l="0" t="0" r="0" b="18963"/>
            <a:stretch/>
          </p:blipFill>
          <p:spPr>
            <a:xfrm>
              <a:off x="9909000" y="487620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2" descr="I:\f\PPT库\剪影人物\16.png"/>
            <p:cNvPicPr/>
            <p:nvPr/>
          </p:nvPicPr>
          <p:blipFill>
            <a:blip r:embed="rId18"/>
            <a:srcRect l="0" t="0" r="0" b="18963"/>
            <a:stretch/>
          </p:blipFill>
          <p:spPr>
            <a:xfrm>
              <a:off x="8966160" y="525528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2" descr="I:\f\PPT库\剪影人物\16.png"/>
            <p:cNvPicPr/>
            <p:nvPr/>
          </p:nvPicPr>
          <p:blipFill>
            <a:blip r:embed="rId19"/>
            <a:srcRect l="0" t="0" r="0" b="18963"/>
            <a:stretch/>
          </p:blipFill>
          <p:spPr>
            <a:xfrm>
              <a:off x="9233280" y="52635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2" descr="I:\f\PPT库\剪影人物\16.png"/>
            <p:cNvPicPr/>
            <p:nvPr/>
          </p:nvPicPr>
          <p:blipFill>
            <a:blip r:embed="rId20"/>
            <a:srcRect l="0" t="0" r="0" b="18963"/>
            <a:stretch/>
          </p:blipFill>
          <p:spPr>
            <a:xfrm>
              <a:off x="9524160" y="52599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2" descr="I:\f\PPT库\剪影人物\16.png"/>
            <p:cNvPicPr/>
            <p:nvPr/>
          </p:nvPicPr>
          <p:blipFill>
            <a:blip r:embed="rId21"/>
            <a:srcRect l="0" t="0" r="0" b="18963"/>
            <a:stretch/>
          </p:blipFill>
          <p:spPr>
            <a:xfrm>
              <a:off x="9799200" y="52725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2" descr="I:\f\PPT库\剪影人物\16.png"/>
            <p:cNvPicPr/>
            <p:nvPr/>
          </p:nvPicPr>
          <p:blipFill>
            <a:blip r:embed="rId22"/>
            <a:srcRect l="0" t="0" r="0" b="18963"/>
            <a:stretch/>
          </p:blipFill>
          <p:spPr>
            <a:xfrm>
              <a:off x="10066320" y="528084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2" descr="I:\f\PPT库\剪影人物\16.png"/>
            <p:cNvPicPr/>
            <p:nvPr/>
          </p:nvPicPr>
          <p:blipFill>
            <a:blip r:embed="rId23"/>
            <a:srcRect l="0" t="0" r="0" b="18963"/>
            <a:stretch/>
          </p:blipFill>
          <p:spPr>
            <a:xfrm>
              <a:off x="10357200" y="5277240"/>
              <a:ext cx="228240" cy="41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8" name="Picture 4" descr="I:\f\PPT库\剪影人物\191.png"/>
          <p:cNvPicPr/>
          <p:nvPr/>
        </p:nvPicPr>
        <p:blipFill>
          <a:blip r:embed="rId24"/>
          <a:stretch/>
        </p:blipFill>
        <p:spPr>
          <a:xfrm>
            <a:off x="5137200" y="3029040"/>
            <a:ext cx="296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1229" name="Group 80"/>
          <p:cNvGrpSpPr/>
          <p:nvPr/>
        </p:nvGrpSpPr>
        <p:grpSpPr>
          <a:xfrm>
            <a:off x="8448840" y="2649600"/>
            <a:ext cx="1618920" cy="1414080"/>
            <a:chOff x="8448840" y="2649600"/>
            <a:chExt cx="1618920" cy="1414080"/>
          </a:xfrm>
        </p:grpSpPr>
        <p:pic>
          <p:nvPicPr>
            <p:cNvPr id="1230" name="Picture 2" descr="I:\f\PPT库\剪影人物\16.png"/>
            <p:cNvPicPr/>
            <p:nvPr/>
          </p:nvPicPr>
          <p:blipFill>
            <a:blip r:embed="rId25"/>
            <a:srcRect l="0" t="0" r="0" b="18963"/>
            <a:stretch/>
          </p:blipFill>
          <p:spPr>
            <a:xfrm>
              <a:off x="9110880" y="264960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2" descr="I:\f\PPT库\剪影人物\16.png"/>
            <p:cNvPicPr/>
            <p:nvPr/>
          </p:nvPicPr>
          <p:blipFill>
            <a:blip r:embed="rId26"/>
            <a:srcRect l="0" t="0" r="0" b="18963"/>
            <a:stretch/>
          </p:blipFill>
          <p:spPr>
            <a:xfrm>
              <a:off x="8989560" y="289296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2" descr="I:\f\PPT库\剪影人物\16.png"/>
            <p:cNvPicPr/>
            <p:nvPr/>
          </p:nvPicPr>
          <p:blipFill>
            <a:blip r:embed="rId27"/>
            <a:srcRect l="0" t="0" r="0" b="18963"/>
            <a:stretch/>
          </p:blipFill>
          <p:spPr>
            <a:xfrm>
              <a:off x="9233280" y="291312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2" descr="I:\f\PPT库\剪影人物\16.png"/>
            <p:cNvPicPr/>
            <p:nvPr/>
          </p:nvPicPr>
          <p:blipFill>
            <a:blip r:embed="rId28"/>
            <a:srcRect l="0" t="0" r="0" b="18963"/>
            <a:stretch/>
          </p:blipFill>
          <p:spPr>
            <a:xfrm>
              <a:off x="8833680" y="324360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Picture 2" descr="I:\f\PPT库\剪影人物\16.png"/>
            <p:cNvPicPr/>
            <p:nvPr/>
          </p:nvPicPr>
          <p:blipFill>
            <a:blip r:embed="rId29"/>
            <a:srcRect l="0" t="0" r="0" b="18963"/>
            <a:stretch/>
          </p:blipFill>
          <p:spPr>
            <a:xfrm>
              <a:off x="9100800" y="3251880"/>
              <a:ext cx="22824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2" descr="I:\f\PPT库\剪影人物\16.png"/>
            <p:cNvPicPr/>
            <p:nvPr/>
          </p:nvPicPr>
          <p:blipFill>
            <a:blip r:embed="rId30"/>
            <a:srcRect l="0" t="0" r="0" b="18963"/>
            <a:stretch/>
          </p:blipFill>
          <p:spPr>
            <a:xfrm>
              <a:off x="9391680" y="3248280"/>
              <a:ext cx="2278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Picture 2" descr="I:\f\PPT库\剪影人物\16.png"/>
            <p:cNvPicPr/>
            <p:nvPr/>
          </p:nvPicPr>
          <p:blipFill>
            <a:blip r:embed="rId31"/>
            <a:srcRect l="0" t="0" r="0" b="18963"/>
            <a:stretch/>
          </p:blipFill>
          <p:spPr>
            <a:xfrm>
              <a:off x="8448840" y="362700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2" descr="I:\f\PPT库\剪影人物\16.png"/>
            <p:cNvPicPr/>
            <p:nvPr/>
          </p:nvPicPr>
          <p:blipFill>
            <a:blip r:embed="rId32"/>
            <a:srcRect l="0" t="0" r="0" b="18963"/>
            <a:stretch/>
          </p:blipFill>
          <p:spPr>
            <a:xfrm>
              <a:off x="8715960" y="3635280"/>
              <a:ext cx="22824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2" descr="I:\f\PPT库\剪影人物\16.png"/>
            <p:cNvPicPr/>
            <p:nvPr/>
          </p:nvPicPr>
          <p:blipFill>
            <a:blip r:embed="rId33"/>
            <a:srcRect l="0" t="0" r="0" b="18963"/>
            <a:stretch/>
          </p:blipFill>
          <p:spPr>
            <a:xfrm>
              <a:off x="9006840" y="3631680"/>
              <a:ext cx="2278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" descr="I:\f\PPT库\剪影人物\16.png"/>
            <p:cNvPicPr/>
            <p:nvPr/>
          </p:nvPicPr>
          <p:blipFill>
            <a:blip r:embed="rId34"/>
            <a:srcRect l="0" t="0" r="0" b="18963"/>
            <a:stretch/>
          </p:blipFill>
          <p:spPr>
            <a:xfrm>
              <a:off x="9281520" y="3644640"/>
              <a:ext cx="22788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2" descr="I:\f\PPT库\剪影人物\16.png"/>
            <p:cNvPicPr/>
            <p:nvPr/>
          </p:nvPicPr>
          <p:blipFill>
            <a:blip r:embed="rId35"/>
            <a:srcRect l="0" t="0" r="0" b="18963"/>
            <a:stretch/>
          </p:blipFill>
          <p:spPr>
            <a:xfrm>
              <a:off x="9548640" y="365256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2" descr="I:\f\PPT库\剪影人物\16.png"/>
            <p:cNvPicPr/>
            <p:nvPr/>
          </p:nvPicPr>
          <p:blipFill>
            <a:blip r:embed="rId36"/>
            <a:srcRect l="0" t="0" r="0" b="18963"/>
            <a:stretch/>
          </p:blipFill>
          <p:spPr>
            <a:xfrm>
              <a:off x="9839520" y="3648960"/>
              <a:ext cx="228240" cy="41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2" name="Picture 4" descr="I:\f\PPT库\剪影人物\191.png"/>
          <p:cNvPicPr/>
          <p:nvPr/>
        </p:nvPicPr>
        <p:blipFill>
          <a:blip r:embed="rId37"/>
          <a:stretch/>
        </p:blipFill>
        <p:spPr>
          <a:xfrm>
            <a:off x="5118120" y="1469880"/>
            <a:ext cx="295200" cy="99216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95"/>
          <p:cNvSpPr/>
          <p:nvPr/>
        </p:nvSpPr>
        <p:spPr>
          <a:xfrm>
            <a:off x="4941720" y="5708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销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Group 96"/>
          <p:cNvGrpSpPr/>
          <p:nvPr/>
        </p:nvGrpSpPr>
        <p:grpSpPr>
          <a:xfrm>
            <a:off x="8219880" y="1101600"/>
            <a:ext cx="1285560" cy="1300320"/>
            <a:chOff x="8219880" y="1101600"/>
            <a:chExt cx="1285560" cy="1300320"/>
          </a:xfrm>
        </p:grpSpPr>
        <p:grpSp>
          <p:nvGrpSpPr>
            <p:cNvPr id="1245" name="Group 97"/>
            <p:cNvGrpSpPr/>
            <p:nvPr/>
          </p:nvGrpSpPr>
          <p:grpSpPr>
            <a:xfrm>
              <a:off x="8219880" y="1101600"/>
              <a:ext cx="1285560" cy="1300320"/>
              <a:chOff x="8219880" y="1101600"/>
              <a:chExt cx="1285560" cy="1300320"/>
            </a:xfrm>
          </p:grpSpPr>
          <p:sp>
            <p:nvSpPr>
              <p:cNvPr id="1246" name="AutoShape 98"/>
              <p:cNvSpPr/>
              <p:nvPr/>
            </p:nvSpPr>
            <p:spPr>
              <a:xfrm flipH="1">
                <a:off x="8219520" y="1101600"/>
                <a:ext cx="1285560" cy="49752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99"/>
              <p:cNvSpPr/>
              <p:nvPr/>
            </p:nvSpPr>
            <p:spPr>
              <a:xfrm>
                <a:off x="8232120" y="1596240"/>
                <a:ext cx="1244160" cy="80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8" name="Text Box 100"/>
            <p:cNvSpPr/>
            <p:nvPr/>
          </p:nvSpPr>
          <p:spPr>
            <a:xfrm>
              <a:off x="8340840" y="1751400"/>
              <a:ext cx="109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6049800" y="1893960"/>
            <a:ext cx="1554480" cy="4680"/>
            <a:chOff x="6049800" y="1893960"/>
            <a:chExt cx="1554480" cy="4680"/>
          </a:xfrm>
        </p:grpSpPr>
        <p:sp>
          <p:nvSpPr>
            <p:cNvPr id="1250" name="箭头 1077"/>
            <p:cNvSpPr/>
            <p:nvPr/>
          </p:nvSpPr>
          <p:spPr>
            <a:xfrm>
              <a:off x="6049800" y="1893960"/>
              <a:ext cx="1554480" cy="4680"/>
            </a:xfrm>
            <a:prstGeom prst="line">
              <a:avLst/>
            </a:prstGeom>
            <a:ln w="76320">
              <a:solidFill>
                <a:srgbClr val="aeaea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 txBox="1"/>
            <p:nvPr/>
          </p:nvSpPr>
          <p:spPr>
            <a:xfrm>
              <a:off x="6049800" y="1893960"/>
              <a:ext cx="155448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6067440" y="3392640"/>
            <a:ext cx="1960560" cy="17280"/>
            <a:chOff x="6067440" y="3392640"/>
            <a:chExt cx="1960560" cy="17280"/>
          </a:xfrm>
        </p:grpSpPr>
        <p:sp>
          <p:nvSpPr>
            <p:cNvPr id="1253" name="箭头 1077"/>
            <p:cNvSpPr/>
            <p:nvPr/>
          </p:nvSpPr>
          <p:spPr>
            <a:xfrm flipV="1">
              <a:off x="6067440" y="3392640"/>
              <a:ext cx="1960560" cy="17280"/>
            </a:xfrm>
            <a:prstGeom prst="line">
              <a:avLst/>
            </a:prstGeom>
            <a:ln w="76320">
              <a:solidFill>
                <a:srgbClr val="aeaea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 rot="10800000">
              <a:off x="6067440" y="3392640"/>
              <a:ext cx="1960560" cy="1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5543640" y="5087880"/>
            <a:ext cx="1185840" cy="30240"/>
            <a:chOff x="5543640" y="5087880"/>
            <a:chExt cx="1185840" cy="30240"/>
          </a:xfrm>
        </p:grpSpPr>
        <p:sp>
          <p:nvSpPr>
            <p:cNvPr id="1256" name="箭头 1077"/>
            <p:cNvSpPr/>
            <p:nvPr/>
          </p:nvSpPr>
          <p:spPr>
            <a:xfrm flipV="1">
              <a:off x="5543640" y="5087880"/>
              <a:ext cx="1185840" cy="30240"/>
            </a:xfrm>
            <a:prstGeom prst="line">
              <a:avLst/>
            </a:prstGeom>
            <a:ln w="76320">
              <a:solidFill>
                <a:srgbClr val="aeaea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 rot="10800000">
              <a:off x="5543640" y="5087880"/>
              <a:ext cx="1185840" cy="3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7772400" y="5087520"/>
            <a:ext cx="1233360" cy="360"/>
            <a:chOff x="7772400" y="5087520"/>
            <a:chExt cx="1233360" cy="360"/>
          </a:xfrm>
        </p:grpSpPr>
        <p:sp>
          <p:nvSpPr>
            <p:cNvPr id="1259" name="箭头 1077"/>
            <p:cNvSpPr/>
            <p:nvPr/>
          </p:nvSpPr>
          <p:spPr>
            <a:xfrm>
              <a:off x="7772400" y="5087880"/>
              <a:ext cx="1233360" cy="0"/>
            </a:xfrm>
            <a:prstGeom prst="line">
              <a:avLst/>
            </a:prstGeom>
            <a:ln w="76320">
              <a:solidFill>
                <a:srgbClr val="aeaea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 txBox="1"/>
            <p:nvPr/>
          </p:nvSpPr>
          <p:spPr>
            <a:xfrm rot="10800000">
              <a:off x="7772400" y="5087520"/>
              <a:ext cx="1233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Text Box 105"/>
          <p:cNvSpPr/>
          <p:nvPr/>
        </p:nvSpPr>
        <p:spPr>
          <a:xfrm>
            <a:off x="6922800" y="569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批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06"/>
          <p:cNvSpPr/>
          <p:nvPr/>
        </p:nvSpPr>
        <p:spPr>
          <a:xfrm>
            <a:off x="9447120" y="572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零售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矩形 3"/>
          <p:cNvSpPr/>
          <p:nvPr/>
        </p:nvSpPr>
        <p:spPr>
          <a:xfrm>
            <a:off x="681120" y="204840"/>
            <a:ext cx="7215120" cy="4968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矩形 3"/>
          <p:cNvSpPr/>
          <p:nvPr/>
        </p:nvSpPr>
        <p:spPr>
          <a:xfrm>
            <a:off x="852480" y="641520"/>
            <a:ext cx="520560" cy="2664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3"/>
          <p:cNvSpPr/>
          <p:nvPr/>
        </p:nvSpPr>
        <p:spPr>
          <a:xfrm>
            <a:off x="11822040" y="6519960"/>
            <a:ext cx="370080" cy="3380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3"/>
          <p:cNvSpPr/>
          <p:nvPr/>
        </p:nvSpPr>
        <p:spPr>
          <a:xfrm flipH="1" flipV="1">
            <a:off x="9483120" y="6660360"/>
            <a:ext cx="1911240" cy="651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4"/>
          <p:cNvSpPr/>
          <p:nvPr/>
        </p:nvSpPr>
        <p:spPr>
          <a:xfrm>
            <a:off x="2094480" y="179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7008840" y="2030400"/>
            <a:ext cx="2246400" cy="360"/>
            <a:chOff x="7008840" y="2030400"/>
            <a:chExt cx="2246400" cy="360"/>
          </a:xfrm>
        </p:grpSpPr>
        <p:sp>
          <p:nvSpPr>
            <p:cNvPr id="1269" name="Line 43"/>
            <p:cNvSpPr/>
            <p:nvPr/>
          </p:nvSpPr>
          <p:spPr>
            <a:xfrm>
              <a:off x="7008840" y="2030400"/>
              <a:ext cx="2246400" cy="0"/>
            </a:xfrm>
            <a:prstGeom prst="line">
              <a:avLst/>
            </a:prstGeom>
            <a:ln w="93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7008840" y="2030400"/>
              <a:ext cx="2246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2781360" y="5375160"/>
            <a:ext cx="2244600" cy="360"/>
            <a:chOff x="2781360" y="5375160"/>
            <a:chExt cx="2244600" cy="360"/>
          </a:xfrm>
        </p:grpSpPr>
        <p:sp>
          <p:nvSpPr>
            <p:cNvPr id="1272" name="Line 44"/>
            <p:cNvSpPr/>
            <p:nvPr/>
          </p:nvSpPr>
          <p:spPr>
            <a:xfrm>
              <a:off x="2781360" y="5375160"/>
              <a:ext cx="2244600" cy="0"/>
            </a:xfrm>
            <a:prstGeom prst="line">
              <a:avLst/>
            </a:prstGeom>
            <a:ln w="93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2781360" y="5375160"/>
              <a:ext cx="224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2811600" y="4033800"/>
            <a:ext cx="2244600" cy="360"/>
            <a:chOff x="2811600" y="4033800"/>
            <a:chExt cx="2244600" cy="360"/>
          </a:xfrm>
        </p:grpSpPr>
        <p:sp>
          <p:nvSpPr>
            <p:cNvPr id="1275" name="Line 45"/>
            <p:cNvSpPr/>
            <p:nvPr/>
          </p:nvSpPr>
          <p:spPr>
            <a:xfrm>
              <a:off x="2811600" y="4033800"/>
              <a:ext cx="2244600" cy="0"/>
            </a:xfrm>
            <a:prstGeom prst="line">
              <a:avLst/>
            </a:prstGeom>
            <a:ln w="9360">
              <a:solidFill>
                <a:srgbClr val="ed1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2811600" y="4033800"/>
              <a:ext cx="224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039080" y="3400560"/>
            <a:ext cx="2246040" cy="360"/>
            <a:chOff x="7039080" y="3400560"/>
            <a:chExt cx="2246040" cy="360"/>
          </a:xfrm>
        </p:grpSpPr>
        <p:sp>
          <p:nvSpPr>
            <p:cNvPr id="1278" name="Line 46"/>
            <p:cNvSpPr/>
            <p:nvPr/>
          </p:nvSpPr>
          <p:spPr>
            <a:xfrm>
              <a:off x="7039080" y="3400560"/>
              <a:ext cx="2246040" cy="0"/>
            </a:xfrm>
            <a:prstGeom prst="line">
              <a:avLst/>
            </a:prstGeom>
            <a:ln w="9360">
              <a:solidFill>
                <a:srgbClr val="ed1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 txBox="1"/>
            <p:nvPr/>
          </p:nvSpPr>
          <p:spPr>
            <a:xfrm>
              <a:off x="7039080" y="3400560"/>
              <a:ext cx="2246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Text Box 47"/>
          <p:cNvSpPr/>
          <p:nvPr/>
        </p:nvSpPr>
        <p:spPr>
          <a:xfrm>
            <a:off x="2353320" y="35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7"/>
          <p:cNvGrpSpPr/>
          <p:nvPr/>
        </p:nvGrpSpPr>
        <p:grpSpPr>
          <a:xfrm>
            <a:off x="4610160" y="2708280"/>
            <a:ext cx="1625400" cy="1325520"/>
            <a:chOff x="4610160" y="2708280"/>
            <a:chExt cx="1625400" cy="1325520"/>
          </a:xfrm>
        </p:grpSpPr>
        <p:sp>
          <p:nvSpPr>
            <p:cNvPr id="1282" name="AutoShape 39"/>
            <p:cNvSpPr/>
            <p:nvPr/>
          </p:nvSpPr>
          <p:spPr>
            <a:xfrm>
              <a:off x="4610160" y="270828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48"/>
            <p:cNvSpPr/>
            <p:nvPr/>
          </p:nvSpPr>
          <p:spPr>
            <a:xfrm>
              <a:off x="5068080" y="2833920"/>
              <a:ext cx="740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Group 10"/>
          <p:cNvGrpSpPr/>
          <p:nvPr/>
        </p:nvGrpSpPr>
        <p:grpSpPr>
          <a:xfrm>
            <a:off x="5864400" y="2030400"/>
            <a:ext cx="1625400" cy="1325520"/>
            <a:chOff x="5864400" y="2030400"/>
            <a:chExt cx="1625400" cy="1325520"/>
          </a:xfrm>
        </p:grpSpPr>
        <p:sp>
          <p:nvSpPr>
            <p:cNvPr id="1285" name="AutoShape 41"/>
            <p:cNvSpPr/>
            <p:nvPr/>
          </p:nvSpPr>
          <p:spPr>
            <a:xfrm>
              <a:off x="5864400" y="203040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49"/>
            <p:cNvSpPr/>
            <p:nvPr/>
          </p:nvSpPr>
          <p:spPr>
            <a:xfrm>
              <a:off x="6185880" y="2188800"/>
              <a:ext cx="971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Group 13"/>
          <p:cNvGrpSpPr/>
          <p:nvPr/>
        </p:nvGrpSpPr>
        <p:grpSpPr>
          <a:xfrm>
            <a:off x="4610160" y="4065480"/>
            <a:ext cx="1625400" cy="1325520"/>
            <a:chOff x="4610160" y="4065480"/>
            <a:chExt cx="1625400" cy="1325520"/>
          </a:xfrm>
        </p:grpSpPr>
        <p:sp>
          <p:nvSpPr>
            <p:cNvPr id="1288" name="AutoShape 42"/>
            <p:cNvSpPr/>
            <p:nvPr/>
          </p:nvSpPr>
          <p:spPr>
            <a:xfrm>
              <a:off x="4610160" y="406548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50"/>
            <p:cNvSpPr/>
            <p:nvPr/>
          </p:nvSpPr>
          <p:spPr>
            <a:xfrm>
              <a:off x="4984200" y="4180320"/>
              <a:ext cx="83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16"/>
          <p:cNvGrpSpPr/>
          <p:nvPr/>
        </p:nvGrpSpPr>
        <p:grpSpPr>
          <a:xfrm>
            <a:off x="5864400" y="3387600"/>
            <a:ext cx="1625400" cy="1325520"/>
            <a:chOff x="5864400" y="3387600"/>
            <a:chExt cx="1625400" cy="1325520"/>
          </a:xfrm>
        </p:grpSpPr>
        <p:sp>
          <p:nvSpPr>
            <p:cNvPr id="1291" name="AutoShape 40"/>
            <p:cNvSpPr/>
            <p:nvPr/>
          </p:nvSpPr>
          <p:spPr>
            <a:xfrm>
              <a:off x="5864400" y="338760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51"/>
            <p:cNvSpPr/>
            <p:nvPr/>
          </p:nvSpPr>
          <p:spPr>
            <a:xfrm>
              <a:off x="6274800" y="3507480"/>
              <a:ext cx="692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 Box 52"/>
          <p:cNvSpPr/>
          <p:nvPr/>
        </p:nvSpPr>
        <p:spPr>
          <a:xfrm>
            <a:off x="7972920" y="2009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53"/>
          <p:cNvSpPr/>
          <p:nvPr/>
        </p:nvSpPr>
        <p:spPr>
          <a:xfrm>
            <a:off x="8094240" y="3400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54"/>
          <p:cNvSpPr/>
          <p:nvPr/>
        </p:nvSpPr>
        <p:spPr>
          <a:xfrm>
            <a:off x="1956240" y="4898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3"/>
          <p:cNvSpPr/>
          <p:nvPr/>
        </p:nvSpPr>
        <p:spPr>
          <a:xfrm>
            <a:off x="8421840" y="6721560"/>
            <a:ext cx="3770280" cy="1364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3"/>
          <p:cNvSpPr/>
          <p:nvPr/>
        </p:nvSpPr>
        <p:spPr>
          <a:xfrm>
            <a:off x="11449080" y="6448320"/>
            <a:ext cx="766800" cy="341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3"/>
          <p:cNvSpPr/>
          <p:nvPr/>
        </p:nvSpPr>
        <p:spPr>
          <a:xfrm>
            <a:off x="520560" y="249120"/>
            <a:ext cx="7388280" cy="4352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3"/>
          <p:cNvSpPr/>
          <p:nvPr/>
        </p:nvSpPr>
        <p:spPr>
          <a:xfrm>
            <a:off x="520560" y="527040"/>
            <a:ext cx="762120" cy="449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4"/>
          <p:cNvSpPr/>
          <p:nvPr/>
        </p:nvSpPr>
        <p:spPr>
          <a:xfrm>
            <a:off x="1688040" y="16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1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250" autoRev="1" fill="hold"/>
                                        <p:tgtEl>
                                          <p:spTgt spid="1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250" autoRev="1" fill="hold"/>
                                        <p:tgtEl>
                                          <p:spTgt spid="1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4" descr="图表2。1"/>
          <p:cNvPicPr/>
          <p:nvPr/>
        </p:nvPicPr>
        <p:blipFill>
          <a:blip r:embed="rId1"/>
          <a:stretch/>
        </p:blipFill>
        <p:spPr>
          <a:xfrm>
            <a:off x="-1757520" y="2363760"/>
            <a:ext cx="1725840" cy="180180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5" descr="图表2。2"/>
          <p:cNvPicPr/>
          <p:nvPr/>
        </p:nvPicPr>
        <p:blipFill>
          <a:blip r:embed="rId2"/>
          <a:stretch/>
        </p:blipFill>
        <p:spPr>
          <a:xfrm>
            <a:off x="-1703520" y="2349360"/>
            <a:ext cx="1703520" cy="1800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6" descr="图表2。3"/>
          <p:cNvPicPr/>
          <p:nvPr/>
        </p:nvPicPr>
        <p:blipFill>
          <a:blip r:embed="rId3"/>
          <a:stretch/>
        </p:blipFill>
        <p:spPr>
          <a:xfrm>
            <a:off x="-1752480" y="2347920"/>
            <a:ext cx="1726920" cy="180180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7"/>
          <p:cNvSpPr/>
          <p:nvPr/>
        </p:nvSpPr>
        <p:spPr>
          <a:xfrm>
            <a:off x="3415320" y="4148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8"/>
          <p:cNvSpPr/>
          <p:nvPr/>
        </p:nvSpPr>
        <p:spPr>
          <a:xfrm>
            <a:off x="6085800" y="4148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9"/>
          <p:cNvSpPr/>
          <p:nvPr/>
        </p:nvSpPr>
        <p:spPr>
          <a:xfrm>
            <a:off x="8742960" y="4148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54"/>
          <p:cNvSpPr/>
          <p:nvPr/>
        </p:nvSpPr>
        <p:spPr>
          <a:xfrm>
            <a:off x="5051520" y="5470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字比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41"/>
          <p:cNvSpPr/>
          <p:nvPr/>
        </p:nvSpPr>
        <p:spPr>
          <a:xfrm>
            <a:off x="657720" y="117000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点击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矩形 3"/>
          <p:cNvSpPr/>
          <p:nvPr/>
        </p:nvSpPr>
        <p:spPr>
          <a:xfrm>
            <a:off x="782640" y="158760"/>
            <a:ext cx="7388280" cy="4348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3"/>
          <p:cNvSpPr/>
          <p:nvPr/>
        </p:nvSpPr>
        <p:spPr>
          <a:xfrm>
            <a:off x="11430000" y="6392880"/>
            <a:ext cx="762120" cy="449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1"/>
          <p:cNvSpPr/>
          <p:nvPr/>
        </p:nvSpPr>
        <p:spPr>
          <a:xfrm>
            <a:off x="1873080" y="192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3"/>
          <p:cNvSpPr/>
          <p:nvPr/>
        </p:nvSpPr>
        <p:spPr>
          <a:xfrm>
            <a:off x="9218520" y="6726240"/>
            <a:ext cx="2973600" cy="1317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3"/>
          <p:cNvSpPr/>
          <p:nvPr/>
        </p:nvSpPr>
        <p:spPr>
          <a:xfrm>
            <a:off x="11887200" y="6066000"/>
            <a:ext cx="304920" cy="3204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86146 -0.002315 E">
                                      <p:cBhvr>
                                        <p:cTn id="404" dur="1000" fill="hold"/>
                                        <p:tgtEl>
                                          <p:spTgt spid="1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dur="indefinite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598177 -0.002315 E">
                                      <p:cBhvr>
                                        <p:cTn id="412" dur="1000" fill="hold"/>
                                        <p:tgtEl>
                                          <p:spTgt spid="1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87292 -9.3E-005 E">
                                      <p:cBhvr>
                                        <p:cTn id="420" dur="1000" fill="hold"/>
                                        <p:tgtEl>
                                          <p:spTgt spid="1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Group 2"/>
          <p:cNvGrpSpPr/>
          <p:nvPr/>
        </p:nvGrpSpPr>
        <p:grpSpPr>
          <a:xfrm>
            <a:off x="4651200" y="1554120"/>
            <a:ext cx="1441440" cy="3313080"/>
            <a:chOff x="4651200" y="1554120"/>
            <a:chExt cx="1441440" cy="3313080"/>
          </a:xfrm>
        </p:grpSpPr>
        <p:grpSp>
          <p:nvGrpSpPr>
            <p:cNvPr id="1316" name="Group 18"/>
            <p:cNvGrpSpPr/>
            <p:nvPr/>
          </p:nvGrpSpPr>
          <p:grpSpPr>
            <a:xfrm>
              <a:off x="4651200" y="1554120"/>
              <a:ext cx="1441440" cy="3313080"/>
              <a:chOff x="4651200" y="1554120"/>
              <a:chExt cx="1441440" cy="3313080"/>
            </a:xfrm>
          </p:grpSpPr>
          <p:grpSp>
            <p:nvGrpSpPr>
              <p:cNvPr id="1317" name="Group 14"/>
              <p:cNvGrpSpPr/>
              <p:nvPr/>
            </p:nvGrpSpPr>
            <p:grpSpPr>
              <a:xfrm>
                <a:off x="4651200" y="1554120"/>
                <a:ext cx="1440000" cy="2160720"/>
                <a:chOff x="4651200" y="1554120"/>
                <a:chExt cx="1440000" cy="2160720"/>
              </a:xfrm>
            </p:grpSpPr>
            <p:sp>
              <p:nvSpPr>
                <p:cNvPr id="1318" name="AutoShape 15"/>
                <p:cNvSpPr/>
                <p:nvPr/>
              </p:nvSpPr>
              <p:spPr>
                <a:xfrm>
                  <a:off x="4651200" y="1554120"/>
                  <a:ext cx="1440000" cy="72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b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Rectangle 16"/>
                <p:cNvSpPr/>
                <p:nvPr/>
              </p:nvSpPr>
              <p:spPr>
                <a:xfrm>
                  <a:off x="4651200" y="2274840"/>
                  <a:ext cx="1440000" cy="1440000"/>
                </a:xfrm>
                <a:prstGeom prst="rect">
                  <a:avLst/>
                </a:prstGeom>
                <a:solidFill>
                  <a:srgbClr val="ffb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Rectangle 17"/>
              <p:cNvSpPr/>
              <p:nvPr/>
            </p:nvSpPr>
            <p:spPr>
              <a:xfrm>
                <a:off x="4651200" y="3643200"/>
                <a:ext cx="1441440" cy="1224000"/>
              </a:xfrm>
              <a:prstGeom prst="rect">
                <a:avLst/>
              </a:prstGeom>
              <a:solidFill>
                <a:srgbClr val="ffb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Text Box 19"/>
            <p:cNvSpPr/>
            <p:nvPr/>
          </p:nvSpPr>
          <p:spPr>
            <a:xfrm>
              <a:off x="4798800" y="3138480"/>
              <a:ext cx="119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94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9"/>
          <p:cNvGrpSpPr/>
          <p:nvPr/>
        </p:nvGrpSpPr>
        <p:grpSpPr>
          <a:xfrm>
            <a:off x="4651200" y="4866120"/>
            <a:ext cx="1440000" cy="861480"/>
            <a:chOff x="4651200" y="4866120"/>
            <a:chExt cx="1440000" cy="861480"/>
          </a:xfrm>
        </p:grpSpPr>
        <p:grpSp>
          <p:nvGrpSpPr>
            <p:cNvPr id="1323" name="Group 10"/>
            <p:cNvGrpSpPr/>
            <p:nvPr/>
          </p:nvGrpSpPr>
          <p:grpSpPr>
            <a:xfrm>
              <a:off x="4651200" y="4866120"/>
              <a:ext cx="1440000" cy="861480"/>
              <a:chOff x="4651200" y="4866120"/>
              <a:chExt cx="1440000" cy="861480"/>
            </a:xfrm>
          </p:grpSpPr>
          <p:sp>
            <p:nvSpPr>
              <p:cNvPr id="1324" name="AutoShape 11"/>
              <p:cNvSpPr/>
              <p:nvPr/>
            </p:nvSpPr>
            <p:spPr>
              <a:xfrm flipV="1">
                <a:off x="4651200" y="5440320"/>
                <a:ext cx="1440000" cy="287280"/>
              </a:xfrm>
              <a:prstGeom prst="triangle">
                <a:avLst>
                  <a:gd name="adj" fmla="val 50000"/>
                </a:avLst>
              </a:prstGeom>
              <a:solidFill>
                <a:srgbClr val="8bb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12"/>
              <p:cNvSpPr/>
              <p:nvPr/>
            </p:nvSpPr>
            <p:spPr>
              <a:xfrm flipV="1">
                <a:off x="4651200" y="4865760"/>
                <a:ext cx="1440000" cy="574200"/>
              </a:xfrm>
              <a:prstGeom prst="rect">
                <a:avLst/>
              </a:prstGeom>
              <a:solidFill>
                <a:srgbClr val="8bb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6" name="Text Box 20"/>
            <p:cNvSpPr/>
            <p:nvPr/>
          </p:nvSpPr>
          <p:spPr>
            <a:xfrm>
              <a:off x="4942800" y="4884480"/>
              <a:ext cx="91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6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文本框 1"/>
          <p:cNvSpPr/>
          <p:nvPr/>
        </p:nvSpPr>
        <p:spPr>
          <a:xfrm>
            <a:off x="6574680" y="2419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文本框 12"/>
          <p:cNvSpPr/>
          <p:nvPr/>
        </p:nvSpPr>
        <p:spPr>
          <a:xfrm>
            <a:off x="3234600" y="495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55"/>
          <p:cNvSpPr/>
          <p:nvPr/>
        </p:nvSpPr>
        <p:spPr>
          <a:xfrm>
            <a:off x="7279920" y="59529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字比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41"/>
          <p:cNvSpPr/>
          <p:nvPr/>
        </p:nvSpPr>
        <p:spPr>
          <a:xfrm>
            <a:off x="583200" y="1228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点击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3"/>
          <p:cNvSpPr/>
          <p:nvPr/>
        </p:nvSpPr>
        <p:spPr>
          <a:xfrm>
            <a:off x="393840" y="147600"/>
            <a:ext cx="9613800" cy="4348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18"/>
          <p:cNvSpPr/>
          <p:nvPr/>
        </p:nvSpPr>
        <p:spPr>
          <a:xfrm>
            <a:off x="1909440" y="66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3"/>
          <p:cNvSpPr/>
          <p:nvPr/>
        </p:nvSpPr>
        <p:spPr>
          <a:xfrm>
            <a:off x="10974240" y="6392880"/>
            <a:ext cx="1217880" cy="449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3"/>
          <p:cNvSpPr/>
          <p:nvPr/>
        </p:nvSpPr>
        <p:spPr>
          <a:xfrm>
            <a:off x="6638760" y="6726240"/>
            <a:ext cx="5553360" cy="1159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3"/>
          <p:cNvSpPr/>
          <p:nvPr/>
        </p:nvSpPr>
        <p:spPr>
          <a:xfrm>
            <a:off x="12012480" y="5881680"/>
            <a:ext cx="179640" cy="1411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3"/>
          <p:cNvSpPr/>
          <p:nvPr/>
        </p:nvSpPr>
        <p:spPr>
          <a:xfrm>
            <a:off x="11887200" y="6072120"/>
            <a:ext cx="304920" cy="3207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8440" y="-1676520"/>
            <a:ext cx="2581560" cy="1606680"/>
            <a:chOff x="28440" y="-1676520"/>
            <a:chExt cx="2581560" cy="1606680"/>
          </a:xfrm>
        </p:grpSpPr>
        <p:sp>
          <p:nvSpPr>
            <p:cNvPr id="1339" name="AutoShape 4"/>
            <p:cNvSpPr/>
            <p:nvPr/>
          </p:nvSpPr>
          <p:spPr>
            <a:xfrm flipH="1">
              <a:off x="28440" y="-1676520"/>
              <a:ext cx="2156400" cy="1606680"/>
            </a:xfrm>
            <a:prstGeom prst="wedgeRectCallout">
              <a:avLst>
                <a:gd name="adj1" fmla="val -57393"/>
                <a:gd name="adj2" fmla="val 92555"/>
              </a:avLst>
            </a:prstGeom>
            <a:solidFill>
              <a:srgbClr val="ffb13f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8"/>
            <p:cNvSpPr/>
            <p:nvPr/>
          </p:nvSpPr>
          <p:spPr>
            <a:xfrm>
              <a:off x="474120" y="-1296720"/>
              <a:ext cx="213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Group 5"/>
          <p:cNvGrpSpPr/>
          <p:nvPr/>
        </p:nvGrpSpPr>
        <p:grpSpPr>
          <a:xfrm>
            <a:off x="10923480" y="7421400"/>
            <a:ext cx="2233440" cy="1446480"/>
            <a:chOff x="10923480" y="7421400"/>
            <a:chExt cx="2233440" cy="1446480"/>
          </a:xfrm>
        </p:grpSpPr>
        <p:sp>
          <p:nvSpPr>
            <p:cNvPr id="1342" name="AutoShape 7"/>
            <p:cNvSpPr/>
            <p:nvPr/>
          </p:nvSpPr>
          <p:spPr>
            <a:xfrm flipV="1">
              <a:off x="10923480" y="7421400"/>
              <a:ext cx="1905480" cy="1446480"/>
            </a:xfrm>
            <a:prstGeom prst="wedgeRectCallout">
              <a:avLst>
                <a:gd name="adj1" fmla="val -42662"/>
                <a:gd name="adj2" fmla="val 72398"/>
              </a:avLst>
            </a:prstGeom>
            <a:solidFill>
              <a:srgbClr val="99f56c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9"/>
            <p:cNvSpPr/>
            <p:nvPr/>
          </p:nvSpPr>
          <p:spPr>
            <a:xfrm>
              <a:off x="11219760" y="7703640"/>
              <a:ext cx="193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Group 8"/>
          <p:cNvGrpSpPr/>
          <p:nvPr/>
        </p:nvGrpSpPr>
        <p:grpSpPr>
          <a:xfrm>
            <a:off x="2373120" y="7616880"/>
            <a:ext cx="1125720" cy="480960"/>
            <a:chOff x="2373120" y="7616880"/>
            <a:chExt cx="1125720" cy="480960"/>
          </a:xfrm>
        </p:grpSpPr>
        <p:sp>
          <p:nvSpPr>
            <p:cNvPr id="1345" name="AutoShape 6"/>
            <p:cNvSpPr/>
            <p:nvPr/>
          </p:nvSpPr>
          <p:spPr>
            <a:xfrm flipH="1" flipV="1">
              <a:off x="2372760" y="7616880"/>
              <a:ext cx="885960" cy="480960"/>
            </a:xfrm>
            <a:prstGeom prst="wedgeRectCallout">
              <a:avLst>
                <a:gd name="adj1" fmla="val -64513"/>
                <a:gd name="adj2" fmla="val 173893"/>
              </a:avLst>
            </a:prstGeom>
            <a:solidFill>
              <a:srgbClr val="ff6462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Text Box 10"/>
            <p:cNvSpPr/>
            <p:nvPr/>
          </p:nvSpPr>
          <p:spPr>
            <a:xfrm>
              <a:off x="2592360" y="767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Group 11"/>
          <p:cNvGrpSpPr/>
          <p:nvPr/>
        </p:nvGrpSpPr>
        <p:grpSpPr>
          <a:xfrm>
            <a:off x="12439800" y="-492120"/>
            <a:ext cx="1294920" cy="595800"/>
            <a:chOff x="12439800" y="-492120"/>
            <a:chExt cx="1294920" cy="595800"/>
          </a:xfrm>
        </p:grpSpPr>
        <p:sp>
          <p:nvSpPr>
            <p:cNvPr id="1348" name="AutoShape 5"/>
            <p:cNvSpPr/>
            <p:nvPr/>
          </p:nvSpPr>
          <p:spPr>
            <a:xfrm>
              <a:off x="12439800" y="-492120"/>
              <a:ext cx="1141560" cy="542880"/>
            </a:xfrm>
            <a:prstGeom prst="wedgeRectCallout">
              <a:avLst>
                <a:gd name="adj1" fmla="val -51717"/>
                <a:gd name="adj2" fmla="val 176416"/>
              </a:avLst>
            </a:prstGeom>
            <a:solidFill>
              <a:srgbClr val="8bbced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 Box 11"/>
            <p:cNvSpPr/>
            <p:nvPr/>
          </p:nvSpPr>
          <p:spPr>
            <a:xfrm>
              <a:off x="12763440" y="-416880"/>
              <a:ext cx="9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文本框 1"/>
          <p:cNvSpPr/>
          <p:nvPr/>
        </p:nvSpPr>
        <p:spPr>
          <a:xfrm>
            <a:off x="3500640" y="308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11"/>
          <p:cNvSpPr/>
          <p:nvPr/>
        </p:nvSpPr>
        <p:spPr>
          <a:xfrm>
            <a:off x="5139000" y="534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12"/>
          <p:cNvSpPr/>
          <p:nvPr/>
        </p:nvSpPr>
        <p:spPr>
          <a:xfrm>
            <a:off x="8249040" y="129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文本框 13"/>
          <p:cNvSpPr/>
          <p:nvPr/>
        </p:nvSpPr>
        <p:spPr>
          <a:xfrm>
            <a:off x="8825040" y="617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43"/>
          <p:cNvSpPr/>
          <p:nvPr/>
        </p:nvSpPr>
        <p:spPr>
          <a:xfrm>
            <a:off x="511920" y="1201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点击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3"/>
          <p:cNvSpPr/>
          <p:nvPr/>
        </p:nvSpPr>
        <p:spPr>
          <a:xfrm>
            <a:off x="347760" y="157320"/>
            <a:ext cx="7943760" cy="4348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9"/>
          <p:cNvSpPr/>
          <p:nvPr/>
        </p:nvSpPr>
        <p:spPr>
          <a:xfrm>
            <a:off x="1627200" y="82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椭圆 1"/>
          <p:cNvSpPr/>
          <p:nvPr/>
        </p:nvSpPr>
        <p:spPr>
          <a:xfrm>
            <a:off x="6388200" y="3149640"/>
            <a:ext cx="1353960" cy="138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57"/>
          <p:cNvSpPr/>
          <p:nvPr/>
        </p:nvSpPr>
        <p:spPr>
          <a:xfrm>
            <a:off x="6595920" y="342576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3"/>
          <p:cNvSpPr/>
          <p:nvPr/>
        </p:nvSpPr>
        <p:spPr>
          <a:xfrm>
            <a:off x="6935760" y="6726240"/>
            <a:ext cx="5256360" cy="1317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213 L 0.325417 0.466019 E">
                                      <p:cBhvr>
                                        <p:cTn id="449" dur="2000" fill="hold"/>
                                        <p:tgtEl>
                                          <p:spTgt spid="1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90625 0.415093 E">
                                      <p:cBhvr>
                                        <p:cTn id="451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4792 -0.370278 E">
                                      <p:cBhvr>
                                        <p:cTn id="453" dur="2000" fill="hold"/>
                                        <p:tgtEl>
                                          <p:spTgt spid="1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7292 -0.398981 E">
                                      <p:cBhvr>
                                        <p:cTn id="455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5"/>
          <p:cNvSpPr/>
          <p:nvPr/>
        </p:nvSpPr>
        <p:spPr>
          <a:xfrm>
            <a:off x="7734960" y="1647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6"/>
          <p:cNvSpPr/>
          <p:nvPr/>
        </p:nvSpPr>
        <p:spPr>
          <a:xfrm>
            <a:off x="7877880" y="46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7"/>
          <p:cNvSpPr/>
          <p:nvPr/>
        </p:nvSpPr>
        <p:spPr>
          <a:xfrm>
            <a:off x="6368040" y="56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8"/>
          <p:cNvSpPr/>
          <p:nvPr/>
        </p:nvSpPr>
        <p:spPr>
          <a:xfrm>
            <a:off x="3297960" y="3751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9"/>
          <p:cNvSpPr/>
          <p:nvPr/>
        </p:nvSpPr>
        <p:spPr>
          <a:xfrm>
            <a:off x="4879080" y="1090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文本框 1"/>
          <p:cNvSpPr/>
          <p:nvPr/>
        </p:nvSpPr>
        <p:spPr>
          <a:xfrm>
            <a:off x="2585520" y="4029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a521"/>
                </a:solidFill>
                <a:latin typeface="Arial"/>
                <a:ea typeface="宋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文本框 8"/>
          <p:cNvSpPr/>
          <p:nvPr/>
        </p:nvSpPr>
        <p:spPr>
          <a:xfrm>
            <a:off x="6867720" y="5891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文本框 9"/>
          <p:cNvSpPr/>
          <p:nvPr/>
        </p:nvSpPr>
        <p:spPr>
          <a:xfrm>
            <a:off x="3967560" y="131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文本框 10"/>
          <p:cNvSpPr/>
          <p:nvPr/>
        </p:nvSpPr>
        <p:spPr>
          <a:xfrm>
            <a:off x="8479080" y="485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e840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文本框 11"/>
          <p:cNvSpPr/>
          <p:nvPr/>
        </p:nvSpPr>
        <p:spPr>
          <a:xfrm>
            <a:off x="8406000" y="1805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1" name="Picture 4" descr="图表1"/>
          <p:cNvPicPr/>
          <p:nvPr/>
        </p:nvPicPr>
        <p:blipFill>
          <a:blip r:embed="rId1"/>
          <a:stretch/>
        </p:blipFill>
        <p:spPr>
          <a:xfrm>
            <a:off x="4132440" y="1652760"/>
            <a:ext cx="3904920" cy="3906720"/>
          </a:xfrm>
          <a:prstGeom prst="rect">
            <a:avLst/>
          </a:prstGeom>
          <a:ln w="0">
            <a:noFill/>
          </a:ln>
        </p:spPr>
      </p:pic>
      <p:sp>
        <p:nvSpPr>
          <p:cNvPr id="1372" name="Text Box 58"/>
          <p:cNvSpPr/>
          <p:nvPr/>
        </p:nvSpPr>
        <p:spPr>
          <a:xfrm>
            <a:off x="5087160" y="33908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批商客户维护方式比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42"/>
          <p:cNvSpPr/>
          <p:nvPr/>
        </p:nvSpPr>
        <p:spPr>
          <a:xfrm>
            <a:off x="329040" y="1155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宋体"/>
              </a:rPr>
              <a:t>添加文字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3"/>
          <p:cNvSpPr/>
          <p:nvPr/>
        </p:nvSpPr>
        <p:spPr>
          <a:xfrm>
            <a:off x="782640" y="158760"/>
            <a:ext cx="7388280" cy="5223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7"/>
          <p:cNvSpPr/>
          <p:nvPr/>
        </p:nvSpPr>
        <p:spPr>
          <a:xfrm>
            <a:off x="1791720" y="19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等腰三角形 2"/>
          <p:cNvSpPr/>
          <p:nvPr/>
        </p:nvSpPr>
        <p:spPr>
          <a:xfrm rot="10800000">
            <a:off x="716040" y="578880"/>
            <a:ext cx="12398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3"/>
          <p:cNvSpPr/>
          <p:nvPr/>
        </p:nvSpPr>
        <p:spPr>
          <a:xfrm>
            <a:off x="11574360" y="6451560"/>
            <a:ext cx="617760" cy="3906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3"/>
          <p:cNvSpPr/>
          <p:nvPr/>
        </p:nvSpPr>
        <p:spPr>
          <a:xfrm>
            <a:off x="9970920" y="6726240"/>
            <a:ext cx="2221200" cy="1159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AutoShape 7"/>
          <p:cNvSpPr/>
          <p:nvPr/>
        </p:nvSpPr>
        <p:spPr>
          <a:xfrm>
            <a:off x="4295880" y="2978280"/>
            <a:ext cx="1584360" cy="1962000"/>
          </a:xfrm>
          <a:prstGeom prst="triangle">
            <a:avLst>
              <a:gd name="adj" fmla="val 50000"/>
            </a:avLst>
          </a:prstGeom>
          <a:solidFill>
            <a:srgbClr val="ff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4"/>
          <p:cNvSpPr/>
          <p:nvPr/>
        </p:nvSpPr>
        <p:spPr>
          <a:xfrm>
            <a:off x="5159520" y="1270080"/>
            <a:ext cx="1873080" cy="3670200"/>
          </a:xfrm>
          <a:prstGeom prst="triangle">
            <a:avLst>
              <a:gd name="adj" fmla="val 50000"/>
            </a:avLst>
          </a:prstGeom>
          <a:solidFill>
            <a:srgbClr val="ffb1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5"/>
          <p:cNvSpPr/>
          <p:nvPr/>
        </p:nvSpPr>
        <p:spPr>
          <a:xfrm>
            <a:off x="6743880" y="2252520"/>
            <a:ext cx="2011320" cy="2687760"/>
          </a:xfrm>
          <a:prstGeom prst="triangle">
            <a:avLst>
              <a:gd name="adj" fmla="val 50000"/>
            </a:avLst>
          </a:prstGeom>
          <a:solidFill>
            <a:srgbClr val="8bbc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6"/>
          <p:cNvSpPr/>
          <p:nvPr/>
        </p:nvSpPr>
        <p:spPr>
          <a:xfrm>
            <a:off x="6149880" y="3306600"/>
            <a:ext cx="1386000" cy="1633680"/>
          </a:xfrm>
          <a:prstGeom prst="triangle">
            <a:avLst>
              <a:gd name="adj" fmla="val 50000"/>
            </a:avLst>
          </a:prstGeom>
          <a:solidFill>
            <a:srgbClr val="99f5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8"/>
          <p:cNvSpPr/>
          <p:nvPr/>
        </p:nvSpPr>
        <p:spPr>
          <a:xfrm>
            <a:off x="3570120" y="4290840"/>
            <a:ext cx="1589400" cy="675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6"/>
          <p:cNvSpPr/>
          <p:nvPr/>
        </p:nvSpPr>
        <p:spPr>
          <a:xfrm>
            <a:off x="5784120" y="932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8"/>
          <p:cNvSpPr/>
          <p:nvPr/>
        </p:nvSpPr>
        <p:spPr>
          <a:xfrm>
            <a:off x="3141000" y="491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文本框 9"/>
          <p:cNvSpPr/>
          <p:nvPr/>
        </p:nvSpPr>
        <p:spPr>
          <a:xfrm>
            <a:off x="6382800" y="494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文本框 10"/>
          <p:cNvSpPr/>
          <p:nvPr/>
        </p:nvSpPr>
        <p:spPr>
          <a:xfrm>
            <a:off x="4490280" y="2577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文本框 11"/>
          <p:cNvSpPr/>
          <p:nvPr/>
        </p:nvSpPr>
        <p:spPr>
          <a:xfrm>
            <a:off x="7504920" y="1962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388800" y="1270080"/>
            <a:ext cx="20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3"/>
          <p:cNvSpPr/>
          <p:nvPr/>
        </p:nvSpPr>
        <p:spPr>
          <a:xfrm>
            <a:off x="782640" y="158760"/>
            <a:ext cx="8988480" cy="4334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7"/>
          <p:cNvSpPr/>
          <p:nvPr/>
        </p:nvSpPr>
        <p:spPr>
          <a:xfrm>
            <a:off x="1937880" y="9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3"/>
          <p:cNvSpPr/>
          <p:nvPr/>
        </p:nvSpPr>
        <p:spPr>
          <a:xfrm>
            <a:off x="7778880" y="6662880"/>
            <a:ext cx="4413240" cy="1951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59"/>
          <p:cNvSpPr/>
          <p:nvPr/>
        </p:nvSpPr>
        <p:spPr>
          <a:xfrm>
            <a:off x="8399880" y="6019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添加文字比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直角三角形 20"/>
          <p:cNvSpPr/>
          <p:nvPr/>
        </p:nvSpPr>
        <p:spPr>
          <a:xfrm rot="16200000">
            <a:off x="11586240" y="6056640"/>
            <a:ext cx="369720" cy="838080"/>
          </a:xfrm>
          <a:prstGeom prst="rtTriangle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1240920" y="4927320"/>
            <a:ext cx="11085840" cy="44280"/>
            <a:chOff x="1240920" y="4927320"/>
            <a:chExt cx="11085840" cy="44280"/>
          </a:xfrm>
        </p:grpSpPr>
        <p:sp>
          <p:nvSpPr>
            <p:cNvPr id="1397" name="Line 19"/>
            <p:cNvSpPr/>
            <p:nvPr/>
          </p:nvSpPr>
          <p:spPr>
            <a:xfrm flipV="1">
              <a:off x="1241280" y="4927320"/>
              <a:ext cx="11085480" cy="44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 rot="10800000">
              <a:off x="1240920" y="4926960"/>
              <a:ext cx="11085480" cy="4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AutoShape 20"/>
          <p:cNvSpPr/>
          <p:nvPr/>
        </p:nvSpPr>
        <p:spPr>
          <a:xfrm>
            <a:off x="1295280" y="4881600"/>
            <a:ext cx="152640" cy="150840"/>
          </a:xfrm>
          <a:prstGeom prst="flowChartConnector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52 -0.002499 L 0.01125 -0.002499 L 0.017448 -0.004721 L 0.023646 -0.004721 L 0.029844 -0.000277 L 0.036042 -0.000277 L 0.04224 -0.000277 L 0.048385 0.004075 L 0.054583 0.006298 L 0.060781 0.006298 L 0.066979 0.004075 L 0.073177 0.001853 L 0.079427 -0.000277 L 0.085625 -0.000277 L 0.091823 0.001853 L 0.098021 0.001853 L 0.104219 0.001853 L 0.110417 0.001853 L 0.116562 0.001853 L 0.12276 0.001853 L 0.128958 0.001853 L 0.135156 0.001853 L 0.141302 -0.000277 L 0.147552 -0.000277 L 0.15375 -0.000277 L 0.159948 -0.000277 L 0.166146 -0.000277 L 0.172344 -0.002499 L 0.178542 -0.002499 L 0.184739 -0.009073 L 0.189635 -0.020091 L 0.195833 -0.026758 L 0.202031 -0.037777 L 0.208229 -0.046573 L 0.214427 -0.057591 L 0.219375 -0.068611 L 0.225625 -0.077406 L 0.231823 -0.086202 L 0.238021 -0.092869 L 0.245469 -0.099443 L 0.251667 -0.101665 L 0.255365 -0.090647 L 0.260364 -0.101665 L 0.26276 -0.112684 L 0.26526 -0.123702 L 0.267708 -0.134721 L 0.270208 -0.14574 L 0.272656 -0.156759 L 0.276406 -0.169906 L 0.280104 -0.180925 L 0.282604 -0.191943 L 0.283854 -0.202963 L 0.285052 -0.21398 L 0.286302 -0.224999 L 0.287552 -0.23824 L 0.288802 -0.249258 L 0.292552 -0.260278 L 0.29625 -0.271295 L 0.3 -0.284443 L 0.306198 -0.288888 L 0.309896 -0.277869 L 0.311146 -0.266852 L 0.312396 -0.255832 L 0.314844 -0.244814 L 0.317344 -0.233795 L 0.319844 -0.222778 L 0.322292 -0.211758 L 0.324792 -0.20074 L 0.324792 -0.189721 L 0.32849 -0.178702 L 0.334635 -0.180925 L 0.335885 -0.191943 L 0.335885 -0.202963 L 0.335885 -0.21398 L 0.337135 -0.224999 L 0.337135 -0.236017 L 0.339583 -0.247037 L 0.340833 -0.258054 L 0.343333 -0.269074 L 0.345781 -0.280091 L 0.348281 -0.29111 L 0.349531 -0.302128 L 0.351979 -0.313147 L 0.353229 -0.324166 L 0.356927 -0.335184 L 0.358177 -0.346203 L 0.359427 -0.357221 L 0.360677 -0.36824 L 0.363177 -0.379258 L 0.364427 -0.390184 L 0.366927 -0.403426 L 0.368125 -0.414443 L 0.369375 -0.425462 L 0.370625 -0.436481 L 0.370625 -0.447499 L 0.371875 -0.458517 L 0.373125 -0.469536 L 0.374323 -0.480554 L 0.375573 -0.491573 L 0.376823 -0.502591 L 0.379323 -0.513611 L 0.381771 -0.524628 L 0.381771 -0.535646 L 0.387969 -0.535646 L 0.389219 -0.524628 L 0.391667 -0.513611 L 0.394167 -0.502591 L 0.396667 -0.491573 L 0.399062 -0.480554 L 0.401562 -0.467314 L 0.402812 -0.456295 L 0.40401 -0.445278 L 0.40401 -0.434258 L 0.40526 -0.42324 L 0.40526 -0.412221 L 0.40651 -0.401202 L 0.40776 -0.390184 L 0.40901 -0.379258 L 0.40901 -0.36824 L 0.40901 -0.357221 L 0.40901 -0.346203 L 0.410208 -0.335184 L 0.412708 -0.324166 L 0.413958 -0.313147 L 0.416406 -0.302128 L 0.417656 -0.29111 L 0.418906 -0.280091 L 0.421354 -0.269074 L 0.422604 -0.258054 L 0.425104 -0.247037 L 0.426354 -0.236017 L 0.428802 -0.224999 L 0.430052 -0.21398 L 0.431302 -0.202963 L 0.435052 -0.191943 L 0.44 -0.202963 L 0.44125 -0.21398 L 0.4425 -0.227221 L 0.446198 -0.23824 L 0.449948 -0.227221 L 0.452396 -0.216202 L 0.453646 -0.205184 L 0.454896 -0.194165 L 0.457344 -0.183147 L 0.461094 -0.172128 L 0.463542 -0.16111 L 0.468542 -0.147869 L 0.470937 -0.158888 L 0.470937 -0.169906 L 0.470937 -0.180925 L 0.470937 -0.191943 L 0.473437 -0.205184 L 0.475885 -0.216202 L 0.479635 -0.227221 L 0.480833 -0.23824 L 0.484583 -0.251481 L 0.487031 -0.262499 L 0.489531 -0.273517 L 0.492031 -0.284443 L 0.494479 -0.295463 L 0.498229 -0.30648 L 0.500677 -0.319721 L 0.503177 -0.330741 L 0.506927 -0.341758 L 0.510625 -0.352778 L 0.513125 -0.363796 L 0.516823 -0.374814 L 0.519323 -0.385832 L 0.523021 -0.396851 L 0.526771 -0.385832 L 0.528021 -0.374814 L 0.529219 -0.363796 L 0.530469 -0.352778 L 0.532969 -0.341758 L 0.535417 -0.330741 L 0.536667 -0.319721 L 0.540312 -0.308703 L 0.541614 -0.297684 L 0.542812 -0.286665 L 0.544114 -0.275647 L 0.545365 -0.264628 L 0.54776 -0.25361 L 0.54901 -0.242592 L 0.54901 -0.231573 L 0.55151 -0.220647 L 0.553958 -0.209628 L 0.557708 -0.19861 L 0.560156 -0.187591 L 0.563906 -0.176574 L 0.566354 -0.165554 L 0.568854 -0.152314 L 0.572552 -0.141295 L 0.575052 -0.130277 L 0.57625 -0.119258 L 0.578802 -0.10824 L 0.581302 -0.097221 L 0.58375 -0.086202 L 0.5875 -0.075184 L 0.589948 -0.064165 L 0.592448 -0.053147 L 0.594896 -0.042128 L 0.597396 -0.03111 L 0.599844 -0.020091 L 0.603594 -0.009073 L 0.609792 -0.000277 L 0.615937 -0.000277 L 0.623385 -0.000277 L 0.629531 -0.000277 L 0.635729 -0.000277 L 0.641979 0.001853 L 0.648177 0.001853 L 0.654375 0.001853 L 0.660573 0.001853 L 0.668021 0.001853 L 0.674219 0.001853 L 0.680417 0.001853 L 0.686562 -0.000277 L 0.69276 -0.000277 L 0.698958 -0.000277 L 0.705156 -0.000277 L 0.712604 -0.000277 L 0.718802 -0.000277 L 0.725 -0.000277 L 0.731198 -0.000277 L 0.737396 -0.000277 L 0.743594 -0.000277 L 0.749792 -0.000277 L 0.75599 -0.000277 L 0.762135 -0.000277 L 0.768333 -0.000277 L 0.774531 -0.000277 L 0.780729 -0.000277 L 0.786979 -0.000277 L 0.793177 -0.000277 L 0.799375 -0.000277 L 0.805573 -0.000277 L 0.811771 -0.000277 L 0.817969 -0.000277 L 0.824167 -0.000277 L 0.831615 -0.000277 L 0.837708 -0.000277 L 0.843906 -0.002499 L 0.850104 -0.004721 L 0.856354 -0.006943 L 0.862552 -0.006943 L 0.86875 -0.006943 L 0.874948 -0.006943 L 0.933594 -0.006851 E">
                                      <p:cBhvr>
                                        <p:cTn id="516" dur="5000" fill="hold"/>
                                        <p:tgtEl>
                                          <p:spTgt spid="1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矩形 1"/>
          <p:cNvSpPr/>
          <p:nvPr/>
        </p:nvSpPr>
        <p:spPr>
          <a:xfrm>
            <a:off x="0" y="339840"/>
            <a:ext cx="12192120" cy="53316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  <a:ea typeface="华文隶书"/>
              </a:rPr>
              <a:t>                     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点击添加文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等腰三角形 2"/>
          <p:cNvSpPr/>
          <p:nvPr/>
        </p:nvSpPr>
        <p:spPr>
          <a:xfrm rot="10800000">
            <a:off x="-219600" y="605880"/>
            <a:ext cx="2457720" cy="1314360"/>
          </a:xfrm>
          <a:prstGeom prst="triangle">
            <a:avLst>
              <a:gd name="adj" fmla="val 5288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31"/>
          <p:cNvSpPr/>
          <p:nvPr/>
        </p:nvSpPr>
        <p:spPr>
          <a:xfrm>
            <a:off x="365400" y="75096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右箭头 1"/>
          <p:cNvSpPr/>
          <p:nvPr/>
        </p:nvSpPr>
        <p:spPr>
          <a:xfrm>
            <a:off x="3029040" y="5234040"/>
            <a:ext cx="6888240" cy="95040"/>
          </a:xfrm>
          <a:prstGeom prst="rightArrow">
            <a:avLst>
              <a:gd name="adj1" fmla="val 50000"/>
              <a:gd name="adj2" fmla="val 165758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右箭头 8"/>
          <p:cNvSpPr/>
          <p:nvPr/>
        </p:nvSpPr>
        <p:spPr>
          <a:xfrm rot="16200000">
            <a:off x="933120" y="3752640"/>
            <a:ext cx="4060800" cy="158760"/>
          </a:xfrm>
          <a:prstGeom prst="rightArrow">
            <a:avLst>
              <a:gd name="adj1" fmla="val 50000"/>
              <a:gd name="adj2" fmla="val 165548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任意多边形 3"/>
          <p:cNvSpPr/>
          <p:nvPr/>
        </p:nvSpPr>
        <p:spPr>
          <a:xfrm>
            <a:off x="3500280" y="2529000"/>
            <a:ext cx="6291360" cy="2589120"/>
          </a:xfrm>
          <a:custGeom>
            <a:avLst/>
            <a:gdLst/>
            <a:ahLst/>
            <a:rect l="l" t="t" r="r" b="b"/>
            <a:pathLst>
              <a:path w="6292446" h="2588753">
                <a:moveTo>
                  <a:pt x="0" y="2578644"/>
                </a:moveTo>
                <a:cubicBezTo>
                  <a:pt x="373117" y="1601181"/>
                  <a:pt x="746234" y="623719"/>
                  <a:pt x="1261241" y="245347"/>
                </a:cubicBezTo>
                <a:cubicBezTo>
                  <a:pt x="1776248" y="-133026"/>
                  <a:pt x="2307020" y="-43688"/>
                  <a:pt x="3090041" y="308409"/>
                </a:cubicBezTo>
                <a:cubicBezTo>
                  <a:pt x="3873062" y="660505"/>
                  <a:pt x="5454868" y="2000574"/>
                  <a:pt x="5959365" y="2357926"/>
                </a:cubicBezTo>
                <a:cubicBezTo>
                  <a:pt x="6463862" y="2715278"/>
                  <a:pt x="6290441" y="2583898"/>
                  <a:pt x="6117021" y="2452519"/>
                </a:cubicBezTo>
              </a:path>
            </a:pathLst>
          </a:custGeom>
          <a:noFill/>
          <a:ln w="302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6225120" y="5800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任意多边形 40"/>
          <p:cNvSpPr/>
          <p:nvPr/>
        </p:nvSpPr>
        <p:spPr>
          <a:xfrm>
            <a:off x="8775720" y="2732040"/>
            <a:ext cx="460440" cy="1670040"/>
          </a:xfrm>
          <a:custGeom>
            <a:avLst/>
            <a:gdLst/>
            <a:ahLst/>
            <a:rect l="l" t="t" r="r" b="b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a5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椭圆 37"/>
          <p:cNvSpPr/>
          <p:nvPr/>
        </p:nvSpPr>
        <p:spPr>
          <a:xfrm>
            <a:off x="8667720" y="424656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1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椭圆 62"/>
          <p:cNvSpPr/>
          <p:nvPr/>
        </p:nvSpPr>
        <p:spPr>
          <a:xfrm>
            <a:off x="8710560" y="2070000"/>
            <a:ext cx="1042920" cy="1044720"/>
          </a:xfrm>
          <a:prstGeom prst="ellipse">
            <a:avLst/>
          </a:prstGeom>
          <a:solidFill>
            <a:srgbClr val="ffa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  <a:ea typeface="宋体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任意多边形 38"/>
          <p:cNvSpPr/>
          <p:nvPr/>
        </p:nvSpPr>
        <p:spPr>
          <a:xfrm>
            <a:off x="4330800" y="2098800"/>
            <a:ext cx="533160" cy="1247760"/>
          </a:xfrm>
          <a:custGeom>
            <a:avLst/>
            <a:gdLst/>
            <a:ahLst/>
            <a:rect l="l" t="t" r="r" b="b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99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椭圆 10"/>
          <p:cNvSpPr/>
          <p:nvPr/>
        </p:nvSpPr>
        <p:spPr>
          <a:xfrm>
            <a:off x="4249800" y="314316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99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椭圆 58"/>
          <p:cNvSpPr/>
          <p:nvPr/>
        </p:nvSpPr>
        <p:spPr>
          <a:xfrm>
            <a:off x="4302000" y="1149480"/>
            <a:ext cx="1043280" cy="1044360"/>
          </a:xfrm>
          <a:prstGeom prst="ellipse">
            <a:avLst/>
          </a:prstGeom>
          <a:solidFill>
            <a:srgbClr val="ff99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  <a:ea typeface="宋体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任意多边形 36"/>
          <p:cNvSpPr/>
          <p:nvPr/>
        </p:nvSpPr>
        <p:spPr>
          <a:xfrm>
            <a:off x="3705120" y="3079800"/>
            <a:ext cx="222480" cy="1622520"/>
          </a:xfrm>
          <a:custGeom>
            <a:avLst/>
            <a:gdLst/>
            <a:ahLst/>
            <a:rect l="l" t="t" r="r" b="b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椭圆 7"/>
          <p:cNvSpPr/>
          <p:nvPr/>
        </p:nvSpPr>
        <p:spPr>
          <a:xfrm>
            <a:off x="3559320" y="457200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椭圆 52"/>
          <p:cNvSpPr/>
          <p:nvPr/>
        </p:nvSpPr>
        <p:spPr>
          <a:xfrm>
            <a:off x="3376440" y="2379600"/>
            <a:ext cx="1044720" cy="1042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  <a:ea typeface="宋体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任意多边形 40"/>
          <p:cNvSpPr/>
          <p:nvPr/>
        </p:nvSpPr>
        <p:spPr>
          <a:xfrm>
            <a:off x="6200640" y="2052720"/>
            <a:ext cx="506520" cy="604800"/>
          </a:xfrm>
          <a:custGeom>
            <a:avLst/>
            <a:gdLst/>
            <a:ahLst/>
            <a:rect l="l" t="t" r="r" b="b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a5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椭圆 37"/>
          <p:cNvSpPr/>
          <p:nvPr/>
        </p:nvSpPr>
        <p:spPr>
          <a:xfrm>
            <a:off x="6091200" y="250020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1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椭圆 62"/>
          <p:cNvSpPr/>
          <p:nvPr/>
        </p:nvSpPr>
        <p:spPr>
          <a:xfrm>
            <a:off x="6164280" y="1035000"/>
            <a:ext cx="1042920" cy="1044720"/>
          </a:xfrm>
          <a:prstGeom prst="ellipse">
            <a:avLst/>
          </a:prstGeom>
          <a:solidFill>
            <a:srgbClr val="ffa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  <a:ea typeface="宋体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矩形 1"/>
          <p:cNvSpPr/>
          <p:nvPr/>
        </p:nvSpPr>
        <p:spPr>
          <a:xfrm>
            <a:off x="0" y="339840"/>
            <a:ext cx="12192120" cy="53316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等腰三角形 2"/>
          <p:cNvSpPr/>
          <p:nvPr/>
        </p:nvSpPr>
        <p:spPr>
          <a:xfrm rot="10800000">
            <a:off x="-221040" y="605880"/>
            <a:ext cx="2459160" cy="1314360"/>
          </a:xfrm>
          <a:prstGeom prst="triangle">
            <a:avLst>
              <a:gd name="adj" fmla="val 5288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矩形 4"/>
          <p:cNvSpPr/>
          <p:nvPr/>
        </p:nvSpPr>
        <p:spPr>
          <a:xfrm>
            <a:off x="-585720" y="581040"/>
            <a:ext cx="563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5"/>
          <p:cNvSpPr/>
          <p:nvPr/>
        </p:nvSpPr>
        <p:spPr>
          <a:xfrm>
            <a:off x="-555480" y="590400"/>
            <a:ext cx="55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Picture 21" descr="Screenshot_2014-09-12-14-56-03"/>
          <p:cNvPicPr/>
          <p:nvPr/>
        </p:nvPicPr>
        <p:blipFill>
          <a:blip r:embed="rId1"/>
          <a:stretch/>
        </p:blipFill>
        <p:spPr>
          <a:xfrm>
            <a:off x="-3683160" y="6977160"/>
            <a:ext cx="3568680" cy="53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2000"/>
              </a:srgbClr>
            </a:outerShdw>
          </a:effectLst>
        </p:spPr>
      </p:pic>
      <p:pic>
        <p:nvPicPr>
          <p:cNvPr id="1428" name="Picture 24" descr="Screenshot_2014-09-12-14-55-23"/>
          <p:cNvPicPr/>
          <p:nvPr/>
        </p:nvPicPr>
        <p:blipFill>
          <a:blip r:embed="rId2"/>
          <a:stretch/>
        </p:blipFill>
        <p:spPr>
          <a:xfrm rot="21093600">
            <a:off x="12620520" y="1674360"/>
            <a:ext cx="2455920" cy="4365720"/>
          </a:xfrm>
          <a:prstGeom prst="rect">
            <a:avLst/>
          </a:prstGeom>
          <a:ln w="0">
            <a:noFill/>
          </a:ln>
        </p:spPr>
      </p:pic>
      <p:sp>
        <p:nvSpPr>
          <p:cNvPr id="1429" name="Text Box 47"/>
          <p:cNvSpPr/>
          <p:nvPr/>
        </p:nvSpPr>
        <p:spPr>
          <a:xfrm>
            <a:off x="5173560" y="368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披荆斩棘圆梦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31"/>
          <p:cNvSpPr/>
          <p:nvPr/>
        </p:nvSpPr>
        <p:spPr>
          <a:xfrm>
            <a:off x="320040" y="70632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24" descr="Screenshot_2014-09-12-14-55-23"/>
          <p:cNvPicPr/>
          <p:nvPr/>
        </p:nvPicPr>
        <p:blipFill>
          <a:blip r:embed="rId3"/>
          <a:stretch/>
        </p:blipFill>
        <p:spPr>
          <a:xfrm rot="21093600">
            <a:off x="14333400" y="3130200"/>
            <a:ext cx="2455920" cy="436572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24" descr="Screenshot_2014-09-12-14-55-23"/>
          <p:cNvPicPr/>
          <p:nvPr/>
        </p:nvPicPr>
        <p:blipFill>
          <a:blip r:embed="rId4"/>
          <a:stretch/>
        </p:blipFill>
        <p:spPr>
          <a:xfrm rot="21093600">
            <a:off x="15045840" y="1044360"/>
            <a:ext cx="2455920" cy="3682800"/>
          </a:xfrm>
          <a:prstGeom prst="rect">
            <a:avLst/>
          </a:prstGeom>
          <a:ln w="0">
            <a:noFill/>
          </a:ln>
        </p:spPr>
      </p:pic>
      <p:sp>
        <p:nvSpPr>
          <p:cNvPr id="1433" name="文本框 2"/>
          <p:cNvSpPr/>
          <p:nvPr/>
        </p:nvSpPr>
        <p:spPr>
          <a:xfrm>
            <a:off x="6926040" y="6211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添加您所需要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02 0.017593 L 0.504115 -0.817222 E">
                                      <p:cBhvr>
                                        <p:cTn id="602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 -0.002963 E">
                                      <p:cBhvr>
                                        <p:cTn id="610" dur="2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219">
                                      <p:cBhvr>
                                        <p:cTn id="612" dur="2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9219">
                                      <p:cBhvr>
                                        <p:cTn id="61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20000">
                                      <p:cBhvr>
                                        <p:cTn id="617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 -0.002963 E">
                                      <p:cBhvr>
                                        <p:cTn id="619" dur="2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219">
                                      <p:cBhvr>
                                        <p:cTn id="621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9219">
                                      <p:cBhvr>
                                        <p:cTn id="624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20000">
                                      <p:cBhvr>
                                        <p:cTn id="62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 -0.002963 E">
                                      <p:cBhvr>
                                        <p:cTn id="628" dur="2000" fill="hold"/>
                                        <p:tgtEl>
                                          <p:spTgt spid="1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219">
                                      <p:cBhvr>
                                        <p:cTn id="630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9219">
                                      <p:cBhvr>
                                        <p:cTn id="633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20000">
                                      <p:cBhvr>
                                        <p:cTn id="63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2" descr=""/>
          <p:cNvPicPr/>
          <p:nvPr/>
        </p:nvPicPr>
        <p:blipFill>
          <a:blip r:embed="rId1"/>
          <a:stretch/>
        </p:blipFill>
        <p:spPr>
          <a:xfrm>
            <a:off x="-23760" y="441360"/>
            <a:ext cx="12214080" cy="65070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3"/>
          <p:cNvSpPr/>
          <p:nvPr/>
        </p:nvSpPr>
        <p:spPr>
          <a:xfrm>
            <a:off x="210960" y="2004840"/>
            <a:ext cx="2700360" cy="2832120"/>
          </a:xfrm>
          <a:prstGeom prst="rect">
            <a:avLst/>
          </a:prstGeom>
          <a:solidFill>
            <a:srgbClr val="8bbced"/>
          </a:solidFill>
          <a:ln w="468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4"/>
          <p:cNvSpPr/>
          <p:nvPr/>
        </p:nvSpPr>
        <p:spPr>
          <a:xfrm>
            <a:off x="8880480" y="2060640"/>
            <a:ext cx="2835360" cy="2720880"/>
          </a:xfrm>
          <a:prstGeom prst="rect">
            <a:avLst/>
          </a:prstGeom>
          <a:solidFill>
            <a:srgbClr val="8bbced"/>
          </a:solidFill>
          <a:ln w="468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直角三角形 5"/>
          <p:cNvSpPr/>
          <p:nvPr/>
        </p:nvSpPr>
        <p:spPr>
          <a:xfrm rot="13553400">
            <a:off x="-760320" y="2513880"/>
            <a:ext cx="1933560" cy="1889280"/>
          </a:xfrm>
          <a:prstGeom prst="rtTriangle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直角三角形 6"/>
          <p:cNvSpPr/>
          <p:nvPr/>
        </p:nvSpPr>
        <p:spPr>
          <a:xfrm rot="2758800">
            <a:off x="10784160" y="2463120"/>
            <a:ext cx="1933560" cy="1914480"/>
          </a:xfrm>
          <a:prstGeom prst="rtTriangle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4"/>
          <p:cNvSpPr/>
          <p:nvPr/>
        </p:nvSpPr>
        <p:spPr>
          <a:xfrm>
            <a:off x="3016080" y="3495600"/>
            <a:ext cx="5759640" cy="2297160"/>
          </a:xfrm>
          <a:prstGeom prst="rect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6"/>
          <p:cNvSpPr/>
          <p:nvPr/>
        </p:nvSpPr>
        <p:spPr>
          <a:xfrm>
            <a:off x="2074680" y="295920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7"/>
          <p:cNvSpPr/>
          <p:nvPr/>
        </p:nvSpPr>
        <p:spPr>
          <a:xfrm>
            <a:off x="8780400" y="293040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图片 3" descr=""/>
          <p:cNvPicPr/>
          <p:nvPr/>
        </p:nvPicPr>
        <p:blipFill>
          <a:blip r:embed="rId2"/>
          <a:stretch/>
        </p:blipFill>
        <p:spPr>
          <a:xfrm>
            <a:off x="5327640" y="888840"/>
            <a:ext cx="1136520" cy="160812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0"/>
          <p:cNvSpPr/>
          <p:nvPr/>
        </p:nvSpPr>
        <p:spPr>
          <a:xfrm>
            <a:off x="-23760" y="6719760"/>
            <a:ext cx="12214080" cy="138240"/>
          </a:xfrm>
          <a:prstGeom prst="rect">
            <a:avLst/>
          </a:prstGeom>
          <a:solidFill>
            <a:srgbClr val="ffde7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3"/>
          <p:cNvSpPr/>
          <p:nvPr/>
        </p:nvSpPr>
        <p:spPr>
          <a:xfrm>
            <a:off x="4203360" y="428796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汇报结束，感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平行四边形 5"/>
          <p:cNvSpPr/>
          <p:nvPr/>
        </p:nvSpPr>
        <p:spPr>
          <a:xfrm flipH="1">
            <a:off x="1411200" y="4807080"/>
            <a:ext cx="9678960" cy="1346040"/>
          </a:xfrm>
          <a:prstGeom prst="parallelogram">
            <a:avLst>
              <a:gd name="adj" fmla="val -59750"/>
            </a:avLst>
          </a:prstGeom>
          <a:solidFill>
            <a:srgbClr val="ffb9b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4"/>
          <p:cNvSpPr/>
          <p:nvPr/>
        </p:nvSpPr>
        <p:spPr>
          <a:xfrm rot="10624800">
            <a:off x="1337760" y="1182600"/>
            <a:ext cx="8366400" cy="344016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  <a:effectLst>
            <a:outerShdw dist="3816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4"/>
          <p:cNvSpPr/>
          <p:nvPr/>
        </p:nvSpPr>
        <p:spPr>
          <a:xfrm rot="10624800">
            <a:off x="1456560" y="1315800"/>
            <a:ext cx="8116920" cy="3147840"/>
          </a:xfrm>
          <a:prstGeom prst="rect">
            <a:avLst/>
          </a:prstGeom>
          <a:solidFill>
            <a:srgbClr val="ff6462"/>
          </a:solidFill>
          <a:ln w="0">
            <a:noFill/>
          </a:ln>
          <a:effectLst>
            <a:outerShdw dist="3816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8"/>
          <p:cNvSpPr/>
          <p:nvPr/>
        </p:nvSpPr>
        <p:spPr>
          <a:xfrm>
            <a:off x="6009120" y="30240"/>
            <a:ext cx="4191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de73"/>
                </a:solidFill>
                <a:latin typeface="Curlz MT"/>
              </a:rPr>
              <a:t>201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4"/>
          <p:cNvSpPr/>
          <p:nvPr/>
        </p:nvSpPr>
        <p:spPr>
          <a:xfrm>
            <a:off x="0" y="6319800"/>
            <a:ext cx="12192120" cy="53820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4"/>
          <p:cNvSpPr/>
          <p:nvPr/>
        </p:nvSpPr>
        <p:spPr>
          <a:xfrm>
            <a:off x="0" y="6321600"/>
            <a:ext cx="12184200" cy="25056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8"/>
          <p:cNvSpPr/>
          <p:nvPr/>
        </p:nvSpPr>
        <p:spPr>
          <a:xfrm>
            <a:off x="4203000" y="23367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点击添加文字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4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4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4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4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4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4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4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4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4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4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4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4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8004240" y="536400"/>
            <a:ext cx="2057400" cy="2362320"/>
            <a:chOff x="8004240" y="536400"/>
            <a:chExt cx="2057400" cy="2362320"/>
          </a:xfrm>
        </p:grpSpPr>
        <p:sp>
          <p:nvSpPr>
            <p:cNvPr id="998" name="六边形 2"/>
            <p:cNvSpPr/>
            <p:nvPr/>
          </p:nvSpPr>
          <p:spPr>
            <a:xfrm rot="16200000">
              <a:off x="7851600" y="688680"/>
              <a:ext cx="2362320" cy="2057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5"/>
            <p:cNvSpPr/>
            <p:nvPr/>
          </p:nvSpPr>
          <p:spPr>
            <a:xfrm>
              <a:off x="8153280" y="796680"/>
              <a:ext cx="1758960" cy="1757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5"/>
          <p:cNvGrpSpPr/>
          <p:nvPr/>
        </p:nvGrpSpPr>
        <p:grpSpPr>
          <a:xfrm>
            <a:off x="7804440" y="3985200"/>
            <a:ext cx="2266560" cy="2541600"/>
            <a:chOff x="7804440" y="3985200"/>
            <a:chExt cx="2266560" cy="2541600"/>
          </a:xfrm>
        </p:grpSpPr>
        <p:sp>
          <p:nvSpPr>
            <p:cNvPr id="1001" name="六边形 4"/>
            <p:cNvSpPr/>
            <p:nvPr/>
          </p:nvSpPr>
          <p:spPr>
            <a:xfrm rot="16517400">
              <a:off x="7756560" y="4227120"/>
              <a:ext cx="2361960" cy="2057400"/>
            </a:xfrm>
            <a:prstGeom prst="hexagon">
              <a:avLst>
                <a:gd name="adj" fmla="val 33144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椭圆 6"/>
            <p:cNvSpPr/>
            <p:nvPr/>
          </p:nvSpPr>
          <p:spPr>
            <a:xfrm>
              <a:off x="8073720" y="4390560"/>
              <a:ext cx="1758600" cy="1757520"/>
            </a:xfrm>
            <a:prstGeom prst="ellipse">
              <a:avLst/>
            </a:prstGeom>
            <a:solidFill>
              <a:srgbClr val="5b9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r>
                <a:rPr b="0" lang="zh-CN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3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8"/>
          <p:cNvGrpSpPr/>
          <p:nvPr/>
        </p:nvGrpSpPr>
        <p:grpSpPr>
          <a:xfrm>
            <a:off x="8603280" y="2105640"/>
            <a:ext cx="3024720" cy="2884320"/>
            <a:chOff x="8603280" y="2105640"/>
            <a:chExt cx="3024720" cy="2884320"/>
          </a:xfrm>
        </p:grpSpPr>
        <p:sp>
          <p:nvSpPr>
            <p:cNvPr id="1004" name="六边形 3"/>
            <p:cNvSpPr/>
            <p:nvPr/>
          </p:nvSpPr>
          <p:spPr>
            <a:xfrm rot="20041800">
              <a:off x="8934120" y="2518920"/>
              <a:ext cx="2362320" cy="2057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椭圆 7"/>
            <p:cNvSpPr/>
            <p:nvPr/>
          </p:nvSpPr>
          <p:spPr>
            <a:xfrm>
              <a:off x="9236160" y="2669760"/>
              <a:ext cx="1758960" cy="1758960"/>
            </a:xfrm>
            <a:prstGeom prst="ellipse">
              <a:avLst/>
            </a:prstGeom>
            <a:solidFill>
              <a:srgbClr val="f7c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r>
                <a:rPr b="0" lang="zh-CN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矩形 9"/>
          <p:cNvSpPr/>
          <p:nvPr/>
        </p:nvSpPr>
        <p:spPr>
          <a:xfrm>
            <a:off x="2011320" y="2017800"/>
            <a:ext cx="6221520" cy="68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10"/>
          <p:cNvSpPr/>
          <p:nvPr/>
        </p:nvSpPr>
        <p:spPr>
          <a:xfrm>
            <a:off x="2422440" y="5607000"/>
            <a:ext cx="5745240" cy="651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13"/>
          <p:cNvGrpSpPr/>
          <p:nvPr/>
        </p:nvGrpSpPr>
        <p:grpSpPr>
          <a:xfrm>
            <a:off x="3467160" y="3394080"/>
            <a:ext cx="5769000" cy="636480"/>
            <a:chOff x="3467160" y="3394080"/>
            <a:chExt cx="5769000" cy="636480"/>
          </a:xfrm>
        </p:grpSpPr>
        <p:sp>
          <p:nvSpPr>
            <p:cNvPr id="1009" name="矩形 8"/>
            <p:cNvSpPr/>
            <p:nvPr/>
          </p:nvSpPr>
          <p:spPr>
            <a:xfrm>
              <a:off x="4197240" y="3748320"/>
              <a:ext cx="5038920" cy="66600"/>
            </a:xfrm>
            <a:prstGeom prst="rect">
              <a:avLst/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矩形 11"/>
            <p:cNvSpPr/>
            <p:nvPr/>
          </p:nvSpPr>
          <p:spPr>
            <a:xfrm>
              <a:off x="3467160" y="3394080"/>
              <a:ext cx="4336920" cy="636480"/>
            </a:xfrm>
            <a:prstGeom prst="rect">
              <a:avLst/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404040"/>
                  </a:solidFill>
                  <a:latin typeface="Arial"/>
                  <a:ea typeface="华文隶书"/>
                </a:rPr>
                <a:t>点击添加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矩形 13"/>
          <p:cNvSpPr/>
          <p:nvPr/>
        </p:nvSpPr>
        <p:spPr>
          <a:xfrm>
            <a:off x="1663560" y="1581120"/>
            <a:ext cx="4122720" cy="6746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Arial"/>
                <a:ea typeface="华文隶书"/>
              </a:rPr>
              <a:t>点击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4"/>
          <p:cNvSpPr/>
          <p:nvPr/>
        </p:nvSpPr>
        <p:spPr>
          <a:xfrm>
            <a:off x="2041560" y="5064120"/>
            <a:ext cx="4235400" cy="6984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Arial"/>
                <a:ea typeface="华文隶书"/>
              </a:rPr>
              <a:t>点击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5"/>
          <p:cNvSpPr/>
          <p:nvPr/>
        </p:nvSpPr>
        <p:spPr>
          <a:xfrm>
            <a:off x="654120" y="15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"/>
                            </p:stCondLst>
                            <p:childTnLst>
                              <p:par>
                                <p:cTn id="4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"/>
                            </p:stCondLst>
                            <p:childTnLst>
                              <p:par>
                                <p:cTn id="5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圆角矩形 1"/>
          <p:cNvSpPr/>
          <p:nvPr/>
        </p:nvSpPr>
        <p:spPr>
          <a:xfrm>
            <a:off x="133200" y="149400"/>
            <a:ext cx="11734920" cy="6556320"/>
          </a:xfrm>
          <a:prstGeom prst="roundRect">
            <a:avLst>
              <a:gd name="adj" fmla="val 16667"/>
            </a:avLst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圆角矩形 1"/>
          <p:cNvSpPr/>
          <p:nvPr/>
        </p:nvSpPr>
        <p:spPr>
          <a:xfrm>
            <a:off x="1090440" y="615960"/>
            <a:ext cx="10819080" cy="6076800"/>
          </a:xfrm>
          <a:prstGeom prst="roundRect">
            <a:avLst>
              <a:gd name="adj" fmla="val 16667"/>
            </a:avLst>
          </a:prstGeom>
          <a:solidFill>
            <a:srgbClr val="ff6462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单圆角矩形 2"/>
          <p:cNvSpPr/>
          <p:nvPr/>
        </p:nvSpPr>
        <p:spPr>
          <a:xfrm rot="10800000">
            <a:off x="9740880" y="4784760"/>
            <a:ext cx="2155680" cy="1920960"/>
          </a:xfrm>
          <a:custGeom>
            <a:avLst/>
            <a:gdLst/>
            <a:ahLst/>
            <a:rect l="l" t="t" r="r" b="b"/>
            <a:pathLst>
              <a:path w="2117725" h="1920875">
                <a:moveTo>
                  <a:pt x="960438" y="0"/>
                </a:moveTo>
                <a:lnTo>
                  <a:pt x="2117725" y="0"/>
                </a:lnTo>
                <a:lnTo>
                  <a:pt x="2117725" y="1920875"/>
                </a:lnTo>
                <a:lnTo>
                  <a:pt x="0" y="1920875"/>
                </a:lnTo>
                <a:lnTo>
                  <a:pt x="0" y="960438"/>
                </a:lnTo>
                <a:cubicBezTo>
                  <a:pt x="0" y="430003"/>
                  <a:pt x="430003" y="0"/>
                  <a:pt x="960438" y="0"/>
                </a:cubicBezTo>
                <a:close/>
              </a:path>
            </a:pathLst>
          </a:custGeom>
          <a:solidFill>
            <a:srgbClr val="8bb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3"/>
          <p:cNvSpPr/>
          <p:nvPr/>
        </p:nvSpPr>
        <p:spPr>
          <a:xfrm>
            <a:off x="9766440" y="2651040"/>
            <a:ext cx="2117520" cy="213372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5"/>
          <p:cNvSpPr/>
          <p:nvPr/>
        </p:nvSpPr>
        <p:spPr>
          <a:xfrm>
            <a:off x="9623520" y="857160"/>
            <a:ext cx="263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6"/>
          <p:cNvSpPr/>
          <p:nvPr/>
        </p:nvSpPr>
        <p:spPr>
          <a:xfrm>
            <a:off x="9599760" y="299232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7"/>
          <p:cNvSpPr/>
          <p:nvPr/>
        </p:nvSpPr>
        <p:spPr>
          <a:xfrm>
            <a:off x="9612360" y="4992840"/>
            <a:ext cx="26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18"/>
          <p:cNvGrpSpPr/>
          <p:nvPr/>
        </p:nvGrpSpPr>
        <p:grpSpPr>
          <a:xfrm>
            <a:off x="6300360" y="2763360"/>
            <a:ext cx="2613240" cy="197640"/>
            <a:chOff x="6300360" y="2763360"/>
            <a:chExt cx="2613240" cy="197640"/>
          </a:xfrm>
        </p:grpSpPr>
        <p:grpSp>
          <p:nvGrpSpPr>
            <p:cNvPr id="1022" name=""/>
            <p:cNvGrpSpPr/>
            <p:nvPr/>
          </p:nvGrpSpPr>
          <p:grpSpPr>
            <a:xfrm>
              <a:off x="6720120" y="2960640"/>
              <a:ext cx="2193480" cy="360"/>
              <a:chOff x="6720120" y="2960640"/>
              <a:chExt cx="2193480" cy="360"/>
            </a:xfrm>
          </p:grpSpPr>
          <p:sp>
            <p:nvSpPr>
              <p:cNvPr id="1023" name="Line 19"/>
              <p:cNvSpPr/>
              <p:nvPr/>
            </p:nvSpPr>
            <p:spPr>
              <a:xfrm>
                <a:off x="6720120" y="2960640"/>
                <a:ext cx="2193480" cy="0"/>
              </a:xfrm>
              <a:prstGeom prst="line">
                <a:avLst/>
              </a:prstGeom>
              <a:ln w="19080">
                <a:solidFill>
                  <a:srgbClr val="5ff8f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>
                <a:off x="6720120" y="2960640"/>
                <a:ext cx="2193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00360" y="2763360"/>
              <a:ext cx="419400" cy="196920"/>
              <a:chOff x="6300360" y="2763360"/>
              <a:chExt cx="419400" cy="196920"/>
            </a:xfrm>
          </p:grpSpPr>
          <p:sp>
            <p:nvSpPr>
              <p:cNvPr id="1026" name="Line 20"/>
              <p:cNvSpPr/>
              <p:nvPr/>
            </p:nvSpPr>
            <p:spPr>
              <a:xfrm flipH="1" flipV="1">
                <a:off x="6300360" y="2763360"/>
                <a:ext cx="419400" cy="196920"/>
              </a:xfrm>
              <a:prstGeom prst="line">
                <a:avLst/>
              </a:prstGeom>
              <a:ln w="19080">
                <a:solidFill>
                  <a:srgbClr val="5ff8f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 txBox="1"/>
              <p:nvPr/>
            </p:nvSpPr>
            <p:spPr>
              <a:xfrm rot="10800000">
                <a:off x="6300360" y="2763360"/>
                <a:ext cx="419400" cy="19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Group 21"/>
          <p:cNvGrpSpPr/>
          <p:nvPr/>
        </p:nvGrpSpPr>
        <p:grpSpPr>
          <a:xfrm>
            <a:off x="1119600" y="4557240"/>
            <a:ext cx="2682360" cy="253080"/>
            <a:chOff x="1119600" y="4557240"/>
            <a:chExt cx="2682360" cy="253080"/>
          </a:xfrm>
        </p:grpSpPr>
        <p:grpSp>
          <p:nvGrpSpPr>
            <p:cNvPr id="1029" name=""/>
            <p:cNvGrpSpPr/>
            <p:nvPr/>
          </p:nvGrpSpPr>
          <p:grpSpPr>
            <a:xfrm>
              <a:off x="1119600" y="4809960"/>
              <a:ext cx="2251800" cy="360"/>
              <a:chOff x="1119600" y="4809960"/>
              <a:chExt cx="2251800" cy="360"/>
            </a:xfrm>
          </p:grpSpPr>
          <p:sp>
            <p:nvSpPr>
              <p:cNvPr id="1030" name="Line 22"/>
              <p:cNvSpPr/>
              <p:nvPr/>
            </p:nvSpPr>
            <p:spPr>
              <a:xfrm flipH="1">
                <a:off x="1119600" y="4809960"/>
                <a:ext cx="2251800" cy="0"/>
              </a:xfrm>
              <a:prstGeom prst="line">
                <a:avLst/>
              </a:prstGeom>
              <a:ln w="19080">
                <a:solidFill>
                  <a:srgbClr val="5ff8f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1119600" y="4809960"/>
                <a:ext cx="225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3371400" y="4557240"/>
              <a:ext cx="430560" cy="252360"/>
              <a:chOff x="3371400" y="4557240"/>
              <a:chExt cx="430560" cy="252360"/>
            </a:xfrm>
          </p:grpSpPr>
          <p:sp>
            <p:nvSpPr>
              <p:cNvPr id="1033" name="Line 23"/>
              <p:cNvSpPr/>
              <p:nvPr/>
            </p:nvSpPr>
            <p:spPr>
              <a:xfrm flipV="1">
                <a:off x="3371400" y="4557240"/>
                <a:ext cx="430560" cy="252360"/>
              </a:xfrm>
              <a:prstGeom prst="line">
                <a:avLst/>
              </a:prstGeom>
              <a:ln w="19080">
                <a:solidFill>
                  <a:srgbClr val="5ff8f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 rot="10800000">
                <a:off x="3371400" y="4557240"/>
                <a:ext cx="430560" cy="2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5" name="Text Box 30"/>
          <p:cNvSpPr/>
          <p:nvPr/>
        </p:nvSpPr>
        <p:spPr>
          <a:xfrm>
            <a:off x="7428240" y="4853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宋体"/>
                <a:ea typeface="宋体"/>
              </a:rPr>
              <a:t>添加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9"/>
          <p:cNvSpPr/>
          <p:nvPr/>
        </p:nvSpPr>
        <p:spPr>
          <a:xfrm>
            <a:off x="6989760" y="2206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宋体"/>
                <a:ea typeface="宋体"/>
              </a:rPr>
              <a:t>添加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29"/>
          <p:cNvSpPr/>
          <p:nvPr/>
        </p:nvSpPr>
        <p:spPr>
          <a:xfrm>
            <a:off x="1544760" y="4017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宋体"/>
                <a:ea typeface="宋体"/>
              </a:rPr>
              <a:t>添加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4"/>
          <p:cNvGrpSpPr/>
          <p:nvPr/>
        </p:nvGrpSpPr>
        <p:grpSpPr>
          <a:xfrm>
            <a:off x="6514920" y="5348160"/>
            <a:ext cx="2523600" cy="253080"/>
            <a:chOff x="6514920" y="5348160"/>
            <a:chExt cx="2523600" cy="253080"/>
          </a:xfrm>
        </p:grpSpPr>
        <p:grpSp>
          <p:nvGrpSpPr>
            <p:cNvPr id="1039" name=""/>
            <p:cNvGrpSpPr/>
            <p:nvPr/>
          </p:nvGrpSpPr>
          <p:grpSpPr>
            <a:xfrm>
              <a:off x="6920280" y="5600880"/>
              <a:ext cx="2118240" cy="360"/>
              <a:chOff x="6920280" y="5600880"/>
              <a:chExt cx="2118240" cy="360"/>
            </a:xfrm>
          </p:grpSpPr>
          <p:sp>
            <p:nvSpPr>
              <p:cNvPr id="1040" name="Line 25"/>
              <p:cNvSpPr/>
              <p:nvPr/>
            </p:nvSpPr>
            <p:spPr>
              <a:xfrm>
                <a:off x="6920280" y="5600880"/>
                <a:ext cx="2118240" cy="0"/>
              </a:xfrm>
              <a:prstGeom prst="line">
                <a:avLst/>
              </a:prstGeom>
              <a:ln w="19080">
                <a:solidFill>
                  <a:srgbClr val="5ff8f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6920280" y="5600880"/>
                <a:ext cx="2118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514920" y="5348160"/>
              <a:ext cx="405000" cy="252720"/>
              <a:chOff x="6514920" y="5348160"/>
              <a:chExt cx="405000" cy="252720"/>
            </a:xfrm>
          </p:grpSpPr>
          <p:sp>
            <p:nvSpPr>
              <p:cNvPr id="1043" name="Line 26"/>
              <p:cNvSpPr/>
              <p:nvPr/>
            </p:nvSpPr>
            <p:spPr>
              <a:xfrm flipH="1" flipV="1">
                <a:off x="6514920" y="5348160"/>
                <a:ext cx="405000" cy="252720"/>
              </a:xfrm>
              <a:prstGeom prst="line">
                <a:avLst/>
              </a:prstGeom>
              <a:ln w="19080">
                <a:solidFill>
                  <a:srgbClr val="5ff8f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 rot="10800000">
                <a:off x="6514920" y="5348160"/>
                <a:ext cx="405000" cy="2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5" name="正五边形 1"/>
          <p:cNvSpPr/>
          <p:nvPr/>
        </p:nvSpPr>
        <p:spPr>
          <a:xfrm rot="19786200">
            <a:off x="2932200" y="2574720"/>
            <a:ext cx="1904760" cy="1760400"/>
          </a:xfrm>
          <a:prstGeom prst="pentagon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正五边形 43"/>
          <p:cNvSpPr/>
          <p:nvPr/>
        </p:nvSpPr>
        <p:spPr>
          <a:xfrm rot="549000">
            <a:off x="5047920" y="3463560"/>
            <a:ext cx="1905120" cy="1760400"/>
          </a:xfrm>
          <a:prstGeom prst="pentagon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正五边形 44"/>
          <p:cNvSpPr/>
          <p:nvPr/>
        </p:nvSpPr>
        <p:spPr>
          <a:xfrm rot="1234800">
            <a:off x="4844520" y="1152360"/>
            <a:ext cx="1905120" cy="1760760"/>
          </a:xfrm>
          <a:prstGeom prst="pentagon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Group 23"/>
          <p:cNvGrpSpPr/>
          <p:nvPr/>
        </p:nvGrpSpPr>
        <p:grpSpPr>
          <a:xfrm>
            <a:off x="5043600" y="1405080"/>
            <a:ext cx="1428480" cy="1434960"/>
            <a:chOff x="5043600" y="1405080"/>
            <a:chExt cx="1428480" cy="1434960"/>
          </a:xfrm>
        </p:grpSpPr>
        <p:sp>
          <p:nvSpPr>
            <p:cNvPr id="1049" name="椭圆 2"/>
            <p:cNvSpPr/>
            <p:nvPr/>
          </p:nvSpPr>
          <p:spPr>
            <a:xfrm>
              <a:off x="5043600" y="1405080"/>
              <a:ext cx="1428480" cy="1434960"/>
            </a:xfrm>
            <a:prstGeom prst="ellipse">
              <a:avLst/>
            </a:prstGeom>
            <a:solidFill>
              <a:srgbClr val="ffffff">
                <a:alpha val="46000"/>
              </a:srgbClr>
            </a:solidFill>
            <a:ln w="76320">
              <a:solidFill>
                <a:srgbClr val="ffde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44"/>
            <p:cNvSpPr/>
            <p:nvPr/>
          </p:nvSpPr>
          <p:spPr>
            <a:xfrm>
              <a:off x="5405400" y="17244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26"/>
          <p:cNvGrpSpPr/>
          <p:nvPr/>
        </p:nvGrpSpPr>
        <p:grpSpPr>
          <a:xfrm>
            <a:off x="5259240" y="3727440"/>
            <a:ext cx="1430640" cy="1428840"/>
            <a:chOff x="5259240" y="3727440"/>
            <a:chExt cx="1430640" cy="1428840"/>
          </a:xfrm>
        </p:grpSpPr>
        <p:sp>
          <p:nvSpPr>
            <p:cNvPr id="1052" name="椭圆 46"/>
            <p:cNvSpPr/>
            <p:nvPr/>
          </p:nvSpPr>
          <p:spPr>
            <a:xfrm>
              <a:off x="5259240" y="3727440"/>
              <a:ext cx="1430640" cy="1428840"/>
            </a:xfrm>
            <a:prstGeom prst="ellipse">
              <a:avLst/>
            </a:prstGeom>
            <a:solidFill>
              <a:srgbClr val="ffffff">
                <a:alpha val="46000"/>
              </a:srgbClr>
            </a:solidFill>
            <a:ln w="76320">
              <a:solidFill>
                <a:srgbClr val="8bb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47"/>
            <p:cNvSpPr/>
            <p:nvPr/>
          </p:nvSpPr>
          <p:spPr>
            <a:xfrm>
              <a:off x="5538600" y="4079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29"/>
          <p:cNvGrpSpPr/>
          <p:nvPr/>
        </p:nvGrpSpPr>
        <p:grpSpPr>
          <a:xfrm>
            <a:off x="3214800" y="2822400"/>
            <a:ext cx="1428480" cy="1428840"/>
            <a:chOff x="3214800" y="2822400"/>
            <a:chExt cx="1428480" cy="1428840"/>
          </a:xfrm>
        </p:grpSpPr>
        <p:sp>
          <p:nvSpPr>
            <p:cNvPr id="1055" name="椭圆 47"/>
            <p:cNvSpPr/>
            <p:nvPr/>
          </p:nvSpPr>
          <p:spPr>
            <a:xfrm>
              <a:off x="3214800" y="2822400"/>
              <a:ext cx="1428480" cy="1428840"/>
            </a:xfrm>
            <a:prstGeom prst="ellipse">
              <a:avLst/>
            </a:prstGeom>
            <a:solidFill>
              <a:srgbClr val="ffffff">
                <a:alpha val="46000"/>
              </a:srgbClr>
            </a:solidFill>
            <a:ln w="7632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42"/>
            <p:cNvSpPr/>
            <p:nvPr/>
          </p:nvSpPr>
          <p:spPr>
            <a:xfrm>
              <a:off x="3530520" y="31550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1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"/>
          <p:cNvSpPr/>
          <p:nvPr/>
        </p:nvSpPr>
        <p:spPr>
          <a:xfrm>
            <a:off x="763200" y="2093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14" descr="6"/>
          <p:cNvPicPr/>
          <p:nvPr/>
        </p:nvPicPr>
        <p:blipFill>
          <a:blip r:embed="rId1"/>
          <a:stretch/>
        </p:blipFill>
        <p:spPr>
          <a:xfrm rot="20068200">
            <a:off x="6327720" y="336996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061" name="Text Box 15"/>
          <p:cNvSpPr/>
          <p:nvPr/>
        </p:nvSpPr>
        <p:spPr>
          <a:xfrm>
            <a:off x="2298240" y="386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6"/>
          <p:cNvSpPr/>
          <p:nvPr/>
        </p:nvSpPr>
        <p:spPr>
          <a:xfrm>
            <a:off x="7587720" y="261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7"/>
          <p:cNvSpPr/>
          <p:nvPr/>
        </p:nvSpPr>
        <p:spPr>
          <a:xfrm>
            <a:off x="4353840" y="5032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8714880" y="4460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3"/>
          <p:cNvSpPr/>
          <p:nvPr/>
        </p:nvSpPr>
        <p:spPr>
          <a:xfrm>
            <a:off x="10799640" y="6338880"/>
            <a:ext cx="1392480" cy="527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3"/>
          <p:cNvSpPr/>
          <p:nvPr/>
        </p:nvSpPr>
        <p:spPr>
          <a:xfrm>
            <a:off x="10880640" y="6602400"/>
            <a:ext cx="581040" cy="25560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10355400" y="6654960"/>
            <a:ext cx="444240" cy="203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3"/>
          <p:cNvSpPr/>
          <p:nvPr/>
        </p:nvSpPr>
        <p:spPr>
          <a:xfrm>
            <a:off x="9131400" y="6726240"/>
            <a:ext cx="830160" cy="13176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3"/>
          <p:cNvSpPr/>
          <p:nvPr/>
        </p:nvSpPr>
        <p:spPr>
          <a:xfrm>
            <a:off x="11926800" y="6072120"/>
            <a:ext cx="265320" cy="18108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2"/>
          <a:stretch/>
        </p:blipFill>
        <p:spPr>
          <a:xfrm rot="20727600">
            <a:off x="4123800" y="3074760"/>
            <a:ext cx="2305080" cy="22986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" descr=""/>
          <p:cNvPicPr/>
          <p:nvPr/>
        </p:nvPicPr>
        <p:blipFill>
          <a:blip r:embed="rId3"/>
          <a:stretch/>
        </p:blipFill>
        <p:spPr>
          <a:xfrm rot="21028200">
            <a:off x="5294160" y="2533320"/>
            <a:ext cx="2305080" cy="22986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3" descr=""/>
          <p:cNvPicPr/>
          <p:nvPr/>
        </p:nvPicPr>
        <p:blipFill>
          <a:blip r:embed="rId4"/>
          <a:stretch/>
        </p:blipFill>
        <p:spPr>
          <a:xfrm rot="19929600">
            <a:off x="3098880" y="2336400"/>
            <a:ext cx="2305080" cy="2298600"/>
          </a:xfrm>
          <a:prstGeom prst="rect">
            <a:avLst/>
          </a:prstGeom>
          <a:ln w="0">
            <a:noFill/>
          </a:ln>
        </p:spPr>
      </p:pic>
      <p:grpSp>
        <p:nvGrpSpPr>
          <p:cNvPr id="1073" name="Group 18"/>
          <p:cNvGrpSpPr/>
          <p:nvPr/>
        </p:nvGrpSpPr>
        <p:grpSpPr>
          <a:xfrm>
            <a:off x="-312840" y="0"/>
            <a:ext cx="12501720" cy="1942920"/>
            <a:chOff x="-312840" y="0"/>
            <a:chExt cx="12501720" cy="1942920"/>
          </a:xfrm>
        </p:grpSpPr>
        <p:grpSp>
          <p:nvGrpSpPr>
            <p:cNvPr id="1074" name="Group 19"/>
            <p:cNvGrpSpPr/>
            <p:nvPr/>
          </p:nvGrpSpPr>
          <p:grpSpPr>
            <a:xfrm>
              <a:off x="-312840" y="0"/>
              <a:ext cx="12501720" cy="1942920"/>
              <a:chOff x="-312840" y="0"/>
              <a:chExt cx="12501720" cy="1942920"/>
            </a:xfrm>
          </p:grpSpPr>
          <p:sp>
            <p:nvSpPr>
              <p:cNvPr id="1075" name="矩形 1"/>
              <p:cNvSpPr/>
              <p:nvPr/>
            </p:nvSpPr>
            <p:spPr>
              <a:xfrm>
                <a:off x="10080" y="345960"/>
                <a:ext cx="12178800" cy="645120"/>
              </a:xfrm>
              <a:prstGeom prst="rect">
                <a:avLst/>
              </a:prstGeom>
              <a:solidFill>
                <a:srgbClr val="ff3333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Arial"/>
                    <a:ea typeface="华文隶书"/>
                  </a:rPr>
                  <a:t>                                                                        </a:t>
                </a:r>
                <a:r>
                  <a:rPr b="1" lang="zh-CN" sz="3600" spc="-1" strike="noStrike">
                    <a:solidFill>
                      <a:srgbClr val="ffffff"/>
                    </a:solidFill>
                    <a:latin typeface="仿宋"/>
                    <a:ea typeface="仿宋"/>
                  </a:rPr>
                  <a:t>点击添加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等腰三角形 2"/>
              <p:cNvSpPr/>
              <p:nvPr/>
            </p:nvSpPr>
            <p:spPr>
              <a:xfrm rot="10800000">
                <a:off x="-312840" y="633240"/>
                <a:ext cx="2466720" cy="1309320"/>
              </a:xfrm>
              <a:prstGeom prst="triangle">
                <a:avLst>
                  <a:gd name="adj" fmla="val 52884"/>
                </a:avLst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矩形 3"/>
              <p:cNvSpPr/>
              <p:nvPr/>
            </p:nvSpPr>
            <p:spPr>
              <a:xfrm>
                <a:off x="2658240" y="0"/>
                <a:ext cx="1356120" cy="1206360"/>
              </a:xfrm>
              <a:prstGeom prst="rect">
                <a:avLst/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文本框 6"/>
            <p:cNvSpPr/>
            <p:nvPr/>
          </p:nvSpPr>
          <p:spPr>
            <a:xfrm>
              <a:off x="132480" y="483840"/>
              <a:ext cx="197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-21599099">
                                      <p:cBhvr>
                                        <p:cTn id="156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-21599099">
                                      <p:cBhvr>
                                        <p:cTn id="158" dur="2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"/>
          <p:cNvSpPr/>
          <p:nvPr/>
        </p:nvSpPr>
        <p:spPr>
          <a:xfrm>
            <a:off x="734400" y="20160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3"/>
          <p:cNvSpPr/>
          <p:nvPr/>
        </p:nvSpPr>
        <p:spPr>
          <a:xfrm>
            <a:off x="10799640" y="6338880"/>
            <a:ext cx="1392480" cy="527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3"/>
          <p:cNvSpPr/>
          <p:nvPr/>
        </p:nvSpPr>
        <p:spPr>
          <a:xfrm>
            <a:off x="10880640" y="6602400"/>
            <a:ext cx="581040" cy="25560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3"/>
          <p:cNvSpPr/>
          <p:nvPr/>
        </p:nvSpPr>
        <p:spPr>
          <a:xfrm>
            <a:off x="10355400" y="6654960"/>
            <a:ext cx="444240" cy="203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3"/>
          <p:cNvSpPr/>
          <p:nvPr/>
        </p:nvSpPr>
        <p:spPr>
          <a:xfrm>
            <a:off x="9131400" y="6726240"/>
            <a:ext cx="830160" cy="13176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"/>
          <p:cNvSpPr/>
          <p:nvPr/>
        </p:nvSpPr>
        <p:spPr>
          <a:xfrm>
            <a:off x="11926800" y="6072120"/>
            <a:ext cx="265320" cy="18108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14"/>
          <p:cNvGrpSpPr/>
          <p:nvPr/>
        </p:nvGrpSpPr>
        <p:grpSpPr>
          <a:xfrm>
            <a:off x="2076840" y="1581120"/>
            <a:ext cx="7444440" cy="2719440"/>
            <a:chOff x="2076840" y="1581120"/>
            <a:chExt cx="7444440" cy="2719440"/>
          </a:xfrm>
        </p:grpSpPr>
        <p:sp>
          <p:nvSpPr>
            <p:cNvPr id="1088" name="圆角矩形 1"/>
            <p:cNvSpPr/>
            <p:nvPr/>
          </p:nvSpPr>
          <p:spPr>
            <a:xfrm rot="20622000">
              <a:off x="2011320" y="2631600"/>
              <a:ext cx="7575480" cy="618120"/>
            </a:xfrm>
            <a:prstGeom prst="roundRect">
              <a:avLst>
                <a:gd name="adj" fmla="val 16667"/>
              </a:avLst>
            </a:prstGeom>
            <a:solidFill>
              <a:srgbClr val="ffe79b"/>
            </a:solidFill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31"/>
            <p:cNvSpPr/>
            <p:nvPr/>
          </p:nvSpPr>
          <p:spPr>
            <a:xfrm rot="20592600">
              <a:off x="4706280" y="273528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宋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点击添加文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17"/>
          <p:cNvGrpSpPr/>
          <p:nvPr/>
        </p:nvGrpSpPr>
        <p:grpSpPr>
          <a:xfrm>
            <a:off x="2373840" y="2519280"/>
            <a:ext cx="7444440" cy="2719080"/>
            <a:chOff x="2373840" y="2519280"/>
            <a:chExt cx="7444440" cy="2719080"/>
          </a:xfrm>
        </p:grpSpPr>
        <p:sp>
          <p:nvSpPr>
            <p:cNvPr id="1091" name="圆角矩形 10"/>
            <p:cNvSpPr/>
            <p:nvPr/>
          </p:nvSpPr>
          <p:spPr>
            <a:xfrm rot="20622000">
              <a:off x="2307960" y="3569760"/>
              <a:ext cx="7575480" cy="617760"/>
            </a:xfrm>
            <a:prstGeom prst="roundRect">
              <a:avLst>
                <a:gd name="adj" fmla="val 16667"/>
              </a:avLst>
            </a:prstGeom>
            <a:solidFill>
              <a:srgbClr val="ff8885"/>
            </a:solidFill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19"/>
            <p:cNvSpPr/>
            <p:nvPr/>
          </p:nvSpPr>
          <p:spPr>
            <a:xfrm rot="20580000">
              <a:off x="5075280" y="358884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点击添加文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20"/>
          <p:cNvGrpSpPr/>
          <p:nvPr/>
        </p:nvGrpSpPr>
        <p:grpSpPr>
          <a:xfrm>
            <a:off x="2730960" y="3533400"/>
            <a:ext cx="7444440" cy="2719440"/>
            <a:chOff x="2730960" y="3533400"/>
            <a:chExt cx="7444440" cy="2719440"/>
          </a:xfrm>
        </p:grpSpPr>
        <p:sp>
          <p:nvSpPr>
            <p:cNvPr id="1094" name="圆角矩形 11"/>
            <p:cNvSpPr/>
            <p:nvPr/>
          </p:nvSpPr>
          <p:spPr>
            <a:xfrm rot="20622000">
              <a:off x="2665440" y="4583880"/>
              <a:ext cx="7575480" cy="618120"/>
            </a:xfrm>
            <a:prstGeom prst="roundRect">
              <a:avLst>
                <a:gd name="adj" fmla="val 16667"/>
              </a:avLst>
            </a:prstGeom>
            <a:solidFill>
              <a:srgbClr val="8bbced"/>
            </a:solidFill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22"/>
            <p:cNvSpPr/>
            <p:nvPr/>
          </p:nvSpPr>
          <p:spPr>
            <a:xfrm rot="20580000">
              <a:off x="5378400" y="455760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点击添加文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Group 19"/>
          <p:cNvGrpSpPr/>
          <p:nvPr/>
        </p:nvGrpSpPr>
        <p:grpSpPr>
          <a:xfrm>
            <a:off x="-313200" y="0"/>
            <a:ext cx="12503520" cy="1942920"/>
            <a:chOff x="-313200" y="0"/>
            <a:chExt cx="12503520" cy="1942920"/>
          </a:xfrm>
        </p:grpSpPr>
        <p:grpSp>
          <p:nvGrpSpPr>
            <p:cNvPr id="1097" name="Group 20"/>
            <p:cNvGrpSpPr/>
            <p:nvPr/>
          </p:nvGrpSpPr>
          <p:grpSpPr>
            <a:xfrm>
              <a:off x="-313200" y="0"/>
              <a:ext cx="12503520" cy="1942920"/>
              <a:chOff x="-313200" y="0"/>
              <a:chExt cx="12503520" cy="1942920"/>
            </a:xfrm>
          </p:grpSpPr>
          <p:sp>
            <p:nvSpPr>
              <p:cNvPr id="1098" name="矩形 1"/>
              <p:cNvSpPr/>
              <p:nvPr/>
            </p:nvSpPr>
            <p:spPr>
              <a:xfrm>
                <a:off x="10080" y="345960"/>
                <a:ext cx="12180240" cy="645120"/>
              </a:xfrm>
              <a:prstGeom prst="rect">
                <a:avLst/>
              </a:prstGeom>
              <a:solidFill>
                <a:srgbClr val="ff3333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Arial"/>
                    <a:ea typeface="华文隶书"/>
                  </a:rPr>
                  <a:t>                                                                  </a:t>
                </a:r>
                <a:r>
                  <a:rPr b="1" lang="zh-CN" sz="3600" spc="-1" strike="noStrike">
                    <a:solidFill>
                      <a:srgbClr val="ffffff"/>
                    </a:solidFill>
                    <a:latin typeface="仿宋"/>
                    <a:ea typeface="仿宋"/>
                  </a:rPr>
                  <a:t>点击添加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等腰三角形 2"/>
              <p:cNvSpPr/>
              <p:nvPr/>
            </p:nvSpPr>
            <p:spPr>
              <a:xfrm rot="10800000">
                <a:off x="-313200" y="633240"/>
                <a:ext cx="2467080" cy="1309320"/>
              </a:xfrm>
              <a:prstGeom prst="triangle">
                <a:avLst>
                  <a:gd name="adj" fmla="val 52884"/>
                </a:avLst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矩形 3"/>
              <p:cNvSpPr/>
              <p:nvPr/>
            </p:nvSpPr>
            <p:spPr>
              <a:xfrm>
                <a:off x="2658600" y="0"/>
                <a:ext cx="1356120" cy="1206360"/>
              </a:xfrm>
              <a:prstGeom prst="rect">
                <a:avLst/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文本框 6"/>
            <p:cNvSpPr/>
            <p:nvPr/>
          </p:nvSpPr>
          <p:spPr>
            <a:xfrm>
              <a:off x="132480" y="483840"/>
              <a:ext cx="197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矩形 3"/>
          <p:cNvSpPr/>
          <p:nvPr/>
        </p:nvSpPr>
        <p:spPr>
          <a:xfrm>
            <a:off x="11007720" y="6613560"/>
            <a:ext cx="581040" cy="25380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3"/>
          <p:cNvSpPr/>
          <p:nvPr/>
        </p:nvSpPr>
        <p:spPr>
          <a:xfrm>
            <a:off x="9136080" y="6718320"/>
            <a:ext cx="830160" cy="13032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圆角矩形 1"/>
          <p:cNvSpPr/>
          <p:nvPr/>
        </p:nvSpPr>
        <p:spPr>
          <a:xfrm>
            <a:off x="212760" y="230040"/>
            <a:ext cx="11734920" cy="6477120"/>
          </a:xfrm>
          <a:prstGeom prst="roundRect">
            <a:avLst>
              <a:gd name="adj" fmla="val 16667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单圆角矩形 9"/>
          <p:cNvSpPr/>
          <p:nvPr/>
        </p:nvSpPr>
        <p:spPr>
          <a:xfrm rot="5400000">
            <a:off x="9829440" y="228240"/>
            <a:ext cx="2117880" cy="2117880"/>
          </a:xfrm>
          <a:custGeom>
            <a:avLst/>
            <a:gdLst/>
            <a:ahLst/>
            <a:rect l="l" t="t" r="r" b="b"/>
            <a:pathLst>
              <a:path w="2117725" h="2117725">
                <a:moveTo>
                  <a:pt x="1058863" y="0"/>
                </a:moveTo>
                <a:lnTo>
                  <a:pt x="2117725" y="0"/>
                </a:lnTo>
                <a:lnTo>
                  <a:pt x="2117725" y="2117725"/>
                </a:lnTo>
                <a:lnTo>
                  <a:pt x="0" y="2117725"/>
                </a:lnTo>
                <a:lnTo>
                  <a:pt x="0" y="1058863"/>
                </a:lnTo>
                <a:cubicBezTo>
                  <a:pt x="0" y="474069"/>
                  <a:pt x="474069" y="0"/>
                  <a:pt x="1058863" y="0"/>
                </a:cubicBezTo>
                <a:close/>
              </a:path>
            </a:pathLst>
          </a:custGeom>
          <a:solidFill>
            <a:srgbClr val="ff646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单圆角矩形 2"/>
          <p:cNvSpPr/>
          <p:nvPr/>
        </p:nvSpPr>
        <p:spPr>
          <a:xfrm rot="10800000">
            <a:off x="9829440" y="4784760"/>
            <a:ext cx="2117880" cy="1920960"/>
          </a:xfrm>
          <a:custGeom>
            <a:avLst/>
            <a:gdLst/>
            <a:ahLst/>
            <a:rect l="l" t="t" r="r" b="b"/>
            <a:pathLst>
              <a:path w="2117725" h="1920875">
                <a:moveTo>
                  <a:pt x="960438" y="0"/>
                </a:moveTo>
                <a:lnTo>
                  <a:pt x="2117725" y="0"/>
                </a:lnTo>
                <a:lnTo>
                  <a:pt x="2117725" y="1920875"/>
                </a:lnTo>
                <a:lnTo>
                  <a:pt x="0" y="1920875"/>
                </a:lnTo>
                <a:lnTo>
                  <a:pt x="0" y="960438"/>
                </a:lnTo>
                <a:cubicBezTo>
                  <a:pt x="0" y="430003"/>
                  <a:pt x="430003" y="0"/>
                  <a:pt x="960438" y="0"/>
                </a:cubicBezTo>
                <a:close/>
              </a:path>
            </a:pathLst>
          </a:custGeom>
          <a:solidFill>
            <a:srgbClr val="8bbced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5"/>
          <p:cNvSpPr/>
          <p:nvPr/>
        </p:nvSpPr>
        <p:spPr>
          <a:xfrm>
            <a:off x="9688680" y="70488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6"/>
          <p:cNvSpPr/>
          <p:nvPr/>
        </p:nvSpPr>
        <p:spPr>
          <a:xfrm>
            <a:off x="9688680" y="299232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7"/>
          <p:cNvSpPr/>
          <p:nvPr/>
        </p:nvSpPr>
        <p:spPr>
          <a:xfrm>
            <a:off x="9688680" y="502128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椭圆 1"/>
          <p:cNvSpPr/>
          <p:nvPr/>
        </p:nvSpPr>
        <p:spPr>
          <a:xfrm>
            <a:off x="2746440" y="1152360"/>
            <a:ext cx="3292560" cy="329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同心圆 3"/>
          <p:cNvSpPr/>
          <p:nvPr/>
        </p:nvSpPr>
        <p:spPr>
          <a:xfrm>
            <a:off x="3009960" y="1405080"/>
            <a:ext cx="2759040" cy="2759040"/>
          </a:xfrm>
          <a:custGeom>
            <a:avLst/>
            <a:gdLst/>
            <a:ahLst/>
            <a:rect l="l" t="t" r="r" b="b"/>
            <a:pathLst>
              <a:path w="2759075" h="2759075">
                <a:moveTo>
                  <a:pt x="0" y="1379538"/>
                </a:moveTo>
                <a:lnTo>
                  <a:pt x="0" y="1379538"/>
                </a:lnTo>
                <a:cubicBezTo>
                  <a:pt x="1" y="617640"/>
                  <a:pt x="617640" y="2"/>
                  <a:pt x="1379538" y="2"/>
                </a:cubicBezTo>
                <a:cubicBezTo>
                  <a:pt x="1379538" y="2"/>
                  <a:pt x="1379539" y="2"/>
                  <a:pt x="1379539" y="2"/>
                </a:cubicBezTo>
                <a:cubicBezTo>
                  <a:pt x="2141437" y="3"/>
                  <a:pt x="2759076" y="617642"/>
                  <a:pt x="2759076" y="1379540"/>
                </a:cubicBezTo>
                <a:cubicBezTo>
                  <a:pt x="2759076" y="1379540"/>
                  <a:pt x="2759075" y="1379541"/>
                  <a:pt x="2759075" y="1379542"/>
                </a:cubicBezTo>
                <a:lnTo>
                  <a:pt x="2759076" y="1379542"/>
                </a:lnTo>
                <a:cubicBezTo>
                  <a:pt x="2759076" y="2141439"/>
                  <a:pt x="2141435" y="2759080"/>
                  <a:pt x="1379538" y="2759080"/>
                </a:cubicBezTo>
                <a:cubicBezTo>
                  <a:pt x="1379537" y="2759080"/>
                  <a:pt x="1379537" y="2759079"/>
                  <a:pt x="1379537" y="2759079"/>
                </a:cubicBezTo>
                <a:cubicBezTo>
                  <a:pt x="617639" y="2759079"/>
                  <a:pt x="0" y="2141439"/>
                  <a:pt x="0" y="1379542"/>
                </a:cubicBezTo>
                <a:cubicBezTo>
                  <a:pt x="0" y="1379541"/>
                  <a:pt x="0" y="1379540"/>
                  <a:pt x="0" y="1379540"/>
                </a:cubicBezTo>
                <a:lnTo>
                  <a:pt x="0" y="1379538"/>
                </a:lnTo>
                <a:close/>
                <a:moveTo>
                  <a:pt x="348444" y="1379538"/>
                </a:moveTo>
                <a:lnTo>
                  <a:pt x="348444" y="1379538"/>
                </a:lnTo>
                <a:cubicBezTo>
                  <a:pt x="348444" y="1379538"/>
                  <a:pt x="348444" y="1379538"/>
                  <a:pt x="348444" y="1379538"/>
                </a:cubicBezTo>
                <a:cubicBezTo>
                  <a:pt x="348444" y="1948996"/>
                  <a:pt x="810079" y="2410632"/>
                  <a:pt x="1379537" y="2410632"/>
                </a:cubicBezTo>
                <a:cubicBezTo>
                  <a:pt x="1379537" y="2410632"/>
                  <a:pt x="1379537" y="2410633"/>
                  <a:pt x="1379538" y="2410633"/>
                </a:cubicBezTo>
                <a:cubicBezTo>
                  <a:pt x="1948995" y="2410633"/>
                  <a:pt x="2410631" y="1948997"/>
                  <a:pt x="2410631" y="1379540"/>
                </a:cubicBezTo>
                <a:lnTo>
                  <a:pt x="2410632" y="1379540"/>
                </a:lnTo>
                <a:cubicBezTo>
                  <a:pt x="2410632" y="810082"/>
                  <a:pt x="1948995" y="348446"/>
                  <a:pt x="1379538" y="348446"/>
                </a:cubicBezTo>
                <a:cubicBezTo>
                  <a:pt x="1379537" y="348446"/>
                  <a:pt x="1379537" y="348446"/>
                  <a:pt x="1379537" y="348446"/>
                </a:cubicBezTo>
                <a:cubicBezTo>
                  <a:pt x="810079" y="348446"/>
                  <a:pt x="348443" y="810081"/>
                  <a:pt x="348443" y="1379539"/>
                </a:cubicBezTo>
                <a:lnTo>
                  <a:pt x="348444" y="1379538"/>
                </a:lnTo>
                <a:close/>
              </a:path>
            </a:pathLst>
          </a:cu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1"/>
          <p:cNvSpPr/>
          <p:nvPr/>
        </p:nvSpPr>
        <p:spPr>
          <a:xfrm>
            <a:off x="3954960" y="2060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添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"/>
          <p:cNvGrpSpPr/>
          <p:nvPr/>
        </p:nvGrpSpPr>
        <p:grpSpPr>
          <a:xfrm>
            <a:off x="5416920" y="489600"/>
            <a:ext cx="1751760" cy="914400"/>
            <a:chOff x="5416920" y="489600"/>
            <a:chExt cx="1751760" cy="914400"/>
          </a:xfrm>
        </p:grpSpPr>
        <p:sp>
          <p:nvSpPr>
            <p:cNvPr id="1114" name="Text Box 31"/>
            <p:cNvSpPr/>
            <p:nvPr/>
          </p:nvSpPr>
          <p:spPr>
            <a:xfrm rot="21528000">
              <a:off x="5716440" y="698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椭圆 4"/>
            <p:cNvSpPr/>
            <p:nvPr/>
          </p:nvSpPr>
          <p:spPr>
            <a:xfrm rot="21528000">
              <a:off x="5425920" y="507600"/>
              <a:ext cx="1733760" cy="8780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14"/>
          <p:cNvGrpSpPr/>
          <p:nvPr/>
        </p:nvGrpSpPr>
        <p:grpSpPr>
          <a:xfrm>
            <a:off x="5927040" y="1603080"/>
            <a:ext cx="1830240" cy="1088280"/>
            <a:chOff x="5927040" y="1603080"/>
            <a:chExt cx="1830240" cy="1088280"/>
          </a:xfrm>
        </p:grpSpPr>
        <p:sp>
          <p:nvSpPr>
            <p:cNvPr id="1117" name="Text Box 31"/>
            <p:cNvSpPr/>
            <p:nvPr/>
          </p:nvSpPr>
          <p:spPr>
            <a:xfrm rot="21167400">
              <a:off x="6267960" y="1904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椭圆 4"/>
            <p:cNvSpPr/>
            <p:nvPr/>
          </p:nvSpPr>
          <p:spPr>
            <a:xfrm rot="21167400">
              <a:off x="5974920" y="1708200"/>
              <a:ext cx="1733760" cy="87768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17"/>
          <p:cNvGrpSpPr/>
          <p:nvPr/>
        </p:nvGrpSpPr>
        <p:grpSpPr>
          <a:xfrm>
            <a:off x="6009840" y="2771280"/>
            <a:ext cx="1829880" cy="1088640"/>
            <a:chOff x="6009840" y="2771280"/>
            <a:chExt cx="1829880" cy="1088640"/>
          </a:xfrm>
        </p:grpSpPr>
        <p:sp>
          <p:nvSpPr>
            <p:cNvPr id="1120" name="Text Box 31"/>
            <p:cNvSpPr/>
            <p:nvPr/>
          </p:nvSpPr>
          <p:spPr>
            <a:xfrm rot="21167400">
              <a:off x="6350040" y="3072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椭圆 4"/>
            <p:cNvSpPr/>
            <p:nvPr/>
          </p:nvSpPr>
          <p:spPr>
            <a:xfrm rot="21167400">
              <a:off x="6058080" y="2876400"/>
              <a:ext cx="1733400" cy="8780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20"/>
          <p:cNvGrpSpPr/>
          <p:nvPr/>
        </p:nvGrpSpPr>
        <p:grpSpPr>
          <a:xfrm>
            <a:off x="5123880" y="4001760"/>
            <a:ext cx="1829520" cy="1086840"/>
            <a:chOff x="5123880" y="4001760"/>
            <a:chExt cx="1829520" cy="1086840"/>
          </a:xfrm>
        </p:grpSpPr>
        <p:sp>
          <p:nvSpPr>
            <p:cNvPr id="1123" name="Text Box 31"/>
            <p:cNvSpPr/>
            <p:nvPr/>
          </p:nvSpPr>
          <p:spPr>
            <a:xfrm rot="21167400">
              <a:off x="5464440" y="4303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椭圆 4"/>
            <p:cNvSpPr/>
            <p:nvPr/>
          </p:nvSpPr>
          <p:spPr>
            <a:xfrm rot="21167400">
              <a:off x="5171760" y="4106880"/>
              <a:ext cx="1733400" cy="8762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 0.050926 C -0.173125 -0.003056 -0.2475 0.053241 -0.27776 0.174444 C -0.308125 0.295648 -0.2775 0.4375 -0.209375 0.491389 C -0.141198 0.545185 -0.061458 0.490926 -0.031042 0.36963 C -0.000729000000000001 0.248704 0.046042 0.083519 -0.016771 0.036296 E">
                                      <p:cBhvr>
                                        <p:cTn id="194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80521 -0.004722 C -0.111927 -0.124907 -0.192344 -0.176944 -0.259948 -0.121111 C -0.327552 -0.064722 -0.356823 0.078056 -0.325156 0.198241 C -0.29375 0.318426 -0.213281 0.370463 -0.145677 0.314352 C -0.078177 0.258426 0.017969 0.133704 -0.007292 0.017778 E">
                                      <p:cBhvr>
                                        <p:cTn id="199" dur="20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85781 0.018519 C -0.056719 -0.103519 -0.088698 -0.244444 -0.157344 -0.296296 C -0.226042 -0.348056 -0.305313 -0.291019 -0.334375 -0.168981 C -0.363542 -0.046944 -0.331562 0.093981 -0.262917 0.145741 C -0.194219 0.197593 -0.073854 0.166111 -0.04 0.052222 E">
                                      <p:cBhvr>
                                        <p:cTn id="204" dur="2000" fill="hold"/>
                                        <p:tgtEl>
                                          <p:spTgt spid="1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0052 -0.036204 C -0.013021 -0.094352 0.014739 -0.238056 -0.017917 -0.357222 C -0.050625 -0.476389 -0.131407 -0.525833 -0.198438 -0.467778 C -0.265469 -0.40963 -0.293334 -0.265926 -0.260677 -0.146759 C -0.227969 -0.027593 -0.116511 0.058704 -0.051615 0.011667 E">
                                      <p:cBhvr>
                                        <p:cTn id="209" dur="2000" fill="hold"/>
                                        <p:tgtEl>
                                          <p:spTgt spid="1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42 0 L 0.031562 0.26537 E">
                                      <p:cBhvr>
                                        <p:cTn id="231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矩形 1"/>
          <p:cNvSpPr/>
          <p:nvPr/>
        </p:nvSpPr>
        <p:spPr>
          <a:xfrm>
            <a:off x="0" y="339840"/>
            <a:ext cx="12192120" cy="64116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  <a:ea typeface="华文隶书"/>
              </a:rPr>
              <a:t>     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点击添加文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等腰三角形 2"/>
          <p:cNvSpPr/>
          <p:nvPr/>
        </p:nvSpPr>
        <p:spPr>
          <a:xfrm rot="10800000">
            <a:off x="-219600" y="605880"/>
            <a:ext cx="2459160" cy="1314360"/>
          </a:xfrm>
          <a:prstGeom prst="triangle">
            <a:avLst>
              <a:gd name="adj" fmla="val 5288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宋体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6"/>
          <p:cNvSpPr/>
          <p:nvPr/>
        </p:nvSpPr>
        <p:spPr>
          <a:xfrm>
            <a:off x="198360" y="73332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1"/>
          <p:cNvSpPr/>
          <p:nvPr/>
        </p:nvSpPr>
        <p:spPr>
          <a:xfrm>
            <a:off x="683640" y="1920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9"/>
          <p:cNvGrpSpPr/>
          <p:nvPr/>
        </p:nvGrpSpPr>
        <p:grpSpPr>
          <a:xfrm>
            <a:off x="4064040" y="1909800"/>
            <a:ext cx="6721200" cy="1768320"/>
            <a:chOff x="4064040" y="1909800"/>
            <a:chExt cx="6721200" cy="1768320"/>
          </a:xfrm>
        </p:grpSpPr>
        <p:sp>
          <p:nvSpPr>
            <p:cNvPr id="1133" name="圆角矩形 15"/>
            <p:cNvSpPr/>
            <p:nvPr/>
          </p:nvSpPr>
          <p:spPr>
            <a:xfrm>
              <a:off x="4519800" y="2962440"/>
              <a:ext cx="6265440" cy="715680"/>
            </a:xfrm>
            <a:prstGeom prst="roundRect">
              <a:avLst>
                <a:gd name="adj" fmla="val 16667"/>
              </a:avLst>
            </a:prstGeom>
            <a:solidFill>
              <a:srgbClr val="ff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椭圆 2"/>
            <p:cNvSpPr/>
            <p:nvPr/>
          </p:nvSpPr>
          <p:spPr>
            <a:xfrm>
              <a:off x="4064040" y="1909800"/>
              <a:ext cx="1567440" cy="1567080"/>
            </a:xfrm>
            <a:prstGeom prst="ellipse">
              <a:avLst/>
            </a:prstGeom>
            <a:solidFill>
              <a:srgbClr val="ff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49"/>
            <p:cNvSpPr/>
            <p:nvPr/>
          </p:nvSpPr>
          <p:spPr>
            <a:xfrm>
              <a:off x="5711400" y="29955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13"/>
          <p:cNvGrpSpPr/>
          <p:nvPr/>
        </p:nvGrpSpPr>
        <p:grpSpPr>
          <a:xfrm>
            <a:off x="3305160" y="2738520"/>
            <a:ext cx="7389720" cy="1676160"/>
            <a:chOff x="3305160" y="2738520"/>
            <a:chExt cx="7389720" cy="1676160"/>
          </a:xfrm>
        </p:grpSpPr>
        <p:sp>
          <p:nvSpPr>
            <p:cNvPr id="1137" name="椭圆 12"/>
            <p:cNvSpPr/>
            <p:nvPr/>
          </p:nvSpPr>
          <p:spPr>
            <a:xfrm>
              <a:off x="3305160" y="2738520"/>
              <a:ext cx="1443600" cy="1676160"/>
            </a:xfrm>
            <a:prstGeom prst="ellipse">
              <a:avLst/>
            </a:prstGeom>
            <a:solidFill>
              <a:srgbClr val="8bb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Group 15"/>
            <p:cNvGrpSpPr/>
            <p:nvPr/>
          </p:nvGrpSpPr>
          <p:grpSpPr>
            <a:xfrm>
              <a:off x="3551040" y="2782800"/>
              <a:ext cx="7143840" cy="1562040"/>
              <a:chOff x="3551040" y="2782800"/>
              <a:chExt cx="7143840" cy="1562040"/>
            </a:xfrm>
          </p:grpSpPr>
          <p:sp>
            <p:nvSpPr>
              <p:cNvPr id="1139" name="圆角矩形 16"/>
              <p:cNvSpPr/>
              <p:nvPr/>
            </p:nvSpPr>
            <p:spPr>
              <a:xfrm>
                <a:off x="3786120" y="3588120"/>
                <a:ext cx="6908760" cy="756720"/>
              </a:xfrm>
              <a:prstGeom prst="roundRect">
                <a:avLst>
                  <a:gd name="adj" fmla="val 16667"/>
                </a:avLst>
              </a:prstGeom>
              <a:solidFill>
                <a:srgbClr val="8bb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Text Box 48"/>
              <p:cNvSpPr/>
              <p:nvPr/>
            </p:nvSpPr>
            <p:spPr>
              <a:xfrm>
                <a:off x="6219360" y="3683160"/>
                <a:ext cx="238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点击添加文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31"/>
              <p:cNvSpPr/>
              <p:nvPr/>
            </p:nvSpPr>
            <p:spPr>
              <a:xfrm>
                <a:off x="3551040" y="2782800"/>
                <a:ext cx="6469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2" name="Group 19"/>
          <p:cNvGrpSpPr/>
          <p:nvPr/>
        </p:nvGrpSpPr>
        <p:grpSpPr>
          <a:xfrm>
            <a:off x="2374920" y="3801960"/>
            <a:ext cx="8166240" cy="1984320"/>
            <a:chOff x="2374920" y="3801960"/>
            <a:chExt cx="8166240" cy="1984320"/>
          </a:xfrm>
        </p:grpSpPr>
        <p:sp>
          <p:nvSpPr>
            <p:cNvPr id="1143" name="椭圆 13"/>
            <p:cNvSpPr/>
            <p:nvPr/>
          </p:nvSpPr>
          <p:spPr>
            <a:xfrm>
              <a:off x="2374920" y="3801960"/>
              <a:ext cx="1917720" cy="1984320"/>
            </a:xfrm>
            <a:prstGeom prst="ellipse">
              <a:avLst/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Group 21"/>
            <p:cNvGrpSpPr/>
            <p:nvPr/>
          </p:nvGrpSpPr>
          <p:grpSpPr>
            <a:xfrm>
              <a:off x="2881080" y="4049640"/>
              <a:ext cx="7660080" cy="1396440"/>
              <a:chOff x="2881080" y="4049640"/>
              <a:chExt cx="7660080" cy="1396440"/>
            </a:xfrm>
          </p:grpSpPr>
          <p:sp>
            <p:nvSpPr>
              <p:cNvPr id="1145" name="圆角矩形 3"/>
              <p:cNvSpPr/>
              <p:nvPr/>
            </p:nvSpPr>
            <p:spPr>
              <a:xfrm>
                <a:off x="3461760" y="4373280"/>
                <a:ext cx="7079400" cy="1072800"/>
              </a:xfrm>
              <a:prstGeom prst="roundRect">
                <a:avLst>
                  <a:gd name="adj" fmla="val 16667"/>
                </a:avLst>
              </a:prstGeom>
              <a:solidFill>
                <a:srgbClr val="ffd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Text Box 47"/>
              <p:cNvSpPr/>
              <p:nvPr/>
            </p:nvSpPr>
            <p:spPr>
              <a:xfrm>
                <a:off x="5783400" y="4643280"/>
                <a:ext cx="228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点击添加文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31"/>
              <p:cNvSpPr/>
              <p:nvPr/>
            </p:nvSpPr>
            <p:spPr>
              <a:xfrm>
                <a:off x="2881080" y="4049640"/>
                <a:ext cx="7462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8" name="直角三角形 1"/>
          <p:cNvSpPr/>
          <p:nvPr/>
        </p:nvSpPr>
        <p:spPr>
          <a:xfrm rot="16200000">
            <a:off x="11586960" y="6252840"/>
            <a:ext cx="368280" cy="838080"/>
          </a:xfrm>
          <a:prstGeom prst="rtTriangle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矩形 1"/>
          <p:cNvSpPr/>
          <p:nvPr/>
        </p:nvSpPr>
        <p:spPr>
          <a:xfrm>
            <a:off x="0" y="339840"/>
            <a:ext cx="11449080" cy="5331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  <a:ea typeface="华文隶书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等腰三角形 2"/>
          <p:cNvSpPr/>
          <p:nvPr/>
        </p:nvSpPr>
        <p:spPr>
          <a:xfrm rot="10800000">
            <a:off x="-227520" y="808920"/>
            <a:ext cx="2459160" cy="131436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769560" y="5536800"/>
            <a:ext cx="560160" cy="138600"/>
            <a:chOff x="3769560" y="5536800"/>
            <a:chExt cx="560160" cy="138600"/>
          </a:xfrm>
        </p:grpSpPr>
        <p:sp>
          <p:nvSpPr>
            <p:cNvPr id="1155" name="Line 36"/>
            <p:cNvSpPr/>
            <p:nvPr/>
          </p:nvSpPr>
          <p:spPr>
            <a:xfrm flipV="1">
              <a:off x="3769920" y="5604840"/>
              <a:ext cx="559800" cy="2880"/>
            </a:xfrm>
            <a:prstGeom prst="line">
              <a:avLst/>
            </a:prstGeom>
            <a:ln w="19080">
              <a:solidFill>
                <a:srgbClr val="aeaea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 txBox="1"/>
            <p:nvPr/>
          </p:nvSpPr>
          <p:spPr>
            <a:xfrm rot="11220000">
              <a:off x="3771360" y="5570280"/>
              <a:ext cx="55548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9"/>
          <p:cNvGrpSpPr/>
          <p:nvPr/>
        </p:nvGrpSpPr>
        <p:grpSpPr>
          <a:xfrm>
            <a:off x="168120" y="2233440"/>
            <a:ext cx="3999240" cy="2610000"/>
            <a:chOff x="168120" y="2233440"/>
            <a:chExt cx="3999240" cy="2610000"/>
          </a:xfrm>
        </p:grpSpPr>
        <p:sp>
          <p:nvSpPr>
            <p:cNvPr id="1158" name="Text Box 42"/>
            <p:cNvSpPr/>
            <p:nvPr/>
          </p:nvSpPr>
          <p:spPr>
            <a:xfrm>
              <a:off x="1249560" y="2682720"/>
              <a:ext cx="29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22"/>
            <p:cNvGrpSpPr/>
            <p:nvPr/>
          </p:nvGrpSpPr>
          <p:grpSpPr>
            <a:xfrm>
              <a:off x="168120" y="2233440"/>
              <a:ext cx="3899160" cy="2610000"/>
              <a:chOff x="168120" y="2233440"/>
              <a:chExt cx="3899160" cy="2610000"/>
            </a:xfrm>
          </p:grpSpPr>
          <p:sp>
            <p:nvSpPr>
              <p:cNvPr id="1160" name="矩形 9"/>
              <p:cNvSpPr/>
              <p:nvPr/>
            </p:nvSpPr>
            <p:spPr>
              <a:xfrm>
                <a:off x="743760" y="2477160"/>
                <a:ext cx="3323520" cy="2366280"/>
              </a:xfrm>
              <a:prstGeom prst="rect">
                <a:avLst/>
              </a:prstGeom>
              <a:noFill/>
              <a:ln w="63360">
                <a:solidFill>
                  <a:srgbClr val="ffb1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直角三角形 10"/>
              <p:cNvSpPr/>
              <p:nvPr/>
            </p:nvSpPr>
            <p:spPr>
              <a:xfrm rot="16200000">
                <a:off x="3583080" y="4383720"/>
                <a:ext cx="473400" cy="4118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组合 13"/>
              <p:cNvGrpSpPr/>
              <p:nvPr/>
            </p:nvGrpSpPr>
            <p:grpSpPr>
              <a:xfrm>
                <a:off x="168120" y="2233440"/>
                <a:ext cx="1226520" cy="1143000"/>
                <a:chOff x="168120" y="2233440"/>
                <a:chExt cx="1226520" cy="1143000"/>
              </a:xfrm>
            </p:grpSpPr>
            <p:sp>
              <p:nvSpPr>
                <p:cNvPr id="1163" name="同心圆 6"/>
                <p:cNvSpPr/>
                <p:nvPr/>
              </p:nvSpPr>
              <p:spPr>
                <a:xfrm>
                  <a:off x="168120" y="2233440"/>
                  <a:ext cx="1226520" cy="114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3899" y="10800"/>
                      </a:moveTo>
                      <a:cubicBezTo>
                        <a:pt x="3899" y="14611"/>
                        <a:pt x="6989" y="17701"/>
                        <a:pt x="10800" y="17701"/>
                      </a:cubicBezTo>
                      <a:cubicBezTo>
                        <a:pt x="14611" y="17701"/>
                        <a:pt x="17701" y="14611"/>
                        <a:pt x="17701" y="10800"/>
                      </a:cubicBezTo>
                      <a:cubicBezTo>
                        <a:pt x="17701" y="6989"/>
                        <a:pt x="14611" y="3899"/>
                        <a:pt x="10800" y="3899"/>
                      </a:cubicBezTo>
                      <a:cubicBezTo>
                        <a:pt x="6989" y="3899"/>
                        <a:pt x="3899" y="6989"/>
                        <a:pt x="3899" y="10800"/>
                      </a:cubicBezTo>
                      <a:close/>
                    </a:path>
                  </a:pathLst>
                </a:custGeom>
                <a:solidFill>
                  <a:srgbClr val="ff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椭圆 12"/>
                <p:cNvSpPr/>
                <p:nvPr/>
              </p:nvSpPr>
              <p:spPr>
                <a:xfrm>
                  <a:off x="405720" y="2364840"/>
                  <a:ext cx="751320" cy="841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a23b46"/>
                      </a:solidFill>
                      <a:latin typeface="DFPYeaSong-B5"/>
                      <a:ea typeface="DFPYeaSong-B5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5" name="Group 17"/>
          <p:cNvGrpSpPr/>
          <p:nvPr/>
        </p:nvGrpSpPr>
        <p:grpSpPr>
          <a:xfrm>
            <a:off x="3432240" y="5308560"/>
            <a:ext cx="852480" cy="793800"/>
            <a:chOff x="3432240" y="5308560"/>
            <a:chExt cx="852480" cy="793800"/>
          </a:xfrm>
        </p:grpSpPr>
        <p:sp>
          <p:nvSpPr>
            <p:cNvPr id="1166" name="同心圆 31"/>
            <p:cNvSpPr/>
            <p:nvPr/>
          </p:nvSpPr>
          <p:spPr>
            <a:xfrm>
              <a:off x="3432240" y="5308560"/>
              <a:ext cx="852480" cy="79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899" y="10800"/>
                  </a:moveTo>
                  <a:cubicBezTo>
                    <a:pt x="3899" y="14611"/>
                    <a:pt x="6989" y="17701"/>
                    <a:pt x="10800" y="17701"/>
                  </a:cubicBezTo>
                  <a:cubicBezTo>
                    <a:pt x="14611" y="17701"/>
                    <a:pt x="17701" y="14611"/>
                    <a:pt x="17701" y="10800"/>
                  </a:cubicBezTo>
                  <a:cubicBezTo>
                    <a:pt x="17701" y="6989"/>
                    <a:pt x="14611" y="3899"/>
                    <a:pt x="10800" y="3899"/>
                  </a:cubicBezTo>
                  <a:cubicBezTo>
                    <a:pt x="6989" y="3899"/>
                    <a:pt x="3899" y="6989"/>
                    <a:pt x="3899" y="10800"/>
                  </a:cubicBezTo>
                  <a:close/>
                </a:path>
              </a:pathLst>
            </a:custGeom>
            <a:solidFill>
              <a:srgbClr val="2e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2"/>
            <p:cNvSpPr/>
            <p:nvPr/>
          </p:nvSpPr>
          <p:spPr>
            <a:xfrm rot="540000">
              <a:off x="3675240" y="5556960"/>
              <a:ext cx="342720" cy="3445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38" y="18"/>
                  </a:moveTo>
                  <a:cubicBezTo>
                    <a:pt x="38" y="11"/>
                    <a:pt x="43" y="8"/>
                    <a:pt x="49" y="13"/>
                  </a:cubicBezTo>
                  <a:cubicBezTo>
                    <a:pt x="56" y="17"/>
                    <a:pt x="63" y="15"/>
                    <a:pt x="66" y="8"/>
                  </a:cubicBezTo>
                  <a:cubicBezTo>
                    <a:pt x="69" y="0"/>
                    <a:pt x="75" y="0"/>
                    <a:pt x="79" y="7"/>
                  </a:cubicBezTo>
                  <a:cubicBezTo>
                    <a:pt x="83" y="14"/>
                    <a:pt x="91" y="15"/>
                    <a:pt x="96" y="9"/>
                  </a:cubicBezTo>
                  <a:cubicBezTo>
                    <a:pt x="102" y="4"/>
                    <a:pt x="107" y="6"/>
                    <a:pt x="108" y="13"/>
                  </a:cubicBezTo>
                  <a:cubicBezTo>
                    <a:pt x="109" y="21"/>
                    <a:pt x="115" y="25"/>
                    <a:pt x="123" y="23"/>
                  </a:cubicBezTo>
                  <a:cubicBezTo>
                    <a:pt x="130" y="20"/>
                    <a:pt x="134" y="24"/>
                    <a:pt x="132" y="31"/>
                  </a:cubicBezTo>
                  <a:cubicBezTo>
                    <a:pt x="130" y="39"/>
                    <a:pt x="134" y="45"/>
                    <a:pt x="142" y="46"/>
                  </a:cubicBezTo>
                  <a:cubicBezTo>
                    <a:pt x="149" y="46"/>
                    <a:pt x="152" y="52"/>
                    <a:pt x="146" y="58"/>
                  </a:cubicBezTo>
                  <a:cubicBezTo>
                    <a:pt x="141" y="63"/>
                    <a:pt x="143" y="71"/>
                    <a:pt x="150" y="75"/>
                  </a:cubicBezTo>
                  <a:cubicBezTo>
                    <a:pt x="156" y="78"/>
                    <a:pt x="156" y="84"/>
                    <a:pt x="149" y="87"/>
                  </a:cubicBezTo>
                  <a:cubicBezTo>
                    <a:pt x="142" y="91"/>
                    <a:pt x="140" y="98"/>
                    <a:pt x="145" y="104"/>
                  </a:cubicBezTo>
                  <a:cubicBezTo>
                    <a:pt x="150" y="111"/>
                    <a:pt x="147" y="116"/>
                    <a:pt x="139" y="116"/>
                  </a:cubicBezTo>
                  <a:cubicBezTo>
                    <a:pt x="132" y="116"/>
                    <a:pt x="127" y="122"/>
                    <a:pt x="129" y="129"/>
                  </a:cubicBezTo>
                  <a:cubicBezTo>
                    <a:pt x="131" y="137"/>
                    <a:pt x="126" y="141"/>
                    <a:pt x="119" y="138"/>
                  </a:cubicBezTo>
                  <a:cubicBezTo>
                    <a:pt x="112" y="134"/>
                    <a:pt x="105" y="138"/>
                    <a:pt x="104" y="146"/>
                  </a:cubicBezTo>
                  <a:cubicBezTo>
                    <a:pt x="102" y="153"/>
                    <a:pt x="97" y="155"/>
                    <a:pt x="92" y="149"/>
                  </a:cubicBezTo>
                  <a:cubicBezTo>
                    <a:pt x="86" y="144"/>
                    <a:pt x="78" y="144"/>
                    <a:pt x="74" y="151"/>
                  </a:cubicBezTo>
                  <a:cubicBezTo>
                    <a:pt x="70" y="157"/>
                    <a:pt x="64" y="156"/>
                    <a:pt x="62" y="149"/>
                  </a:cubicBezTo>
                  <a:cubicBezTo>
                    <a:pt x="59" y="141"/>
                    <a:pt x="52" y="139"/>
                    <a:pt x="45" y="143"/>
                  </a:cubicBezTo>
                  <a:cubicBezTo>
                    <a:pt x="39" y="147"/>
                    <a:pt x="34" y="144"/>
                    <a:pt x="35" y="136"/>
                  </a:cubicBezTo>
                  <a:cubicBezTo>
                    <a:pt x="35" y="129"/>
                    <a:pt x="30" y="123"/>
                    <a:pt x="22" y="124"/>
                  </a:cubicBezTo>
                  <a:cubicBezTo>
                    <a:pt x="14" y="125"/>
                    <a:pt x="11" y="121"/>
                    <a:pt x="15" y="114"/>
                  </a:cubicBezTo>
                  <a:cubicBezTo>
                    <a:pt x="19" y="107"/>
                    <a:pt x="16" y="100"/>
                    <a:pt x="8" y="97"/>
                  </a:cubicBezTo>
                  <a:cubicBezTo>
                    <a:pt x="1" y="95"/>
                    <a:pt x="0" y="90"/>
                    <a:pt x="6" y="85"/>
                  </a:cubicBezTo>
                  <a:cubicBezTo>
                    <a:pt x="12" y="81"/>
                    <a:pt x="13" y="73"/>
                    <a:pt x="7" y="68"/>
                  </a:cubicBezTo>
                  <a:cubicBezTo>
                    <a:pt x="1" y="63"/>
                    <a:pt x="2" y="57"/>
                    <a:pt x="10" y="55"/>
                  </a:cubicBezTo>
                  <a:cubicBezTo>
                    <a:pt x="17" y="54"/>
                    <a:pt x="21" y="47"/>
                    <a:pt x="17" y="40"/>
                  </a:cubicBezTo>
                  <a:cubicBezTo>
                    <a:pt x="14" y="33"/>
                    <a:pt x="17" y="28"/>
                    <a:pt x="25" y="30"/>
                  </a:cubicBezTo>
                  <a:cubicBezTo>
                    <a:pt x="33" y="31"/>
                    <a:pt x="39" y="26"/>
                    <a:pt x="38" y="18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Group 20"/>
          <p:cNvGrpSpPr/>
          <p:nvPr/>
        </p:nvGrpSpPr>
        <p:grpSpPr>
          <a:xfrm>
            <a:off x="4967280" y="4191120"/>
            <a:ext cx="852480" cy="793800"/>
            <a:chOff x="4967280" y="4191120"/>
            <a:chExt cx="852480" cy="793800"/>
          </a:xfrm>
        </p:grpSpPr>
        <p:sp>
          <p:nvSpPr>
            <p:cNvPr id="1169" name="同心圆 33"/>
            <p:cNvSpPr/>
            <p:nvPr/>
          </p:nvSpPr>
          <p:spPr>
            <a:xfrm>
              <a:off x="4967280" y="4191120"/>
              <a:ext cx="852480" cy="79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899" y="10800"/>
                  </a:moveTo>
                  <a:cubicBezTo>
                    <a:pt x="3899" y="14611"/>
                    <a:pt x="6989" y="17701"/>
                    <a:pt x="10800" y="17701"/>
                  </a:cubicBezTo>
                  <a:cubicBezTo>
                    <a:pt x="14611" y="17701"/>
                    <a:pt x="17701" y="14611"/>
                    <a:pt x="17701" y="10800"/>
                  </a:cubicBezTo>
                  <a:cubicBezTo>
                    <a:pt x="17701" y="6989"/>
                    <a:pt x="14611" y="3899"/>
                    <a:pt x="10800" y="3899"/>
                  </a:cubicBezTo>
                  <a:cubicBezTo>
                    <a:pt x="6989" y="3899"/>
                    <a:pt x="3899" y="6989"/>
                    <a:pt x="3899" y="10800"/>
                  </a:cubicBezTo>
                  <a:close/>
                </a:path>
              </a:pathLst>
            </a:custGeom>
            <a:solidFill>
              <a:srgbClr val="2e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62"/>
            <p:cNvSpPr/>
            <p:nvPr/>
          </p:nvSpPr>
          <p:spPr>
            <a:xfrm rot="540000">
              <a:off x="5223960" y="4433760"/>
              <a:ext cx="344160" cy="3427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38" y="18"/>
                  </a:moveTo>
                  <a:cubicBezTo>
                    <a:pt x="38" y="11"/>
                    <a:pt x="43" y="8"/>
                    <a:pt x="49" y="13"/>
                  </a:cubicBezTo>
                  <a:cubicBezTo>
                    <a:pt x="56" y="17"/>
                    <a:pt x="63" y="15"/>
                    <a:pt x="66" y="8"/>
                  </a:cubicBezTo>
                  <a:cubicBezTo>
                    <a:pt x="69" y="0"/>
                    <a:pt x="75" y="0"/>
                    <a:pt x="79" y="7"/>
                  </a:cubicBezTo>
                  <a:cubicBezTo>
                    <a:pt x="83" y="14"/>
                    <a:pt x="91" y="15"/>
                    <a:pt x="96" y="9"/>
                  </a:cubicBezTo>
                  <a:cubicBezTo>
                    <a:pt x="102" y="4"/>
                    <a:pt x="107" y="6"/>
                    <a:pt x="108" y="13"/>
                  </a:cubicBezTo>
                  <a:cubicBezTo>
                    <a:pt x="109" y="21"/>
                    <a:pt x="115" y="25"/>
                    <a:pt x="123" y="23"/>
                  </a:cubicBezTo>
                  <a:cubicBezTo>
                    <a:pt x="130" y="20"/>
                    <a:pt x="134" y="24"/>
                    <a:pt x="132" y="31"/>
                  </a:cubicBezTo>
                  <a:cubicBezTo>
                    <a:pt x="130" y="39"/>
                    <a:pt x="134" y="45"/>
                    <a:pt x="142" y="46"/>
                  </a:cubicBezTo>
                  <a:cubicBezTo>
                    <a:pt x="149" y="46"/>
                    <a:pt x="152" y="52"/>
                    <a:pt x="146" y="58"/>
                  </a:cubicBezTo>
                  <a:cubicBezTo>
                    <a:pt x="141" y="63"/>
                    <a:pt x="143" y="71"/>
                    <a:pt x="150" y="75"/>
                  </a:cubicBezTo>
                  <a:cubicBezTo>
                    <a:pt x="156" y="78"/>
                    <a:pt x="156" y="84"/>
                    <a:pt x="149" y="87"/>
                  </a:cubicBezTo>
                  <a:cubicBezTo>
                    <a:pt x="142" y="91"/>
                    <a:pt x="140" y="98"/>
                    <a:pt x="145" y="104"/>
                  </a:cubicBezTo>
                  <a:cubicBezTo>
                    <a:pt x="150" y="111"/>
                    <a:pt x="147" y="116"/>
                    <a:pt x="139" y="116"/>
                  </a:cubicBezTo>
                  <a:cubicBezTo>
                    <a:pt x="132" y="116"/>
                    <a:pt x="127" y="122"/>
                    <a:pt x="129" y="129"/>
                  </a:cubicBezTo>
                  <a:cubicBezTo>
                    <a:pt x="131" y="137"/>
                    <a:pt x="126" y="141"/>
                    <a:pt x="119" y="138"/>
                  </a:cubicBezTo>
                  <a:cubicBezTo>
                    <a:pt x="112" y="134"/>
                    <a:pt x="105" y="138"/>
                    <a:pt x="104" y="146"/>
                  </a:cubicBezTo>
                  <a:cubicBezTo>
                    <a:pt x="102" y="153"/>
                    <a:pt x="97" y="155"/>
                    <a:pt x="92" y="149"/>
                  </a:cubicBezTo>
                  <a:cubicBezTo>
                    <a:pt x="86" y="144"/>
                    <a:pt x="78" y="144"/>
                    <a:pt x="74" y="151"/>
                  </a:cubicBezTo>
                  <a:cubicBezTo>
                    <a:pt x="70" y="157"/>
                    <a:pt x="64" y="156"/>
                    <a:pt x="62" y="149"/>
                  </a:cubicBezTo>
                  <a:cubicBezTo>
                    <a:pt x="59" y="141"/>
                    <a:pt x="52" y="139"/>
                    <a:pt x="45" y="143"/>
                  </a:cubicBezTo>
                  <a:cubicBezTo>
                    <a:pt x="39" y="147"/>
                    <a:pt x="34" y="144"/>
                    <a:pt x="35" y="136"/>
                  </a:cubicBezTo>
                  <a:cubicBezTo>
                    <a:pt x="35" y="129"/>
                    <a:pt x="30" y="123"/>
                    <a:pt x="22" y="124"/>
                  </a:cubicBezTo>
                  <a:cubicBezTo>
                    <a:pt x="14" y="125"/>
                    <a:pt x="11" y="121"/>
                    <a:pt x="15" y="114"/>
                  </a:cubicBezTo>
                  <a:cubicBezTo>
                    <a:pt x="19" y="107"/>
                    <a:pt x="16" y="100"/>
                    <a:pt x="8" y="97"/>
                  </a:cubicBezTo>
                  <a:cubicBezTo>
                    <a:pt x="1" y="95"/>
                    <a:pt x="0" y="90"/>
                    <a:pt x="6" y="85"/>
                  </a:cubicBezTo>
                  <a:cubicBezTo>
                    <a:pt x="12" y="81"/>
                    <a:pt x="13" y="73"/>
                    <a:pt x="7" y="68"/>
                  </a:cubicBezTo>
                  <a:cubicBezTo>
                    <a:pt x="1" y="63"/>
                    <a:pt x="2" y="57"/>
                    <a:pt x="10" y="55"/>
                  </a:cubicBezTo>
                  <a:cubicBezTo>
                    <a:pt x="17" y="54"/>
                    <a:pt x="21" y="47"/>
                    <a:pt x="17" y="40"/>
                  </a:cubicBezTo>
                  <a:cubicBezTo>
                    <a:pt x="14" y="33"/>
                    <a:pt x="17" y="28"/>
                    <a:pt x="25" y="30"/>
                  </a:cubicBezTo>
                  <a:cubicBezTo>
                    <a:pt x="33" y="31"/>
                    <a:pt x="39" y="26"/>
                    <a:pt x="38" y="18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23"/>
          <p:cNvGrpSpPr/>
          <p:nvPr/>
        </p:nvGrpSpPr>
        <p:grpSpPr>
          <a:xfrm>
            <a:off x="6389640" y="3233880"/>
            <a:ext cx="852480" cy="793440"/>
            <a:chOff x="6389640" y="3233880"/>
            <a:chExt cx="852480" cy="793440"/>
          </a:xfrm>
        </p:grpSpPr>
        <p:sp>
          <p:nvSpPr>
            <p:cNvPr id="1172" name="同心圆 32"/>
            <p:cNvSpPr/>
            <p:nvPr/>
          </p:nvSpPr>
          <p:spPr>
            <a:xfrm>
              <a:off x="6389640" y="3233880"/>
              <a:ext cx="852480" cy="79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899" y="10800"/>
                  </a:moveTo>
                  <a:cubicBezTo>
                    <a:pt x="3899" y="14611"/>
                    <a:pt x="6989" y="17701"/>
                    <a:pt x="10800" y="17701"/>
                  </a:cubicBezTo>
                  <a:cubicBezTo>
                    <a:pt x="14611" y="17701"/>
                    <a:pt x="17701" y="14611"/>
                    <a:pt x="17701" y="10800"/>
                  </a:cubicBezTo>
                  <a:cubicBezTo>
                    <a:pt x="17701" y="6989"/>
                    <a:pt x="14611" y="3899"/>
                    <a:pt x="10800" y="3899"/>
                  </a:cubicBezTo>
                  <a:cubicBezTo>
                    <a:pt x="6989" y="3899"/>
                    <a:pt x="3899" y="6989"/>
                    <a:pt x="3899" y="10800"/>
                  </a:cubicBezTo>
                  <a:close/>
                </a:path>
              </a:pathLst>
            </a:custGeom>
            <a:solidFill>
              <a:srgbClr val="2e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62"/>
            <p:cNvSpPr/>
            <p:nvPr/>
          </p:nvSpPr>
          <p:spPr>
            <a:xfrm rot="540000">
              <a:off x="6643440" y="3466440"/>
              <a:ext cx="342720" cy="3427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38" y="18"/>
                  </a:moveTo>
                  <a:cubicBezTo>
                    <a:pt x="38" y="11"/>
                    <a:pt x="43" y="8"/>
                    <a:pt x="49" y="13"/>
                  </a:cubicBezTo>
                  <a:cubicBezTo>
                    <a:pt x="56" y="17"/>
                    <a:pt x="63" y="15"/>
                    <a:pt x="66" y="8"/>
                  </a:cubicBezTo>
                  <a:cubicBezTo>
                    <a:pt x="69" y="0"/>
                    <a:pt x="75" y="0"/>
                    <a:pt x="79" y="7"/>
                  </a:cubicBezTo>
                  <a:cubicBezTo>
                    <a:pt x="83" y="14"/>
                    <a:pt x="91" y="15"/>
                    <a:pt x="96" y="9"/>
                  </a:cubicBezTo>
                  <a:cubicBezTo>
                    <a:pt x="102" y="4"/>
                    <a:pt x="107" y="6"/>
                    <a:pt x="108" y="13"/>
                  </a:cubicBezTo>
                  <a:cubicBezTo>
                    <a:pt x="109" y="21"/>
                    <a:pt x="115" y="25"/>
                    <a:pt x="123" y="23"/>
                  </a:cubicBezTo>
                  <a:cubicBezTo>
                    <a:pt x="130" y="20"/>
                    <a:pt x="134" y="24"/>
                    <a:pt x="132" y="31"/>
                  </a:cubicBezTo>
                  <a:cubicBezTo>
                    <a:pt x="130" y="39"/>
                    <a:pt x="134" y="45"/>
                    <a:pt x="142" y="46"/>
                  </a:cubicBezTo>
                  <a:cubicBezTo>
                    <a:pt x="149" y="46"/>
                    <a:pt x="152" y="52"/>
                    <a:pt x="146" y="58"/>
                  </a:cubicBezTo>
                  <a:cubicBezTo>
                    <a:pt x="141" y="63"/>
                    <a:pt x="143" y="71"/>
                    <a:pt x="150" y="75"/>
                  </a:cubicBezTo>
                  <a:cubicBezTo>
                    <a:pt x="156" y="78"/>
                    <a:pt x="156" y="84"/>
                    <a:pt x="149" y="87"/>
                  </a:cubicBezTo>
                  <a:cubicBezTo>
                    <a:pt x="142" y="91"/>
                    <a:pt x="140" y="98"/>
                    <a:pt x="145" y="104"/>
                  </a:cubicBezTo>
                  <a:cubicBezTo>
                    <a:pt x="150" y="111"/>
                    <a:pt x="147" y="116"/>
                    <a:pt x="139" y="116"/>
                  </a:cubicBezTo>
                  <a:cubicBezTo>
                    <a:pt x="132" y="116"/>
                    <a:pt x="127" y="122"/>
                    <a:pt x="129" y="129"/>
                  </a:cubicBezTo>
                  <a:cubicBezTo>
                    <a:pt x="131" y="137"/>
                    <a:pt x="126" y="141"/>
                    <a:pt x="119" y="138"/>
                  </a:cubicBezTo>
                  <a:cubicBezTo>
                    <a:pt x="112" y="134"/>
                    <a:pt x="105" y="138"/>
                    <a:pt x="104" y="146"/>
                  </a:cubicBezTo>
                  <a:cubicBezTo>
                    <a:pt x="102" y="153"/>
                    <a:pt x="97" y="155"/>
                    <a:pt x="92" y="149"/>
                  </a:cubicBezTo>
                  <a:cubicBezTo>
                    <a:pt x="86" y="144"/>
                    <a:pt x="78" y="144"/>
                    <a:pt x="74" y="151"/>
                  </a:cubicBezTo>
                  <a:cubicBezTo>
                    <a:pt x="70" y="157"/>
                    <a:pt x="64" y="156"/>
                    <a:pt x="62" y="149"/>
                  </a:cubicBezTo>
                  <a:cubicBezTo>
                    <a:pt x="59" y="141"/>
                    <a:pt x="52" y="139"/>
                    <a:pt x="45" y="143"/>
                  </a:cubicBezTo>
                  <a:cubicBezTo>
                    <a:pt x="39" y="147"/>
                    <a:pt x="34" y="144"/>
                    <a:pt x="35" y="136"/>
                  </a:cubicBezTo>
                  <a:cubicBezTo>
                    <a:pt x="35" y="129"/>
                    <a:pt x="30" y="123"/>
                    <a:pt x="22" y="124"/>
                  </a:cubicBezTo>
                  <a:cubicBezTo>
                    <a:pt x="14" y="125"/>
                    <a:pt x="11" y="121"/>
                    <a:pt x="15" y="114"/>
                  </a:cubicBezTo>
                  <a:cubicBezTo>
                    <a:pt x="19" y="107"/>
                    <a:pt x="16" y="100"/>
                    <a:pt x="8" y="97"/>
                  </a:cubicBezTo>
                  <a:cubicBezTo>
                    <a:pt x="1" y="95"/>
                    <a:pt x="0" y="90"/>
                    <a:pt x="6" y="85"/>
                  </a:cubicBezTo>
                  <a:cubicBezTo>
                    <a:pt x="12" y="81"/>
                    <a:pt x="13" y="73"/>
                    <a:pt x="7" y="68"/>
                  </a:cubicBezTo>
                  <a:cubicBezTo>
                    <a:pt x="1" y="63"/>
                    <a:pt x="2" y="57"/>
                    <a:pt x="10" y="55"/>
                  </a:cubicBezTo>
                  <a:cubicBezTo>
                    <a:pt x="17" y="54"/>
                    <a:pt x="21" y="47"/>
                    <a:pt x="17" y="40"/>
                  </a:cubicBezTo>
                  <a:cubicBezTo>
                    <a:pt x="14" y="33"/>
                    <a:pt x="17" y="28"/>
                    <a:pt x="25" y="30"/>
                  </a:cubicBezTo>
                  <a:cubicBezTo>
                    <a:pt x="33" y="31"/>
                    <a:pt x="39" y="26"/>
                    <a:pt x="38" y="18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直接连接符 40"/>
          <p:cNvSpPr/>
          <p:nvPr/>
        </p:nvSpPr>
        <p:spPr>
          <a:xfrm flipV="1">
            <a:off x="4160880" y="4879800"/>
            <a:ext cx="931680" cy="570240"/>
          </a:xfrm>
          <a:prstGeom prst="line">
            <a:avLst/>
          </a:prstGeom>
          <a:ln w="38160">
            <a:solidFill>
              <a:srgbClr val="ffb1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5752800" y="3911400"/>
            <a:ext cx="762480" cy="515880"/>
            <a:chOff x="5752800" y="3911400"/>
            <a:chExt cx="762480" cy="515880"/>
          </a:xfrm>
        </p:grpSpPr>
        <p:sp>
          <p:nvSpPr>
            <p:cNvPr id="1176" name="直接连接符 42"/>
            <p:cNvSpPr/>
            <p:nvPr/>
          </p:nvSpPr>
          <p:spPr>
            <a:xfrm flipV="1">
              <a:off x="5753160" y="3911400"/>
              <a:ext cx="762120" cy="515880"/>
            </a:xfrm>
            <a:prstGeom prst="line">
              <a:avLst/>
            </a:prstGeom>
            <a:ln w="38160">
              <a:solidFill>
                <a:srgbClr val="ffb1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 rot="10800000">
              <a:off x="5752800" y="3911400"/>
              <a:ext cx="76212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直接连接符 49"/>
          <p:cNvSpPr/>
          <p:nvPr/>
        </p:nvSpPr>
        <p:spPr>
          <a:xfrm>
            <a:off x="7156440" y="3851280"/>
            <a:ext cx="1041480" cy="592200"/>
          </a:xfrm>
          <a:prstGeom prst="line">
            <a:avLst/>
          </a:prstGeom>
          <a:ln w="38160">
            <a:solidFill>
              <a:srgbClr val="ffb1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直接连接符 40"/>
          <p:cNvSpPr/>
          <p:nvPr/>
        </p:nvSpPr>
        <p:spPr>
          <a:xfrm flipH="1" flipV="1">
            <a:off x="2651040" y="4879440"/>
            <a:ext cx="897120" cy="560520"/>
          </a:xfrm>
          <a:prstGeom prst="line">
            <a:avLst/>
          </a:prstGeom>
          <a:ln w="38160">
            <a:solidFill>
              <a:srgbClr val="ffb1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直接连接符 49"/>
          <p:cNvSpPr/>
          <p:nvPr/>
        </p:nvSpPr>
        <p:spPr>
          <a:xfrm flipV="1">
            <a:off x="9504360" y="3531960"/>
            <a:ext cx="1547640" cy="1801800"/>
          </a:xfrm>
          <a:prstGeom prst="line">
            <a:avLst/>
          </a:prstGeom>
          <a:ln w="38160">
            <a:solidFill>
              <a:srgbClr val="ffb1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31"/>
          <p:cNvGrpSpPr/>
          <p:nvPr/>
        </p:nvGrpSpPr>
        <p:grpSpPr>
          <a:xfrm>
            <a:off x="7226280" y="4479840"/>
            <a:ext cx="2647800" cy="1724040"/>
            <a:chOff x="7226280" y="4479840"/>
            <a:chExt cx="2647800" cy="1724040"/>
          </a:xfrm>
        </p:grpSpPr>
        <p:grpSp>
          <p:nvGrpSpPr>
            <p:cNvPr id="1182" name="组合 30"/>
            <p:cNvGrpSpPr/>
            <p:nvPr/>
          </p:nvGrpSpPr>
          <p:grpSpPr>
            <a:xfrm>
              <a:off x="7226280" y="4479840"/>
              <a:ext cx="2647800" cy="1724040"/>
              <a:chOff x="7226280" y="4479840"/>
              <a:chExt cx="2647800" cy="1724040"/>
            </a:xfrm>
          </p:grpSpPr>
          <p:sp>
            <p:nvSpPr>
              <p:cNvPr id="1183" name="矩形 20"/>
              <p:cNvSpPr/>
              <p:nvPr/>
            </p:nvSpPr>
            <p:spPr>
              <a:xfrm>
                <a:off x="7226280" y="4479840"/>
                <a:ext cx="2265480" cy="1347480"/>
              </a:xfrm>
              <a:prstGeom prst="rect">
                <a:avLst/>
              </a:prstGeom>
              <a:noFill/>
              <a:ln w="63360">
                <a:solidFill>
                  <a:srgbClr val="ffb1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4" name="组合 14"/>
              <p:cNvGrpSpPr/>
              <p:nvPr/>
            </p:nvGrpSpPr>
            <p:grpSpPr>
              <a:xfrm>
                <a:off x="9089280" y="5450400"/>
                <a:ext cx="784800" cy="753480"/>
                <a:chOff x="9089280" y="5450400"/>
                <a:chExt cx="784800" cy="753480"/>
              </a:xfrm>
            </p:grpSpPr>
            <p:sp>
              <p:nvSpPr>
                <p:cNvPr id="1185" name="同心圆 15"/>
                <p:cNvSpPr/>
                <p:nvPr/>
              </p:nvSpPr>
              <p:spPr>
                <a:xfrm>
                  <a:off x="9089280" y="5450400"/>
                  <a:ext cx="7848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3899" y="10800"/>
                      </a:moveTo>
                      <a:cubicBezTo>
                        <a:pt x="3899" y="14611"/>
                        <a:pt x="6989" y="17701"/>
                        <a:pt x="10800" y="17701"/>
                      </a:cubicBezTo>
                      <a:cubicBezTo>
                        <a:pt x="14611" y="17701"/>
                        <a:pt x="17701" y="14611"/>
                        <a:pt x="17701" y="10800"/>
                      </a:cubicBezTo>
                      <a:cubicBezTo>
                        <a:pt x="17701" y="6989"/>
                        <a:pt x="14611" y="3899"/>
                        <a:pt x="10800" y="3899"/>
                      </a:cubicBezTo>
                      <a:cubicBezTo>
                        <a:pt x="6989" y="3899"/>
                        <a:pt x="3899" y="6989"/>
                        <a:pt x="3899" y="10800"/>
                      </a:cubicBezTo>
                      <a:close/>
                    </a:path>
                  </a:pathLst>
                </a:custGeom>
                <a:solidFill>
                  <a:srgbClr val="ffcc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椭圆 16"/>
                <p:cNvSpPr/>
                <p:nvPr/>
              </p:nvSpPr>
              <p:spPr>
                <a:xfrm>
                  <a:off x="9236880" y="5589000"/>
                  <a:ext cx="497160" cy="477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a23b46"/>
                      </a:solidFill>
                      <a:latin typeface="DFPYeaSong-B5"/>
                      <a:ea typeface="DFPYeaSong-B5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直角三角形 26"/>
              <p:cNvSpPr/>
              <p:nvPr/>
            </p:nvSpPr>
            <p:spPr>
              <a:xfrm rot="5400000">
                <a:off x="7263720" y="4491000"/>
                <a:ext cx="269640" cy="2808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Text Box 75"/>
            <p:cNvSpPr/>
            <p:nvPr/>
          </p:nvSpPr>
          <p:spPr>
            <a:xfrm>
              <a:off x="7248240" y="4611600"/>
              <a:ext cx="23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39"/>
          <p:cNvGrpSpPr/>
          <p:nvPr/>
        </p:nvGrpSpPr>
        <p:grpSpPr>
          <a:xfrm>
            <a:off x="9360000" y="2011320"/>
            <a:ext cx="2552760" cy="1522440"/>
            <a:chOff x="9360000" y="2011320"/>
            <a:chExt cx="2552760" cy="1522440"/>
          </a:xfrm>
        </p:grpSpPr>
        <p:grpSp>
          <p:nvGrpSpPr>
            <p:cNvPr id="1190" name="组合 27"/>
            <p:cNvGrpSpPr/>
            <p:nvPr/>
          </p:nvGrpSpPr>
          <p:grpSpPr>
            <a:xfrm>
              <a:off x="9372600" y="2011320"/>
              <a:ext cx="2540160" cy="1522440"/>
              <a:chOff x="9372600" y="2011320"/>
              <a:chExt cx="2540160" cy="1522440"/>
            </a:xfrm>
          </p:grpSpPr>
          <p:grpSp>
            <p:nvGrpSpPr>
              <p:cNvPr id="1191" name="组合 24"/>
              <p:cNvGrpSpPr/>
              <p:nvPr/>
            </p:nvGrpSpPr>
            <p:grpSpPr>
              <a:xfrm>
                <a:off x="9372600" y="2367000"/>
                <a:ext cx="2076840" cy="1166760"/>
                <a:chOff x="9372600" y="2367000"/>
                <a:chExt cx="2076840" cy="1166760"/>
              </a:xfrm>
            </p:grpSpPr>
            <p:sp>
              <p:nvSpPr>
                <p:cNvPr id="1192" name="矩形 21"/>
                <p:cNvSpPr/>
                <p:nvPr/>
              </p:nvSpPr>
              <p:spPr>
                <a:xfrm>
                  <a:off x="9372600" y="2367000"/>
                  <a:ext cx="2076840" cy="1166760"/>
                </a:xfrm>
                <a:prstGeom prst="rect">
                  <a:avLst/>
                </a:prstGeom>
                <a:noFill/>
                <a:ln w="63360">
                  <a:solidFill>
                    <a:srgbClr val="ffb1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直角三角形 23"/>
                <p:cNvSpPr/>
                <p:nvPr/>
              </p:nvSpPr>
              <p:spPr>
                <a:xfrm>
                  <a:off x="9407160" y="3275280"/>
                  <a:ext cx="257400" cy="2332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组合 17"/>
              <p:cNvGrpSpPr/>
              <p:nvPr/>
            </p:nvGrpSpPr>
            <p:grpSpPr>
              <a:xfrm>
                <a:off x="11193120" y="2011320"/>
                <a:ext cx="719640" cy="652320"/>
                <a:chOff x="11193120" y="2011320"/>
                <a:chExt cx="719640" cy="652320"/>
              </a:xfrm>
            </p:grpSpPr>
            <p:sp>
              <p:nvSpPr>
                <p:cNvPr id="1195" name="椭圆 19"/>
                <p:cNvSpPr/>
                <p:nvPr/>
              </p:nvSpPr>
              <p:spPr>
                <a:xfrm>
                  <a:off x="11280240" y="2083320"/>
                  <a:ext cx="584280" cy="53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a23b46"/>
                      </a:solidFill>
                      <a:latin typeface="DFPYeaSong-B5"/>
                      <a:ea typeface="DFPYeaSong-B5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同心圆 18"/>
                <p:cNvSpPr/>
                <p:nvPr/>
              </p:nvSpPr>
              <p:spPr>
                <a:xfrm>
                  <a:off x="11193120" y="2011320"/>
                  <a:ext cx="719640" cy="65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3899" y="10800"/>
                      </a:moveTo>
                      <a:cubicBezTo>
                        <a:pt x="3899" y="14611"/>
                        <a:pt x="6989" y="17701"/>
                        <a:pt x="10800" y="17701"/>
                      </a:cubicBezTo>
                      <a:cubicBezTo>
                        <a:pt x="14611" y="17701"/>
                        <a:pt x="17701" y="14611"/>
                        <a:pt x="17701" y="10800"/>
                      </a:cubicBezTo>
                      <a:cubicBezTo>
                        <a:pt x="17701" y="6989"/>
                        <a:pt x="14611" y="3899"/>
                        <a:pt x="10800" y="3899"/>
                      </a:cubicBezTo>
                      <a:cubicBezTo>
                        <a:pt x="6989" y="3899"/>
                        <a:pt x="3899" y="6989"/>
                        <a:pt x="3899" y="10800"/>
                      </a:cubicBezTo>
                      <a:close/>
                    </a:path>
                  </a:pathLst>
                </a:custGeom>
                <a:solidFill>
                  <a:srgbClr val="8bbc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7" name="Text Box 76"/>
            <p:cNvSpPr/>
            <p:nvPr/>
          </p:nvSpPr>
          <p:spPr>
            <a:xfrm>
              <a:off x="9360000" y="2332080"/>
              <a:ext cx="22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Text Box 48"/>
          <p:cNvSpPr/>
          <p:nvPr/>
        </p:nvSpPr>
        <p:spPr>
          <a:xfrm>
            <a:off x="3697200" y="333360"/>
            <a:ext cx="80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3"/>
          <p:cNvSpPr/>
          <p:nvPr/>
        </p:nvSpPr>
        <p:spPr>
          <a:xfrm>
            <a:off x="8421840" y="6721560"/>
            <a:ext cx="3770280" cy="1364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矩形 3"/>
          <p:cNvSpPr/>
          <p:nvPr/>
        </p:nvSpPr>
        <p:spPr>
          <a:xfrm>
            <a:off x="11449080" y="6448320"/>
            <a:ext cx="766800" cy="341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6"/>
          <p:cNvSpPr/>
          <p:nvPr/>
        </p:nvSpPr>
        <p:spPr>
          <a:xfrm>
            <a:off x="198360" y="73332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"/>
                            </p:stCondLst>
                            <p:childTnLst>
                              <p:par>
                                <p:cTn id="2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"/>
                            </p:stCondLst>
                            <p:childTnLst>
                              <p:par>
                                <p:cTn id="2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"/>
                            </p:stCondLst>
                            <p:childTnLst>
                              <p:par>
                                <p:cTn id="2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"/>
                            </p:stCondLst>
                            <p:childTnLst>
                              <p:par>
                                <p:cTn id="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"/>
                            </p:stCondLst>
                            <p:childTnLst>
                              <p:par>
                                <p:cTn id="2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600"/>
                            </p:stCondLst>
                            <p:childTnLst>
                              <p:par>
                                <p:cTn id="2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8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9" dur="indefinite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13:24:00Z</dcterms:created>
  <dc:creator>user</dc:creator>
  <dc:description/>
  <dc:language>en-US</dc:language>
  <cp:lastModifiedBy>Administrator</cp:lastModifiedBy>
  <dcterms:modified xsi:type="dcterms:W3CDTF">2016-01-30T01:50:39Z</dcterms:modified>
  <cp:revision>1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