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5.jpeg" ContentType="image/jpeg"/>
  <Override PartName="/ppt/media/image6.jpeg" ContentType="image/jpeg"/>
  <Override PartName="/ppt/media/suction.wav" ContentType="audio/x-wav"/>
  <Override PartName="/ppt/media/image4.jpeg" ContentType="image/jpeg"/>
  <Override PartName="/ppt/media/image25.jpeg" ContentType="image/jpeg"/>
  <Override PartName="/ppt/media/image7.jpeg" ContentType="image/jpeg"/>
  <Override PartName="/ppt/media/image18.png" ContentType="image/png"/>
  <Override PartName="/ppt/media/explode.wav" ContentType="audio/x-wav"/>
  <Override PartName="/ppt/media/image3.png" ContentType="image/png"/>
  <Override PartName="/ppt/media/image17.jpeg" ContentType="image/jpeg"/>
  <Override PartName="/ppt/media/image26.gif" ContentType="image/gif"/>
  <Override PartName="/ppt/media/image1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3.jpeg" ContentType="image/jpeg"/>
  <Override PartName="/ppt/media/image20.jpeg" ContentType="image/jpeg"/>
  <Override PartName="/ppt/media/image12.png" ContentType="image/png"/>
  <Override PartName="/ppt/media/image2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8B8E-C621-42E9-90CA-0900E4AB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BA85-EC58-4B2E-889A-9F3EAB32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FECE-29AE-49BB-ABFA-20B0F884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0E0-7D3E-44E4-AF21-2D07BAA9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22DA-9B6D-4906-B967-381C8F36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BCFE-ACBE-43B9-A75F-CF83E848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B9B0-EF5A-4AEC-B7F4-66EFF93F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22BE-E034-4D73-8666-7DCB6340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E6FF-C303-44A9-B2FC-5FA2337E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8700-6C27-4989-A902-16B377C6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37D7-3D58-4AD3-B211-CA7585E3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D8EB-3203-49E2-8D89-0C25B4B6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24D0-7A90-4AE9-BEAE-4C5A1E5E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478D-1151-4847-8636-2321C7FB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3EEE-7B9C-466A-95AD-CE2B8F0E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BCD1-BC91-4EE4-88F3-1341DEBF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18F7-8341-47D7-8C95-5166861A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DAFF9-19BC-4C1E-809E-83D1F3DC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0EA33-4E2F-4BAF-8FCA-440E1E98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80A9A-661B-4936-8753-0C34DF77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B593F-1D25-4CBD-B19F-CE3D0C5D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D32C8-D2B1-4572-9F2B-0FC512B9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555A-60BA-4B2F-B56D-58C5C684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755D1-C0D0-4EC3-84F5-29053ACD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239ED-EE45-47F6-B224-BDB698FA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773C8-B9A5-447A-8855-727D89EA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BAB2B-E181-445A-AB52-B2D07CE5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4BDAE-AA62-4E99-B6C6-9484A37A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75CA5-2EDB-48A1-949C-9E34CC5B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51CF9-DD06-4D1D-95C8-C56CAE30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7E95-EF2B-4F3A-B888-062E50E2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9C4C-6629-499E-83B6-2A2043F8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1AAF-D1E5-4227-95B3-5E4D4576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287-6BF7-4583-8D5B-F540A994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6CF7-69D8-4E92-B02B-37304013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EA85-E529-4A40-81DA-6E5EDE21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6752-3162-40CA-BD5B-D68D2985B2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D560-DE17-4209-B719-4028F5A5F1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4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4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4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4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FD18-CA22-4E29-B97D-D7176FCE3844}" type="slidenum">
              <a:rPr b="0" lang="zh-CN" sz="1400" spc="-1" strike="noStrike">
                <a:solidFill>
                  <a:srgbClr val="007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24.xml"/><Relationship Id="rId6" Type="http://schemas.openxmlformats.org/officeDocument/2006/relationships/slide" Target="slide6.xml"/><Relationship Id="rId7" Type="http://schemas.openxmlformats.org/officeDocument/2006/relationships/slide" Target="slide21.xml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5.xml"/><Relationship Id="rId5" Type="http://schemas.openxmlformats.org/officeDocument/2006/relationships/slide" Target="slide27.xm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file:///lf.m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hyperlink" Target="file:///lfssnznl.mp3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hyperlink" Target="file:///feng02.wav" TargetMode="External"/><Relationship Id="rId4" Type="http://schemas.openxmlformats.org/officeDocument/2006/relationships/hyperlink" Target="file:///feng02.wav" TargetMode="External"/><Relationship Id="rId5" Type="http://schemas.openxmlformats.org/officeDocument/2006/relationships/hyperlink" Target="file:///ceng.wav" TargetMode="External"/><Relationship Id="rId6" Type="http://schemas.openxmlformats.org/officeDocument/2006/relationships/hyperlink" Target="file:///ceng.wav" TargetMode="External"/><Relationship Id="rId7" Type="http://schemas.openxmlformats.org/officeDocument/2006/relationships/hyperlink" Target="file:///ning.wav" TargetMode="External"/><Relationship Id="rId8" Type="http://schemas.openxmlformats.org/officeDocument/2006/relationships/hyperlink" Target="file:///ning.wav" TargetMode="External"/><Relationship Id="rId9" Type="http://schemas.openxmlformats.org/officeDocument/2006/relationships/hyperlink" Target="file:///jin.wav" TargetMode="External"/><Relationship Id="rId10" Type="http://schemas.openxmlformats.org/officeDocument/2006/relationships/hyperlink" Target="file:///jin.wav" TargetMode="External"/><Relationship Id="rId11" Type="http://schemas.openxmlformats.org/officeDocument/2006/relationships/hyperlink" Target="file:///yin.wav" TargetMode="External"/><Relationship Id="rId12" Type="http://schemas.openxmlformats.org/officeDocument/2006/relationships/hyperlink" Target="file:///yin.wav" TargetMode="External"/><Relationship Id="rId13" Type="http://schemas.openxmlformats.org/officeDocument/2006/relationships/hyperlink" Target="file:///mi.wav" TargetMode="Externa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4413240" cy="5832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5076720" y="981000"/>
            <a:ext cx="374328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雷锋叔叔，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你在哪里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5292720" y="6165720"/>
            <a:ext cx="649440" cy="576360"/>
          </a:xfrm>
          <a:custGeom>
            <a:avLst/>
            <a:gdLst>
              <a:gd name="textAreaLeft" fmla="*/ 37080 w 649440"/>
              <a:gd name="textAreaRight" fmla="*/ 612360 w 649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337" h="21600">
                <a:moveTo>
                  <a:pt x="0" y="0"/>
                </a:moveTo>
                <a:lnTo>
                  <a:pt x="24337" y="0"/>
                </a:lnTo>
                <a:lnTo>
                  <a:pt x="24337" y="21600"/>
                </a:lnTo>
                <a:lnTo>
                  <a:pt x="0" y="21600"/>
                </a:lnTo>
                <a:close/>
              </a:path>
              <a:path fill="lightenLess" w="24337" h="21600">
                <a:moveTo>
                  <a:pt x="0" y="0"/>
                </a:moveTo>
                <a:lnTo>
                  <a:pt x="24337" y="0"/>
                </a:lnTo>
                <a:lnTo>
                  <a:pt x="22937" y="1400"/>
                </a:lnTo>
                <a:lnTo>
                  <a:pt x="1400" y="1400"/>
                </a:lnTo>
                <a:close/>
              </a:path>
              <a:path fill="darken" w="24337" h="21600">
                <a:moveTo>
                  <a:pt x="24337" y="0"/>
                </a:moveTo>
                <a:lnTo>
                  <a:pt x="24337" y="21600"/>
                </a:lnTo>
                <a:lnTo>
                  <a:pt x="22937" y="20200"/>
                </a:lnTo>
                <a:lnTo>
                  <a:pt x="22937" y="1400"/>
                </a:lnTo>
                <a:close/>
              </a:path>
              <a:path fill="darkenLess" w="24337" h="21600">
                <a:moveTo>
                  <a:pt x="24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7" y="20200"/>
                </a:lnTo>
                <a:close/>
              </a:path>
              <a:path fill="lighten" w="24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400"/>
                </a:solidFill>
                <a:latin typeface="Arial"/>
              </a:rPr>
              <a:t>课文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6" name="">
            <a:hlinkClick r:id="rId4" action="ppaction://hlinksldjump"/>
          </p:cNvPr>
          <p:cNvSpPr/>
          <p:nvPr/>
        </p:nvSpPr>
        <p:spPr>
          <a:xfrm>
            <a:off x="5942160" y="6165720"/>
            <a:ext cx="649080" cy="576360"/>
          </a:xfrm>
          <a:custGeom>
            <a:avLst/>
            <a:gdLst>
              <a:gd name="textAreaLeft" fmla="*/ 37080 w 649080"/>
              <a:gd name="textAreaRight" fmla="*/ 612000 w 649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324" h="21600">
                <a:moveTo>
                  <a:pt x="0" y="0"/>
                </a:moveTo>
                <a:lnTo>
                  <a:pt x="24324" y="0"/>
                </a:lnTo>
                <a:lnTo>
                  <a:pt x="24324" y="21600"/>
                </a:lnTo>
                <a:lnTo>
                  <a:pt x="0" y="21600"/>
                </a:lnTo>
                <a:close/>
              </a:path>
              <a:path fill="lightenLess" w="24324" h="21600">
                <a:moveTo>
                  <a:pt x="0" y="0"/>
                </a:moveTo>
                <a:lnTo>
                  <a:pt x="24324" y="0"/>
                </a:lnTo>
                <a:lnTo>
                  <a:pt x="22924" y="1400"/>
                </a:lnTo>
                <a:lnTo>
                  <a:pt x="1400" y="1400"/>
                </a:lnTo>
                <a:close/>
              </a:path>
              <a:path fill="darken" w="24324" h="21600">
                <a:moveTo>
                  <a:pt x="24324" y="0"/>
                </a:moveTo>
                <a:lnTo>
                  <a:pt x="24324" y="21600"/>
                </a:lnTo>
                <a:lnTo>
                  <a:pt x="22924" y="20200"/>
                </a:lnTo>
                <a:lnTo>
                  <a:pt x="22924" y="1400"/>
                </a:lnTo>
                <a:close/>
              </a:path>
              <a:path fill="darkenLess" w="24324" h="21600">
                <a:moveTo>
                  <a:pt x="24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24" y="20200"/>
                </a:lnTo>
                <a:close/>
              </a:path>
              <a:path fill="lighten" w="24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400"/>
                </a:solidFill>
                <a:latin typeface="Arial"/>
              </a:rPr>
              <a:t>我会认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7" name="">
            <a:hlinkClick r:id="rId5" action="ppaction://hlinksldjump"/>
          </p:cNvPr>
          <p:cNvSpPr/>
          <p:nvPr/>
        </p:nvSpPr>
        <p:spPr>
          <a:xfrm>
            <a:off x="6589800" y="6165720"/>
            <a:ext cx="649080" cy="576360"/>
          </a:xfrm>
          <a:custGeom>
            <a:avLst/>
            <a:gdLst>
              <a:gd name="textAreaLeft" fmla="*/ 37080 w 649080"/>
              <a:gd name="textAreaRight" fmla="*/ 612000 w 649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324" h="21600">
                <a:moveTo>
                  <a:pt x="0" y="0"/>
                </a:moveTo>
                <a:lnTo>
                  <a:pt x="24324" y="0"/>
                </a:lnTo>
                <a:lnTo>
                  <a:pt x="24324" y="21600"/>
                </a:lnTo>
                <a:lnTo>
                  <a:pt x="0" y="21600"/>
                </a:lnTo>
                <a:close/>
              </a:path>
              <a:path fill="lightenLess" w="24324" h="21600">
                <a:moveTo>
                  <a:pt x="0" y="0"/>
                </a:moveTo>
                <a:lnTo>
                  <a:pt x="24324" y="0"/>
                </a:lnTo>
                <a:lnTo>
                  <a:pt x="22924" y="1400"/>
                </a:lnTo>
                <a:lnTo>
                  <a:pt x="1400" y="1400"/>
                </a:lnTo>
                <a:close/>
              </a:path>
              <a:path fill="darken" w="24324" h="21600">
                <a:moveTo>
                  <a:pt x="24324" y="0"/>
                </a:moveTo>
                <a:lnTo>
                  <a:pt x="24324" y="21600"/>
                </a:lnTo>
                <a:lnTo>
                  <a:pt x="22924" y="20200"/>
                </a:lnTo>
                <a:lnTo>
                  <a:pt x="22924" y="1400"/>
                </a:lnTo>
                <a:close/>
              </a:path>
              <a:path fill="darkenLess" w="24324" h="21600">
                <a:moveTo>
                  <a:pt x="24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24" y="20200"/>
                </a:lnTo>
                <a:close/>
              </a:path>
              <a:path fill="lighten" w="24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400"/>
                </a:solidFill>
                <a:latin typeface="Arial"/>
              </a:rPr>
              <a:t>我会写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8" name="">
            <a:hlinkClick r:id="rId6" action="ppaction://hlinksldjump"/>
          </p:cNvPr>
          <p:cNvSpPr/>
          <p:nvPr/>
        </p:nvSpPr>
        <p:spPr>
          <a:xfrm>
            <a:off x="7237440" y="6165720"/>
            <a:ext cx="649440" cy="576360"/>
          </a:xfrm>
          <a:custGeom>
            <a:avLst/>
            <a:gdLst>
              <a:gd name="textAreaLeft" fmla="*/ 37080 w 649440"/>
              <a:gd name="textAreaRight" fmla="*/ 612360 w 649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337" h="21600">
                <a:moveTo>
                  <a:pt x="0" y="0"/>
                </a:moveTo>
                <a:lnTo>
                  <a:pt x="24337" y="0"/>
                </a:lnTo>
                <a:lnTo>
                  <a:pt x="24337" y="21600"/>
                </a:lnTo>
                <a:lnTo>
                  <a:pt x="0" y="21600"/>
                </a:lnTo>
                <a:close/>
              </a:path>
              <a:path fill="lightenLess" w="24337" h="21600">
                <a:moveTo>
                  <a:pt x="0" y="0"/>
                </a:moveTo>
                <a:lnTo>
                  <a:pt x="24337" y="0"/>
                </a:lnTo>
                <a:lnTo>
                  <a:pt x="22937" y="1400"/>
                </a:lnTo>
                <a:lnTo>
                  <a:pt x="1400" y="1400"/>
                </a:lnTo>
                <a:close/>
              </a:path>
              <a:path fill="darken" w="24337" h="21600">
                <a:moveTo>
                  <a:pt x="24337" y="0"/>
                </a:moveTo>
                <a:lnTo>
                  <a:pt x="24337" y="21600"/>
                </a:lnTo>
                <a:lnTo>
                  <a:pt x="22937" y="20200"/>
                </a:lnTo>
                <a:lnTo>
                  <a:pt x="22937" y="1400"/>
                </a:lnTo>
                <a:close/>
              </a:path>
              <a:path fill="darkenLess" w="24337" h="21600">
                <a:moveTo>
                  <a:pt x="24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7" y="20200"/>
                </a:lnTo>
                <a:close/>
              </a:path>
              <a:path fill="lighten" w="24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400"/>
                </a:solidFill>
                <a:latin typeface="Arial"/>
              </a:rPr>
              <a:t>我知道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9" name="">
            <a:hlinkClick r:id="rId7" action="ppaction://hlinksldjump"/>
          </p:cNvPr>
          <p:cNvSpPr/>
          <p:nvPr/>
        </p:nvSpPr>
        <p:spPr>
          <a:xfrm>
            <a:off x="7885080" y="6165720"/>
            <a:ext cx="649440" cy="576360"/>
          </a:xfrm>
          <a:custGeom>
            <a:avLst/>
            <a:gdLst>
              <a:gd name="textAreaLeft" fmla="*/ 37080 w 649440"/>
              <a:gd name="textAreaRight" fmla="*/ 612360 w 649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337" h="21600">
                <a:moveTo>
                  <a:pt x="0" y="0"/>
                </a:moveTo>
                <a:lnTo>
                  <a:pt x="24337" y="0"/>
                </a:lnTo>
                <a:lnTo>
                  <a:pt x="24337" y="21600"/>
                </a:lnTo>
                <a:lnTo>
                  <a:pt x="0" y="21600"/>
                </a:lnTo>
                <a:close/>
              </a:path>
              <a:path fill="lightenLess" w="24337" h="21600">
                <a:moveTo>
                  <a:pt x="0" y="0"/>
                </a:moveTo>
                <a:lnTo>
                  <a:pt x="24337" y="0"/>
                </a:lnTo>
                <a:lnTo>
                  <a:pt x="22937" y="1400"/>
                </a:lnTo>
                <a:lnTo>
                  <a:pt x="1400" y="1400"/>
                </a:lnTo>
                <a:close/>
              </a:path>
              <a:path fill="darken" w="24337" h="21600">
                <a:moveTo>
                  <a:pt x="24337" y="0"/>
                </a:moveTo>
                <a:lnTo>
                  <a:pt x="24337" y="21600"/>
                </a:lnTo>
                <a:lnTo>
                  <a:pt x="22937" y="20200"/>
                </a:lnTo>
                <a:lnTo>
                  <a:pt x="22937" y="1400"/>
                </a:lnTo>
                <a:close/>
              </a:path>
              <a:path fill="darkenLess" w="24337" h="21600">
                <a:moveTo>
                  <a:pt x="24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7" y="20200"/>
                </a:lnTo>
                <a:close/>
              </a:path>
              <a:path fill="lighten" w="24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7400"/>
                </a:solidFill>
                <a:latin typeface="Arial"/>
              </a:rPr>
              <a:t>读读记记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3" idx="2"/>
          </p:cNvCxnSpPr>
          <p:nvPr/>
        </p:nvCxnSpPr>
        <p:spPr>
          <a:xfrm flipH="1" rot="16200000">
            <a:off x="3132000" y="5562720"/>
            <a:ext cx="765360" cy="1825560"/>
          </a:xfrm>
          <a:prstGeom prst="curvedConnector3">
            <a:avLst>
              <a:gd name="adj1" fmla="val 25035"/>
            </a:avLst>
          </a:prstGeom>
          <a:ln w="0">
            <a:noFill/>
          </a:ln>
        </p:spPr>
      </p:cxnSp>
    </p:spTree>
  </p:cSld>
  <p:transition>
    <p:comb dir="horz"/>
    <p:sndAc>
      <p:stSnd>
        <p:snd r:embed="rId8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758960" y="0"/>
            <a:ext cx="51894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8459640" y="6308640"/>
            <a:ext cx="540000" cy="333360"/>
          </a:xfrm>
          <a:custGeom>
            <a:avLst/>
            <a:gdLst>
              <a:gd name="textAreaLeft" fmla="*/ 21600 w 540000"/>
              <a:gd name="textAreaRight" fmla="*/ 518400 w 540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75" h="21600">
                <a:moveTo>
                  <a:pt x="0" y="0"/>
                </a:moveTo>
                <a:lnTo>
                  <a:pt x="34975" y="0"/>
                </a:lnTo>
                <a:lnTo>
                  <a:pt x="34975" y="21600"/>
                </a:lnTo>
                <a:lnTo>
                  <a:pt x="0" y="21600"/>
                </a:lnTo>
                <a:close/>
              </a:path>
              <a:path fill="lightenLess" w="34975" h="21600">
                <a:moveTo>
                  <a:pt x="0" y="0"/>
                </a:moveTo>
                <a:lnTo>
                  <a:pt x="34975" y="0"/>
                </a:lnTo>
                <a:lnTo>
                  <a:pt x="33575" y="1400"/>
                </a:lnTo>
                <a:lnTo>
                  <a:pt x="1400" y="1400"/>
                </a:lnTo>
                <a:close/>
              </a:path>
              <a:path fill="darken" w="34975" h="21600">
                <a:moveTo>
                  <a:pt x="34975" y="0"/>
                </a:moveTo>
                <a:lnTo>
                  <a:pt x="34975" y="21600"/>
                </a:lnTo>
                <a:lnTo>
                  <a:pt x="33575" y="20200"/>
                </a:lnTo>
                <a:lnTo>
                  <a:pt x="33575" y="1400"/>
                </a:lnTo>
                <a:close/>
              </a:path>
              <a:path fill="darkenLess" w="34975" h="21600">
                <a:moveTo>
                  <a:pt x="34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75" y="20200"/>
                </a:lnTo>
                <a:close/>
              </a:path>
              <a:path fill="lighten" w="34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75" h="21600">
                <a:moveTo>
                  <a:pt x="17487" y="3837"/>
                </a:moveTo>
                <a:lnTo>
                  <a:pt x="20064" y="6448"/>
                </a:lnTo>
                <a:lnTo>
                  <a:pt x="20064" y="4707"/>
                </a:lnTo>
                <a:lnTo>
                  <a:pt x="21839" y="4707"/>
                </a:lnTo>
                <a:lnTo>
                  <a:pt x="21839" y="8224"/>
                </a:lnTo>
                <a:lnTo>
                  <a:pt x="24450" y="10800"/>
                </a:lnTo>
                <a:lnTo>
                  <a:pt x="22797" y="10800"/>
                </a:lnTo>
                <a:lnTo>
                  <a:pt x="22797" y="17989"/>
                </a:lnTo>
                <a:lnTo>
                  <a:pt x="12178" y="17989"/>
                </a:lnTo>
                <a:lnTo>
                  <a:pt x="12178" y="10800"/>
                </a:lnTo>
                <a:lnTo>
                  <a:pt x="10524" y="10800"/>
                </a:lnTo>
                <a:close/>
              </a:path>
              <a:path fill="darkenLess" w="34975" h="21600">
                <a:moveTo>
                  <a:pt x="20064" y="6448"/>
                </a:moveTo>
                <a:lnTo>
                  <a:pt x="20064" y="4707"/>
                </a:lnTo>
                <a:lnTo>
                  <a:pt x="21839" y="4707"/>
                </a:lnTo>
                <a:lnTo>
                  <a:pt x="21839" y="8224"/>
                </a:lnTo>
                <a:close/>
              </a:path>
              <a:path fill="darkenLess" w="34975" h="21600">
                <a:moveTo>
                  <a:pt x="16565" y="14299"/>
                </a:moveTo>
                <a:lnTo>
                  <a:pt x="18410" y="14299"/>
                </a:lnTo>
                <a:lnTo>
                  <a:pt x="18410" y="17989"/>
                </a:lnTo>
                <a:lnTo>
                  <a:pt x="22797" y="17989"/>
                </a:lnTo>
                <a:lnTo>
                  <a:pt x="22797" y="10800"/>
                </a:lnTo>
                <a:lnTo>
                  <a:pt x="12178" y="10800"/>
                </a:lnTo>
                <a:lnTo>
                  <a:pt x="12178" y="17989"/>
                </a:lnTo>
                <a:lnTo>
                  <a:pt x="16565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1602000" cy="1656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0200" y="1989000"/>
            <a:ext cx="292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007400"/>
                </a:solidFill>
                <a:latin typeface="Arial"/>
              </a:rPr>
              <a:t>雷锋</a:t>
            </a:r>
            <a:endParaRPr b="0" lang="en-US" sz="1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0200" y="1989000"/>
            <a:ext cx="292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007400"/>
                </a:solidFill>
                <a:latin typeface="Arial"/>
              </a:rPr>
              <a:t>需要</a:t>
            </a:r>
            <a:endParaRPr b="0" lang="en-US" sz="1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0200" y="1989000"/>
            <a:ext cx="292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007400"/>
                </a:solidFill>
                <a:latin typeface="Arial"/>
              </a:rPr>
              <a:t>年迈</a:t>
            </a:r>
            <a:endParaRPr b="0" lang="en-US" sz="1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0200" y="1989000"/>
            <a:ext cx="292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007400"/>
                </a:solidFill>
                <a:latin typeface="Arial"/>
              </a:rPr>
              <a:t>脚窝</a:t>
            </a:r>
            <a:endParaRPr b="0" lang="en-US" sz="1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0200" y="1989000"/>
            <a:ext cx="292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007400"/>
                </a:solidFill>
                <a:latin typeface="Arial"/>
              </a:rPr>
              <a:t>花瓣</a:t>
            </a:r>
            <a:endParaRPr b="0" lang="en-US" sz="1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0200" y="1989000"/>
            <a:ext cx="292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007400"/>
                </a:solidFill>
                <a:latin typeface="Arial"/>
              </a:rPr>
              <a:t>叔叔</a:t>
            </a:r>
            <a:endParaRPr b="0" lang="en-US" sz="1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0200" y="1989000"/>
            <a:ext cx="292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007400"/>
                </a:solidFill>
                <a:latin typeface="Arial"/>
              </a:rPr>
              <a:t>荆棘</a:t>
            </a:r>
            <a:endParaRPr b="0" lang="en-US" sz="1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0200" y="1989000"/>
            <a:ext cx="292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007400"/>
                </a:solidFill>
                <a:latin typeface="Arial"/>
              </a:rPr>
              <a:t>曾经</a:t>
            </a:r>
            <a:endParaRPr b="0" lang="en-US" sz="1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0200" y="1989000"/>
            <a:ext cx="292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007400"/>
                </a:solidFill>
                <a:latin typeface="Arial"/>
              </a:rPr>
              <a:t>晶莹</a:t>
            </a:r>
            <a:endParaRPr b="0" lang="en-US" sz="1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0200" y="1989000"/>
            <a:ext cx="292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007400"/>
                </a:solidFill>
                <a:latin typeface="Arial"/>
              </a:rPr>
              <a:t>寻觅</a:t>
            </a:r>
            <a:endParaRPr b="0" lang="en-US" sz="1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0200" y="1989000"/>
            <a:ext cx="292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007400"/>
                </a:solidFill>
                <a:latin typeface="Arial"/>
              </a:rPr>
              <a:t>泥泞</a:t>
            </a:r>
            <a:endParaRPr b="0" lang="en-US" sz="180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2" dur="1" fill="hold"/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4360" y="198900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cc"/>
                </a:solidFill>
                <a:latin typeface="Arial"/>
                <a:ea typeface="黑体"/>
              </a:rPr>
              <a:t>泥泞　脚窝　冒着</a:t>
            </a:r>
            <a:endParaRPr b="0" lang="en-US" sz="7200" spc="-1" strike="noStrike">
              <a:solidFill>
                <a:srgbClr val="007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cc"/>
                </a:solidFill>
                <a:latin typeface="Arial"/>
                <a:ea typeface="黑体"/>
              </a:rPr>
              <a:t>曾经　年迈　荆棘</a:t>
            </a:r>
            <a:endParaRPr b="0" lang="en-US" sz="7200" spc="-1" strike="noStrike">
              <a:solidFill>
                <a:srgbClr val="007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cc"/>
                </a:solidFill>
                <a:latin typeface="Arial"/>
                <a:ea typeface="黑体"/>
              </a:rPr>
              <a:t>花瓣　晶莹　寻觅</a:t>
            </a:r>
            <a:endParaRPr b="0" lang="en-US" sz="7200" spc="-1" strike="noStrike">
              <a:solidFill>
                <a:srgbClr val="007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cc"/>
                </a:solidFill>
                <a:latin typeface="Arial"/>
                <a:ea typeface="黑体"/>
              </a:rPr>
              <a:t>需要　汗滴　洒下</a:t>
            </a:r>
            <a:endParaRPr b="0" lang="en-US" sz="7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50920" y="0"/>
            <a:ext cx="4176720" cy="1735200"/>
          </a:xfrm>
          <a:prstGeom prst="cloudCallout">
            <a:avLst>
              <a:gd name="adj1" fmla="val -48629"/>
              <a:gd name="adj2" fmla="val 57046"/>
            </a:avLst>
          </a:prstGeom>
          <a:solidFill>
            <a:srgbClr val="00cc99"/>
          </a:solidFill>
          <a:ln w="9360">
            <a:solidFill>
              <a:srgbClr val="007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360" y="260280"/>
            <a:ext cx="1689480" cy="1099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0099"/>
                </a:solidFill>
                <a:latin typeface="Arial"/>
                <a:ea typeface="华文彩云"/>
              </a:rPr>
              <a:t>我会读</a:t>
            </a:r>
            <a:endParaRPr b="0" lang="en-US" sz="66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5280" y="2421000"/>
            <a:ext cx="9144000" cy="44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迈     </a:t>
            </a:r>
            <a:r>
              <a:rPr b="0" lang="zh-CN" sz="4800" spc="-1" strike="noStrike" u="sng">
                <a:solidFill>
                  <a:srgbClr val="e03500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迷 </a:t>
            </a:r>
            <a:r>
              <a:rPr b="1" lang="zh-CN" sz="4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 u="sng">
                <a:solidFill>
                  <a:srgbClr val="e03500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迹 </a:t>
            </a:r>
            <a:r>
              <a:rPr b="1" lang="zh-CN" sz="4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叔</a:t>
            </a:r>
            <a:endParaRPr b="0" lang="en-US" sz="4800" spc="-1" strike="noStrike">
              <a:solidFill>
                <a:srgbClr val="0074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4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e03500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滴 </a:t>
            </a:r>
            <a:r>
              <a:rPr b="1" lang="zh-CN" sz="4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洒     泥     泞</a:t>
            </a:r>
            <a:endParaRPr b="0" lang="en-US" sz="4800" spc="-1" strike="noStrike">
              <a:solidFill>
                <a:srgbClr val="0074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4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雷     需     </a:t>
            </a:r>
            <a:r>
              <a:rPr b="0" lang="zh-CN" sz="4800" spc="-1" strike="noStrike" u="sng">
                <a:solidFill>
                  <a:srgbClr val="e03500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冒</a:t>
            </a:r>
            <a:r>
              <a:rPr b="1" lang="zh-CN" sz="4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 锋 </a:t>
            </a:r>
            <a:endParaRPr b="0" lang="en-US" sz="4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71000" y="1782720"/>
            <a:ext cx="203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4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读读认认 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990720" y="1052640"/>
            <a:ext cx="2300040" cy="47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14400" y="1733400"/>
            <a:ext cx="3962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74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读一读，说一说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2286000" cy="609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52480" y="2533680"/>
            <a:ext cx="4419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0074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小组分段朗读课文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3295800"/>
            <a:ext cx="4419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0074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雷峰叔叔到底在哪里？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52480" y="4019400"/>
            <a:ext cx="56390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0074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你认为雷锋叔叔是个怎样的人？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3808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0"/>
            <a:ext cx="959616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沿着长长的小溪，</a:t>
            </a:r>
            <a:endParaRPr b="0" lang="en-US" sz="7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寻找雷锋的足迹。</a:t>
            </a:r>
            <a:endParaRPr b="0" lang="en-US" sz="7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雷锋叔叔，你在哪里，</a:t>
            </a:r>
            <a:endParaRPr b="0" lang="en-US" sz="7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你在哪里？</a:t>
            </a:r>
            <a:endParaRPr b="0" lang="en-US" sz="7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1066680"/>
            <a:ext cx="152280" cy="152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1066680"/>
            <a:ext cx="152280" cy="152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43400" y="1066680"/>
            <a:ext cx="152280" cy="152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1828800" cy="1101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0"/>
            <a:ext cx="830592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400"/>
                </a:solidFill>
                <a:latin typeface="Times New Roman"/>
              </a:rPr>
              <a:t>小溪说：</a:t>
            </a:r>
            <a:endParaRPr b="0" lang="en-US" sz="4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400"/>
                </a:solidFill>
                <a:latin typeface="Times New Roman"/>
              </a:rPr>
              <a:t>昨天，他曾路过这里，</a:t>
            </a:r>
            <a:endParaRPr b="0" lang="en-US" sz="4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400"/>
                </a:solidFill>
                <a:latin typeface="Times New Roman"/>
              </a:rPr>
              <a:t>抱着迷路的孩子，</a:t>
            </a:r>
            <a:endParaRPr b="0" lang="en-US" sz="4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400"/>
                </a:solidFill>
                <a:latin typeface="Times New Roman"/>
              </a:rPr>
              <a:t>冒着蒙蒙的细雨。</a:t>
            </a:r>
            <a:endParaRPr b="0" lang="en-US" sz="4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400"/>
                </a:solidFill>
                <a:latin typeface="Times New Roman"/>
              </a:rPr>
              <a:t>瞧，那泥泞路上的脚窝，</a:t>
            </a:r>
            <a:endParaRPr b="0" lang="en-US" sz="4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400"/>
                </a:solidFill>
                <a:latin typeface="Times New Roman"/>
              </a:rPr>
              <a:t>就是他留下的足迹。</a:t>
            </a:r>
            <a:endParaRPr b="0" lang="en-US" sz="4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218600" y="297180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2971800"/>
            <a:ext cx="15264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218600" y="4038480"/>
            <a:ext cx="152280" cy="152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752480" y="4038480"/>
            <a:ext cx="152640" cy="1526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8459640" y="6308640"/>
            <a:ext cx="540000" cy="333360"/>
          </a:xfrm>
          <a:custGeom>
            <a:avLst/>
            <a:gdLst>
              <a:gd name="textAreaLeft" fmla="*/ 21600 w 540000"/>
              <a:gd name="textAreaRight" fmla="*/ 518400 w 540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75" h="21600">
                <a:moveTo>
                  <a:pt x="0" y="0"/>
                </a:moveTo>
                <a:lnTo>
                  <a:pt x="34975" y="0"/>
                </a:lnTo>
                <a:lnTo>
                  <a:pt x="34975" y="21600"/>
                </a:lnTo>
                <a:lnTo>
                  <a:pt x="0" y="21600"/>
                </a:lnTo>
                <a:close/>
              </a:path>
              <a:path fill="lightenLess" w="34975" h="21600">
                <a:moveTo>
                  <a:pt x="0" y="0"/>
                </a:moveTo>
                <a:lnTo>
                  <a:pt x="34975" y="0"/>
                </a:lnTo>
                <a:lnTo>
                  <a:pt x="33575" y="1400"/>
                </a:lnTo>
                <a:lnTo>
                  <a:pt x="1400" y="1400"/>
                </a:lnTo>
                <a:close/>
              </a:path>
              <a:path fill="darken" w="34975" h="21600">
                <a:moveTo>
                  <a:pt x="34975" y="0"/>
                </a:moveTo>
                <a:lnTo>
                  <a:pt x="34975" y="21600"/>
                </a:lnTo>
                <a:lnTo>
                  <a:pt x="33575" y="20200"/>
                </a:lnTo>
                <a:lnTo>
                  <a:pt x="33575" y="1400"/>
                </a:lnTo>
                <a:close/>
              </a:path>
              <a:path fill="darkenLess" w="34975" h="21600">
                <a:moveTo>
                  <a:pt x="34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75" y="20200"/>
                </a:lnTo>
                <a:close/>
              </a:path>
              <a:path fill="lighten" w="34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75" h="21600">
                <a:moveTo>
                  <a:pt x="17487" y="3837"/>
                </a:moveTo>
                <a:lnTo>
                  <a:pt x="20064" y="6448"/>
                </a:lnTo>
                <a:lnTo>
                  <a:pt x="20064" y="4707"/>
                </a:lnTo>
                <a:lnTo>
                  <a:pt x="21839" y="4707"/>
                </a:lnTo>
                <a:lnTo>
                  <a:pt x="21839" y="8224"/>
                </a:lnTo>
                <a:lnTo>
                  <a:pt x="24450" y="10800"/>
                </a:lnTo>
                <a:lnTo>
                  <a:pt x="22797" y="10800"/>
                </a:lnTo>
                <a:lnTo>
                  <a:pt x="22797" y="17989"/>
                </a:lnTo>
                <a:lnTo>
                  <a:pt x="12178" y="17989"/>
                </a:lnTo>
                <a:lnTo>
                  <a:pt x="12178" y="10800"/>
                </a:lnTo>
                <a:lnTo>
                  <a:pt x="10524" y="10800"/>
                </a:lnTo>
                <a:close/>
              </a:path>
              <a:path fill="darkenLess" w="34975" h="21600">
                <a:moveTo>
                  <a:pt x="20064" y="6448"/>
                </a:moveTo>
                <a:lnTo>
                  <a:pt x="20064" y="4707"/>
                </a:lnTo>
                <a:lnTo>
                  <a:pt x="21839" y="4707"/>
                </a:lnTo>
                <a:lnTo>
                  <a:pt x="21839" y="8224"/>
                </a:lnTo>
                <a:close/>
              </a:path>
              <a:path fill="darkenLess" w="34975" h="21600">
                <a:moveTo>
                  <a:pt x="16565" y="14299"/>
                </a:moveTo>
                <a:lnTo>
                  <a:pt x="18410" y="14299"/>
                </a:lnTo>
                <a:lnTo>
                  <a:pt x="18410" y="17989"/>
                </a:lnTo>
                <a:lnTo>
                  <a:pt x="22797" y="17989"/>
                </a:lnTo>
                <a:lnTo>
                  <a:pt x="22797" y="10800"/>
                </a:lnTo>
                <a:lnTo>
                  <a:pt x="12178" y="10800"/>
                </a:lnTo>
                <a:lnTo>
                  <a:pt x="12178" y="17989"/>
                </a:lnTo>
                <a:lnTo>
                  <a:pt x="16565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594320" y="497196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400"/>
                </a:solidFill>
                <a:latin typeface="Arial"/>
              </a:rPr>
              <a:t>泥泞：形容路上因有烂泥而不好走。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8360" y="6308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7476" y="3837"/>
                </a:moveTo>
                <a:lnTo>
                  <a:pt x="20052" y="6448"/>
                </a:lnTo>
                <a:lnTo>
                  <a:pt x="20052" y="4707"/>
                </a:lnTo>
                <a:lnTo>
                  <a:pt x="21828" y="4707"/>
                </a:lnTo>
                <a:lnTo>
                  <a:pt x="21828" y="8224"/>
                </a:lnTo>
                <a:lnTo>
                  <a:pt x="24439" y="10800"/>
                </a:lnTo>
                <a:lnTo>
                  <a:pt x="22785" y="10800"/>
                </a:lnTo>
                <a:lnTo>
                  <a:pt x="22785" y="17989"/>
                </a:lnTo>
                <a:lnTo>
                  <a:pt x="12166" y="17989"/>
                </a:lnTo>
                <a:lnTo>
                  <a:pt x="12166" y="10800"/>
                </a:lnTo>
                <a:lnTo>
                  <a:pt x="10513" y="10800"/>
                </a:lnTo>
                <a:close/>
              </a:path>
              <a:path fill="darkenLess" w="34951" h="21600">
                <a:moveTo>
                  <a:pt x="20052" y="6448"/>
                </a:moveTo>
                <a:lnTo>
                  <a:pt x="20052" y="4707"/>
                </a:lnTo>
                <a:lnTo>
                  <a:pt x="21828" y="4707"/>
                </a:lnTo>
                <a:lnTo>
                  <a:pt x="21828" y="8224"/>
                </a:lnTo>
                <a:close/>
              </a:path>
              <a:path fill="darkenLess" w="34951" h="21600">
                <a:moveTo>
                  <a:pt x="16553" y="14299"/>
                </a:moveTo>
                <a:lnTo>
                  <a:pt x="18398" y="14299"/>
                </a:lnTo>
                <a:lnTo>
                  <a:pt x="18398" y="17989"/>
                </a:lnTo>
                <a:lnTo>
                  <a:pt x="22785" y="17989"/>
                </a:lnTo>
                <a:lnTo>
                  <a:pt x="22785" y="10800"/>
                </a:lnTo>
                <a:lnTo>
                  <a:pt x="12166" y="10800"/>
                </a:lnTo>
                <a:lnTo>
                  <a:pt x="12166" y="17989"/>
                </a:lnTo>
                <a:lnTo>
                  <a:pt x="16553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333360"/>
            <a:ext cx="951084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顺着弯弯的小路，</a:t>
            </a:r>
            <a:endParaRPr b="0" lang="en-US" sz="7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寻找雷锋的足迹。</a:t>
            </a:r>
            <a:endParaRPr b="0" lang="en-US" sz="7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雷锋叔叔，你在哪里，</a:t>
            </a:r>
            <a:endParaRPr b="0" lang="en-US" sz="7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你在哪里？</a:t>
            </a:r>
            <a:endParaRPr b="0" lang="en-US" sz="7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40000" y="148428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67280" y="148428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3640" y="148428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33520" y="0"/>
            <a:ext cx="861048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400"/>
                </a:solidFill>
                <a:latin typeface="Times New Roman"/>
              </a:rPr>
              <a:t>小路说：</a:t>
            </a:r>
            <a:endParaRPr b="0" lang="en-US" sz="4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400"/>
                </a:solidFill>
                <a:latin typeface="Times New Roman"/>
              </a:rPr>
              <a:t>昨天，他曾路过这里，</a:t>
            </a:r>
            <a:endParaRPr b="0" lang="en-US" sz="4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400"/>
                </a:solidFill>
                <a:latin typeface="Times New Roman"/>
              </a:rPr>
              <a:t>背着年迈的大娘，</a:t>
            </a:r>
            <a:endParaRPr b="0" lang="en-US" sz="4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400"/>
                </a:solidFill>
                <a:latin typeface="Times New Roman"/>
              </a:rPr>
              <a:t>踏着路上的荆棘。</a:t>
            </a:r>
            <a:endParaRPr b="0" lang="en-US" sz="4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400"/>
                </a:solidFill>
                <a:latin typeface="Times New Roman"/>
              </a:rPr>
              <a:t>瞧，那花瓣上晶莹的露珠，</a:t>
            </a:r>
            <a:endParaRPr b="0" lang="en-US" sz="4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400"/>
                </a:solidFill>
                <a:latin typeface="Times New Roman"/>
              </a:rPr>
              <a:t>就是他洒下的汗滴。</a:t>
            </a:r>
            <a:endParaRPr b="0" lang="en-US" sz="4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971800"/>
            <a:ext cx="15264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297180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4114800"/>
            <a:ext cx="15228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4114800"/>
            <a:ext cx="152640" cy="1522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8960" y="0"/>
            <a:ext cx="51894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830600" y="836640"/>
            <a:ext cx="4905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400"/>
                </a:solidFill>
                <a:latin typeface="Arial"/>
                <a:ea typeface="黑体"/>
              </a:rPr>
              <a:t>乘着温暖的春风，</a:t>
            </a:r>
            <a:endParaRPr b="0" lang="en-US" sz="6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400"/>
                </a:solidFill>
                <a:latin typeface="Arial"/>
                <a:ea typeface="黑体"/>
              </a:rPr>
              <a:t>我们四处寻觅。</a:t>
            </a:r>
            <a:endParaRPr b="0" lang="en-US" sz="6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400"/>
                </a:solidFill>
                <a:latin typeface="Arial"/>
                <a:ea typeface="黑体"/>
              </a:rPr>
              <a:t>啊，终于找到了——</a:t>
            </a:r>
            <a:endParaRPr b="0" lang="en-US" sz="6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400"/>
                </a:solidFill>
                <a:latin typeface="Arial"/>
                <a:ea typeface="黑体"/>
              </a:rPr>
              <a:t>哪里需要献出爱心，</a:t>
            </a:r>
            <a:endParaRPr b="0" lang="en-US" sz="6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400"/>
                </a:solidFill>
                <a:latin typeface="Arial"/>
                <a:ea typeface="黑体"/>
              </a:rPr>
              <a:t>雷锋叔叔就出现在哪里。</a:t>
            </a:r>
            <a:endParaRPr b="0" lang="en-US" sz="6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8459640" y="6308640"/>
            <a:ext cx="540000" cy="333360"/>
          </a:xfrm>
          <a:custGeom>
            <a:avLst/>
            <a:gdLst>
              <a:gd name="textAreaLeft" fmla="*/ 21600 w 540000"/>
              <a:gd name="textAreaRight" fmla="*/ 518400 w 540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75" h="21600">
                <a:moveTo>
                  <a:pt x="0" y="0"/>
                </a:moveTo>
                <a:lnTo>
                  <a:pt x="34975" y="0"/>
                </a:lnTo>
                <a:lnTo>
                  <a:pt x="34975" y="21600"/>
                </a:lnTo>
                <a:lnTo>
                  <a:pt x="0" y="21600"/>
                </a:lnTo>
                <a:close/>
              </a:path>
              <a:path fill="lightenLess" w="34975" h="21600">
                <a:moveTo>
                  <a:pt x="0" y="0"/>
                </a:moveTo>
                <a:lnTo>
                  <a:pt x="34975" y="0"/>
                </a:lnTo>
                <a:lnTo>
                  <a:pt x="33575" y="1400"/>
                </a:lnTo>
                <a:lnTo>
                  <a:pt x="1400" y="1400"/>
                </a:lnTo>
                <a:close/>
              </a:path>
              <a:path fill="darken" w="34975" h="21600">
                <a:moveTo>
                  <a:pt x="34975" y="0"/>
                </a:moveTo>
                <a:lnTo>
                  <a:pt x="34975" y="21600"/>
                </a:lnTo>
                <a:lnTo>
                  <a:pt x="33575" y="20200"/>
                </a:lnTo>
                <a:lnTo>
                  <a:pt x="33575" y="1400"/>
                </a:lnTo>
                <a:close/>
              </a:path>
              <a:path fill="darkenLess" w="34975" h="21600">
                <a:moveTo>
                  <a:pt x="34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75" y="20200"/>
                </a:lnTo>
                <a:close/>
              </a:path>
              <a:path fill="lighten" w="34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75" h="21600">
                <a:moveTo>
                  <a:pt x="17487" y="3837"/>
                </a:moveTo>
                <a:lnTo>
                  <a:pt x="20064" y="6448"/>
                </a:lnTo>
                <a:lnTo>
                  <a:pt x="20064" y="4707"/>
                </a:lnTo>
                <a:lnTo>
                  <a:pt x="21839" y="4707"/>
                </a:lnTo>
                <a:lnTo>
                  <a:pt x="21839" y="8224"/>
                </a:lnTo>
                <a:lnTo>
                  <a:pt x="24450" y="10800"/>
                </a:lnTo>
                <a:lnTo>
                  <a:pt x="22797" y="10800"/>
                </a:lnTo>
                <a:lnTo>
                  <a:pt x="22797" y="17989"/>
                </a:lnTo>
                <a:lnTo>
                  <a:pt x="12178" y="17989"/>
                </a:lnTo>
                <a:lnTo>
                  <a:pt x="12178" y="10800"/>
                </a:lnTo>
                <a:lnTo>
                  <a:pt x="10524" y="10800"/>
                </a:lnTo>
                <a:close/>
              </a:path>
              <a:path fill="darkenLess" w="34975" h="21600">
                <a:moveTo>
                  <a:pt x="20064" y="6448"/>
                </a:moveTo>
                <a:lnTo>
                  <a:pt x="20064" y="4707"/>
                </a:lnTo>
                <a:lnTo>
                  <a:pt x="21839" y="4707"/>
                </a:lnTo>
                <a:lnTo>
                  <a:pt x="21839" y="8224"/>
                </a:lnTo>
                <a:close/>
              </a:path>
              <a:path fill="darkenLess" w="34975" h="21600">
                <a:moveTo>
                  <a:pt x="16565" y="14299"/>
                </a:moveTo>
                <a:lnTo>
                  <a:pt x="18410" y="14299"/>
                </a:lnTo>
                <a:lnTo>
                  <a:pt x="18410" y="17989"/>
                </a:lnTo>
                <a:lnTo>
                  <a:pt x="22797" y="17989"/>
                </a:lnTo>
                <a:lnTo>
                  <a:pt x="22797" y="10800"/>
                </a:lnTo>
                <a:lnTo>
                  <a:pt x="12178" y="10800"/>
                </a:lnTo>
                <a:lnTo>
                  <a:pt x="12178" y="17989"/>
                </a:lnTo>
                <a:lnTo>
                  <a:pt x="16565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92360" y="4292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2286000" cy="623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752560" y="1600200"/>
            <a:ext cx="352440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4" name="suction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260280"/>
            <a:ext cx="1022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99"/>
                </a:solidFill>
                <a:latin typeface="Arial"/>
                <a:ea typeface="黑体"/>
              </a:rPr>
              <a:t>哪里需要献出爱心，</a:t>
            </a:r>
            <a:endParaRPr b="0" lang="en-US" sz="6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99"/>
                </a:solidFill>
                <a:latin typeface="Arial"/>
                <a:ea typeface="黑体"/>
              </a:rPr>
              <a:t>雷锋叔叔就出现在哪里</a:t>
            </a:r>
            <a:r>
              <a:rPr b="1" lang="zh-CN" sz="6600" spc="-1" strike="noStrike">
                <a:solidFill>
                  <a:srgbClr val="cc0099"/>
                </a:solidFill>
                <a:latin typeface="Arial"/>
                <a:ea typeface="黑体"/>
              </a:rPr>
              <a:t>。</a:t>
            </a:r>
            <a:endParaRPr b="0" lang="en-US" sz="6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12680" y="350028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Arial"/>
                <a:ea typeface="黑体"/>
              </a:rPr>
              <a:t>哪里需要献出爱心，</a:t>
            </a:r>
            <a:endParaRPr b="0" lang="en-US" sz="7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Arial"/>
                <a:ea typeface="黑体"/>
              </a:rPr>
              <a:t>我们就出现在哪里。</a:t>
            </a:r>
            <a:endParaRPr b="0" lang="en-US" sz="7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95280" y="26028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  <a:ea typeface="黑体"/>
              </a:rPr>
              <a:t>　　　　　</a:t>
            </a: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我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不但在小溪旁、小路边找到了雷锋叔叔，我还在　　　　也找到了雷锋叔叔的足迹。</a:t>
            </a:r>
            <a:r>
              <a:rPr b="1" lang="zh-CN" sz="4400" spc="-1" strike="noStrike" u="sng">
                <a:solidFill>
                  <a:srgbClr val="008000"/>
                </a:solidFill>
                <a:uFillTx/>
                <a:latin typeface="Arial"/>
                <a:ea typeface="黑体"/>
              </a:rPr>
              <a:t>　　　　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41960" y="3068640"/>
            <a:ext cx="576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　　　　　需要献出爱心，雷锋叔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叔就出现在　　　　　。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501336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  <a:ea typeface="黑体"/>
              </a:rPr>
              <a:t>　　　　需要献出爱心，我们就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  <a:ea typeface="黑体"/>
              </a:rPr>
              <a:t>出现在　　。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27640" y="1557360"/>
            <a:ext cx="23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48000" y="429264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63640" y="364500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63560" y="566100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68360" y="6308640"/>
            <a:ext cx="93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74800" y="5013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  <a:ea typeface="黑体"/>
              </a:rPr>
              <a:t>哪里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30640" y="5661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  <a:ea typeface="黑体"/>
              </a:rPr>
              <a:t>哪里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4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8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28796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1676520"/>
            <a:ext cx="5410080" cy="4405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903840" y="803160"/>
            <a:ext cx="17478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46600" y="1052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雷锋是个什么样的人？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130400" y="1020600"/>
            <a:ext cx="2222280" cy="5796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914400" y="158112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74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抄一抄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2209680"/>
            <a:ext cx="716292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1)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雷锋出差一千里，好事做了一火车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2)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人的生命是有限的，可是为人民服务是无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限的。我要把有限的生命，投入到无限的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为人民服务之中去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）一个人做一件好事并不难，难的是一辈子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做好事，不做坏事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30400" y="1020600"/>
            <a:ext cx="2222280" cy="5796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066680" y="1676520"/>
            <a:ext cx="2895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74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写一写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752480" y="2362320"/>
            <a:ext cx="5715000" cy="3080160"/>
            <a:chOff x="1752480" y="2362320"/>
            <a:chExt cx="5715000" cy="3080160"/>
          </a:xfrm>
        </p:grpSpPr>
        <p:sp>
          <p:nvSpPr>
            <p:cNvPr id="234" name=""/>
            <p:cNvSpPr/>
            <p:nvPr/>
          </p:nvSpPr>
          <p:spPr>
            <a:xfrm>
              <a:off x="1752480" y="2362320"/>
              <a:ext cx="396252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弯弯的小路   弯弯的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 algn="just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长长的小溪   长长的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 algn="just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蒙蒙的细雨   蒙蒙的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 algn="just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温暖的春风   温暖的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 algn="just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晶莹的露珠   晶莹的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34120" y="2932200"/>
              <a:ext cx="2133360" cy="0"/>
            </a:xfrm>
            <a:prstGeom prst="line">
              <a:avLst/>
            </a:prstGeom>
            <a:ln w="28440">
              <a:solidFill>
                <a:srgbClr val="00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541680"/>
              <a:ext cx="2133360" cy="0"/>
            </a:xfrm>
            <a:prstGeom prst="line">
              <a:avLst/>
            </a:prstGeom>
            <a:ln w="28440">
              <a:solidFill>
                <a:srgbClr val="00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34120" y="4151160"/>
              <a:ext cx="2133360" cy="0"/>
            </a:xfrm>
            <a:prstGeom prst="line">
              <a:avLst/>
            </a:prstGeom>
            <a:ln w="28440">
              <a:solidFill>
                <a:srgbClr val="00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34120" y="4761000"/>
              <a:ext cx="2133360" cy="0"/>
            </a:xfrm>
            <a:prstGeom prst="line">
              <a:avLst/>
            </a:prstGeom>
            <a:ln w="28440">
              <a:solidFill>
                <a:srgbClr val="00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34120" y="5370480"/>
              <a:ext cx="2133360" cy="0"/>
            </a:xfrm>
            <a:prstGeom prst="line">
              <a:avLst/>
            </a:prstGeom>
            <a:ln w="28440">
              <a:solidFill>
                <a:srgbClr val="00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160880" y="2781360"/>
            <a:ext cx="4983120" cy="23781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79280" y="620640"/>
            <a:ext cx="3903840" cy="5157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459640" y="6308640"/>
            <a:ext cx="540000" cy="333360"/>
          </a:xfrm>
          <a:custGeom>
            <a:avLst/>
            <a:gdLst>
              <a:gd name="textAreaLeft" fmla="*/ 21600 w 540000"/>
              <a:gd name="textAreaRight" fmla="*/ 518400 w 540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75" h="21600">
                <a:moveTo>
                  <a:pt x="0" y="0"/>
                </a:moveTo>
                <a:lnTo>
                  <a:pt x="34975" y="0"/>
                </a:lnTo>
                <a:lnTo>
                  <a:pt x="34975" y="21600"/>
                </a:lnTo>
                <a:lnTo>
                  <a:pt x="0" y="21600"/>
                </a:lnTo>
                <a:close/>
              </a:path>
              <a:path fill="lightenLess" w="34975" h="21600">
                <a:moveTo>
                  <a:pt x="0" y="0"/>
                </a:moveTo>
                <a:lnTo>
                  <a:pt x="34975" y="0"/>
                </a:lnTo>
                <a:lnTo>
                  <a:pt x="33575" y="1400"/>
                </a:lnTo>
                <a:lnTo>
                  <a:pt x="1400" y="1400"/>
                </a:lnTo>
                <a:close/>
              </a:path>
              <a:path fill="darken" w="34975" h="21600">
                <a:moveTo>
                  <a:pt x="34975" y="0"/>
                </a:moveTo>
                <a:lnTo>
                  <a:pt x="34975" y="21600"/>
                </a:lnTo>
                <a:lnTo>
                  <a:pt x="33575" y="20200"/>
                </a:lnTo>
                <a:lnTo>
                  <a:pt x="33575" y="1400"/>
                </a:lnTo>
                <a:close/>
              </a:path>
              <a:path fill="darkenLess" w="34975" h="21600">
                <a:moveTo>
                  <a:pt x="34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75" y="20200"/>
                </a:lnTo>
                <a:close/>
              </a:path>
              <a:path fill="lighten" w="34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75" h="21600">
                <a:moveTo>
                  <a:pt x="17487" y="3837"/>
                </a:moveTo>
                <a:lnTo>
                  <a:pt x="20064" y="6448"/>
                </a:lnTo>
                <a:lnTo>
                  <a:pt x="20064" y="4707"/>
                </a:lnTo>
                <a:lnTo>
                  <a:pt x="21839" y="4707"/>
                </a:lnTo>
                <a:lnTo>
                  <a:pt x="21839" y="8224"/>
                </a:lnTo>
                <a:lnTo>
                  <a:pt x="24450" y="10800"/>
                </a:lnTo>
                <a:lnTo>
                  <a:pt x="22797" y="10800"/>
                </a:lnTo>
                <a:lnTo>
                  <a:pt x="22797" y="17989"/>
                </a:lnTo>
                <a:lnTo>
                  <a:pt x="12178" y="17989"/>
                </a:lnTo>
                <a:lnTo>
                  <a:pt x="12178" y="10800"/>
                </a:lnTo>
                <a:lnTo>
                  <a:pt x="10524" y="10800"/>
                </a:lnTo>
                <a:close/>
              </a:path>
              <a:path fill="darkenLess" w="34975" h="21600">
                <a:moveTo>
                  <a:pt x="20064" y="6448"/>
                </a:moveTo>
                <a:lnTo>
                  <a:pt x="20064" y="4707"/>
                </a:lnTo>
                <a:lnTo>
                  <a:pt x="21839" y="4707"/>
                </a:lnTo>
                <a:lnTo>
                  <a:pt x="21839" y="8224"/>
                </a:lnTo>
                <a:close/>
              </a:path>
              <a:path fill="darkenLess" w="34975" h="21600">
                <a:moveTo>
                  <a:pt x="16565" y="14299"/>
                </a:moveTo>
                <a:lnTo>
                  <a:pt x="18410" y="14299"/>
                </a:lnTo>
                <a:lnTo>
                  <a:pt x="18410" y="17989"/>
                </a:lnTo>
                <a:lnTo>
                  <a:pt x="22797" y="17989"/>
                </a:lnTo>
                <a:lnTo>
                  <a:pt x="22797" y="10800"/>
                </a:lnTo>
                <a:lnTo>
                  <a:pt x="12178" y="10800"/>
                </a:lnTo>
                <a:lnTo>
                  <a:pt x="12178" y="17989"/>
                </a:lnTo>
                <a:lnTo>
                  <a:pt x="16565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758960" y="0"/>
            <a:ext cx="51894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042920" y="2158920"/>
          <a:ext cx="4294080" cy="4157280"/>
        </p:xfrm>
        <a:graphic>
          <a:graphicData uri="http://schemas.openxmlformats.org/drawingml/2006/table">
            <a:tbl>
              <a:tblPr/>
              <a:tblGrid>
                <a:gridCol w="2147040"/>
                <a:gridCol w="2147040"/>
              </a:tblGrid>
              <a:tr h="20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400"/>
                      </a:solidFill>
                    </a:lnL>
                    <a:lnR w="5760">
                      <a:solidFill>
                        <a:srgbClr val="007400"/>
                      </a:solidFill>
                    </a:lnR>
                    <a:lnT w="13680">
                      <a:solidFill>
                        <a:srgbClr val="007400"/>
                      </a:solidFill>
                    </a:lnT>
                    <a:lnB w="5760">
                      <a:solidFill>
                        <a:srgbClr val="007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400"/>
                      </a:solidFill>
                    </a:lnL>
                    <a:lnR w="13680">
                      <a:solidFill>
                        <a:srgbClr val="007400"/>
                      </a:solidFill>
                    </a:lnR>
                    <a:lnT w="13680">
                      <a:solidFill>
                        <a:srgbClr val="007400"/>
                      </a:solidFill>
                    </a:lnT>
                    <a:lnB w="5760">
                      <a:solidFill>
                        <a:srgbClr val="007400"/>
                      </a:solidFill>
                    </a:lnB>
                    <a:noFill/>
                  </a:tcPr>
                </a:tc>
              </a:tr>
              <a:tr h="20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400"/>
                      </a:solidFill>
                    </a:lnL>
                    <a:lnR w="5760">
                      <a:solidFill>
                        <a:srgbClr val="007400"/>
                      </a:solidFill>
                    </a:lnR>
                    <a:lnT w="5760">
                      <a:solidFill>
                        <a:srgbClr val="007400"/>
                      </a:solidFill>
                    </a:lnT>
                    <a:lnB w="13680">
                      <a:solidFill>
                        <a:srgbClr val="007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400"/>
                      </a:solidFill>
                    </a:lnL>
                    <a:lnR w="13680">
                      <a:solidFill>
                        <a:srgbClr val="007400"/>
                      </a:solidFill>
                    </a:lnR>
                    <a:lnT w="5760">
                      <a:solidFill>
                        <a:srgbClr val="007400"/>
                      </a:solidFill>
                    </a:lnT>
                    <a:lnB w="13680">
                      <a:solidFill>
                        <a:srgbClr val="0074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1258920" y="1760400"/>
            <a:ext cx="43927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0" spc="-1" strike="noStrike">
                <a:solidFill>
                  <a:srgbClr val="007400"/>
                </a:solidFill>
                <a:latin typeface="Arial"/>
                <a:ea typeface="仿宋_GB2312"/>
              </a:rPr>
              <a:t>冒</a:t>
            </a:r>
            <a:endParaRPr b="0" lang="en-US" sz="2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5480" y="-450720"/>
            <a:ext cx="49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ff0000"/>
                </a:solidFill>
                <a:latin typeface="宋体"/>
              </a:rPr>
              <a:t>mào</a:t>
            </a:r>
            <a:endParaRPr b="0" lang="en-US" sz="1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5280" y="1816200"/>
            <a:ext cx="1704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冒雨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感冒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冒充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7316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758960" y="0"/>
            <a:ext cx="51894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1042920" y="2158920"/>
          <a:ext cx="4294080" cy="4157280"/>
        </p:xfrm>
        <a:graphic>
          <a:graphicData uri="http://schemas.openxmlformats.org/drawingml/2006/table">
            <a:tbl>
              <a:tblPr/>
              <a:tblGrid>
                <a:gridCol w="2147040"/>
                <a:gridCol w="2147040"/>
              </a:tblGrid>
              <a:tr h="20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400"/>
                      </a:solidFill>
                    </a:lnL>
                    <a:lnR w="5760">
                      <a:solidFill>
                        <a:srgbClr val="007400"/>
                      </a:solidFill>
                    </a:lnR>
                    <a:lnT w="13680">
                      <a:solidFill>
                        <a:srgbClr val="007400"/>
                      </a:solidFill>
                    </a:lnT>
                    <a:lnB w="5760">
                      <a:solidFill>
                        <a:srgbClr val="007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400"/>
                      </a:solidFill>
                    </a:lnL>
                    <a:lnR w="13680">
                      <a:solidFill>
                        <a:srgbClr val="007400"/>
                      </a:solidFill>
                    </a:lnR>
                    <a:lnT w="13680">
                      <a:solidFill>
                        <a:srgbClr val="007400"/>
                      </a:solidFill>
                    </a:lnT>
                    <a:lnB w="5760">
                      <a:solidFill>
                        <a:srgbClr val="007400"/>
                      </a:solidFill>
                    </a:lnB>
                    <a:noFill/>
                  </a:tcPr>
                </a:tc>
              </a:tr>
              <a:tr h="20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400"/>
                      </a:solidFill>
                    </a:lnL>
                    <a:lnR w="5760">
                      <a:solidFill>
                        <a:srgbClr val="007400"/>
                      </a:solidFill>
                    </a:lnR>
                    <a:lnT w="5760">
                      <a:solidFill>
                        <a:srgbClr val="007400"/>
                      </a:solidFill>
                    </a:lnT>
                    <a:lnB w="13680">
                      <a:solidFill>
                        <a:srgbClr val="007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400"/>
                      </a:solidFill>
                    </a:lnL>
                    <a:lnR w="13680">
                      <a:solidFill>
                        <a:srgbClr val="007400"/>
                      </a:solidFill>
                    </a:lnR>
                    <a:lnT w="5760">
                      <a:solidFill>
                        <a:srgbClr val="007400"/>
                      </a:solidFill>
                    </a:lnT>
                    <a:lnB w="13680">
                      <a:solidFill>
                        <a:srgbClr val="0074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1258920" y="1760400"/>
            <a:ext cx="43927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0" spc="-1" strike="noStrike">
                <a:solidFill>
                  <a:srgbClr val="007400"/>
                </a:solidFill>
                <a:latin typeface="Arial"/>
                <a:ea typeface="仿宋_GB2312"/>
              </a:rPr>
              <a:t>雷</a:t>
            </a:r>
            <a:endParaRPr b="0" lang="en-US" sz="2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13680" y="-450720"/>
            <a:ext cx="264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ff0000"/>
                </a:solidFill>
                <a:latin typeface="宋体"/>
              </a:rPr>
              <a:t>léi</a:t>
            </a:r>
            <a:endParaRPr b="0" lang="en-US" sz="1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45280" y="1816200"/>
            <a:ext cx="1704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雷雨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打雷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雷公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7316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758960" y="0"/>
            <a:ext cx="51894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"/>
          <p:cNvGraphicFramePr/>
          <p:nvPr/>
        </p:nvGraphicFramePr>
        <p:xfrm>
          <a:off x="1042920" y="2158920"/>
          <a:ext cx="4294080" cy="4157280"/>
        </p:xfrm>
        <a:graphic>
          <a:graphicData uri="http://schemas.openxmlformats.org/drawingml/2006/table">
            <a:tbl>
              <a:tblPr/>
              <a:tblGrid>
                <a:gridCol w="2147040"/>
                <a:gridCol w="2147040"/>
              </a:tblGrid>
              <a:tr h="20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400"/>
                      </a:solidFill>
                    </a:lnL>
                    <a:lnR w="5760">
                      <a:solidFill>
                        <a:srgbClr val="007400"/>
                      </a:solidFill>
                    </a:lnR>
                    <a:lnT w="13680">
                      <a:solidFill>
                        <a:srgbClr val="007400"/>
                      </a:solidFill>
                    </a:lnT>
                    <a:lnB w="5760">
                      <a:solidFill>
                        <a:srgbClr val="007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400"/>
                      </a:solidFill>
                    </a:lnL>
                    <a:lnR w="13680">
                      <a:solidFill>
                        <a:srgbClr val="007400"/>
                      </a:solidFill>
                    </a:lnR>
                    <a:lnT w="13680">
                      <a:solidFill>
                        <a:srgbClr val="007400"/>
                      </a:solidFill>
                    </a:lnT>
                    <a:lnB w="5760">
                      <a:solidFill>
                        <a:srgbClr val="007400"/>
                      </a:solidFill>
                    </a:lnB>
                    <a:noFill/>
                  </a:tcPr>
                </a:tc>
              </a:tr>
              <a:tr h="20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400"/>
                      </a:solidFill>
                    </a:lnL>
                    <a:lnR w="5760">
                      <a:solidFill>
                        <a:srgbClr val="007400"/>
                      </a:solidFill>
                    </a:lnR>
                    <a:lnT w="5760">
                      <a:solidFill>
                        <a:srgbClr val="007400"/>
                      </a:solidFill>
                    </a:lnT>
                    <a:lnB w="13680">
                      <a:solidFill>
                        <a:srgbClr val="007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400"/>
                      </a:solidFill>
                    </a:lnL>
                    <a:lnR w="13680">
                      <a:solidFill>
                        <a:srgbClr val="007400"/>
                      </a:solidFill>
                    </a:lnR>
                    <a:lnT w="5760">
                      <a:solidFill>
                        <a:srgbClr val="007400"/>
                      </a:solidFill>
                    </a:lnT>
                    <a:lnB w="13680">
                      <a:solidFill>
                        <a:srgbClr val="0074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1258920" y="1760400"/>
            <a:ext cx="43927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0" spc="-1" strike="noStrike">
                <a:solidFill>
                  <a:srgbClr val="007400"/>
                </a:solidFill>
                <a:latin typeface="Arial"/>
                <a:ea typeface="仿宋_GB2312"/>
              </a:rPr>
              <a:t>需</a:t>
            </a:r>
            <a:endParaRPr b="0" lang="en-US" sz="2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19360" y="-450720"/>
            <a:ext cx="2803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ff0000"/>
                </a:solidFill>
                <a:latin typeface="宋体"/>
              </a:rPr>
              <a:t>xū</a:t>
            </a:r>
            <a:endParaRPr b="0" lang="en-US" sz="1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45280" y="1816200"/>
            <a:ext cx="1704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需要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必需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需求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7316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2286000" cy="623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743200" y="1600200"/>
            <a:ext cx="3492360" cy="4818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758960" y="0"/>
            <a:ext cx="51894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3" name=""/>
          <p:cNvGraphicFramePr/>
          <p:nvPr/>
        </p:nvGraphicFramePr>
        <p:xfrm>
          <a:off x="1042920" y="2158920"/>
          <a:ext cx="4294080" cy="4157280"/>
        </p:xfrm>
        <a:graphic>
          <a:graphicData uri="http://schemas.openxmlformats.org/drawingml/2006/table">
            <a:tbl>
              <a:tblPr/>
              <a:tblGrid>
                <a:gridCol w="2147040"/>
                <a:gridCol w="2147040"/>
              </a:tblGrid>
              <a:tr h="20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400"/>
                      </a:solidFill>
                    </a:lnL>
                    <a:lnR w="5760">
                      <a:solidFill>
                        <a:srgbClr val="007400"/>
                      </a:solidFill>
                    </a:lnR>
                    <a:lnT w="13680">
                      <a:solidFill>
                        <a:srgbClr val="007400"/>
                      </a:solidFill>
                    </a:lnT>
                    <a:lnB w="5760">
                      <a:solidFill>
                        <a:srgbClr val="007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400"/>
                      </a:solidFill>
                    </a:lnL>
                    <a:lnR w="13680">
                      <a:solidFill>
                        <a:srgbClr val="007400"/>
                      </a:solidFill>
                    </a:lnR>
                    <a:lnT w="13680">
                      <a:solidFill>
                        <a:srgbClr val="007400"/>
                      </a:solidFill>
                    </a:lnT>
                    <a:lnB w="5760">
                      <a:solidFill>
                        <a:srgbClr val="007400"/>
                      </a:solidFill>
                    </a:lnB>
                    <a:noFill/>
                  </a:tcPr>
                </a:tc>
              </a:tr>
              <a:tr h="20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400"/>
                      </a:solidFill>
                    </a:lnL>
                    <a:lnR w="5760">
                      <a:solidFill>
                        <a:srgbClr val="007400"/>
                      </a:solidFill>
                    </a:lnR>
                    <a:lnT w="5760">
                      <a:solidFill>
                        <a:srgbClr val="007400"/>
                      </a:solidFill>
                    </a:lnT>
                    <a:lnB w="13680">
                      <a:solidFill>
                        <a:srgbClr val="007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400"/>
                      </a:solidFill>
                    </a:lnL>
                    <a:lnR w="13680">
                      <a:solidFill>
                        <a:srgbClr val="007400"/>
                      </a:solidFill>
                    </a:lnR>
                    <a:lnT w="5760">
                      <a:solidFill>
                        <a:srgbClr val="007400"/>
                      </a:solidFill>
                    </a:lnT>
                    <a:lnB w="13680">
                      <a:solidFill>
                        <a:srgbClr val="0074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1258920" y="1760400"/>
            <a:ext cx="43927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0" spc="-1" strike="noStrike">
                <a:solidFill>
                  <a:srgbClr val="007400"/>
                </a:solidFill>
                <a:latin typeface="Arial"/>
                <a:ea typeface="仿宋_GB2312"/>
              </a:rPr>
              <a:t>迈</a:t>
            </a:r>
            <a:endParaRPr b="0" lang="en-US" sz="2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42560" y="-450720"/>
            <a:ext cx="419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ff0000"/>
                </a:solidFill>
                <a:latin typeface="宋体"/>
              </a:rPr>
              <a:t>mài</a:t>
            </a:r>
            <a:endParaRPr b="0" lang="en-US" sz="1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5280" y="1816200"/>
            <a:ext cx="1704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年迈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迈步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豪迈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7316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758960" y="0"/>
            <a:ext cx="51894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1042920" y="2158920"/>
          <a:ext cx="4294080" cy="4157280"/>
        </p:xfrm>
        <a:graphic>
          <a:graphicData uri="http://schemas.openxmlformats.org/drawingml/2006/table">
            <a:tbl>
              <a:tblPr/>
              <a:tblGrid>
                <a:gridCol w="2147040"/>
                <a:gridCol w="2147040"/>
              </a:tblGrid>
              <a:tr h="20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400"/>
                      </a:solidFill>
                    </a:lnL>
                    <a:lnR w="5760">
                      <a:solidFill>
                        <a:srgbClr val="007400"/>
                      </a:solidFill>
                    </a:lnR>
                    <a:lnT w="13680">
                      <a:solidFill>
                        <a:srgbClr val="007400"/>
                      </a:solidFill>
                    </a:lnT>
                    <a:lnB w="5760">
                      <a:solidFill>
                        <a:srgbClr val="007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400"/>
                      </a:solidFill>
                    </a:lnL>
                    <a:lnR w="13680">
                      <a:solidFill>
                        <a:srgbClr val="007400"/>
                      </a:solidFill>
                    </a:lnR>
                    <a:lnT w="13680">
                      <a:solidFill>
                        <a:srgbClr val="007400"/>
                      </a:solidFill>
                    </a:lnT>
                    <a:lnB w="5760">
                      <a:solidFill>
                        <a:srgbClr val="007400"/>
                      </a:solidFill>
                    </a:lnB>
                    <a:noFill/>
                  </a:tcPr>
                </a:tc>
              </a:tr>
              <a:tr h="20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400"/>
                      </a:solidFill>
                    </a:lnL>
                    <a:lnR w="5760">
                      <a:solidFill>
                        <a:srgbClr val="007400"/>
                      </a:solidFill>
                    </a:lnR>
                    <a:lnT w="5760">
                      <a:solidFill>
                        <a:srgbClr val="007400"/>
                      </a:solidFill>
                    </a:lnT>
                    <a:lnB w="13680">
                      <a:solidFill>
                        <a:srgbClr val="007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400"/>
                      </a:solidFill>
                    </a:lnL>
                    <a:lnR w="13680">
                      <a:solidFill>
                        <a:srgbClr val="007400"/>
                      </a:solidFill>
                    </a:lnR>
                    <a:lnT w="5760">
                      <a:solidFill>
                        <a:srgbClr val="007400"/>
                      </a:solidFill>
                    </a:lnT>
                    <a:lnB w="13680">
                      <a:solidFill>
                        <a:srgbClr val="0074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1258920" y="1760400"/>
            <a:ext cx="43927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0" spc="-1" strike="noStrike">
                <a:solidFill>
                  <a:srgbClr val="007400"/>
                </a:solidFill>
                <a:latin typeface="Arial"/>
                <a:ea typeface="仿宋_GB2312"/>
              </a:rPr>
              <a:t>迷</a:t>
            </a:r>
            <a:endParaRPr b="0" lang="en-US" sz="2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82440" y="-450720"/>
            <a:ext cx="290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ff0000"/>
                </a:solidFill>
                <a:latin typeface="宋体"/>
              </a:rPr>
              <a:t>mí</a:t>
            </a:r>
            <a:endParaRPr b="0" lang="en-US" sz="1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245280" y="1816200"/>
            <a:ext cx="1704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迷路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迷人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球迷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7316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758960" y="0"/>
            <a:ext cx="51894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"/>
          <p:cNvGraphicFramePr/>
          <p:nvPr/>
        </p:nvGraphicFramePr>
        <p:xfrm>
          <a:off x="1042920" y="2158920"/>
          <a:ext cx="4294080" cy="4157280"/>
        </p:xfrm>
        <a:graphic>
          <a:graphicData uri="http://schemas.openxmlformats.org/drawingml/2006/table">
            <a:tbl>
              <a:tblPr/>
              <a:tblGrid>
                <a:gridCol w="2147040"/>
                <a:gridCol w="2147040"/>
              </a:tblGrid>
              <a:tr h="20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400"/>
                      </a:solidFill>
                    </a:lnL>
                    <a:lnR w="5760">
                      <a:solidFill>
                        <a:srgbClr val="007400"/>
                      </a:solidFill>
                    </a:lnR>
                    <a:lnT w="13680">
                      <a:solidFill>
                        <a:srgbClr val="007400"/>
                      </a:solidFill>
                    </a:lnT>
                    <a:lnB w="5760">
                      <a:solidFill>
                        <a:srgbClr val="007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400"/>
                      </a:solidFill>
                    </a:lnL>
                    <a:lnR w="13680">
                      <a:solidFill>
                        <a:srgbClr val="007400"/>
                      </a:solidFill>
                    </a:lnR>
                    <a:lnT w="13680">
                      <a:solidFill>
                        <a:srgbClr val="007400"/>
                      </a:solidFill>
                    </a:lnT>
                    <a:lnB w="5760">
                      <a:solidFill>
                        <a:srgbClr val="007400"/>
                      </a:solidFill>
                    </a:lnB>
                    <a:noFill/>
                  </a:tcPr>
                </a:tc>
              </a:tr>
              <a:tr h="20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400"/>
                      </a:solidFill>
                    </a:lnL>
                    <a:lnR w="5760">
                      <a:solidFill>
                        <a:srgbClr val="007400"/>
                      </a:solidFill>
                    </a:lnR>
                    <a:lnT w="5760">
                      <a:solidFill>
                        <a:srgbClr val="007400"/>
                      </a:solidFill>
                    </a:lnT>
                    <a:lnB w="13680">
                      <a:solidFill>
                        <a:srgbClr val="007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400"/>
                      </a:solidFill>
                    </a:lnL>
                    <a:lnR w="13680">
                      <a:solidFill>
                        <a:srgbClr val="007400"/>
                      </a:solidFill>
                    </a:lnR>
                    <a:lnT w="5760">
                      <a:solidFill>
                        <a:srgbClr val="007400"/>
                      </a:solidFill>
                    </a:lnT>
                    <a:lnB w="13680">
                      <a:solidFill>
                        <a:srgbClr val="0074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258920" y="1760400"/>
            <a:ext cx="43927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0" spc="-1" strike="noStrike">
                <a:solidFill>
                  <a:srgbClr val="007400"/>
                </a:solidFill>
                <a:latin typeface="Arial"/>
                <a:ea typeface="仿宋_GB2312"/>
              </a:rPr>
              <a:t>迹</a:t>
            </a:r>
            <a:endParaRPr b="0" lang="en-US" sz="2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40800" y="-603360"/>
            <a:ext cx="1360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ff0000"/>
                </a:solidFill>
                <a:latin typeface="宋体"/>
              </a:rPr>
              <a:t>jì</a:t>
            </a:r>
            <a:endParaRPr b="0" lang="en-US" sz="1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45280" y="1816200"/>
            <a:ext cx="1704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奇迹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足迹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迹象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7316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758960" y="0"/>
            <a:ext cx="51894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"/>
          <p:cNvGraphicFramePr/>
          <p:nvPr/>
        </p:nvGraphicFramePr>
        <p:xfrm>
          <a:off x="1042920" y="2158920"/>
          <a:ext cx="4294080" cy="4157280"/>
        </p:xfrm>
        <a:graphic>
          <a:graphicData uri="http://schemas.openxmlformats.org/drawingml/2006/table">
            <a:tbl>
              <a:tblPr/>
              <a:tblGrid>
                <a:gridCol w="2147040"/>
                <a:gridCol w="2147040"/>
              </a:tblGrid>
              <a:tr h="20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400"/>
                      </a:solidFill>
                    </a:lnL>
                    <a:lnR w="5760">
                      <a:solidFill>
                        <a:srgbClr val="007400"/>
                      </a:solidFill>
                    </a:lnR>
                    <a:lnT w="13680">
                      <a:solidFill>
                        <a:srgbClr val="007400"/>
                      </a:solidFill>
                    </a:lnT>
                    <a:lnB w="5760">
                      <a:solidFill>
                        <a:srgbClr val="007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400"/>
                      </a:solidFill>
                    </a:lnL>
                    <a:lnR w="13680">
                      <a:solidFill>
                        <a:srgbClr val="007400"/>
                      </a:solidFill>
                    </a:lnR>
                    <a:lnT w="13680">
                      <a:solidFill>
                        <a:srgbClr val="007400"/>
                      </a:solidFill>
                    </a:lnT>
                    <a:lnB w="5760">
                      <a:solidFill>
                        <a:srgbClr val="007400"/>
                      </a:solidFill>
                    </a:lnB>
                    <a:noFill/>
                  </a:tcPr>
                </a:tc>
              </a:tr>
              <a:tr h="20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400"/>
                      </a:solidFill>
                    </a:lnL>
                    <a:lnR w="5760">
                      <a:solidFill>
                        <a:srgbClr val="007400"/>
                      </a:solidFill>
                    </a:lnR>
                    <a:lnT w="5760">
                      <a:solidFill>
                        <a:srgbClr val="007400"/>
                      </a:solidFill>
                    </a:lnT>
                    <a:lnB w="13680">
                      <a:solidFill>
                        <a:srgbClr val="007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400"/>
                      </a:solidFill>
                    </a:lnL>
                    <a:lnR w="13680">
                      <a:solidFill>
                        <a:srgbClr val="007400"/>
                      </a:solidFill>
                    </a:lnR>
                    <a:lnT w="5760">
                      <a:solidFill>
                        <a:srgbClr val="007400"/>
                      </a:solidFill>
                    </a:lnT>
                    <a:lnB w="13680">
                      <a:solidFill>
                        <a:srgbClr val="0074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"/>
          <p:cNvSpPr/>
          <p:nvPr/>
        </p:nvSpPr>
        <p:spPr>
          <a:xfrm>
            <a:off x="1258920" y="1760400"/>
            <a:ext cx="43927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0" spc="-1" strike="noStrike">
                <a:solidFill>
                  <a:srgbClr val="007400"/>
                </a:solidFill>
                <a:latin typeface="Arial"/>
                <a:ea typeface="仿宋_GB2312"/>
              </a:rPr>
              <a:t>叔</a:t>
            </a:r>
            <a:endParaRPr b="0" lang="en-US" sz="2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87560" y="-450720"/>
            <a:ext cx="410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ff0000"/>
                </a:solidFill>
                <a:latin typeface="宋体"/>
              </a:rPr>
              <a:t>shū</a:t>
            </a:r>
            <a:endParaRPr b="0" lang="en-US" sz="1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5280" y="1816200"/>
            <a:ext cx="1704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叔叔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大叔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表叔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7316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758960" y="0"/>
            <a:ext cx="51894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"/>
          <p:cNvGraphicFramePr/>
          <p:nvPr/>
        </p:nvGraphicFramePr>
        <p:xfrm>
          <a:off x="1042920" y="2158920"/>
          <a:ext cx="4294080" cy="4157280"/>
        </p:xfrm>
        <a:graphic>
          <a:graphicData uri="http://schemas.openxmlformats.org/drawingml/2006/table">
            <a:tbl>
              <a:tblPr/>
              <a:tblGrid>
                <a:gridCol w="2147040"/>
                <a:gridCol w="2147040"/>
              </a:tblGrid>
              <a:tr h="20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400"/>
                      </a:solidFill>
                    </a:lnL>
                    <a:lnR w="5760">
                      <a:solidFill>
                        <a:srgbClr val="007400"/>
                      </a:solidFill>
                    </a:lnR>
                    <a:lnT w="13680">
                      <a:solidFill>
                        <a:srgbClr val="007400"/>
                      </a:solidFill>
                    </a:lnT>
                    <a:lnB w="5760">
                      <a:solidFill>
                        <a:srgbClr val="007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400"/>
                      </a:solidFill>
                    </a:lnL>
                    <a:lnR w="13680">
                      <a:solidFill>
                        <a:srgbClr val="007400"/>
                      </a:solidFill>
                    </a:lnR>
                    <a:lnT w="13680">
                      <a:solidFill>
                        <a:srgbClr val="007400"/>
                      </a:solidFill>
                    </a:lnT>
                    <a:lnB w="5760">
                      <a:solidFill>
                        <a:srgbClr val="007400"/>
                      </a:solidFill>
                    </a:lnB>
                    <a:noFill/>
                  </a:tcPr>
                </a:tc>
              </a:tr>
              <a:tr h="20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400"/>
                      </a:solidFill>
                    </a:lnL>
                    <a:lnR w="5760">
                      <a:solidFill>
                        <a:srgbClr val="007400"/>
                      </a:solidFill>
                    </a:lnR>
                    <a:lnT w="5760">
                      <a:solidFill>
                        <a:srgbClr val="007400"/>
                      </a:solidFill>
                    </a:lnT>
                    <a:lnB w="13680">
                      <a:solidFill>
                        <a:srgbClr val="007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400"/>
                      </a:solidFill>
                    </a:lnL>
                    <a:lnR w="13680">
                      <a:solidFill>
                        <a:srgbClr val="007400"/>
                      </a:solidFill>
                    </a:lnR>
                    <a:lnT w="5760">
                      <a:solidFill>
                        <a:srgbClr val="007400"/>
                      </a:solidFill>
                    </a:lnT>
                    <a:lnB w="13680">
                      <a:solidFill>
                        <a:srgbClr val="0074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>
            <a:off x="1258920" y="1760400"/>
            <a:ext cx="43927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0" spc="-1" strike="noStrike">
                <a:solidFill>
                  <a:srgbClr val="007400"/>
                </a:solidFill>
                <a:latin typeface="Arial"/>
                <a:ea typeface="仿宋_GB2312"/>
              </a:rPr>
              <a:t>锋</a:t>
            </a:r>
            <a:endParaRPr b="0" lang="en-US" sz="2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98800" y="-57240"/>
            <a:ext cx="4260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宋体"/>
              </a:rPr>
              <a:t>fēnɡ</a:t>
            </a:r>
            <a:endParaRPr b="0" lang="en-US" sz="15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245280" y="1816200"/>
            <a:ext cx="1704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雷锋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先锋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锋利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7316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758960" y="0"/>
            <a:ext cx="51894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3" name=""/>
          <p:cNvGraphicFramePr/>
          <p:nvPr/>
        </p:nvGraphicFramePr>
        <p:xfrm>
          <a:off x="1042920" y="2158920"/>
          <a:ext cx="4294080" cy="4157280"/>
        </p:xfrm>
        <a:graphic>
          <a:graphicData uri="http://schemas.openxmlformats.org/drawingml/2006/table">
            <a:tbl>
              <a:tblPr/>
              <a:tblGrid>
                <a:gridCol w="2147040"/>
                <a:gridCol w="2147040"/>
              </a:tblGrid>
              <a:tr h="20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400"/>
                      </a:solidFill>
                    </a:lnL>
                    <a:lnR w="5760">
                      <a:solidFill>
                        <a:srgbClr val="007400"/>
                      </a:solidFill>
                    </a:lnR>
                    <a:lnT w="13680">
                      <a:solidFill>
                        <a:srgbClr val="007400"/>
                      </a:solidFill>
                    </a:lnT>
                    <a:lnB w="5760">
                      <a:solidFill>
                        <a:srgbClr val="007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400"/>
                      </a:solidFill>
                    </a:lnL>
                    <a:lnR w="13680">
                      <a:solidFill>
                        <a:srgbClr val="007400"/>
                      </a:solidFill>
                    </a:lnR>
                    <a:lnT w="13680">
                      <a:solidFill>
                        <a:srgbClr val="007400"/>
                      </a:solidFill>
                    </a:lnT>
                    <a:lnB w="5760">
                      <a:solidFill>
                        <a:srgbClr val="007400"/>
                      </a:solidFill>
                    </a:lnB>
                    <a:noFill/>
                  </a:tcPr>
                </a:tc>
              </a:tr>
              <a:tr h="20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400"/>
                      </a:solidFill>
                    </a:lnL>
                    <a:lnR w="5760">
                      <a:solidFill>
                        <a:srgbClr val="007400"/>
                      </a:solidFill>
                    </a:lnR>
                    <a:lnT w="5760">
                      <a:solidFill>
                        <a:srgbClr val="007400"/>
                      </a:solidFill>
                    </a:lnT>
                    <a:lnB w="13680">
                      <a:solidFill>
                        <a:srgbClr val="007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400"/>
                      </a:solidFill>
                    </a:lnL>
                    <a:lnR w="13680">
                      <a:solidFill>
                        <a:srgbClr val="007400"/>
                      </a:solidFill>
                    </a:lnR>
                    <a:lnT w="5760">
                      <a:solidFill>
                        <a:srgbClr val="007400"/>
                      </a:solidFill>
                    </a:lnT>
                    <a:lnB w="13680">
                      <a:solidFill>
                        <a:srgbClr val="0074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/>
          <p:cNvSpPr/>
          <p:nvPr/>
        </p:nvSpPr>
        <p:spPr>
          <a:xfrm>
            <a:off x="1258920" y="1760400"/>
            <a:ext cx="43927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0" spc="-1" strike="noStrike">
                <a:solidFill>
                  <a:srgbClr val="007400"/>
                </a:solidFill>
                <a:latin typeface="Arial"/>
                <a:ea typeface="仿宋_GB2312"/>
              </a:rPr>
              <a:t>滴</a:t>
            </a:r>
            <a:endParaRPr b="0" lang="en-US" sz="2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25800" y="-450720"/>
            <a:ext cx="217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ff0000"/>
                </a:solidFill>
                <a:latin typeface="宋体"/>
              </a:rPr>
              <a:t>dī</a:t>
            </a:r>
            <a:endParaRPr b="0" lang="en-US" sz="1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45280" y="1816200"/>
            <a:ext cx="1704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水滴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汗滴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一滴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7316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758960" y="0"/>
            <a:ext cx="51894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9" name=""/>
          <p:cNvGraphicFramePr/>
          <p:nvPr/>
        </p:nvGraphicFramePr>
        <p:xfrm>
          <a:off x="1042920" y="2158920"/>
          <a:ext cx="4294080" cy="4157280"/>
        </p:xfrm>
        <a:graphic>
          <a:graphicData uri="http://schemas.openxmlformats.org/drawingml/2006/table">
            <a:tbl>
              <a:tblPr/>
              <a:tblGrid>
                <a:gridCol w="2147040"/>
                <a:gridCol w="2147040"/>
              </a:tblGrid>
              <a:tr h="20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400"/>
                      </a:solidFill>
                    </a:lnL>
                    <a:lnR w="5760">
                      <a:solidFill>
                        <a:srgbClr val="007400"/>
                      </a:solidFill>
                    </a:lnR>
                    <a:lnT w="13680">
                      <a:solidFill>
                        <a:srgbClr val="007400"/>
                      </a:solidFill>
                    </a:lnT>
                    <a:lnB w="5760">
                      <a:solidFill>
                        <a:srgbClr val="007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400"/>
                      </a:solidFill>
                    </a:lnL>
                    <a:lnR w="13680">
                      <a:solidFill>
                        <a:srgbClr val="007400"/>
                      </a:solidFill>
                    </a:lnR>
                    <a:lnT w="13680">
                      <a:solidFill>
                        <a:srgbClr val="007400"/>
                      </a:solidFill>
                    </a:lnT>
                    <a:lnB w="5760">
                      <a:solidFill>
                        <a:srgbClr val="007400"/>
                      </a:solidFill>
                    </a:lnB>
                    <a:noFill/>
                  </a:tcPr>
                </a:tc>
              </a:tr>
              <a:tr h="20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400"/>
                      </a:solidFill>
                    </a:lnL>
                    <a:lnR w="5760">
                      <a:solidFill>
                        <a:srgbClr val="007400"/>
                      </a:solidFill>
                    </a:lnR>
                    <a:lnT w="5760">
                      <a:solidFill>
                        <a:srgbClr val="007400"/>
                      </a:solidFill>
                    </a:lnT>
                    <a:lnB w="13680">
                      <a:solidFill>
                        <a:srgbClr val="007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400"/>
                      </a:solidFill>
                    </a:lnL>
                    <a:lnR w="13680">
                      <a:solidFill>
                        <a:srgbClr val="007400"/>
                      </a:solidFill>
                    </a:lnR>
                    <a:lnT w="5760">
                      <a:solidFill>
                        <a:srgbClr val="007400"/>
                      </a:solidFill>
                    </a:lnT>
                    <a:lnB w="13680">
                      <a:solidFill>
                        <a:srgbClr val="0074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1258920" y="1760400"/>
            <a:ext cx="43927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0" spc="-1" strike="noStrike">
                <a:solidFill>
                  <a:srgbClr val="007400"/>
                </a:solidFill>
                <a:latin typeface="Arial"/>
                <a:ea typeface="仿宋_GB2312"/>
              </a:rPr>
              <a:t>洒</a:t>
            </a:r>
            <a:endParaRPr b="0" lang="en-US" sz="2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96680" y="-450720"/>
            <a:ext cx="255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ff0000"/>
                </a:solidFill>
                <a:latin typeface="宋体"/>
              </a:rPr>
              <a:t>sǎ</a:t>
            </a:r>
            <a:endParaRPr b="0" lang="en-US" sz="1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5280" y="1816200"/>
            <a:ext cx="1704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洒水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飘洒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Arial"/>
              </a:rPr>
              <a:t>花洒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7316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758960" y="0"/>
            <a:ext cx="51894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5" name=""/>
          <p:cNvGraphicFramePr/>
          <p:nvPr/>
        </p:nvGraphicFramePr>
        <p:xfrm>
          <a:off x="250920" y="2158920"/>
          <a:ext cx="4294080" cy="4157280"/>
        </p:xfrm>
        <a:graphic>
          <a:graphicData uri="http://schemas.openxmlformats.org/drawingml/2006/table">
            <a:tbl>
              <a:tblPr/>
              <a:tblGrid>
                <a:gridCol w="2147040"/>
                <a:gridCol w="2147040"/>
              </a:tblGrid>
              <a:tr h="20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400"/>
                      </a:solidFill>
                    </a:lnL>
                    <a:lnR w="5760">
                      <a:solidFill>
                        <a:srgbClr val="007400"/>
                      </a:solidFill>
                    </a:lnR>
                    <a:lnT w="13680">
                      <a:solidFill>
                        <a:srgbClr val="007400"/>
                      </a:solidFill>
                    </a:lnT>
                    <a:lnB w="5760">
                      <a:solidFill>
                        <a:srgbClr val="007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400"/>
                      </a:solidFill>
                    </a:lnL>
                    <a:lnR w="13680">
                      <a:solidFill>
                        <a:srgbClr val="007400"/>
                      </a:solidFill>
                    </a:lnR>
                    <a:lnT w="13680">
                      <a:solidFill>
                        <a:srgbClr val="007400"/>
                      </a:solidFill>
                    </a:lnT>
                    <a:lnB w="5760">
                      <a:solidFill>
                        <a:srgbClr val="007400"/>
                      </a:solidFill>
                    </a:lnB>
                    <a:noFill/>
                  </a:tcPr>
                </a:tc>
              </a:tr>
              <a:tr h="20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400"/>
                      </a:solidFill>
                    </a:lnL>
                    <a:lnR w="5760">
                      <a:solidFill>
                        <a:srgbClr val="007400"/>
                      </a:solidFill>
                    </a:lnR>
                    <a:lnT w="5760">
                      <a:solidFill>
                        <a:srgbClr val="007400"/>
                      </a:solidFill>
                    </a:lnT>
                    <a:lnB w="13680">
                      <a:solidFill>
                        <a:srgbClr val="007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400"/>
                      </a:solidFill>
                    </a:lnL>
                    <a:lnR w="13680">
                      <a:solidFill>
                        <a:srgbClr val="007400"/>
                      </a:solidFill>
                    </a:lnR>
                    <a:lnT w="5760">
                      <a:solidFill>
                        <a:srgbClr val="007400"/>
                      </a:solidFill>
                    </a:lnT>
                    <a:lnB w="13680">
                      <a:solidFill>
                        <a:srgbClr val="0074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466560" y="1760400"/>
            <a:ext cx="439272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0" spc="-1" strike="noStrike">
                <a:solidFill>
                  <a:srgbClr val="007400"/>
                </a:solidFill>
                <a:latin typeface="Arial"/>
                <a:ea typeface="仿宋_GB2312"/>
              </a:rPr>
              <a:t>泥</a:t>
            </a:r>
            <a:endParaRPr b="0" lang="en-US" sz="28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449360" y="-171360"/>
            <a:ext cx="1851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宋体"/>
              </a:rPr>
              <a:t>ní</a:t>
            </a:r>
            <a:endParaRPr b="0" lang="en-US" sz="150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73160" cy="1109520"/>
          </a:xfrm>
          <a:prstGeom prst="rect">
            <a:avLst/>
          </a:prstGeom>
          <a:ln w="0">
            <a:noFill/>
          </a:ln>
        </p:spPr>
      </p:pic>
      <p:sp>
        <p:nvSpPr>
          <p:cNvPr id="309" name="">
            <a:hlinkClick r:id="" action="ppaction://hlinkshowjump?jump=firstslide"/>
          </p:cNvPr>
          <p:cNvSpPr/>
          <p:nvPr/>
        </p:nvSpPr>
        <p:spPr>
          <a:xfrm>
            <a:off x="8459640" y="6480000"/>
            <a:ext cx="540000" cy="333720"/>
          </a:xfrm>
          <a:custGeom>
            <a:avLst/>
            <a:gdLst>
              <a:gd name="textAreaLeft" fmla="*/ 21600 w 540000"/>
              <a:gd name="textAreaRight" fmla="*/ 518400 w 540000"/>
              <a:gd name="textAreaTop" fmla="*/ 21600 h 333720"/>
              <a:gd name="textAreaBottom" fmla="*/ 312120 h 333720"/>
            </a:gdLst>
            <a:ahLst/>
            <a:rect l="textAreaLeft" t="textAreaTop" r="textAreaRight" b="textAreaBottom"/>
            <a:pathLst>
              <a:path w="34937" h="21600">
                <a:moveTo>
                  <a:pt x="0" y="0"/>
                </a:moveTo>
                <a:lnTo>
                  <a:pt x="34937" y="0"/>
                </a:lnTo>
                <a:lnTo>
                  <a:pt x="34937" y="21600"/>
                </a:lnTo>
                <a:lnTo>
                  <a:pt x="0" y="21600"/>
                </a:lnTo>
                <a:close/>
              </a:path>
              <a:path fill="lightenLess" w="34937" h="21600">
                <a:moveTo>
                  <a:pt x="0" y="0"/>
                </a:moveTo>
                <a:lnTo>
                  <a:pt x="34937" y="0"/>
                </a:lnTo>
                <a:lnTo>
                  <a:pt x="33537" y="1400"/>
                </a:lnTo>
                <a:lnTo>
                  <a:pt x="1400" y="1400"/>
                </a:lnTo>
                <a:close/>
              </a:path>
              <a:path fill="darken" w="34937" h="21600">
                <a:moveTo>
                  <a:pt x="34937" y="0"/>
                </a:moveTo>
                <a:lnTo>
                  <a:pt x="34937" y="21600"/>
                </a:lnTo>
                <a:lnTo>
                  <a:pt x="33537" y="20200"/>
                </a:lnTo>
                <a:lnTo>
                  <a:pt x="33537" y="1400"/>
                </a:lnTo>
                <a:close/>
              </a:path>
              <a:path fill="darkenLess" w="34937" h="21600">
                <a:moveTo>
                  <a:pt x="34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37" y="20200"/>
                </a:lnTo>
                <a:close/>
              </a:path>
              <a:path fill="lighten" w="34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37" h="21600">
                <a:moveTo>
                  <a:pt x="17469" y="3837"/>
                </a:moveTo>
                <a:lnTo>
                  <a:pt x="20045" y="6448"/>
                </a:lnTo>
                <a:lnTo>
                  <a:pt x="20045" y="4707"/>
                </a:lnTo>
                <a:lnTo>
                  <a:pt x="21820" y="4707"/>
                </a:lnTo>
                <a:lnTo>
                  <a:pt x="21820" y="8224"/>
                </a:lnTo>
                <a:lnTo>
                  <a:pt x="24431" y="10800"/>
                </a:lnTo>
                <a:lnTo>
                  <a:pt x="22778" y="10800"/>
                </a:lnTo>
                <a:lnTo>
                  <a:pt x="22778" y="17989"/>
                </a:lnTo>
                <a:lnTo>
                  <a:pt x="12159" y="17989"/>
                </a:lnTo>
                <a:lnTo>
                  <a:pt x="12159" y="10800"/>
                </a:lnTo>
                <a:lnTo>
                  <a:pt x="10506" y="10800"/>
                </a:lnTo>
                <a:close/>
              </a:path>
              <a:path fill="darkenLess" w="34937" h="21600">
                <a:moveTo>
                  <a:pt x="20045" y="6448"/>
                </a:moveTo>
                <a:lnTo>
                  <a:pt x="20045" y="4707"/>
                </a:lnTo>
                <a:lnTo>
                  <a:pt x="21820" y="4707"/>
                </a:lnTo>
                <a:lnTo>
                  <a:pt x="21820" y="8224"/>
                </a:lnTo>
                <a:close/>
              </a:path>
              <a:path fill="darkenLess" w="34937" h="21600">
                <a:moveTo>
                  <a:pt x="16546" y="14299"/>
                </a:moveTo>
                <a:lnTo>
                  <a:pt x="18391" y="14299"/>
                </a:lnTo>
                <a:lnTo>
                  <a:pt x="18391" y="17989"/>
                </a:lnTo>
                <a:lnTo>
                  <a:pt x="22778" y="17989"/>
                </a:lnTo>
                <a:lnTo>
                  <a:pt x="22778" y="10800"/>
                </a:lnTo>
                <a:lnTo>
                  <a:pt x="12159" y="10800"/>
                </a:lnTo>
                <a:lnTo>
                  <a:pt x="12159" y="17989"/>
                </a:lnTo>
                <a:lnTo>
                  <a:pt x="16546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19640" y="2060640"/>
            <a:ext cx="3924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宋体"/>
              </a:rPr>
              <a:t>泥泞泥土泥巴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84360" y="1916280"/>
            <a:ext cx="439236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0" spc="-1" strike="noStrike">
                <a:solidFill>
                  <a:srgbClr val="007400"/>
                </a:solidFill>
                <a:latin typeface="Arial"/>
                <a:ea typeface="仿宋_GB2312"/>
              </a:rPr>
              <a:t>泞</a:t>
            </a:r>
            <a:endParaRPr b="0" lang="en-US" sz="28000" spc="-1" strike="noStrike">
              <a:solidFill>
                <a:srgbClr val="0074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85800" y="1989000"/>
          <a:ext cx="4390920" cy="4106520"/>
        </p:xfrm>
        <a:graphic>
          <a:graphicData uri="http://schemas.openxmlformats.org/drawingml/2006/table">
            <a:tbl>
              <a:tblPr/>
              <a:tblGrid>
                <a:gridCol w="2195280"/>
                <a:gridCol w="2195640"/>
              </a:tblGrid>
              <a:tr h="20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400"/>
                      </a:solidFill>
                    </a:lnL>
                    <a:lnR w="5760">
                      <a:solidFill>
                        <a:srgbClr val="007400"/>
                      </a:solidFill>
                    </a:lnR>
                    <a:lnT w="13680">
                      <a:solidFill>
                        <a:srgbClr val="007400"/>
                      </a:solidFill>
                    </a:lnT>
                    <a:lnB w="5760">
                      <a:solidFill>
                        <a:srgbClr val="007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400"/>
                      </a:solidFill>
                    </a:lnL>
                    <a:lnR w="13680">
                      <a:solidFill>
                        <a:srgbClr val="007400"/>
                      </a:solidFill>
                    </a:lnR>
                    <a:lnT w="13680">
                      <a:solidFill>
                        <a:srgbClr val="007400"/>
                      </a:solidFill>
                    </a:lnT>
                    <a:lnB w="5760">
                      <a:solidFill>
                        <a:srgbClr val="007400"/>
                      </a:solidFill>
                    </a:lnB>
                    <a:noFill/>
                  </a:tcPr>
                </a:tc>
              </a:tr>
              <a:tr h="20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400"/>
                      </a:solidFill>
                    </a:lnL>
                    <a:lnR w="5760">
                      <a:solidFill>
                        <a:srgbClr val="007400"/>
                      </a:solidFill>
                    </a:lnR>
                    <a:lnT w="5760">
                      <a:solidFill>
                        <a:srgbClr val="007400"/>
                      </a:solidFill>
                    </a:lnT>
                    <a:lnB w="13680">
                      <a:solidFill>
                        <a:srgbClr val="007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4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400"/>
                      </a:solidFill>
                    </a:lnL>
                    <a:lnR w="13680">
                      <a:solidFill>
                        <a:srgbClr val="007400"/>
                      </a:solidFill>
                    </a:lnR>
                    <a:lnT w="5760">
                      <a:solidFill>
                        <a:srgbClr val="007400"/>
                      </a:solidFill>
                    </a:lnT>
                    <a:lnB w="13680">
                      <a:solidFill>
                        <a:srgbClr val="0074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580680" y="-387360"/>
            <a:ext cx="4201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宋体"/>
              </a:rPr>
              <a:t>nìnɡ</a:t>
            </a:r>
            <a:endParaRPr b="0" lang="en-US" sz="150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64000" y="1700280"/>
            <a:ext cx="3313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3333cc"/>
                </a:solidFill>
                <a:latin typeface="宋体"/>
              </a:rPr>
              <a:t>泥泞泞滑 泥泞</a:t>
            </a:r>
            <a:r>
              <a:rPr b="1" lang="zh-CN" sz="10000" spc="-1" strike="noStrike">
                <a:solidFill>
                  <a:srgbClr val="3333cc"/>
                </a:solidFill>
                <a:latin typeface="宋体"/>
              </a:rPr>
              <a:t> </a:t>
            </a:r>
            <a:endParaRPr b="0" lang="en-US" sz="100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425840" cy="55450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311840" y="5877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Arial"/>
              </a:rPr>
              <a:t>雷锋帮老大娘找儿子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4716360" y="189000"/>
            <a:ext cx="4165560" cy="55450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215760" y="58737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Arial"/>
              </a:rPr>
              <a:t>雷锋做好事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2286000" cy="623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666880" y="1523880"/>
            <a:ext cx="3479760" cy="495324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5040360" y="1225440"/>
            <a:ext cx="2879280" cy="1739880"/>
            <a:chOff x="5040360" y="1225440"/>
            <a:chExt cx="2879280" cy="1739880"/>
          </a:xfrm>
        </p:grpSpPr>
        <p:sp>
          <p:nvSpPr>
            <p:cNvPr id="138" name=""/>
            <p:cNvSpPr/>
            <p:nvPr/>
          </p:nvSpPr>
          <p:spPr>
            <a:xfrm rot="378600">
              <a:off x="5111280" y="1371240"/>
              <a:ext cx="2736720" cy="1447920"/>
            </a:xfrm>
            <a:prstGeom prst="cloudCallout">
              <a:avLst>
                <a:gd name="adj1" fmla="val -22814"/>
                <a:gd name="adj2" fmla="val 72962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e03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15800" y="1509840"/>
              <a:ext cx="170460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03500"/>
                  </a:solidFill>
                  <a:latin typeface="楷体_GB2312"/>
                  <a:ea typeface="楷体_GB2312"/>
                </a:rPr>
                <a:t>　　你认识图片</a:t>
              </a:r>
              <a:endParaRPr b="0" lang="en-US" sz="24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03500"/>
                  </a:solidFill>
                  <a:latin typeface="楷体_GB2312"/>
                  <a:ea typeface="楷体_GB2312"/>
                </a:rPr>
                <a:t>上的人吗？</a:t>
              </a: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 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443640" y="3429000"/>
            <a:ext cx="2160720" cy="180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156360" y="321084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buClr>
                <a:srgbClr val="0074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是雷锋叔叔呀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med">
    <p:strips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908000" y="5624640"/>
            <a:ext cx="527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7400"/>
                </a:solidFill>
                <a:latin typeface="Arial"/>
              </a:rPr>
              <a:t>雷锋经常热心地帮助战友们学习毛泽东思想，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Arial"/>
              </a:rPr>
              <a:t>提高大家的思想觉悟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539640" y="81000"/>
            <a:ext cx="784872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8459640" y="6308640"/>
            <a:ext cx="540000" cy="333360"/>
          </a:xfrm>
          <a:custGeom>
            <a:avLst/>
            <a:gdLst>
              <a:gd name="textAreaLeft" fmla="*/ 21600 w 540000"/>
              <a:gd name="textAreaRight" fmla="*/ 518400 w 540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75" h="21600">
                <a:moveTo>
                  <a:pt x="0" y="0"/>
                </a:moveTo>
                <a:lnTo>
                  <a:pt x="34975" y="0"/>
                </a:lnTo>
                <a:lnTo>
                  <a:pt x="34975" y="21600"/>
                </a:lnTo>
                <a:lnTo>
                  <a:pt x="0" y="21600"/>
                </a:lnTo>
                <a:close/>
              </a:path>
              <a:path fill="lightenLess" w="34975" h="21600">
                <a:moveTo>
                  <a:pt x="0" y="0"/>
                </a:moveTo>
                <a:lnTo>
                  <a:pt x="34975" y="0"/>
                </a:lnTo>
                <a:lnTo>
                  <a:pt x="33575" y="1400"/>
                </a:lnTo>
                <a:lnTo>
                  <a:pt x="1400" y="1400"/>
                </a:lnTo>
                <a:close/>
              </a:path>
              <a:path fill="darken" w="34975" h="21600">
                <a:moveTo>
                  <a:pt x="34975" y="0"/>
                </a:moveTo>
                <a:lnTo>
                  <a:pt x="34975" y="21600"/>
                </a:lnTo>
                <a:lnTo>
                  <a:pt x="33575" y="20200"/>
                </a:lnTo>
                <a:lnTo>
                  <a:pt x="33575" y="1400"/>
                </a:lnTo>
                <a:close/>
              </a:path>
              <a:path fill="darkenLess" w="34975" h="21600">
                <a:moveTo>
                  <a:pt x="34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75" y="20200"/>
                </a:lnTo>
                <a:close/>
              </a:path>
              <a:path fill="lighten" w="34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75" h="21600">
                <a:moveTo>
                  <a:pt x="17487" y="3837"/>
                </a:moveTo>
                <a:lnTo>
                  <a:pt x="20064" y="6448"/>
                </a:lnTo>
                <a:lnTo>
                  <a:pt x="20064" y="4707"/>
                </a:lnTo>
                <a:lnTo>
                  <a:pt x="21839" y="4707"/>
                </a:lnTo>
                <a:lnTo>
                  <a:pt x="21839" y="8224"/>
                </a:lnTo>
                <a:lnTo>
                  <a:pt x="24450" y="10800"/>
                </a:lnTo>
                <a:lnTo>
                  <a:pt x="22797" y="10800"/>
                </a:lnTo>
                <a:lnTo>
                  <a:pt x="22797" y="17989"/>
                </a:lnTo>
                <a:lnTo>
                  <a:pt x="12178" y="17989"/>
                </a:lnTo>
                <a:lnTo>
                  <a:pt x="12178" y="10800"/>
                </a:lnTo>
                <a:lnTo>
                  <a:pt x="10524" y="10800"/>
                </a:lnTo>
                <a:close/>
              </a:path>
              <a:path fill="darkenLess" w="34975" h="21600">
                <a:moveTo>
                  <a:pt x="20064" y="6448"/>
                </a:moveTo>
                <a:lnTo>
                  <a:pt x="20064" y="4707"/>
                </a:lnTo>
                <a:lnTo>
                  <a:pt x="21839" y="4707"/>
                </a:lnTo>
                <a:lnTo>
                  <a:pt x="21839" y="8224"/>
                </a:lnTo>
                <a:close/>
              </a:path>
              <a:path fill="darkenLess" w="34975" h="21600">
                <a:moveTo>
                  <a:pt x="16565" y="14299"/>
                </a:moveTo>
                <a:lnTo>
                  <a:pt x="18410" y="14299"/>
                </a:lnTo>
                <a:lnTo>
                  <a:pt x="18410" y="17989"/>
                </a:lnTo>
                <a:lnTo>
                  <a:pt x="22797" y="17989"/>
                </a:lnTo>
                <a:lnTo>
                  <a:pt x="22797" y="10800"/>
                </a:lnTo>
                <a:lnTo>
                  <a:pt x="12178" y="10800"/>
                </a:lnTo>
                <a:lnTo>
                  <a:pt x="12178" y="17989"/>
                </a:lnTo>
                <a:lnTo>
                  <a:pt x="16565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71200" y="5877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Arial"/>
              </a:rPr>
              <a:t>雷锋利用业余时间拾粪送给营区附近的农村。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324000" y="210960"/>
            <a:ext cx="8424720" cy="56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4360" y="333360"/>
            <a:ext cx="7991280" cy="38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星火小学 四（二）班 程媛媛做</a:t>
            </a: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4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谢谢观赏</a:t>
            </a:r>
            <a:endParaRPr b="0" lang="en-US" sz="9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0" y="4076640"/>
            <a:ext cx="20858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3,-3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3,-3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43280" y="1989000"/>
            <a:ext cx="39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黑体"/>
                <a:ea typeface="黑体"/>
              </a:rPr>
              <a:t>　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　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雷锋叔叔是一名解放军战士，只活了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22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岁。他为人民做了许多好事。当时流传这样一句话：“雷锋出差一千里，好事做了一火车。”</a:t>
            </a:r>
            <a:endParaRPr b="0" lang="en-US" sz="3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176720" cy="6264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003640" y="0"/>
            <a:ext cx="3816360" cy="1735200"/>
          </a:xfrm>
          <a:prstGeom prst="cloudCallout">
            <a:avLst>
              <a:gd name="adj1" fmla="val -42638"/>
              <a:gd name="adj2" fmla="val 60337"/>
            </a:avLst>
          </a:prstGeom>
          <a:solidFill>
            <a:srgbClr val="00cc99"/>
          </a:solidFill>
          <a:ln w="9360">
            <a:solidFill>
              <a:srgbClr val="007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40000" y="26028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cc"/>
                </a:solidFill>
                <a:latin typeface="Arial"/>
                <a:ea typeface="黑体"/>
              </a:rPr>
              <a:t>我知道</a:t>
            </a:r>
            <a:endParaRPr b="0" lang="en-US" sz="66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4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7400"/>
                </a:solidFill>
                <a:latin typeface="Arial"/>
                <a:ea typeface="黑体"/>
              </a:rPr>
              <a:t>雷锋叔叔牺牲以后，好几位国家领导人为他题词。毛泽东主席的题词是：“向雷锋同志学习。</a:t>
            </a:r>
            <a:r>
              <a:rPr b="1" lang="zh-CN" sz="1800" spc="-1" strike="noStrike">
                <a:solidFill>
                  <a:srgbClr val="007400"/>
                </a:solidFill>
                <a:latin typeface="Arial"/>
                <a:ea typeface="黑体"/>
              </a:rPr>
              <a:t>”</a:t>
            </a:r>
            <a:endParaRPr b="0" lang="en-US" sz="1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9640" y="1819440"/>
            <a:ext cx="3527640" cy="4705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716360" y="1844640"/>
            <a:ext cx="3743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140360" y="-27000"/>
            <a:ext cx="5398920" cy="6985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24000" y="476280"/>
            <a:ext cx="4392360" cy="5805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459640" y="6308640"/>
            <a:ext cx="540000" cy="333360"/>
          </a:xfrm>
          <a:custGeom>
            <a:avLst/>
            <a:gdLst>
              <a:gd name="textAreaLeft" fmla="*/ 21600 w 540000"/>
              <a:gd name="textAreaRight" fmla="*/ 518400 w 540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75" h="21600">
                <a:moveTo>
                  <a:pt x="0" y="0"/>
                </a:moveTo>
                <a:lnTo>
                  <a:pt x="34975" y="0"/>
                </a:lnTo>
                <a:lnTo>
                  <a:pt x="34975" y="21600"/>
                </a:lnTo>
                <a:lnTo>
                  <a:pt x="0" y="21600"/>
                </a:lnTo>
                <a:close/>
              </a:path>
              <a:path fill="lightenLess" w="34975" h="21600">
                <a:moveTo>
                  <a:pt x="0" y="0"/>
                </a:moveTo>
                <a:lnTo>
                  <a:pt x="34975" y="0"/>
                </a:lnTo>
                <a:lnTo>
                  <a:pt x="33575" y="1400"/>
                </a:lnTo>
                <a:lnTo>
                  <a:pt x="1400" y="1400"/>
                </a:lnTo>
                <a:close/>
              </a:path>
              <a:path fill="darken" w="34975" h="21600">
                <a:moveTo>
                  <a:pt x="34975" y="0"/>
                </a:moveTo>
                <a:lnTo>
                  <a:pt x="34975" y="21600"/>
                </a:lnTo>
                <a:lnTo>
                  <a:pt x="33575" y="20200"/>
                </a:lnTo>
                <a:lnTo>
                  <a:pt x="33575" y="1400"/>
                </a:lnTo>
                <a:close/>
              </a:path>
              <a:path fill="darkenLess" w="34975" h="21600">
                <a:moveTo>
                  <a:pt x="34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75" y="20200"/>
                </a:lnTo>
                <a:close/>
              </a:path>
              <a:path fill="lighten" w="34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75" h="21600">
                <a:moveTo>
                  <a:pt x="17487" y="3837"/>
                </a:moveTo>
                <a:lnTo>
                  <a:pt x="20064" y="6448"/>
                </a:lnTo>
                <a:lnTo>
                  <a:pt x="20064" y="4707"/>
                </a:lnTo>
                <a:lnTo>
                  <a:pt x="21839" y="4707"/>
                </a:lnTo>
                <a:lnTo>
                  <a:pt x="21839" y="8224"/>
                </a:lnTo>
                <a:lnTo>
                  <a:pt x="24450" y="10800"/>
                </a:lnTo>
                <a:lnTo>
                  <a:pt x="22797" y="10800"/>
                </a:lnTo>
                <a:lnTo>
                  <a:pt x="22797" y="17989"/>
                </a:lnTo>
                <a:lnTo>
                  <a:pt x="12178" y="17989"/>
                </a:lnTo>
                <a:lnTo>
                  <a:pt x="12178" y="10800"/>
                </a:lnTo>
                <a:lnTo>
                  <a:pt x="10524" y="10800"/>
                </a:lnTo>
                <a:close/>
              </a:path>
              <a:path fill="darkenLess" w="34975" h="21600">
                <a:moveTo>
                  <a:pt x="20064" y="6448"/>
                </a:moveTo>
                <a:lnTo>
                  <a:pt x="20064" y="4707"/>
                </a:lnTo>
                <a:lnTo>
                  <a:pt x="21839" y="4707"/>
                </a:lnTo>
                <a:lnTo>
                  <a:pt x="21839" y="8224"/>
                </a:lnTo>
                <a:close/>
              </a:path>
              <a:path fill="darkenLess" w="34975" h="21600">
                <a:moveTo>
                  <a:pt x="16565" y="14299"/>
                </a:moveTo>
                <a:lnTo>
                  <a:pt x="18410" y="14299"/>
                </a:lnTo>
                <a:lnTo>
                  <a:pt x="18410" y="17989"/>
                </a:lnTo>
                <a:lnTo>
                  <a:pt x="22797" y="17989"/>
                </a:lnTo>
                <a:lnTo>
                  <a:pt x="22797" y="10800"/>
                </a:lnTo>
                <a:lnTo>
                  <a:pt x="12178" y="10800"/>
                </a:lnTo>
                <a:lnTo>
                  <a:pt x="12178" y="17989"/>
                </a:lnTo>
                <a:lnTo>
                  <a:pt x="16565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90720" y="1052640"/>
            <a:ext cx="2300040" cy="471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90720" y="1981080"/>
            <a:ext cx="7162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朗读课文，想一想我们的雷锋在哪里。借助拼音认读生字，同学间交流识字方法。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4043520"/>
            <a:ext cx="358128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e03500"/>
                </a:solidFill>
                <a:uFillTx/>
                <a:latin typeface="楷体_GB2312"/>
                <a:ea typeface="楷体_GB2312"/>
                <a:hlinkClick r:id="rId3"/>
              </a:rPr>
              <a:t>雷锋叔叔，你在哪里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00000" y="2637000"/>
            <a:ext cx="874872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锋 利       叔  叔       曾 经 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泥 泞       脚  窝       迈 步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荆  棘      花  瓣       晶 莹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寻 觅       需  要 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77200" y="160020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4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读一读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990720" y="1052640"/>
            <a:ext cx="2300040" cy="4712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84080" y="2205000"/>
            <a:ext cx="835992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e03500"/>
                </a:solidFill>
                <a:uFillTx/>
                <a:latin typeface="宋体"/>
                <a:hlinkClick r:id="rId3"/>
              </a:rPr>
              <a:t>fēn</a:t>
            </a:r>
            <a:r>
              <a:rPr b="0" lang="zh-CN" sz="3200" spc="-1" strike="noStrike" u="sng">
                <a:solidFill>
                  <a:srgbClr val="e03500"/>
                </a:solidFill>
                <a:uFillTx/>
                <a:latin typeface="Arial"/>
                <a:hlinkClick r:id="rId4"/>
              </a:rPr>
              <a:t>g</a:t>
            </a:r>
            <a:r>
              <a:rPr b="0" lang="zh-CN" sz="3200" spc="-1" strike="noStrike">
                <a:solidFill>
                  <a:srgbClr val="007400"/>
                </a:solidFill>
                <a:latin typeface="Arial"/>
              </a:rPr>
              <a:t>　　　　</a:t>
            </a:r>
            <a:r>
              <a:rPr b="1" lang="zh-CN" sz="3200" spc="-1" strike="noStrike">
                <a:solidFill>
                  <a:srgbClr val="007400"/>
                </a:solidFill>
                <a:latin typeface="宋体"/>
              </a:rPr>
              <a:t>shū shu      </a:t>
            </a:r>
            <a:r>
              <a:rPr b="0" lang="zh-CN" sz="3200" spc="-1" strike="noStrike" u="sng">
                <a:solidFill>
                  <a:srgbClr val="e03500"/>
                </a:solidFill>
                <a:uFillTx/>
                <a:latin typeface="宋体"/>
                <a:hlinkClick r:id="rId5"/>
              </a:rPr>
              <a:t>cén</a:t>
            </a:r>
            <a:r>
              <a:rPr b="0" lang="zh-CN" sz="3200" spc="-1" strike="noStrike" u="sng">
                <a:solidFill>
                  <a:srgbClr val="e03500"/>
                </a:solidFill>
                <a:uFillTx/>
                <a:latin typeface="Arial"/>
                <a:hlinkClick r:id="rId6"/>
              </a:rPr>
              <a:t>g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宋体"/>
              </a:rPr>
              <a:t>   </a:t>
            </a:r>
            <a:r>
              <a:rPr b="0" lang="zh-CN" sz="3200" spc="-1" strike="noStrike" u="sng">
                <a:solidFill>
                  <a:srgbClr val="e03500"/>
                </a:solidFill>
                <a:uFillTx/>
                <a:latin typeface="宋体"/>
                <a:hlinkClick r:id="rId7"/>
              </a:rPr>
              <a:t>nìn</a:t>
            </a:r>
            <a:r>
              <a:rPr b="0" lang="zh-CN" sz="3200" spc="-1" strike="noStrike" u="sng">
                <a:solidFill>
                  <a:srgbClr val="e03500"/>
                </a:solidFill>
                <a:uFillTx/>
                <a:latin typeface="Arial"/>
                <a:hlinkClick r:id="rId8"/>
              </a:rPr>
              <a:t>g</a:t>
            </a:r>
            <a:r>
              <a:rPr b="1" lang="zh-CN" sz="3200" spc="-1" strike="noStrike">
                <a:solidFill>
                  <a:srgbClr val="007400"/>
                </a:solidFill>
                <a:latin typeface="宋体"/>
              </a:rPr>
              <a:t>          wō       mài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e03500"/>
                </a:solidFill>
                <a:uFillTx/>
                <a:latin typeface="宋体"/>
                <a:hlinkClick r:id="rId9"/>
              </a:rPr>
              <a:t>jīn</a:t>
            </a:r>
            <a:r>
              <a:rPr b="0" lang="zh-CN" sz="3200" spc="-1" strike="noStrike" u="sng">
                <a:solidFill>
                  <a:srgbClr val="e03500"/>
                </a:solidFill>
                <a:uFillTx/>
                <a:latin typeface="Arial"/>
                <a:hlinkClick r:id="rId10"/>
              </a:rPr>
              <a:t>g</a:t>
            </a:r>
            <a:r>
              <a:rPr b="1" lang="zh-CN" sz="3200" spc="-1" strike="noStrike">
                <a:solidFill>
                  <a:srgbClr val="007400"/>
                </a:solidFill>
                <a:latin typeface="宋体"/>
              </a:rPr>
              <a:t> jí          b</a:t>
            </a:r>
            <a:r>
              <a:rPr b="1" lang="zh-CN" sz="3200" spc="-1" strike="noStrike">
                <a:solidFill>
                  <a:srgbClr val="007400"/>
                </a:solidFill>
                <a:latin typeface="Century Gothic"/>
              </a:rPr>
              <a:t>à</a:t>
            </a:r>
            <a:r>
              <a:rPr b="1" lang="zh-CN" sz="3200" spc="-1" strike="noStrike">
                <a:solidFill>
                  <a:srgbClr val="007400"/>
                </a:solidFill>
                <a:latin typeface="宋体"/>
              </a:rPr>
              <a:t>n        </a:t>
            </a:r>
            <a:r>
              <a:rPr b="0" lang="zh-CN" sz="3200" spc="-1" strike="noStrike" u="sng">
                <a:solidFill>
                  <a:srgbClr val="e03500"/>
                </a:solidFill>
                <a:uFillTx/>
                <a:latin typeface="宋体"/>
                <a:hlinkClick r:id="rId11"/>
              </a:rPr>
              <a:t>yín</a:t>
            </a:r>
            <a:r>
              <a:rPr b="0" lang="zh-CN" sz="3200" spc="-1" strike="noStrike" u="sng">
                <a:solidFill>
                  <a:srgbClr val="e03500"/>
                </a:solidFill>
                <a:uFillTx/>
                <a:latin typeface="Century Gothic"/>
                <a:hlinkClick r:id="rId12"/>
              </a:rPr>
              <a:t>g</a:t>
            </a:r>
            <a:r>
              <a:rPr b="1" lang="zh-CN" sz="3200" spc="-1" strike="noStrike">
                <a:solidFill>
                  <a:srgbClr val="0074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宋体"/>
              </a:rPr>
              <a:t>    </a:t>
            </a:r>
            <a:r>
              <a:rPr b="0" lang="zh-CN" sz="3200" spc="-1" strike="noStrike" u="sng">
                <a:solidFill>
                  <a:srgbClr val="e03500"/>
                </a:solidFill>
                <a:uFillTx/>
                <a:latin typeface="宋体"/>
                <a:hlinkClick r:id="rId13"/>
              </a:rPr>
              <a:t>mì</a:t>
            </a:r>
            <a:r>
              <a:rPr b="1" lang="zh-CN" sz="3200" spc="-1" strike="noStrike">
                <a:solidFill>
                  <a:srgbClr val="007400"/>
                </a:solidFill>
                <a:latin typeface="宋体"/>
              </a:rPr>
              <a:t>       xū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02:02:13Z</dcterms:created>
  <dc:creator>sabrina</dc:creator>
  <dc:description/>
  <dc:language>en-US</dc:language>
  <cp:lastModifiedBy>admin</cp:lastModifiedBy>
  <dcterms:modified xsi:type="dcterms:W3CDTF">2011-03-14T11:33:54Z</dcterms:modified>
  <cp:revision>75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0c000000000001024120</vt:lpwstr>
  </property>
</Properties>
</file>