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EA0C-3153-44C1-8679-C1243F6F5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B15C-099E-4791-BDD4-76864EBC6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8609-BEBC-4217-AC49-DACE538A6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D210-5222-403A-9D7E-3C8E3E7F0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3B41-8D6C-4F6E-92D9-0AE9B717D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7AA0-7FFE-4409-912B-6745A961B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CB6B-C333-4061-95B0-7DC8FEA69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642B-CFF4-464B-A433-D35D9582E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E9BF-1E58-4E16-8550-BA174F62A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4431-C316-4707-B074-11ECB5F3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085A-325A-46B5-97BF-954B0AD8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6B71-49B8-4A52-AAF0-7A6D94E4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2d050"/>
              </a:buClr>
              <a:buSzPct val="25000"/>
              <a:buFont typeface="Wingdings" charset="2"/>
              <a:buChar char="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92d050"/>
              </a:buClr>
              <a:buSzPct val="25000"/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92d050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92d050"/>
              </a:buClr>
              <a:buSzPct val="25000"/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92d050"/>
              </a:buClr>
              <a:buSzPct val="25000"/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CC49-E0AC-4AC0-89DE-ADCED03AE8E5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4E225-2193-4365-8DDF-0266538845C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"/>
          <p:cNvSpPr/>
          <p:nvPr/>
        </p:nvSpPr>
        <p:spPr>
          <a:xfrm>
            <a:off x="0" y="3270240"/>
            <a:ext cx="6634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7"/>
          <p:cNvSpPr/>
          <p:nvPr/>
        </p:nvSpPr>
        <p:spPr>
          <a:xfrm>
            <a:off x="3422520" y="2676600"/>
            <a:ext cx="309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8"/>
          <p:cNvSpPr/>
          <p:nvPr/>
        </p:nvSpPr>
        <p:spPr>
          <a:xfrm>
            <a:off x="1255680" y="1204920"/>
            <a:ext cx="67464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卡通梦幻情人节</a:t>
            </a:r>
            <a:r>
              <a:rPr b="1" lang="en-US" sz="6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PPT</a:t>
            </a:r>
            <a:r>
              <a:rPr b="1" lang="zh-CN" sz="6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模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0T01:37:00Z</dcterms:created>
  <dc:creator>lenovo</dc:creator>
  <dc:description/>
  <cp:keywords>XS-普屏 4：3;SC-多彩色;BG-浅色;DH-静态</cp:keywords>
  <dc:language>en-US</dc:language>
  <cp:lastModifiedBy>lenovo</cp:lastModifiedBy>
  <dcterms:modified xsi:type="dcterms:W3CDTF">2015-12-31T07:00:33Z</dcterms:modified>
  <cp:revision>2</cp:revision>
  <dc:subject>TP-人文风俗</dc:subject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60</vt:lpwstr>
  </property>
</Properties>
</file>