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11.png" ContentType="image/png"/>
  <Override PartName="/ppt/media/image27.jpeg" ContentType="image/jpeg"/>
  <Override PartName="/ppt/media/image2.gif" ContentType="image/gif"/>
  <Override PartName="/ppt/media/image25.gif" ContentType="image/gif"/>
  <Override PartName="/ppt/media/image23.jpeg" ContentType="image/jpeg"/>
  <Override PartName="/ppt/media/image19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F29-9796-41F8-A80B-B38383F6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4B7-2585-4467-A231-2384A674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0C6-10C0-4EAB-828A-5E166D5E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EB6-E0E8-4F8A-8650-58A27EE8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419-5D75-4289-B94B-9C33EB8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B85-2487-443F-8568-40068646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497-C4EF-4AA7-B5E0-A3685E92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B06-9414-4FEF-843E-E8F67E3A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BF5-4FD2-4FD2-9BD3-80E1D8D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A9D-5A66-4A7D-8CE6-CFCA899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945-40ED-45D5-8C69-D0C54095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73F-E616-43F4-AE9D-4DA7DE9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9595-4237-41FB-9061-EE6C67DF4B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baike.baidu.com/view/524090.htm" TargetMode="External"/><Relationship Id="rId3" Type="http://schemas.openxmlformats.org/officeDocument/2006/relationships/hyperlink" Target="http://baike.baidu.com/view/24552.htm" TargetMode="External"/><Relationship Id="rId4" Type="http://schemas.openxmlformats.org/officeDocument/2006/relationships/hyperlink" Target="http://baike.baidu.com/view/251987.htm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692280"/>
            <a:ext cx="77040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猜灯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84360" y="1916280"/>
            <a:ext cx="69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跑旱船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打一宋代诗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012000" y="1989000"/>
            <a:ext cx="2361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陆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95280" y="38671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大声疾呼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打一鲁迅作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62976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177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很象他哥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一成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：真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6781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梯里放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歌手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：莫文蔚《莫闻味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6520" y="1923480"/>
            <a:ext cx="30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使麻雀安静下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63200" y="256500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压它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鸦雀无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压雀无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2000" y="4365000"/>
            <a:ext cx="49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皮、老虎皮、狮子皮哪一个最不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4880" y="5229000"/>
            <a:ext cx="36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橡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橡皮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皮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19520" y="1844280"/>
            <a:ext cx="19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铅笔姓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960" y="24919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萧。原因：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铅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" y="3860280"/>
            <a:ext cx="22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和纸怕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39960" y="4941720"/>
            <a:ext cx="57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布怕一万，纸怕万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怕一万，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怕万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73"/>
          <p:cNvPicPr/>
          <p:nvPr/>
        </p:nvPicPr>
        <p:blipFill>
          <a:blip r:embed="rId1"/>
          <a:stretch/>
        </p:blipFill>
        <p:spPr>
          <a:xfrm>
            <a:off x="6804000" y="1700280"/>
            <a:ext cx="306072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763640" y="292428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763640" y="4797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110[1]"/>
          <p:cNvPicPr/>
          <p:nvPr/>
        </p:nvPicPr>
        <p:blipFill>
          <a:blip r:embed="rId2"/>
          <a:stretch/>
        </p:blipFill>
        <p:spPr>
          <a:xfrm>
            <a:off x="2268360" y="5516640"/>
            <a:ext cx="4175280" cy="138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8"/>
          <p:cNvSpPr/>
          <p:nvPr/>
        </p:nvSpPr>
        <p:spPr>
          <a:xfrm>
            <a:off x="7584840" y="98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其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1557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个儿高又大，脖子似吊塔。和气又善良，从来不打架（打一动物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39640" y="5300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远看两个零，近看两个零。有人用了行不得，有人不用不得行（打一日常用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8360" y="350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为你打我，为我打你。打到你皮开，打得我出血（打一动物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95280" y="2565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不是点心不是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软软凉凉肚里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不能吃来不能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每天也要尝一尝（打一日常用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437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一物生得巧，地位比人高。戴上御风寒，脱下有礼貌（打一日常用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5817600" y="58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眼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152160" y="4941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43288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蚊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3872880" y="306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牙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91060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长颈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76360" y="1341360"/>
            <a:ext cx="60498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结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101080" y="2637000"/>
            <a:ext cx="577800" cy="549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44000" y="6093000"/>
            <a:ext cx="649080" cy="549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1700280"/>
            <a:ext cx="71928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5013360"/>
            <a:ext cx="863640" cy="47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852640"/>
            <a:ext cx="79380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6165720"/>
            <a:ext cx="93672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2852640"/>
            <a:ext cx="143964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6093000"/>
            <a:ext cx="144000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333360"/>
            <a:ext cx="433440" cy="3139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429000"/>
            <a:ext cx="433440" cy="3139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59280" y="645336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306864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3933720"/>
            <a:ext cx="1008000" cy="719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76280"/>
            <a:ext cx="107964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49360"/>
            <a:ext cx="151272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4076640"/>
            <a:ext cx="187200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916280"/>
            <a:ext cx="248472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45000"/>
            <a:ext cx="255600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227664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573408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822122016256"/>
          <p:cNvPicPr/>
          <p:nvPr/>
        </p:nvPicPr>
        <p:blipFill>
          <a:blip r:embed="rId1"/>
          <a:stretch/>
        </p:blipFill>
        <p:spPr>
          <a:xfrm>
            <a:off x="7194600" y="0"/>
            <a:ext cx="1949400" cy="2592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24000" y="1628640"/>
            <a:ext cx="381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元宵节的来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3141720"/>
            <a:ext cx="7416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农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2"/>
              </a:rPr>
              <a:t>正月十五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元宵节，又称为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3"/>
              </a:rPr>
              <a:t>上元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4"/>
              </a:rPr>
              <a:t>春灯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，是中国民俗传统节日。正月是农历的元月，古人称其为“宵”，而十五日又是一年中第一个月圆之夜，所以称正月十五为元宵节。又称为小正月、元夕或灯节，是春节之后的第一个重要节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200822122016256"/>
          <p:cNvPicPr/>
          <p:nvPr/>
        </p:nvPicPr>
        <p:blipFill>
          <a:blip r:embed="rId5"/>
          <a:stretch/>
        </p:blipFill>
        <p:spPr>
          <a:xfrm>
            <a:off x="5292720" y="0"/>
            <a:ext cx="192888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24360" y="1484280"/>
            <a:ext cx="43344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4797360"/>
            <a:ext cx="43344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052640"/>
            <a:ext cx="1009440" cy="47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365720"/>
            <a:ext cx="1009800" cy="47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1484280"/>
            <a:ext cx="208908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69000"/>
            <a:ext cx="208908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97840" y="1268280"/>
            <a:ext cx="577800" cy="1629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26560" y="4437000"/>
            <a:ext cx="649080" cy="1771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33360"/>
            <a:ext cx="1009800" cy="549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3789360"/>
            <a:ext cx="1009800" cy="549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4941720"/>
            <a:ext cx="79200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4508640"/>
            <a:ext cx="433080" cy="1079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4365720"/>
            <a:ext cx="684360" cy="162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2924280"/>
            <a:ext cx="1297080" cy="47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581360"/>
            <a:ext cx="43344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2924280"/>
            <a:ext cx="1296720" cy="47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653000"/>
            <a:ext cx="684360" cy="162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5013360"/>
            <a:ext cx="79236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0"/>
            <a:ext cx="165600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0"/>
            <a:ext cx="165600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421000"/>
            <a:ext cx="7192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492280"/>
            <a:ext cx="7192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941720"/>
            <a:ext cx="719280" cy="191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941720"/>
            <a:ext cx="719280" cy="191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13000"/>
            <a:ext cx="43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3213000"/>
            <a:ext cx="43164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92360" y="4365720"/>
            <a:ext cx="7174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55280" y="4365720"/>
            <a:ext cx="7174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924280"/>
            <a:ext cx="431640" cy="57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2997360"/>
            <a:ext cx="431640" cy="57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76360" y="1341360"/>
            <a:ext cx="60498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结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6ab8e757a164fe5260197ddfc88e87b5"/>
          <p:cNvPicPr/>
          <p:nvPr/>
        </p:nvPicPr>
        <p:blipFill>
          <a:blip r:embed="rId1"/>
          <a:stretch/>
        </p:blipFill>
        <p:spPr>
          <a:xfrm>
            <a:off x="0" y="4365720"/>
            <a:ext cx="2025720" cy="2087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yuanxiao01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1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201031135020"/>
          <p:cNvPicPr/>
          <p:nvPr/>
        </p:nvPicPr>
        <p:blipFill>
          <a:blip r:embed="rId3"/>
          <a:stretch/>
        </p:blipFill>
        <p:spPr>
          <a:xfrm>
            <a:off x="1547640" y="2133720"/>
            <a:ext cx="3168720" cy="19476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6"/>
          <p:cNvSpPr txBox="1"/>
          <p:nvPr/>
        </p:nvSpPr>
        <p:spPr>
          <a:xfrm>
            <a:off x="2411280" y="4149720"/>
            <a:ext cx="15130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汤</a:t>
            </a:r>
            <a:endParaRPr b="0" lang="en-US" sz="7200" spc="1" strike="noStrike">
              <a:ln w="12600">
                <a:solidFill>
                  <a:srgbClr val="99cc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003640" y="206064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圆</a:t>
            </a:r>
            <a:endParaRPr b="0" lang="en-US" sz="7200" spc="1" strike="noStrike">
              <a:ln w="1260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0" y="1700280"/>
            <a:ext cx="12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包</a:t>
            </a:r>
            <a:endParaRPr b="1" lang="en-US" sz="6600" spc="1" strike="noStrike">
              <a:ln w="19080">
                <a:solidFill>
                  <a:srgbClr val="33996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1" name="Picture 11" descr="299770850197389508"/>
          <p:cNvPicPr/>
          <p:nvPr/>
        </p:nvPicPr>
        <p:blipFill>
          <a:blip r:embed="rId6"/>
          <a:stretch/>
        </p:blipFill>
        <p:spPr>
          <a:xfrm>
            <a:off x="6516720" y="1125360"/>
            <a:ext cx="2627280" cy="237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20081116153742162"/>
          <p:cNvPicPr/>
          <p:nvPr/>
        </p:nvPicPr>
        <p:blipFill>
          <a:blip r:embed="rId7"/>
          <a:stretch/>
        </p:blipFill>
        <p:spPr>
          <a:xfrm>
            <a:off x="3203640" y="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2010022500132990"/>
          <p:cNvPicPr/>
          <p:nvPr/>
        </p:nvPicPr>
        <p:blipFill>
          <a:blip r:embed="rId8"/>
          <a:stretch/>
        </p:blipFill>
        <p:spPr>
          <a:xfrm>
            <a:off x="399564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500"/>
                            </p:stCondLst>
                            <p:childTnLst>
                              <p:par>
                                <p:cTn id="6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5400000">
            <a:off x="-1044360" y="3355920"/>
            <a:ext cx="5329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放孔明灯咯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 rot="5400000">
            <a:off x="5579640" y="3284640"/>
            <a:ext cx="53294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放孔明灯咯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11280" y="333360"/>
            <a:ext cx="7993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03640" y="4076640"/>
            <a:ext cx="223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20092522543132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108440" y="1280160"/>
            <a:ext cx="6499440" cy="5126400"/>
            <a:chOff x="1108440" y="1280160"/>
            <a:chExt cx="6499440" cy="5126400"/>
          </a:xfrm>
        </p:grpSpPr>
        <p:sp>
          <p:nvSpPr>
            <p:cNvPr id="48" name="_s44037"/>
            <p:cNvSpPr/>
            <p:nvPr/>
          </p:nvSpPr>
          <p:spPr>
            <a:xfrm flipH="1" flipV="1">
              <a:off x="3060000" y="3110760"/>
              <a:ext cx="651600" cy="4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4038"/>
            <p:cNvSpPr/>
            <p:nvPr/>
          </p:nvSpPr>
          <p:spPr>
            <a:xfrm>
              <a:off x="1586520" y="2032920"/>
              <a:ext cx="1656360" cy="1330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猜灯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4039"/>
            <p:cNvSpPr/>
            <p:nvPr/>
          </p:nvSpPr>
          <p:spPr>
            <a:xfrm flipH="1">
              <a:off x="2740320" y="4087080"/>
              <a:ext cx="80964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4040"/>
            <p:cNvSpPr/>
            <p:nvPr/>
          </p:nvSpPr>
          <p:spPr>
            <a:xfrm>
              <a:off x="1108440" y="3722760"/>
              <a:ext cx="1656360" cy="1330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</a:rPr>
                <a:t>蹊高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4041"/>
            <p:cNvSpPr/>
            <p:nvPr/>
          </p:nvSpPr>
          <p:spPr>
            <a:xfrm flipH="1">
              <a:off x="3638160" y="4538520"/>
              <a:ext cx="35820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4042"/>
            <p:cNvSpPr/>
            <p:nvPr/>
          </p:nvSpPr>
          <p:spPr>
            <a:xfrm>
              <a:off x="2455200" y="5075640"/>
              <a:ext cx="1656360" cy="1330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</a:rPr>
                <a:t>逐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4043"/>
            <p:cNvSpPr/>
            <p:nvPr/>
          </p:nvSpPr>
          <p:spPr>
            <a:xfrm>
              <a:off x="4714200" y="4538520"/>
              <a:ext cx="36108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4044"/>
            <p:cNvSpPr/>
            <p:nvPr/>
          </p:nvSpPr>
          <p:spPr>
            <a:xfrm>
              <a:off x="4609800" y="5073480"/>
              <a:ext cx="1656360" cy="1331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</a:rPr>
                <a:t>走百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4045"/>
            <p:cNvSpPr/>
            <p:nvPr/>
          </p:nvSpPr>
          <p:spPr>
            <a:xfrm>
              <a:off x="5160600" y="4089600"/>
              <a:ext cx="809640" cy="14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4046"/>
            <p:cNvSpPr/>
            <p:nvPr/>
          </p:nvSpPr>
          <p:spPr>
            <a:xfrm>
              <a:off x="5951520" y="3718800"/>
              <a:ext cx="1656360" cy="13312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Arial"/>
                </a:rPr>
                <a:t>吃元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4047"/>
            <p:cNvSpPr/>
            <p:nvPr/>
          </p:nvSpPr>
          <p:spPr>
            <a:xfrm flipV="1">
              <a:off x="5002560" y="3110760"/>
              <a:ext cx="648720" cy="4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4048"/>
            <p:cNvSpPr/>
            <p:nvPr/>
          </p:nvSpPr>
          <p:spPr>
            <a:xfrm>
              <a:off x="5470560" y="2031120"/>
              <a:ext cx="1656360" cy="1330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99"/>
                  </a:solidFill>
                  <a:latin typeface="Arial"/>
                </a:rPr>
                <a:t>舞狮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99"/>
                  </a:solidFill>
                  <a:latin typeface="Arial"/>
                </a:rPr>
                <a:t>舞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4049"/>
            <p:cNvSpPr/>
            <p:nvPr/>
          </p:nvSpPr>
          <p:spPr>
            <a:xfrm flipV="1">
              <a:off x="4355640" y="2608560"/>
              <a:ext cx="0" cy="6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4050"/>
            <p:cNvSpPr/>
            <p:nvPr/>
          </p:nvSpPr>
          <p:spPr>
            <a:xfrm>
              <a:off x="3528720" y="1280160"/>
              <a:ext cx="1656360" cy="1330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Arial"/>
                </a:rPr>
                <a:t>赏花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4051"/>
            <p:cNvSpPr/>
            <p:nvPr/>
          </p:nvSpPr>
          <p:spPr>
            <a:xfrm>
              <a:off x="3528720" y="3277800"/>
              <a:ext cx="1656360" cy="133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428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元宵习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5840" y="42840"/>
            <a:ext cx="67723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2349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宵节是我国主要的传统节日，也叫元夕、元夜，又称上元节，因为这是新年第一个月圆夜。因历代这一节日有观灯习俗，故又称灯节。元宵节俗的形成有一个较长的过程，据一般的资料与民俗传说，正月十五在西汉已经受到重视，汉武帝正月上辛夜在甘泉宫祭祀“太一”的活动，被后人视作正月十五祭祀天神的先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40000" y="33336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祝大家元宵快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2960" y="576360"/>
            <a:ext cx="60580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1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5400000">
            <a:off x="6408360" y="310500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回家记得吃汤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763640" y="260280"/>
            <a:ext cx="576108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元宵小活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1:05:50Z</dcterms:created>
  <dc:creator>USER</dc:creator>
  <dc:description/>
  <dc:language>en-US</dc:language>
  <cp:lastModifiedBy>微软用户</cp:lastModifiedBy>
  <dcterms:modified xsi:type="dcterms:W3CDTF">2015-03-03T12:30:10Z</dcterms:modified>
  <cp:revision>4</cp:revision>
  <dc:subject/>
  <dc:title>幻灯片 1</dc:title>
</cp:coreProperties>
</file>