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E27-1720-4138-A0CF-2B0B3138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DD8D-F7E9-488B-83B8-636B881E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8EC0-FCE1-4FB6-9458-167C29A6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E08F-4555-4701-9882-12A011C9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2DE3-89C7-42A6-A000-09D9FBAC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42AD-A506-4BE6-B5FF-BC147CC4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7D6-9D90-4E45-9C54-328FE111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200-C3F0-4EE5-8985-2FBEA1C9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58A-111A-4CBC-93F3-F2A29ED7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E5FC-463D-4F5C-A13A-15BE7EA1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7E00-A61E-4487-8A23-19ECA134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77ED-A01C-4116-908B-2BEA065C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B5A2-82E4-4471-BF43-5549EF9334C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0AB0-F87F-4C64-9580-223AB115DE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4CE-A136-4CDE-AB80-E477BE2660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863-51E4-429E-BB68-C06D3B9911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1A9-947D-4A25-9734-F436388A03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16D-DF35-40B7-9602-6DF42059CA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940A-ECF6-413F-B474-E2F1E6D4CB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93EA-39A5-40B1-8C02-379D5FCA8C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3:18:00Z</dcterms:created>
  <dc:creator>User</dc:creator>
  <dc:description/>
  <dc:language>en-US</dc:language>
  <cp:lastModifiedBy>User</cp:lastModifiedBy>
  <dcterms:modified xsi:type="dcterms:W3CDTF">2015-12-17T01:12:1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