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391-3C93-4CC6-846C-C2CAB5D1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076-FF20-4A0D-BE41-ADBF1EA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077-6ADA-4049-A84F-8C12E629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58F-F4A3-473F-BFE8-F329ACE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B0C-79EC-44BE-AAB3-7F794AC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2E2-600E-4BAB-90AE-C2BD54D8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DDD-8E68-4125-B172-9473D1B9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356-A10B-4570-A452-00CCF4B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A23-F3B5-4D08-BDAD-D87919DC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F05-A613-48B2-98E2-0F4D094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EE6-407A-42D1-996D-2A07125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358-4537-487E-8081-C918DCE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2AEB-DA8C-4264-95F8-EC5D4E175F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6T08:14:19Z</dcterms:modified>
  <cp:revision>79</cp:revision>
  <dc:subject/>
  <dc:title>幻灯片 1</dc:title>
</cp:coreProperties>
</file>