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5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11.jpeg" ContentType="image/jpe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1047591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657360" y="685440"/>
            <a:ext cx="55432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E071-A612-42EA-B35C-D3AC5C34C4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657360" y="685800"/>
            <a:ext cx="554328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相比富士康的环境，在海底捞工作的待遇更低、地位更低、劳动强度更大。可张勇就是做到了，员工没有跳楼，还能主动、愉悦地为客人服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为什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04A7-13ED-492D-A48A-309AB92B056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657360" y="685800"/>
            <a:ext cx="554328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中国餐饮业的平均员工流动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.6%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是海底捞的流动率仅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左右。杨小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758A-6E69-4E63-8BF8-4A29CDB5B0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8B6-0BB6-48DD-8E1A-2A276862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9543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9320" y="3518640"/>
            <a:ext cx="9543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9E8-2ECB-4E91-9748-604C8653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99920" y="944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09320" y="3518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99920" y="3518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161-4F74-467E-B00C-5ED3ED3B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3072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6360" y="944640"/>
            <a:ext cx="3072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63400" y="944640"/>
            <a:ext cx="3072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09320" y="3518640"/>
            <a:ext cx="3072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6360" y="3518640"/>
            <a:ext cx="3072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63400" y="3518640"/>
            <a:ext cx="3072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C09-9571-4960-AC5A-AFF69132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DE37-F4A5-4FE3-A193-DA0CBA69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09320" y="944640"/>
            <a:ext cx="954396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84A4-9983-4E0F-8ECA-DA0C669D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95439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F09F-A012-4CE9-98FF-DDE1B74C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465732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99920" y="944640"/>
            <a:ext cx="465732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10CA-6187-4B9C-A0F7-8BE19950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8BC7-2167-47DF-848F-2D798A48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09320" y="192240"/>
            <a:ext cx="942948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E317-EE03-47A9-BDF6-46573ACA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99920" y="944640"/>
            <a:ext cx="465732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09320" y="3518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A04A-451F-47A9-8016-F5B31332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09320" y="944640"/>
            <a:ext cx="954396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BE6-89AF-402F-B1CB-4EEE23EA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465732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99920" y="944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99920" y="3518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7ED7-9822-4CD7-A426-B3696C66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99920" y="944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9320" y="3518640"/>
            <a:ext cx="9543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A8C3-6128-48BF-BB86-CFFAF865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9543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9320" y="3518640"/>
            <a:ext cx="9543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F410-484A-4F7F-B095-A67E81EA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99920" y="944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09320" y="3518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299920" y="3518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68D7-EB2A-4BF0-B588-5AB6356B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3072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36360" y="944640"/>
            <a:ext cx="3072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63400" y="944640"/>
            <a:ext cx="3072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09320" y="3518640"/>
            <a:ext cx="3072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36360" y="3518640"/>
            <a:ext cx="3072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863400" y="3518640"/>
            <a:ext cx="3072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6CE2-1B29-4256-A9E8-5B8D35FE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95439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8BE-9F15-413B-AA0B-0F0ABD8F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465732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99920" y="944640"/>
            <a:ext cx="465732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8BE-2AE4-49BA-823B-9D830276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174-3F83-4525-9430-0A9A7E01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9320" y="192240"/>
            <a:ext cx="942948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B60-1614-4684-B1E7-7D8524A9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99920" y="944640"/>
            <a:ext cx="465732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9320" y="3518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353-8229-431B-80AA-BAC3F539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465732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99920" y="944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99920" y="3518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4E4-1CCA-4DD4-AC52-73A86F3E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99920" y="944640"/>
            <a:ext cx="46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9320" y="3518640"/>
            <a:ext cx="9543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202-5216-4B77-BB9F-2053784F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10477440" cy="648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09320" y="944640"/>
            <a:ext cx="95439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23440" y="6005160"/>
            <a:ext cx="2444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79840" y="6005160"/>
            <a:ext cx="331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08520" y="6005160"/>
            <a:ext cx="2444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AC3F-5129-41F6-A939-1FBD233F0FCB}" type="slidenum"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3800" y="258480"/>
            <a:ext cx="942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23800" y="1511280"/>
            <a:ext cx="94298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23440" y="5900760"/>
            <a:ext cx="24447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79840" y="5900760"/>
            <a:ext cx="33177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508520" y="5900760"/>
            <a:ext cx="24447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E041-D094-44D2-B717-44710249C44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368960" y="2397240"/>
            <a:ext cx="4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616280" y="23972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876920" y="23972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205240" y="2397240"/>
            <a:ext cx="4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5451480" y="23972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772240" y="23972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032520" y="23972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276960" y="2397240"/>
            <a:ext cx="4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779720" y="285264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logo"/>
          <p:cNvPicPr/>
          <p:nvPr/>
        </p:nvPicPr>
        <p:blipFill>
          <a:blip r:embed="rId2"/>
          <a:stretch/>
        </p:blipFill>
        <p:spPr>
          <a:xfrm>
            <a:off x="3570120" y="2386080"/>
            <a:ext cx="897120" cy="698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logo2"/>
          <p:cNvPicPr/>
          <p:nvPr/>
        </p:nvPicPr>
        <p:blipFill>
          <a:blip r:embed="rId3"/>
          <a:stretch/>
        </p:blipFill>
        <p:spPr>
          <a:xfrm>
            <a:off x="2938320" y="2219400"/>
            <a:ext cx="4386240" cy="1252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8">
            <a:hlinkClick r:id="rId4"/>
          </p:cNvPr>
          <p:cNvSpPr/>
          <p:nvPr/>
        </p:nvSpPr>
        <p:spPr>
          <a:xfrm>
            <a:off x="2846520" y="1946160"/>
            <a:ext cx="457020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1047744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5840" y="2813040"/>
            <a:ext cx="70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360" y="1944720"/>
            <a:ext cx="97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火锅店年度销售工作计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行楷"/>
              </a:rPr>
              <a:t>海底捞五大服务区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pic>
        <p:nvPicPr>
          <p:cNvPr id="162" name="内容占位符 7" descr="截图1300550653.jpg"/>
          <p:cNvPicPr/>
          <p:nvPr/>
        </p:nvPicPr>
        <p:blipFill>
          <a:blip r:embed="rId1"/>
          <a:stretch/>
        </p:blipFill>
        <p:spPr>
          <a:xfrm>
            <a:off x="485640" y="1368360"/>
            <a:ext cx="3721320" cy="2160720"/>
          </a:xfrm>
          <a:prstGeom prst="rect">
            <a:avLst/>
          </a:prstGeom>
          <a:ln w="0">
            <a:noFill/>
          </a:ln>
        </p:spPr>
      </p:pic>
      <p:pic>
        <p:nvPicPr>
          <p:cNvPr id="163" name="内容占位符 8" descr="截图1300550667.jpg"/>
          <p:cNvPicPr/>
          <p:nvPr/>
        </p:nvPicPr>
        <p:blipFill>
          <a:blip r:embed="rId2"/>
          <a:stretch/>
        </p:blipFill>
        <p:spPr>
          <a:xfrm>
            <a:off x="630360" y="3816360"/>
            <a:ext cx="3776400" cy="21798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9" descr="截图1300550681.jpg"/>
          <p:cNvPicPr/>
          <p:nvPr/>
        </p:nvPicPr>
        <p:blipFill>
          <a:blip r:embed="rId3"/>
          <a:stretch/>
        </p:blipFill>
        <p:spPr>
          <a:xfrm>
            <a:off x="6102360" y="1295280"/>
            <a:ext cx="3720960" cy="21877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0" descr="截图1300550691.jpg"/>
          <p:cNvPicPr/>
          <p:nvPr/>
        </p:nvPicPr>
        <p:blipFill>
          <a:blip r:embed="rId4"/>
          <a:stretch/>
        </p:blipFill>
        <p:spPr>
          <a:xfrm>
            <a:off x="6102360" y="3816360"/>
            <a:ext cx="3743280" cy="22226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11" descr="截图1300550704.jpg"/>
          <p:cNvPicPr/>
          <p:nvPr/>
        </p:nvPicPr>
        <p:blipFill>
          <a:blip r:embed="rId5"/>
          <a:stretch/>
        </p:blipFill>
        <p:spPr>
          <a:xfrm>
            <a:off x="3257640" y="2558880"/>
            <a:ext cx="3776400" cy="2214720"/>
          </a:xfrm>
          <a:prstGeom prst="rect">
            <a:avLst/>
          </a:prstGeom>
          <a:ln w="0">
            <a:noFill/>
          </a:ln>
        </p:spPr>
      </p:pic>
      <p:sp>
        <p:nvSpPr>
          <p:cNvPr id="167" name="圆角矩形标注 12"/>
          <p:cNvSpPr/>
          <p:nvPr/>
        </p:nvSpPr>
        <p:spPr>
          <a:xfrm>
            <a:off x="701640" y="647640"/>
            <a:ext cx="1401840" cy="5446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华文行楷"/>
              </a:rPr>
              <a:t>美甲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标注 13"/>
          <p:cNvSpPr/>
          <p:nvPr/>
        </p:nvSpPr>
        <p:spPr>
          <a:xfrm>
            <a:off x="8209080" y="382680"/>
            <a:ext cx="1403280" cy="6109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华文行楷"/>
              </a:rPr>
              <a:t>上网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形标注 14"/>
          <p:cNvSpPr/>
          <p:nvPr/>
        </p:nvSpPr>
        <p:spPr>
          <a:xfrm>
            <a:off x="8373960" y="3579840"/>
            <a:ext cx="1650960" cy="61272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Franklin Gothic Book"/>
                <a:ea typeface="华文行楷"/>
              </a:rPr>
              <a:t>游乐园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形标注 15"/>
          <p:cNvSpPr/>
          <p:nvPr/>
        </p:nvSpPr>
        <p:spPr>
          <a:xfrm>
            <a:off x="3917880" y="4941720"/>
            <a:ext cx="1981440" cy="81612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Book"/>
                <a:ea typeface="华文行楷"/>
              </a:rPr>
              <a:t>擦鞋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标注 16"/>
          <p:cNvSpPr/>
          <p:nvPr/>
        </p:nvSpPr>
        <p:spPr>
          <a:xfrm>
            <a:off x="4230720" y="2016000"/>
            <a:ext cx="1649520" cy="6130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行楷"/>
              </a:rPr>
              <a:t>等餐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文本占位符 2" descr=""/>
          <p:cNvPicPr/>
          <p:nvPr/>
        </p:nvPicPr>
        <p:blipFill>
          <a:blip r:embed="rId1"/>
          <a:stretch/>
        </p:blipFill>
        <p:spPr>
          <a:xfrm>
            <a:off x="3294000" y="3887640"/>
            <a:ext cx="3319560" cy="2054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8360" y="-360"/>
            <a:ext cx="97869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行楷"/>
              </a:rPr>
              <a:t>二、互动营销篇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7760" y="1130040"/>
            <a:ext cx="93423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943440" y="1800360"/>
            <a:ext cx="2806560" cy="1739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110360" y="1655640"/>
            <a:ext cx="2805120" cy="2082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967440" y="3960720"/>
            <a:ext cx="2889360" cy="1943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485640" y="1295280"/>
            <a:ext cx="2063880" cy="693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2520" y="2082960"/>
            <a:ext cx="3713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泊车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擦车（周一至周五中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瓜子、茶水（饮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水果、点心（爆米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报纸、杂志、上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扑克、跳棋、军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擦鞋、美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儿童专区、专人陪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宝宝蛋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84080" y="1946160"/>
            <a:ext cx="346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人送上围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眼镜布、头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包手机的塑料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定时送毛巾、续饮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帮忙下菜、捞菜、剥虾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洗手间专人伺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享受免费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现场抻面表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43360" y="1198440"/>
            <a:ext cx="25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海底捞提供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华文行楷"/>
              </a:rPr>
              <a:t>“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  <a:ea typeface="华文行楷"/>
              </a:rPr>
              <a:t>地球人拒绝不了”的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2664000"/>
            <a:ext cx="21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行楷"/>
              </a:rPr>
              <a:t>海底捞创始人张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38654"/>
          <a:stretch/>
        </p:blipFill>
        <p:spPr>
          <a:xfrm>
            <a:off x="7399440" y="1008000"/>
            <a:ext cx="2394000" cy="1614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84080" y="790560"/>
            <a:ext cx="2229120" cy="747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238720" y="3103560"/>
            <a:ext cx="46195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7280" y="1198440"/>
            <a:ext cx="92505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细黑"/>
                <a:ea typeface="华文行楷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华文细黑"/>
                <a:ea typeface="华文行楷"/>
              </a:rPr>
              <a:t>客人是一桌一桌抓的</a:t>
            </a:r>
            <a:r>
              <a:rPr b="1" lang="en-US" sz="2000" spc="-1" strike="noStrike">
                <a:solidFill>
                  <a:srgbClr val="ffffff"/>
                </a:solidFill>
                <a:latin typeface="华文细黑"/>
                <a:ea typeface="华文行楷"/>
              </a:rPr>
              <a:t>——</a:t>
            </a:r>
            <a:r>
              <a:rPr b="1" lang="zh-CN" sz="2000" spc="-1" strike="noStrike">
                <a:solidFill>
                  <a:srgbClr val="ffffff"/>
                </a:solidFill>
                <a:latin typeface="华文细黑"/>
                <a:ea typeface="华文行楷"/>
              </a:rPr>
              <a:t>张勇”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640" y="1584000"/>
            <a:ext cx="934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行楷"/>
              </a:rPr>
              <a:t>个性化服务，高档服务平民化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行楷"/>
              </a:rPr>
              <a:t>力求在细节上做到完美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行楷"/>
              </a:rPr>
              <a:t>亲情化服务，把顾客当家人看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行楷"/>
              </a:rPr>
              <a:t>将服务上升到人性需求的层面上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8" name=""/>
          <p:cNvSpPr/>
          <p:nvPr/>
        </p:nvSpPr>
        <p:spPr>
          <a:xfrm>
            <a:off x="7300800" y="1811160"/>
            <a:ext cx="2641680" cy="1155960"/>
          </a:xfrm>
          <a:prstGeom prst="wedgeRoundRectCallout">
            <a:avLst>
              <a:gd name="adj1" fmla="val -51652"/>
              <a:gd name="adj2" fmla="val 121856"/>
              <a:gd name="adj3" fmla="val 16667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服务差异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3680" y="395280"/>
            <a:ext cx="99536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微软雅黑"/>
              </a:rPr>
              <a:t>服务利润链模型</a:t>
            </a:r>
            <a:endParaRPr b="0" lang="en-US" sz="1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468440" y="4862520"/>
            <a:ext cx="835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239760" y="1219320"/>
            <a:ext cx="9909000" cy="34606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95120" y="1900080"/>
            <a:ext cx="1376640" cy="8146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91000" y="1938240"/>
            <a:ext cx="1347840" cy="7509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09720" y="1677960"/>
            <a:ext cx="1063800" cy="1235160"/>
          </a:xfrm>
          <a:prstGeom prst="rect">
            <a:avLst/>
          </a:prstGeom>
          <a:noFill/>
          <a:ln w="28440">
            <a:solidFill>
              <a:srgbClr val="85dfd0"/>
            </a:solidFill>
            <a:miter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831160" y="1406520"/>
            <a:ext cx="1243080" cy="1765440"/>
          </a:xfrm>
          <a:prstGeom prst="rect">
            <a:avLst/>
          </a:prstGeom>
          <a:noFill/>
          <a:ln w="28440">
            <a:solidFill>
              <a:srgbClr val="85dfd0"/>
            </a:solidFill>
            <a:miter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05840" y="1765440"/>
            <a:ext cx="1211040" cy="1025280"/>
          </a:xfrm>
          <a:prstGeom prst="rect">
            <a:avLst/>
          </a:prstGeom>
          <a:noFill/>
          <a:ln w="28440">
            <a:solidFill>
              <a:srgbClr val="85dfd0"/>
            </a:solidFill>
            <a:miter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79440" y="4873680"/>
            <a:ext cx="80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17b"/>
                </a:solidFill>
                <a:latin typeface="Arial"/>
                <a:ea typeface="华文行楷"/>
              </a:rPr>
              <a:t>海底捞的文化逻辑链：把员工当成家里人</a:t>
            </a:r>
            <a:r>
              <a:rPr b="1" lang="en-US" sz="2400" spc="-1" strike="noStrike">
                <a:solidFill>
                  <a:srgbClr val="04617b"/>
                </a:solidFill>
                <a:latin typeface="Arial"/>
                <a:ea typeface="华文行楷"/>
              </a:rPr>
              <a:t>——</a:t>
            </a:r>
            <a:r>
              <a:rPr b="1" lang="zh-CN" sz="2400" spc="-1" strike="noStrike">
                <a:solidFill>
                  <a:srgbClr val="04617b"/>
                </a:solidFill>
                <a:latin typeface="Arial"/>
                <a:ea typeface="华文行楷"/>
              </a:rPr>
              <a:t>员工把公司当成家</a:t>
            </a:r>
            <a:r>
              <a:rPr b="1" lang="en-US" sz="2400" spc="-1" strike="noStrike">
                <a:solidFill>
                  <a:srgbClr val="04617b"/>
                </a:solidFill>
                <a:latin typeface="Arial"/>
                <a:ea typeface="华文行楷"/>
              </a:rPr>
              <a:t>——</a:t>
            </a:r>
            <a:r>
              <a:rPr b="1" lang="zh-CN" sz="2400" spc="-1" strike="noStrike">
                <a:solidFill>
                  <a:srgbClr val="04617b"/>
                </a:solidFill>
                <a:latin typeface="Arial"/>
                <a:ea typeface="华文行楷"/>
              </a:rPr>
              <a:t>员工用心为顾客服务</a:t>
            </a:r>
            <a:r>
              <a:rPr b="1" lang="en-US" sz="2400" spc="-1" strike="noStrike">
                <a:solidFill>
                  <a:srgbClr val="04617b"/>
                </a:solidFill>
                <a:latin typeface="Arial"/>
                <a:ea typeface="华文行楷"/>
              </a:rPr>
              <a:t>——</a:t>
            </a:r>
            <a:r>
              <a:rPr b="1" lang="zh-CN" sz="2400" spc="-1" strike="noStrike">
                <a:solidFill>
                  <a:srgbClr val="04617b"/>
                </a:solidFill>
                <a:latin typeface="Arial"/>
                <a:ea typeface="华文行楷"/>
              </a:rPr>
              <a:t>忠诚顾客再次消费和口碑推广</a:t>
            </a:r>
            <a:r>
              <a:rPr b="1" lang="en-US" sz="2400" spc="-1" strike="noStrike">
                <a:solidFill>
                  <a:srgbClr val="04617b"/>
                </a:solidFill>
                <a:latin typeface="Arial"/>
                <a:ea typeface="华文行楷"/>
              </a:rPr>
              <a:t>——</a:t>
            </a:r>
            <a:r>
              <a:rPr b="1" lang="zh-CN" sz="2400" spc="-1" strike="noStrike">
                <a:solidFill>
                  <a:srgbClr val="04617b"/>
                </a:solidFill>
                <a:latin typeface="Arial"/>
                <a:ea typeface="华文行楷"/>
              </a:rPr>
              <a:t>企业获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71160" y="0"/>
            <a:ext cx="8993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海底捞的机制</a:t>
            </a: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947880" y="1538280"/>
            <a:ext cx="97628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1525680" y="4805280"/>
            <a:ext cx="8291520" cy="40824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确保员工之间、上下级之间的公平、平等关系，使所有人都为同一目标而努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1525680" y="5349960"/>
            <a:ext cx="8291520" cy="39528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营造优良的生活环境，关心员工的日常生活，增强了员工的自尊及自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1525680" y="5826240"/>
            <a:ext cx="8291520" cy="40644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提供多种职业发展通道，以忠于家庭、忠于爱情、爱护员工为挑选干部标准</a:t>
            </a:r>
            <a:r>
              <a:rPr b="0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2516040" y="2558880"/>
            <a:ext cx="997200" cy="47628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能  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1"/>
          <p:cNvSpPr/>
          <p:nvPr/>
        </p:nvSpPr>
        <p:spPr>
          <a:xfrm>
            <a:off x="4743360" y="2627280"/>
            <a:ext cx="997200" cy="40788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激   励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2"/>
          <p:cNvSpPr/>
          <p:nvPr/>
        </p:nvSpPr>
        <p:spPr>
          <a:xfrm>
            <a:off x="7219800" y="2627280"/>
            <a:ext cx="997200" cy="40788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  会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04840" y="3034440"/>
            <a:ext cx="9970920" cy="1431360"/>
            <a:chOff x="204840" y="3034440"/>
            <a:chExt cx="9970920" cy="1431360"/>
          </a:xfrm>
        </p:grpSpPr>
        <p:sp>
          <p:nvSpPr>
            <p:cNvPr id="207" name="AutoShape 12"/>
            <p:cNvSpPr/>
            <p:nvPr/>
          </p:nvSpPr>
          <p:spPr>
            <a:xfrm>
              <a:off x="204840" y="3427560"/>
              <a:ext cx="1188720" cy="102996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招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推荐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3"/>
            <p:cNvSpPr/>
            <p:nvPr/>
          </p:nvSpPr>
          <p:spPr>
            <a:xfrm>
              <a:off x="1450440" y="3417120"/>
              <a:ext cx="1188720" cy="102996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内部晋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4"/>
            <p:cNvSpPr/>
            <p:nvPr/>
          </p:nvSpPr>
          <p:spPr>
            <a:xfrm>
              <a:off x="2708640" y="3423240"/>
              <a:ext cx="1188720" cy="102996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师徒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集中导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培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5"/>
            <p:cNvSpPr/>
            <p:nvPr/>
          </p:nvSpPr>
          <p:spPr>
            <a:xfrm>
              <a:off x="3954240" y="3429720"/>
              <a:ext cx="1188720" cy="102996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轮岗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6"/>
            <p:cNvSpPr/>
            <p:nvPr/>
          </p:nvSpPr>
          <p:spPr>
            <a:xfrm>
              <a:off x="5224320" y="3433680"/>
              <a:ext cx="1188720" cy="102996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授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打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换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免单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7"/>
            <p:cNvSpPr/>
            <p:nvPr/>
          </p:nvSpPr>
          <p:spPr>
            <a:xfrm>
              <a:off x="6482880" y="3423240"/>
              <a:ext cx="1188720" cy="102996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高薪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员工持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计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8"/>
            <p:cNvSpPr/>
            <p:nvPr/>
          </p:nvSpPr>
          <p:spPr>
            <a:xfrm>
              <a:off x="7728480" y="3429720"/>
              <a:ext cx="1188720" cy="102996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灵活考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制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9"/>
            <p:cNvSpPr/>
            <p:nvPr/>
          </p:nvSpPr>
          <p:spPr>
            <a:xfrm>
              <a:off x="8987040" y="3435840"/>
              <a:ext cx="1188720" cy="102996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福利保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免费公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员工保险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AutoShape 23"/>
            <p:cNvCxnSpPr>
              <a:stCxn id="207" idx="0"/>
              <a:endCxn id="203" idx="2"/>
            </p:cNvCxnSpPr>
            <p:nvPr/>
          </p:nvCxnSpPr>
          <p:spPr>
            <a:xfrm flipV="1">
              <a:off x="798840" y="3044520"/>
              <a:ext cx="1952280" cy="382680"/>
            </a:xfrm>
            <a:prstGeom prst="straightConnector1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16" name="AutoShape 24"/>
            <p:cNvCxnSpPr>
              <a:stCxn id="208" idx="0"/>
              <a:endCxn id="203" idx="2"/>
            </p:cNvCxnSpPr>
            <p:nvPr/>
          </p:nvCxnSpPr>
          <p:spPr>
            <a:xfrm flipV="1">
              <a:off x="2044440" y="3044880"/>
              <a:ext cx="706680" cy="372240"/>
            </a:xfrm>
            <a:prstGeom prst="straightConnector1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17" name="AutoShape 25"/>
            <p:cNvCxnSpPr>
              <a:stCxn id="209" idx="0"/>
              <a:endCxn id="203" idx="2"/>
            </p:cNvCxnSpPr>
            <p:nvPr/>
          </p:nvCxnSpPr>
          <p:spPr>
            <a:xfrm flipH="1" flipV="1">
              <a:off x="2750400" y="3044880"/>
              <a:ext cx="552960" cy="378720"/>
            </a:xfrm>
            <a:prstGeom prst="straightConnector1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18" name="AutoShape 26"/>
            <p:cNvCxnSpPr>
              <a:stCxn id="210" idx="0"/>
              <a:endCxn id="203" idx="2"/>
            </p:cNvCxnSpPr>
            <p:nvPr/>
          </p:nvCxnSpPr>
          <p:spPr>
            <a:xfrm flipH="1" flipV="1">
              <a:off x="2750400" y="3044520"/>
              <a:ext cx="1798560" cy="384840"/>
            </a:xfrm>
            <a:prstGeom prst="straightConnector1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19" name="AutoShape 27"/>
            <p:cNvCxnSpPr>
              <a:stCxn id="208" idx="0"/>
              <a:endCxn id="204" idx="2"/>
            </p:cNvCxnSpPr>
            <p:nvPr/>
          </p:nvCxnSpPr>
          <p:spPr>
            <a:xfrm flipV="1">
              <a:off x="2044800" y="3034440"/>
              <a:ext cx="3102480" cy="382680"/>
            </a:xfrm>
            <a:prstGeom prst="straightConnector1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0" name="AutoShape 28"/>
            <p:cNvCxnSpPr>
              <a:stCxn id="211" idx="0"/>
              <a:endCxn id="204" idx="2"/>
            </p:cNvCxnSpPr>
            <p:nvPr/>
          </p:nvCxnSpPr>
          <p:spPr>
            <a:xfrm flipH="1" flipV="1">
              <a:off x="5146200" y="3034440"/>
              <a:ext cx="672480" cy="399240"/>
            </a:xfrm>
            <a:prstGeom prst="straightConnector1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1" name="AutoShape 29"/>
            <p:cNvCxnSpPr>
              <a:stCxn id="212" idx="0"/>
              <a:endCxn id="204" idx="2"/>
            </p:cNvCxnSpPr>
            <p:nvPr/>
          </p:nvCxnSpPr>
          <p:spPr>
            <a:xfrm flipH="1" flipV="1">
              <a:off x="5146200" y="3034800"/>
              <a:ext cx="1931040" cy="388800"/>
            </a:xfrm>
            <a:prstGeom prst="straightConnector1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2" name="AutoShape 30"/>
            <p:cNvCxnSpPr>
              <a:stCxn id="214" idx="0"/>
              <a:endCxn id="204" idx="2"/>
            </p:cNvCxnSpPr>
            <p:nvPr/>
          </p:nvCxnSpPr>
          <p:spPr>
            <a:xfrm flipH="1" flipV="1">
              <a:off x="5146200" y="3034440"/>
              <a:ext cx="4435200" cy="401400"/>
            </a:xfrm>
            <a:prstGeom prst="straightConnector1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3" name="AutoShape 31"/>
            <p:cNvCxnSpPr>
              <a:stCxn id="208" idx="0"/>
              <a:endCxn id="205" idx="2"/>
            </p:cNvCxnSpPr>
            <p:nvPr/>
          </p:nvCxnSpPr>
          <p:spPr>
            <a:xfrm flipV="1">
              <a:off x="2044800" y="3040920"/>
              <a:ext cx="5910480" cy="376560"/>
            </a:xfrm>
            <a:prstGeom prst="straightConnector1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4" name="AutoShape 32"/>
            <p:cNvCxnSpPr>
              <a:endCxn id="205" idx="2"/>
            </p:cNvCxnSpPr>
            <p:nvPr/>
          </p:nvCxnSpPr>
          <p:spPr>
            <a:xfrm flipV="1">
              <a:off x="3825720" y="3040920"/>
              <a:ext cx="4128840" cy="388800"/>
            </a:xfrm>
            <a:prstGeom prst="straightConnector1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AutoShape 33"/>
            <p:cNvCxnSpPr>
              <a:stCxn id="213" idx="0"/>
              <a:endCxn id="205" idx="2"/>
            </p:cNvCxnSpPr>
            <p:nvPr/>
          </p:nvCxnSpPr>
          <p:spPr>
            <a:xfrm flipH="1" flipV="1">
              <a:off x="7953840" y="3040920"/>
              <a:ext cx="369000" cy="388800"/>
            </a:xfrm>
            <a:prstGeom prst="straightConnector1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6" name="AutoShape 34"/>
            <p:cNvCxnSpPr>
              <a:stCxn id="211" idx="0"/>
              <a:endCxn id="205" idx="2"/>
            </p:cNvCxnSpPr>
            <p:nvPr/>
          </p:nvCxnSpPr>
          <p:spPr>
            <a:xfrm flipV="1">
              <a:off x="5818680" y="3040920"/>
              <a:ext cx="2136240" cy="393120"/>
            </a:xfrm>
            <a:prstGeom prst="straightConnector1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</p:cxnSp>
      </p:grpSp>
      <p:sp>
        <p:nvSpPr>
          <p:cNvPr id="227" name="AutoShape 35"/>
          <p:cNvSpPr/>
          <p:nvPr/>
        </p:nvSpPr>
        <p:spPr>
          <a:xfrm>
            <a:off x="4413240" y="1743120"/>
            <a:ext cx="2227320" cy="33984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员工 满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6"/>
          <p:cNvSpPr/>
          <p:nvPr/>
        </p:nvSpPr>
        <p:spPr>
          <a:xfrm>
            <a:off x="4330800" y="1471680"/>
            <a:ext cx="2392200" cy="20304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快乐工作微笑服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7"/>
          <p:cNvSpPr/>
          <p:nvPr/>
        </p:nvSpPr>
        <p:spPr>
          <a:xfrm>
            <a:off x="4002120" y="993600"/>
            <a:ext cx="3052800" cy="34164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顾客 满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AutoShape 38"/>
          <p:cNvCxnSpPr/>
          <p:nvPr/>
        </p:nvCxnSpPr>
        <p:spPr>
          <a:xfrm flipV="1">
            <a:off x="2771640" y="2275920"/>
            <a:ext cx="1796400" cy="432360"/>
          </a:xfrm>
          <a:prstGeom prst="straightConnector1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31" name="AutoShape 39"/>
          <p:cNvCxnSpPr/>
          <p:nvPr/>
        </p:nvCxnSpPr>
        <p:spPr>
          <a:xfrm flipV="1">
            <a:off x="4572000" y="2204280"/>
            <a:ext cx="72000" cy="554760"/>
          </a:xfrm>
          <a:prstGeom prst="straightConnector1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32" name="AutoShape 40"/>
          <p:cNvCxnSpPr/>
          <p:nvPr/>
        </p:nvCxnSpPr>
        <p:spPr>
          <a:xfrm flipH="1" flipV="1">
            <a:off x="4715640" y="2276280"/>
            <a:ext cx="1799640" cy="483120"/>
          </a:xfrm>
          <a:prstGeom prst="straightConnector1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33" name="Line 41"/>
          <p:cNvSpPr/>
          <p:nvPr/>
        </p:nvSpPr>
        <p:spPr>
          <a:xfrm flipV="1">
            <a:off x="241200" y="4668840"/>
            <a:ext cx="102362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2"/>
          <p:cNvSpPr/>
          <p:nvPr/>
        </p:nvSpPr>
        <p:spPr>
          <a:xfrm>
            <a:off x="0" y="2151000"/>
            <a:ext cx="10236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4"/>
          <p:cNvSpPr/>
          <p:nvPr/>
        </p:nvSpPr>
        <p:spPr>
          <a:xfrm>
            <a:off x="452520" y="1266840"/>
            <a:ext cx="109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现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5"/>
          <p:cNvSpPr/>
          <p:nvPr/>
        </p:nvSpPr>
        <p:spPr>
          <a:xfrm>
            <a:off x="339840" y="5322960"/>
            <a:ext cx="109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华文行楷"/>
              </a:rPr>
              <a:t>文化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0"/>
          <p:cNvSpPr/>
          <p:nvPr/>
        </p:nvSpPr>
        <p:spPr>
          <a:xfrm>
            <a:off x="452520" y="2627280"/>
            <a:ext cx="109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制度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714920" y="3138480"/>
                <a:ext cx="131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行楷"/>
              </a:rPr>
              <a:t>三、内部营销篇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99840" y="1537920"/>
            <a:ext cx="93423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807080" y="2664000"/>
            <a:ext cx="5094000" cy="3149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53960" y="1216080"/>
            <a:ext cx="622476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什么是创新？与众不同就是创新，因此海底捞的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‘把人当人对待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‘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是创新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黄铁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135080" y="4176720"/>
            <a:ext cx="309564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新魏"/>
              </a:rPr>
              <a:t>每个服务员都是管理者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4286160" y="2919240"/>
            <a:ext cx="2506680" cy="1476720"/>
          </a:xfrm>
          <a:prstGeom prst="octagon">
            <a:avLst>
              <a:gd name="adj" fmla="val 29287"/>
            </a:avLst>
          </a:prstGeom>
          <a:solidFill>
            <a:srgbClr val="ff6600"/>
          </a:solidFill>
          <a:ln w="6480">
            <a:solidFill>
              <a:srgbClr val="ffffff"/>
            </a:solidFill>
            <a:miter/>
          </a:ln>
          <a:effectLst>
            <a:outerShdw dist="17819" dir="2700000" blurRad="0" rotWithShape="0">
              <a:srgbClr val="e2d7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6"/>
          <p:cNvSpPr/>
          <p:nvPr/>
        </p:nvSpPr>
        <p:spPr>
          <a:xfrm>
            <a:off x="1971720" y="1550880"/>
            <a:ext cx="2693880" cy="1728720"/>
          </a:xfrm>
          <a:prstGeom prst="pi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7"/>
          <p:cNvSpPr/>
          <p:nvPr/>
        </p:nvSpPr>
        <p:spPr>
          <a:xfrm>
            <a:off x="1935000" y="2828880"/>
            <a:ext cx="2178360" cy="1655640"/>
          </a:xfrm>
          <a:prstGeom prst="pi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8"/>
          <p:cNvSpPr/>
          <p:nvPr/>
        </p:nvSpPr>
        <p:spPr>
          <a:xfrm>
            <a:off x="1979640" y="4059360"/>
            <a:ext cx="2685960" cy="1726920"/>
          </a:xfrm>
          <a:prstGeom prst="pi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9"/>
          <p:cNvSpPr/>
          <p:nvPr/>
        </p:nvSpPr>
        <p:spPr>
          <a:xfrm>
            <a:off x="3962520" y="4503600"/>
            <a:ext cx="3155760" cy="1282680"/>
          </a:xfrm>
          <a:prstGeom prst="pi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0"/>
          <p:cNvSpPr/>
          <p:nvPr/>
        </p:nvSpPr>
        <p:spPr>
          <a:xfrm rot="10800000">
            <a:off x="3962520" y="1537920"/>
            <a:ext cx="3155760" cy="1284120"/>
          </a:xfrm>
          <a:prstGeom prst="pi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"/>
          <p:cNvSpPr/>
          <p:nvPr/>
        </p:nvSpPr>
        <p:spPr>
          <a:xfrm flipH="1">
            <a:off x="6397560" y="1550880"/>
            <a:ext cx="2695680" cy="1728720"/>
          </a:xfrm>
          <a:prstGeom prst="pi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2"/>
          <p:cNvSpPr/>
          <p:nvPr/>
        </p:nvSpPr>
        <p:spPr>
          <a:xfrm flipH="1">
            <a:off x="6950160" y="2828880"/>
            <a:ext cx="2178000" cy="1655640"/>
          </a:xfrm>
          <a:prstGeom prst="pi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3"/>
          <p:cNvSpPr/>
          <p:nvPr/>
        </p:nvSpPr>
        <p:spPr>
          <a:xfrm flipH="1">
            <a:off x="6396840" y="4046400"/>
            <a:ext cx="2685960" cy="1729080"/>
          </a:xfrm>
          <a:prstGeom prst="pi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 flipH="1">
            <a:off x="4404600" y="3476880"/>
            <a:ext cx="2266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海底捞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 flipH="1">
            <a:off x="4514040" y="2046240"/>
            <a:ext cx="204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培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 flipH="1">
            <a:off x="4514040" y="5010120"/>
            <a:ext cx="204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监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7"/>
          <p:cNvSpPr/>
          <p:nvPr/>
        </p:nvSpPr>
        <p:spPr>
          <a:xfrm flipH="1">
            <a:off x="7023960" y="3521880"/>
            <a:ext cx="204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标准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8"/>
          <p:cNvSpPr/>
          <p:nvPr/>
        </p:nvSpPr>
        <p:spPr>
          <a:xfrm flipH="1">
            <a:off x="2017800" y="3521880"/>
            <a:ext cx="204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授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 flipH="1">
            <a:off x="2323440" y="4573440"/>
            <a:ext cx="204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考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 flipH="1">
            <a:off x="6694560" y="4573440"/>
            <a:ext cx="204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创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 flipH="1">
            <a:off x="2323440" y="2473200"/>
            <a:ext cx="204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用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2"/>
          <p:cNvSpPr/>
          <p:nvPr/>
        </p:nvSpPr>
        <p:spPr>
          <a:xfrm flipH="1">
            <a:off x="6694560" y="2473200"/>
            <a:ext cx="204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晋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855800" y="1538280"/>
            <a:ext cx="7224840" cy="42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039080" y="2952720"/>
            <a:ext cx="2349360" cy="2900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2520" y="448920"/>
            <a:ext cx="97869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行楷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行楷"/>
              </a:rPr>
              <a:t>张氏管理”带来了什么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18840" y="1606320"/>
            <a:ext cx="9582120" cy="44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利：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人才流失率、员工对企业的高忠诚度、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传“神”的师徒制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弊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无系统的管理体系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师傅带徒弟，过于个性化，无标准、规范化的服务模式不可复制，限制企业发展速度与规模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考核制度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缺陷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采用关键事件法；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业绩指标考核；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华文行楷"/>
                <a:ea typeface="华文行楷"/>
              </a:rPr>
              <a:t>      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奖励制度</a:t>
            </a:r>
            <a:r>
              <a:rPr b="0" lang="zh-CN" sz="1800" spc="-1" strike="noStrike">
                <a:solidFill>
                  <a:srgbClr val="002060"/>
                </a:solidFill>
                <a:latin typeface="华文行楷"/>
                <a:ea typeface="华文行楷"/>
              </a:rPr>
              <a:t>的问题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奖励过于泛滥，而且无具体标准导致成本很大，盈利少。不利于企业规模扩张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9200" y="1537920"/>
            <a:ext cx="826128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行楷"/>
              </a:rPr>
              <a:t>海底捞成功的原因：</a:t>
            </a:r>
            <a:endParaRPr b="0" lang="en-US" sz="16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68" name=""/>
          <p:cNvSpPr/>
          <p:nvPr/>
        </p:nvSpPr>
        <p:spPr>
          <a:xfrm>
            <a:off x="2214720" y="2016000"/>
            <a:ext cx="69022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对人性的直觉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对农民工群体的直觉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对餐厅服务员工作的直觉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对成千上万不同顾客的直觉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哈佛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商业评论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5640" y="792000"/>
            <a:ext cx="6599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华文行楷"/>
                <a:ea typeface="华文行楷"/>
              </a:rPr>
              <a:t>Part</a:t>
            </a:r>
            <a:r>
              <a:rPr b="0" lang="zh-CN" sz="4400" spc="-1" strike="noStrike">
                <a:solidFill>
                  <a:srgbClr val="04617b"/>
                </a:solidFill>
                <a:latin typeface="华文行楷"/>
                <a:ea typeface="华文行楷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华文行楷"/>
                <a:ea typeface="华文行楷"/>
              </a:rPr>
              <a:t>3:</a:t>
            </a:r>
            <a:r>
              <a:rPr b="0" lang="zh-CN" sz="4400" spc="-1" strike="noStrike">
                <a:solidFill>
                  <a:srgbClr val="04617b"/>
                </a:solidFill>
                <a:latin typeface="华文行楷"/>
                <a:ea typeface="华文行楷"/>
              </a:rPr>
              <a:t>案例思考与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5680" y="1811160"/>
            <a:ext cx="767232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79440" y="1606680"/>
            <a:ext cx="7921440" cy="4014720"/>
            <a:chOff x="1279440" y="1606680"/>
            <a:chExt cx="7921440" cy="4014720"/>
          </a:xfrm>
        </p:grpSpPr>
        <p:sp>
          <p:nvSpPr>
            <p:cNvPr id="107" name=""/>
            <p:cNvSpPr/>
            <p:nvPr/>
          </p:nvSpPr>
          <p:spPr>
            <a:xfrm>
              <a:off x="1279440" y="1606680"/>
              <a:ext cx="7921440" cy="401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2" descr=""/>
            <p:cNvPicPr/>
            <p:nvPr/>
          </p:nvPicPr>
          <p:blipFill>
            <a:blip r:embed="rId1"/>
            <a:stretch/>
          </p:blipFill>
          <p:spPr>
            <a:xfrm>
              <a:off x="1279440" y="1674000"/>
              <a:ext cx="7920000" cy="387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022720" y="1440000"/>
            <a:ext cx="247320" cy="4217400"/>
            <a:chOff x="5022720" y="1440000"/>
            <a:chExt cx="247320" cy="4217400"/>
          </a:xfrm>
        </p:grpSpPr>
        <p:sp>
          <p:nvSpPr>
            <p:cNvPr id="110" name=""/>
            <p:cNvSpPr/>
            <p:nvPr/>
          </p:nvSpPr>
          <p:spPr>
            <a:xfrm>
              <a:off x="5022720" y="1513080"/>
              <a:ext cx="247320" cy="4144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22720" y="1440000"/>
              <a:ext cx="247320" cy="14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38720" y="1471680"/>
            <a:ext cx="247320" cy="4217400"/>
            <a:chOff x="5238720" y="1471680"/>
            <a:chExt cx="247320" cy="4217400"/>
          </a:xfrm>
        </p:grpSpPr>
        <p:sp>
          <p:nvSpPr>
            <p:cNvPr id="113" name=""/>
            <p:cNvSpPr/>
            <p:nvPr/>
          </p:nvSpPr>
          <p:spPr>
            <a:xfrm>
              <a:off x="5238720" y="1544760"/>
              <a:ext cx="247320" cy="41443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38720" y="1471680"/>
              <a:ext cx="247320" cy="1483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286000" y="36036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行楷"/>
              </a:rPr>
              <a:t>海底捞成功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21965E-006 L -0.36614 -0.00508 E">
                                      <p:cBhvr>
                                        <p:cTn id="11" dur="3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21965E-006 L 0.37413 -0.00508 E">
                                      <p:cBhvr>
                                        <p:cTn id="15" dur="3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行楷"/>
              </a:rPr>
              <a:t>组员分工</a:t>
            </a:r>
            <a:br>
              <a:rPr sz="2000"/>
            </a:b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行楷"/>
              </a:rPr>
              <a:t>09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行楷"/>
              </a:rPr>
              <a:t>市营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行楷"/>
              </a:rPr>
              <a:t>4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行楷"/>
              </a:rPr>
              <a:t>班     服务营销第六小组</a:t>
            </a:r>
            <a:endParaRPr b="0" lang="en-US" sz="1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4360" y="1223640"/>
            <a:ext cx="93423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讲；杨小燕          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制作、内容整合：冯福连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组长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背景分析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蔡土超      外部营销：朱淑凌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互动营销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;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沈琳峰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内部营销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陈国清  、庄超明 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思考与总结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陈旭飞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资料搜集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叶伟杰  、黄展蒲 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9320" y="944640"/>
            <a:ext cx="95439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宋体"/>
              </a:rPr>
              <a:t>合照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未知"/>
          <p:cNvSpPr/>
          <p:nvPr/>
        </p:nvSpPr>
        <p:spPr>
          <a:xfrm>
            <a:off x="2328840" y="4016520"/>
            <a:ext cx="5194440" cy="536400"/>
          </a:xfrm>
          <a:prstGeom prst="pie">
            <a:avLst/>
          </a:prstGeom>
          <a:solidFill>
            <a:srgbClr val="009dd9"/>
          </a:solidFill>
          <a:ln w="28440">
            <a:solidFill>
              <a:srgbClr val="dbf5f9"/>
            </a:solidFill>
            <a:miter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1482840" y="4003560"/>
            <a:ext cx="698400" cy="538200"/>
          </a:xfrm>
          <a:prstGeom prst="pie">
            <a:avLst/>
          </a:prstGeom>
          <a:solidFill>
            <a:srgbClr val="009dd9"/>
          </a:solidFill>
          <a:ln w="28440">
            <a:solidFill>
              <a:srgbClr val="dbf5f9"/>
            </a:solidFill>
            <a:miter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2314440" y="2851200"/>
            <a:ext cx="5195880" cy="536400"/>
          </a:xfrm>
          <a:prstGeom prst="pie">
            <a:avLst/>
          </a:prstGeom>
          <a:solidFill>
            <a:srgbClr val="009dd9"/>
          </a:solidFill>
          <a:ln w="28440">
            <a:solidFill>
              <a:srgbClr val="dbf5f9"/>
            </a:solidFill>
            <a:miter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1467000" y="2863800"/>
            <a:ext cx="698400" cy="536760"/>
          </a:xfrm>
          <a:prstGeom prst="pie">
            <a:avLst/>
          </a:prstGeom>
          <a:solidFill>
            <a:srgbClr val="009dd9"/>
          </a:solidFill>
          <a:ln w="28440">
            <a:solidFill>
              <a:srgbClr val="dbf5f9"/>
            </a:solidFill>
            <a:miter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658960" y="2906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案例分析：营销三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2255760" y="1738440"/>
            <a:ext cx="5194440" cy="538200"/>
          </a:xfrm>
          <a:prstGeom prst="pie">
            <a:avLst/>
          </a:prstGeom>
          <a:solidFill>
            <a:srgbClr val="009dd9"/>
          </a:solidFill>
          <a:ln w="28440">
            <a:solidFill>
              <a:srgbClr val="dbf5f9"/>
            </a:solidFill>
            <a:miter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未知"/>
          <p:cNvSpPr/>
          <p:nvPr/>
        </p:nvSpPr>
        <p:spPr>
          <a:xfrm>
            <a:off x="1450800" y="1738440"/>
            <a:ext cx="698760" cy="538200"/>
          </a:xfrm>
          <a:prstGeom prst="pie">
            <a:avLst/>
          </a:prstGeom>
          <a:solidFill>
            <a:srgbClr val="009dd9"/>
          </a:solidFill>
          <a:ln w="28440">
            <a:solidFill>
              <a:srgbClr val="dbf5f9"/>
            </a:solidFill>
            <a:miter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13920"/>
            <a:ext cx="1047744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行楷"/>
              </a:rPr>
              <a:t>目录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2717640" y="1800360"/>
            <a:ext cx="41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案例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2716200" y="40798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案例思考与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1601640" y="1693800"/>
            <a:ext cx="349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649520" y="2903400"/>
            <a:ext cx="349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1682640" y="3983040"/>
            <a:ext cx="349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13920"/>
            <a:ext cx="97869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Part</a:t>
            </a: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1:</a:t>
            </a: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案例背景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886360" y="2317680"/>
            <a:ext cx="3670560" cy="2075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1640" y="1335240"/>
            <a:ext cx="8663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公司名称：四川海底捞餐饮股份有限公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成立时间：</a:t>
            </a:r>
            <a:r>
              <a:rPr b="0" lang="en-US" sz="2400" spc="-1" strike="noStrike">
                <a:solidFill>
                  <a:srgbClr val="1c1c1c"/>
                </a:solidFill>
                <a:latin typeface="华文行楷"/>
                <a:ea typeface="华文行楷"/>
              </a:rPr>
              <a:t>1994</a:t>
            </a:r>
            <a:r>
              <a:rPr b="0" lang="zh-CN" sz="2400" spc="-1" strike="noStrike">
                <a:solidFill>
                  <a:srgbClr val="1c1c1c"/>
                </a:solidFill>
                <a:latin typeface="华文行楷"/>
                <a:ea typeface="华文行楷"/>
              </a:rPr>
              <a:t>年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营业务：</a:t>
            </a:r>
            <a:r>
              <a:rPr b="0" lang="zh-CN" sz="2400" spc="-1" strike="noStrike">
                <a:solidFill>
                  <a:srgbClr val="1c1c1c"/>
                </a:solidFill>
                <a:latin typeface="华文行楷"/>
                <a:ea typeface="华文行楷"/>
              </a:rPr>
              <a:t>以经营川味火锅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经营理念：</a:t>
            </a:r>
            <a:r>
              <a:rPr b="0" lang="zh-CN" sz="2400" spc="-1" strike="noStrike">
                <a:solidFill>
                  <a:srgbClr val="1c1c1c"/>
                </a:solidFill>
                <a:latin typeface="华文行楷"/>
                <a:ea typeface="华文行楷"/>
              </a:rPr>
              <a:t>服务至上，顾客至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品牌理念：</a:t>
            </a:r>
            <a:r>
              <a:rPr b="0" lang="zh-CN" sz="2400" spc="-1" strike="noStrike">
                <a:solidFill>
                  <a:srgbClr val="1c1c1c"/>
                </a:solidFill>
                <a:latin typeface="华文行楷"/>
                <a:ea typeface="华文行楷"/>
              </a:rPr>
              <a:t>绿色，健康，营养，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经营范围：</a:t>
            </a:r>
            <a:r>
              <a:rPr b="0" lang="zh-CN" sz="2400" spc="-1" strike="noStrike">
                <a:solidFill>
                  <a:srgbClr val="1c1c1c"/>
                </a:solidFill>
                <a:latin typeface="华文行楷"/>
                <a:ea typeface="华文行楷"/>
              </a:rPr>
              <a:t>五十多家分店，覆盖北京、上海、天津、西安等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3960" y="518760"/>
            <a:ext cx="97869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行楷"/>
              </a:rPr>
              <a:t>海底捞是一家什么样的企业？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2920" y="1055520"/>
            <a:ext cx="9183600" cy="38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一家以 “变态”服务为特色的连锁火锅店；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一家选入哈佛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MBA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案例的优秀餐饮企业；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一家在简阳诞生，却在外省遍地开花的店；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一家无数人都想学，却没人能复制的公司；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一家值得研究、学习与借鉴的餐饮同行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C -0.03958 0.00717 -0.07899 0.01433 -0.09513 0.02104 C -0.11128 0.02775 -0.10138 0.03376 -0.0967 0.04 C -0.09201 0.04624 -0.07777 0.05503 -0.06666 0.05919 C -0.05555 0.06335 -0.04218 0.06289 -0.03003 0.06543 C -0.01788 0.06798 -0.01215 0.06936 0.00643 0.07399 C 0.025 0.07861 0.08212 0.08139 0.08108 0.09295 C 0.08004 0.10451 0.03993 0.12393 0 0.14358 E">
                                      <p:cBhvr>
                                        <p:cTn id="2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100"/>
                            </p:stCondLst>
                            <p:childTnLst>
                              <p:par>
                                <p:cTn id="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1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C -0.03958 0.00717 -0.07899 0.01433 -0.09513 0.02104 C -0.11128 0.02775 -0.10138 0.03376 -0.0967 0.04 C -0.09201 0.04624 -0.07777 0.05503 -0.06666 0.05919 C -0.05555 0.06335 -0.04218 0.06289 -0.03003 0.06543 C -0.01788 0.06798 -0.01215 0.06936 0.00643 0.07399 C 0.025 0.07861 0.08212 0.08139 0.08108 0.09295 C 0.08004 0.10451 0.03993 0.12393 0 0.14358 E">
                                      <p:cBhvr>
                                        <p:cTn id="3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10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1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C -0.03958 0.00717 -0.07899 0.01433 -0.09513 0.02104 C -0.11128 0.02775 -0.10138 0.03376 -0.0967 0.04 C -0.09201 0.04624 -0.07777 0.05503 -0.06666 0.05919 C -0.05555 0.06335 -0.04218 0.06289 -0.03003 0.06543 C -0.01788 0.06798 -0.01215 0.06936 0.00643 0.07399 C 0.025 0.07861 0.08212 0.08139 0.08108 0.09295 C 0.08004 0.10451 0.03993 0.12393 0 0.14358 E">
                                      <p:cBhvr>
                                        <p:cTn id="45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1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91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C -0.03958 0.00717 -0.07899 0.01433 -0.09513 0.02104 C -0.11128 0.02775 -0.10138 0.03376 -0.0967 0.04 C -0.09201 0.04624 -0.07777 0.05503 -0.06666 0.05919 C -0.05555 0.06335 -0.04218 0.06289 -0.03003 0.06543 C -0.01788 0.06798 -0.01215 0.06936 0.00643 0.07399 C 0.025 0.07861 0.08212 0.08139 0.08108 0.09295 C 0.08004 0.10451 0.03993 0.12393 0 0.14358 E">
                                      <p:cBhvr>
                                        <p:cTn id="54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100"/>
                            </p:stCondLst>
                            <p:childTnLst>
                              <p:par>
                                <p:cTn id="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C -0.03958 0.00717 -0.07899 0.01433 -0.09513 0.02104 C -0.11128 0.02775 -0.10138 0.03376 -0.0967 0.04 C -0.09201 0.04624 -0.07777 0.05503 -0.06666 0.05919 C -0.05555 0.06335 -0.04218 0.06289 -0.03003 0.06543 C -0.01788 0.06798 -0.01215 0.06936 0.00643 0.07399 C 0.025 0.07861 0.08212 0.08139 0.08108 0.09295 C 0.08004 0.10451 0.03993 0.12393 0 0.14358 E">
                                      <p:cBhvr>
                                        <p:cTn id="63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6400" y="809640"/>
            <a:ext cx="4910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4617b"/>
                </a:solidFill>
                <a:latin typeface="华文行楷"/>
                <a:ea typeface="华文行楷"/>
              </a:rPr>
              <a:t>Part</a:t>
            </a:r>
            <a:r>
              <a:rPr b="0" lang="zh-CN" sz="4000" spc="-1" strike="noStrike">
                <a:solidFill>
                  <a:srgbClr val="04617b"/>
                </a:solidFill>
                <a:latin typeface="华文行楷"/>
                <a:ea typeface="华文行楷"/>
              </a:rPr>
              <a:t> </a:t>
            </a:r>
            <a:r>
              <a:rPr b="0" lang="en-US" sz="4000" spc="-1" strike="noStrike">
                <a:solidFill>
                  <a:srgbClr val="04617b"/>
                </a:solidFill>
                <a:latin typeface="华文行楷"/>
                <a:ea typeface="华文行楷"/>
              </a:rPr>
              <a:t>2:</a:t>
            </a:r>
            <a:r>
              <a:rPr b="0" lang="zh-CN" sz="4000" spc="-1" strike="noStrike">
                <a:solidFill>
                  <a:srgbClr val="04617b"/>
                </a:solidFill>
                <a:latin typeface="华文行楷"/>
                <a:ea typeface="华文行楷"/>
              </a:rPr>
              <a:t>营销三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71520" y="4329000"/>
            <a:ext cx="14716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行楷"/>
              </a:rPr>
              <a:t>员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"/>
          <p:cNvSpPr/>
          <p:nvPr/>
        </p:nvSpPr>
        <p:spPr>
          <a:xfrm>
            <a:off x="1608120" y="1811160"/>
            <a:ext cx="6545160" cy="300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9dd9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80400" y="4192560"/>
            <a:ext cx="1752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顾   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02120" y="1130400"/>
            <a:ext cx="1557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企  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2520" y="3035160"/>
            <a:ext cx="22701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内部营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华文行楷"/>
              </a:rPr>
              <a:t>使能承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17880" y="5008680"/>
            <a:ext cx="27939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互动营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华文行楷"/>
              </a:rPr>
              <a:t>信守承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76640" y="2763720"/>
            <a:ext cx="33019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华文行楷"/>
              </a:rPr>
              <a:t>有乐意的员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华文行楷"/>
              </a:rPr>
              <a:t>才有满意的顾客，才有得意的企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40560" y="2763720"/>
            <a:ext cx="2270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外部营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华文行楷"/>
              </a:rPr>
              <a:t>做出承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9320" y="192240"/>
            <a:ext cx="94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行楷"/>
              </a:rPr>
              <a:t>一、外部营销篇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85640" y="1768320"/>
            <a:ext cx="954432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优美的环境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理的价格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美味的菜式    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4.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完善的设施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" name=""/>
          <p:cNvSpPr/>
          <p:nvPr/>
        </p:nvSpPr>
        <p:spPr>
          <a:xfrm>
            <a:off x="4497480" y="2832120"/>
            <a:ext cx="1979640" cy="1292040"/>
          </a:xfrm>
          <a:prstGeom prst="rightArrow">
            <a:avLst>
              <a:gd name="adj1" fmla="val 50000"/>
              <a:gd name="adj2" fmla="val 3830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27640" y="2763720"/>
            <a:ext cx="371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顾客满意</a:t>
            </a:r>
            <a:r>
              <a:rPr b="1" lang="zh-CN" sz="4400" spc="-1" strike="noStrike">
                <a:solidFill>
                  <a:srgbClr val="04617b"/>
                </a:solidFill>
                <a:latin typeface="Arial"/>
                <a:ea typeface="华文行楷"/>
              </a:rPr>
              <a:t>（口碑营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1160" y="382680"/>
            <a:ext cx="9785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行楷"/>
              </a:rPr>
              <a:t>就餐化境</a:t>
            </a: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09680" y="944640"/>
            <a:ext cx="4681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华文细黑"/>
              <a:ea typeface="宋体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72200" y="944640"/>
            <a:ext cx="4681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华文细黑"/>
              <a:ea typeface="宋体"/>
            </a:endParaRPr>
          </a:p>
        </p:txBody>
      </p:sp>
      <p:pic>
        <p:nvPicPr>
          <p:cNvPr id="150" name="文本占位符 2" descr=""/>
          <p:cNvPicPr/>
          <p:nvPr/>
        </p:nvPicPr>
        <p:blipFill>
          <a:blip r:embed="rId1"/>
          <a:stretch/>
        </p:blipFill>
        <p:spPr>
          <a:xfrm>
            <a:off x="-7294680" y="1247760"/>
            <a:ext cx="5859720" cy="3897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234040" y="3235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52" name="文本占位符 2" descr=""/>
          <p:cNvPicPr/>
          <p:nvPr/>
        </p:nvPicPr>
        <p:blipFill>
          <a:blip r:embed="rId3"/>
          <a:stretch/>
        </p:blipFill>
        <p:spPr>
          <a:xfrm>
            <a:off x="-5467320" y="1266840"/>
            <a:ext cx="5467320" cy="39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4798E-006 L 0.74375 2.94798E-006 E">
                                      <p:cBhvr>
                                        <p:cTn id="102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74375 -3.75723E-006 L 1.5802 0.00347 E">
                                      <p:cBhvr>
                                        <p:cTn id="10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88 0.00694 L 0.89983 0.00324 E">
                                      <p:cBhvr>
                                        <p:cTn id="108" dur="3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777960"/>
            <a:ext cx="978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17b"/>
                </a:solidFill>
                <a:latin typeface="华文细黑"/>
                <a:ea typeface="华文行楷"/>
              </a:rPr>
              <a:t>美味佳肴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-8569440" y="2490840"/>
            <a:ext cx="8569440" cy="1879560"/>
            <a:chOff x="-8569440" y="2490840"/>
            <a:chExt cx="8569440" cy="187956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-2883600" y="2490840"/>
              <a:ext cx="2883600" cy="18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-5685480" y="2490840"/>
              <a:ext cx="2532960" cy="18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-8569440" y="2490840"/>
              <a:ext cx="2554560" cy="185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855800" y="1319040"/>
            <a:ext cx="6435720" cy="3976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1855800" y="1266840"/>
            <a:ext cx="6765840" cy="4405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73360" y="1266840"/>
            <a:ext cx="684828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87283E-006 L 0.57084 0.00208 E">
                                      <p:cBhvr>
                                        <p:cTn id="114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084 0.00208 L 0.86216 0.00208 E">
                                      <p:cBhvr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216 0.00208 L 1.15348 0.00208 E">
                                      <p:cBhvr>
                                        <p:cTn id="146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9:50:20Z</dcterms:created>
  <dc:creator>ppt5u.com</dc:creator>
  <dc:description>PPT无忧（www.ppt5u.com）专业PPT资源网站，免费提供精美的PPT模板，课件，素材下载以及PPT相关技巧。</dc:description>
  <cp:keywords>PPT模板 PPT专业模板 精品PPT模板</cp:keywords>
  <dc:language>en-US</dc:language>
  <cp:lastModifiedBy>未知用户</cp:lastModifiedBy>
  <cp:lastPrinted>1899-12-30T00:00:00Z</cp:lastPrinted>
  <dcterms:modified xsi:type="dcterms:W3CDTF">2015-12-31T01:13:56Z</dcterms:modified>
  <cp:revision>15</cp:revision>
  <dc:subject>PPT无忧专业PPT资源网站</dc:subject>
  <dc:title>PPT无忧-www.ppt5u.com-销售计划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