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9E1-D8C3-45D6-9599-018529A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B7B-D388-4012-A27F-544B7652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E78-CBD3-4F32-889A-8F8DC613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AD0-2FD0-4AD5-8B64-3F3586BA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372-0E20-4C56-8323-C288EDFB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793-98BD-49B8-9BAE-34E571F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2EF-4095-4282-9EFA-2B407F6D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5B2-7846-42DC-9318-50DB2A9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D70-9F62-441F-B6AC-21FF4E74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5F1-C614-4E62-A247-6A11F57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E97-CB1B-4F25-B027-71AD0696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F09-1F40-4D28-AFF5-8BDB1D55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未知"/>
              <p:cNvSpPr/>
              <p:nvPr/>
            </p:nvSpPr>
            <p:spPr>
              <a:xfrm>
                <a:off x="2743200" y="4197600"/>
                <a:ext cx="4575240" cy="2652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6620040" y="4240440"/>
                <a:ext cx="1998360" cy="128736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7145280" y="3678480"/>
                <a:ext cx="1981080" cy="8553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未知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BA16-27F0-4700-B042-99A7BF3B567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汉语课堂教学设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组织策略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杨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主题和话题的界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如何选定主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主题下次主题之间的整合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文课堂主题式教学涵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文课堂主题式教学特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文课堂主题式教学优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五）基于主题式教学法的教学设计案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所有教学次主题都围绕主题进行设计，所有的话题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都以交际为目的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间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人的照片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零起点初中生西班牙语主题式教学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七、实用中文教学经验分享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大学中文课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项目中文课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通过对中小学中文课堂录像的观摩总结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心得体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国内大学及项目教学设计理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国内大学教学设计理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国内美国项目教学设计理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I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B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国内大学及美国项目教学法介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中文教学法回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语法翻译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直接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听说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功能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念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主题式教学法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国内大学及项目多采用的教学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812880" indent="-81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主题式教学的课堂中，可以实现以下的教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目的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，构建立足于学生的知识水平和生活实际，的学习情境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二，要求学生进行自主的探讨和学习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三，要求师生既是学习情境的组织者，又是共同探讨者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四，为学生创设了有挑战性的问题情境，有利于激发学生的学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兴趣和斗志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五，让学生以自有的文化去解读情境，从而实现个性化发展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六，打破单一的集体教学的组织形式，允许学生分组讨论学习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利于培养学生的团队精神和沟通能力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国内大学及美国项目汉语课堂教学原则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具体讲练方法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大学：听、说、读、写，分课型授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项目中的语言誓约，高强度自觉性学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项目中的讨论式教学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四）本人在大学及项目中的几点教学体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汉语本体在汉语教学实践中的再认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语音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声调的重要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汉语拼音不能完全表现真实发音（三声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语法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汉语语法的隐性特点要求教师深入挖掘词语使用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（挺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词汇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理解、使用学习新词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四）汉字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过个人体验和想象巩固记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成人二语习得和儿童二语习得的比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相同之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普遍意义的学习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寻找规律、依据指导、探求机会 、则我认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不同之处：儿童学习和心理特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儿童习得外语的优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四）儿童二语习得对成人学习外语的启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美国中小学中文教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一）美国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十一世纪外语学习标准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mmunication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语言交流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ultures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文化认知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nnections  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融会贯通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mparisons 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元比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mmunities  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区应用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二）美国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P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文项目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准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间的联系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三）基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准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中小学中文教学课程设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四）主题式教学法在中小学中文课堂中的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应用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主题教学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Thematic teaching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主题式教学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指提供一个良好的学习情境，学生在这样具有高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动机的环境中，可以接触和这主题相关的各种领域的学习内容，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师的教材有时可以像联络教学的方式，横向编选和该主题相关的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材料，有时更可直接打破学科之间的限制，在教学中整合不同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域的内容和策略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理论基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建构主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多元智能理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6:09:02Z</dcterms:created>
  <dc:creator>fangxiang</dc:creator>
  <dc:description/>
  <cp:keywords/>
  <dc:language>en-US</dc:language>
  <cp:lastModifiedBy>微软用户</cp:lastModifiedBy>
  <dcterms:modified xsi:type="dcterms:W3CDTF">2013-07-16T00:21:28Z</dcterms:modified>
  <cp:revision>397</cp:revision>
  <dc:subject/>
  <dc:title>对外汉语教学方法与策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