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3E5-D095-4274-AAAF-46D3D553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7E76-A85D-40C2-99F2-0528FCCB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84C7-D402-4A3C-B8E5-96681F00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1EE-A1FB-4AA5-95A7-546ECB57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79954-EDA9-4210-9AE5-E374D4A8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4E0AF-5E4E-48D7-8D73-46B6A46C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E75B4-53E5-4A50-85D3-ED6ECE3F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1A68-64F6-4398-BAE0-A7F0C7EE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7A35F-21EC-4245-A1CD-DF2B811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67609-C240-49E7-8190-DCCF1348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74502-FFA3-4CD4-B125-B6DF3E5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27A-F545-4216-B35F-2CFD4F2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7997B-188B-4D38-B136-5237C519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FB34-BA58-460A-8264-5502E7E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D55F0-B653-4B14-9D33-B7B380C3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05DD8-8861-429A-94C1-161C8F2F2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2C499-FBFF-46EA-8ECA-284FDCEB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117E-4BB0-43A7-B66F-59AEF1EE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6C44-2192-415A-8913-33B8944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E25-70E7-4AE4-8FF7-6A115969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2D3C-B2D0-4679-8F1A-7C8A495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F27E-31E7-443A-81C3-31E0BBC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B51-2253-49F5-8250-2C542A32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153-5558-407D-948A-4E5F4AAA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564-ED9F-46D3-B71B-CCEA7C710A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未知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12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109-34EC-4439-91D4-5178712837A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12331&amp;cl=2&amp;lm=-1&amp;pn=5&amp;rn=1&amp;di=21006256215&amp;ln=2000&amp;fr=&amp;fmq=&amp;ic=&amp;s=&amp;se=&amp;sme=0&amp;tab=&amp;width=&amp;height=&amp;face=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2" Type="http://schemas.openxmlformats.org/officeDocument/2006/relationships/hyperlink" Target="http://image.baidu.com/i?ct=503316480&amp;z=&amp;tn=baiduimagedetail&amp;word=%D1&#827;%F0&#892;&#428;&amp;in=5298&amp;cl=2&amp;lm=-1&amp;pn=0&amp;rn=1&amp;di=31226007375&amp;ln=2000&amp;fr=&amp;fmq=&amp;ic=&amp;s=&amp;se=&amp;sme=0&amp;tab=&amp;width=&amp;height=&amp;face=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2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3" Type="http://schemas.openxmlformats.org/officeDocument/2006/relationships/hyperlink" Target="http://image.baidu.com/i?ct=503316480&amp;z=0&amp;tn=baiduimagedetail&amp;word=&#1057;&#885;&amp;in=8334&amp;cl=2&amp;lm=-1&amp;pn=0&amp;rn=1&amp;di=8273330835&amp;ln=2000&amp;fr=&amp;fmq=&amp;ic=0&amp;s=0&amp;se=1&amp;sme=0&amp;tab=&amp;width=&amp;height=&amp;face=0" TargetMode="Externa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52227" descr="ZWZHEN05"/>
          <p:cNvPicPr/>
          <p:nvPr/>
        </p:nvPicPr>
        <p:blipFill>
          <a:blip r:embed="rId1"/>
          <a:stretch/>
        </p:blipFill>
        <p:spPr>
          <a:xfrm>
            <a:off x="0" y="0"/>
            <a:ext cx="32767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52228"/>
          <p:cNvSpPr/>
          <p:nvPr/>
        </p:nvSpPr>
        <p:spPr>
          <a:xfrm>
            <a:off x="4822920" y="4365720"/>
            <a:ext cx="432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姚体"/>
              </a:rPr>
              <a:t>桓台县马桥实验学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方正姚体"/>
              </a:rPr>
              <a:t>201x.x.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矩形 52229"/>
          <p:cNvSpPr/>
          <p:nvPr/>
        </p:nvSpPr>
        <p:spPr>
          <a:xfrm>
            <a:off x="2411280" y="1700280"/>
            <a:ext cx="67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  <a:ea typeface="隶书"/>
              </a:rPr>
              <a:t>寒假安全教育班会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56321"/>
          <p:cNvSpPr/>
          <p:nvPr/>
        </p:nvSpPr>
        <p:spPr>
          <a:xfrm>
            <a:off x="0" y="0"/>
            <a:ext cx="9144000" cy="63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放假或返校乘坐机动车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公共汽（电）车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排队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候车，按先后顺序上车，不要拥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挤。上下车均应等车停稳以后，先下后上，不要争抢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汽油、爆竹等易燃易爆的危险品带入车内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车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把头、手、胳膊伸出手窗外，以免被对面来车或路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边树木等刮伤；也不要向车窗外乱扔杂物，以免伤及他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车时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坐稳扶好，没有座位时，要双脚自然分开，侧向站立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手应握紧扶手，以免车辆紧急刹车时摔倒受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乘坐小轿车、微型客车时，在前排乘坐时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应系好安全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尽量避免乘坐卡车、拖拉机；必须乘坐时，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千万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站立在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厢里或坐在车厢板上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机动车道上招呼出租汽车。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99ff33"/>
                </a:solidFill>
                <a:latin typeface="华文中宋"/>
                <a:ea typeface="华文中宋"/>
              </a:rPr>
              <a:t>乘坐小轿车安全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许多家长习惯让孩子坐在汽车副驾驶位置，如遇急刹车或正面碰撞等紧急情况，小孩子会因为巨大的惯性而撞向前方，造成受伤。绝大多数小轿车的原装安全带都是专为成年人设计的，不适合儿童体型。所以，同学们最好坐在后排座椅上。在乘车过程中，不要将头、手臂伸出窗外，不要随意拨动车窗升降器或车门开关。 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640" y="260280"/>
            <a:ext cx="81360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华文彩云"/>
              </a:rPr>
              <a:t>学会发生交通事故时的逃生方法：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是所乘车辆发生侧翻，自己被困在车内时，应采取措施逃至车外；无法从车门逃出时，可击碎车窗玻璃逃出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是所乘车辆着火时，应设法迅速逃离所乘车辆；当车内已有大量烟气时，应用衣物捂住口鼻后，再设法逃出，以防吸入大量有毒、有害烟气而窒息；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是从车中逃出后，要远离事故发生地点，防止因车辆着火、爆炸而对自己造成伤害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8369"/>
          <p:cNvSpPr/>
          <p:nvPr/>
        </p:nvSpPr>
        <p:spPr>
          <a:xfrm>
            <a:off x="2195640" y="189000"/>
            <a:ext cx="488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彩云"/>
              </a:rPr>
              <a:t>二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火灾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矩形 58370"/>
          <p:cNvSpPr/>
          <p:nvPr/>
        </p:nvSpPr>
        <p:spPr>
          <a:xfrm>
            <a:off x="1295280" y="1209600"/>
            <a:ext cx="57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预防火灾应该注意什么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矩形 58371"/>
          <p:cNvSpPr/>
          <p:nvPr/>
        </p:nvSpPr>
        <p:spPr>
          <a:xfrm>
            <a:off x="1295280" y="1905120"/>
            <a:ext cx="52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在家中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矩形 58372"/>
          <p:cNvSpPr/>
          <p:nvPr/>
        </p:nvSpPr>
        <p:spPr>
          <a:xfrm>
            <a:off x="1297080" y="2552760"/>
            <a:ext cx="550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外出活动如何注意防火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矩形 58373"/>
          <p:cNvSpPr/>
          <p:nvPr/>
        </p:nvSpPr>
        <p:spPr>
          <a:xfrm>
            <a:off x="1262160" y="4110120"/>
            <a:ext cx="63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对轻微的火情怎样紧急应付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矩形 58374"/>
          <p:cNvSpPr/>
          <p:nvPr/>
        </p:nvSpPr>
        <p:spPr>
          <a:xfrm>
            <a:off x="866880" y="3295800"/>
            <a:ext cx="57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发生火灾应如何报警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矩形 58375"/>
          <p:cNvSpPr/>
          <p:nvPr/>
        </p:nvSpPr>
        <p:spPr>
          <a:xfrm>
            <a:off x="1295280" y="4863960"/>
            <a:ext cx="56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、遭遇火灾如何正确脱险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图片 58376" descr="image52"/>
          <p:cNvPicPr/>
          <p:nvPr/>
        </p:nvPicPr>
        <p:blipFill>
          <a:blip r:embed="rId1"/>
          <a:stretch/>
        </p:blipFill>
        <p:spPr>
          <a:xfrm>
            <a:off x="6781680" y="1219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58377" descr="image52"/>
          <p:cNvPicPr/>
          <p:nvPr/>
        </p:nvPicPr>
        <p:blipFill>
          <a:blip r:embed="rId2"/>
          <a:stretch/>
        </p:blipFill>
        <p:spPr>
          <a:xfrm>
            <a:off x="6400800" y="198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58378" descr="image52"/>
          <p:cNvPicPr/>
          <p:nvPr/>
        </p:nvPicPr>
        <p:blipFill>
          <a:blip r:embed="rId3"/>
          <a:stretch/>
        </p:blipFill>
        <p:spPr>
          <a:xfrm>
            <a:off x="6705720" y="2666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8379" descr="image52"/>
          <p:cNvPicPr/>
          <p:nvPr/>
        </p:nvPicPr>
        <p:blipFill>
          <a:blip r:embed="rId4"/>
          <a:stretch/>
        </p:blipFill>
        <p:spPr>
          <a:xfrm>
            <a:off x="61722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58380" descr="image52"/>
          <p:cNvPicPr/>
          <p:nvPr/>
        </p:nvPicPr>
        <p:blipFill>
          <a:blip r:embed="rId5"/>
          <a:stretch/>
        </p:blipFill>
        <p:spPr>
          <a:xfrm>
            <a:off x="7315200" y="41148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58381" descr="image52"/>
          <p:cNvPicPr/>
          <p:nvPr/>
        </p:nvPicPr>
        <p:blipFill>
          <a:blip r:embed="rId6"/>
          <a:stretch/>
        </p:blipFill>
        <p:spPr>
          <a:xfrm>
            <a:off x="6705720" y="49528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58382" descr="fg1"/>
          <p:cNvPicPr/>
          <p:nvPr/>
        </p:nvPicPr>
        <p:blipFill>
          <a:blip r:embed="rId7"/>
          <a:stretch/>
        </p:blipFill>
        <p:spPr>
          <a:xfrm>
            <a:off x="1028880" y="5867280"/>
            <a:ext cx="720072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59393"/>
          <p:cNvSpPr/>
          <p:nvPr/>
        </p:nvSpPr>
        <p:spPr>
          <a:xfrm>
            <a:off x="371520" y="100476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人们的生活离不开火。但是火如果使用不当或者管理不好，就会发生火灾，严重威胁人们的生活，给人民的生命财产和国家的建设发展造成巨大损失。消防安全十分重要，消防工作包括两个方面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一是火灾的预防；二是灭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。对此，同学们都应该有所了解，并掌握一些基本知识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60417"/>
          <p:cNvSpPr/>
          <p:nvPr/>
        </p:nvSpPr>
        <p:spPr>
          <a:xfrm>
            <a:off x="533520" y="6094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预防火灾应该注意什么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预防火灾的措施很多，同学们首先要从日常生活中的小事做起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玩火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有的同学对火感到新奇，常常背着家长和老师做玩火的游戏，这是十分危险的。玩火时，一旦火势蔓延或者留下未熄灭的火种，容易引起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不吸烟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吸烟危害身体健康，又容易诱发火灾，要遵守学生守则和学校的规章制度，坚决杜绝吸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6600"/>
                </a:solidFill>
                <a:latin typeface="华文中宋"/>
                <a:ea typeface="华文中宋"/>
              </a:rPr>
              <a:t>爱护消防设施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为了预防火灾，防止火灾事故，居民楼、公共场所都设置了消防栓、灭火器、消防沙箱等消防设施，还留有供火灾发生时人员疏散的安全通道，要自觉爱护消防设施，保证安全通道的畅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图片 60418" descr="ARROW1"/>
          <p:cNvPicPr/>
          <p:nvPr/>
        </p:nvPicPr>
        <p:blipFill>
          <a:blip r:embed="rId1"/>
          <a:stretch/>
        </p:blipFill>
        <p:spPr>
          <a:xfrm>
            <a:off x="7238880" y="594360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61441"/>
          <p:cNvSpPr/>
          <p:nvPr/>
        </p:nvSpPr>
        <p:spPr>
          <a:xfrm>
            <a:off x="71280" y="69840"/>
            <a:ext cx="891540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家中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家庭中的火灾常由用火不慎和使用电器不当引起，同学们要注意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火炉取暖，火炉的安置应与易燃的木质家具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保持安全距离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在农村，则要远离柴草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烘烤衣物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有人看管，人不能长时间离开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炉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存放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生火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不要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使用煤油、汽油助燃，以防猛烈燃烧发生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掏出的未熄灭的炉灰、煤渣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倒在安全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地方，以防引起别的物体燃烧起火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家用电器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符合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安全要求，不乱拆卸，以免造成安全性能下降，引发火灾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发热的电器（如电熨斗）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小心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使其引燃易燃物品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电器使用完毕或人离开时，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要及时关闭电源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电器过热而发生危险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煤气器具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防止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煤气泄露，使用完毕应关闭气源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煤气罐应远离火源使用；要</a:t>
            </a:r>
            <a:r>
              <a:rPr b="1" lang="zh-CN" sz="2000" spc="-1" strike="noStrike">
                <a:solidFill>
                  <a:srgbClr val="d418e8"/>
                </a:solidFill>
                <a:latin typeface="华文中宋"/>
                <a:ea typeface="华文中宋"/>
              </a:rPr>
              <a:t>定期检查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确保煤气设施及用具完好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图片 61442" descr="ARROW1"/>
          <p:cNvPicPr/>
          <p:nvPr/>
        </p:nvPicPr>
        <p:blipFill>
          <a:blip r:embed="rId1"/>
          <a:stretch/>
        </p:blipFill>
        <p:spPr>
          <a:xfrm>
            <a:off x="7848720" y="5791320"/>
            <a:ext cx="11430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2465"/>
          <p:cNvSpPr/>
          <p:nvPr/>
        </p:nvSpPr>
        <p:spPr>
          <a:xfrm>
            <a:off x="228600" y="6094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外出活动如何注意防火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外出活动时，所处的环境比较复杂，在防火方面要做到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遵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防火安全规定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般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要组织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野炊活动，确实需要组织的，要选择安全的地点和时间，并在老师的指导下用火，用火完毕，应确实熄灭火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不携带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柴、打火机等火种和易燃易爆品进人林区、草原、自然保护区、风景名胜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保护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公共场所的消防设施、设备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自觉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按照防火的要求去做，同时还要监督、劝阻他人可能造成火灾隐患的行为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异常情况，要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及时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向老师或有关管理人员</a:t>
            </a:r>
            <a:r>
              <a:rPr b="1" lang="zh-CN" sz="2400" spc="-1" strike="noStrike">
                <a:solidFill>
                  <a:srgbClr val="ffff66"/>
                </a:solidFill>
                <a:latin typeface="华文中宋"/>
                <a:ea typeface="华文中宋"/>
              </a:rPr>
              <a:t>报告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图片 62466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3489"/>
          <p:cNvSpPr/>
          <p:nvPr/>
        </p:nvSpPr>
        <p:spPr>
          <a:xfrm>
            <a:off x="380880" y="380880"/>
            <a:ext cx="845820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发生火灾应如何报警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火灾发生，最重要的是报警，这样才能及时扑救，控制火势，减轻火灾造成损失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火警电话的号码是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9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这个号码应当牢记，在全国任何地区，向公安消防部门报告火警的电话号码都是一样的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发现火灾，可以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打电话直接报警。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中没有电话的，要尽快使用邻居、电话亭或者附近单位的电话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火警时，要向消防部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讲清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着火的单位或地点，讲清所处的区（县）、街道、胡同、门牌号码或乡村地址，还要讲清是什么物品着火，火势怎样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报警以后，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最好安排人员到附近的路口等候消防车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指引通往火场的道路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能随意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拨打火警电话，假报火警是扰乱社会公共秩序的违法行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</a:t>
            </a:r>
            <a:r>
              <a:rPr b="1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没有电话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情况下，应大声呼喊或采取其他方法引起邻居、行人注意，协助灭火或报警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图片 63490" descr="ARROW1"/>
          <p:cNvPicPr/>
          <p:nvPr/>
        </p:nvPicPr>
        <p:blipFill>
          <a:blip r:embed="rId1"/>
          <a:stretch/>
        </p:blipFill>
        <p:spPr>
          <a:xfrm>
            <a:off x="800100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64513"/>
          <p:cNvSpPr/>
          <p:nvPr/>
        </p:nvSpPr>
        <p:spPr>
          <a:xfrm>
            <a:off x="228600" y="0"/>
            <a:ext cx="8915400" cy="47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对轻微的火情怎样紧急应付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形成火灾的，应及时报警。对突然发生的比较轻微的火情，同学们也应掌   握简便易行的，应付紧急情况的方法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水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是最常用的灭火剂，木头、纸张、棉布等起火，可以直接用水扑灭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土、沙子、浸湿的棉被或毛毯等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迅速覆盖在起火处，可以有效地灭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用扫帚、拖把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等扑打，也能扑灭小火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油类、酒精等起火，不可用水去扑救，可用沙土或浸湿的棉被迅速覆 盖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煤气起火，可用湿毛巾盖住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火点，迅速切断气源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电器起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不可用水扑救，也不可用潮湿的物品捂盖。水是导体，这样做会发生触电。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正确的方法是首先切断电源，然后再灭火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有条件的，还可以</a:t>
            </a:r>
            <a:r>
              <a:rPr b="1" lang="zh-CN" sz="2300" spc="-1" strike="noStrike">
                <a:solidFill>
                  <a:srgbClr val="ffff66"/>
                </a:solidFill>
                <a:latin typeface="华文中宋"/>
                <a:ea typeface="华文中宋"/>
              </a:rPr>
              <a:t>学习一些简易灭火器的使用方法</a:t>
            </a:r>
            <a:r>
              <a:rPr b="1" lang="zh-CN" sz="23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。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5537"/>
          <p:cNvSpPr/>
          <p:nvPr/>
        </p:nvSpPr>
        <p:spPr>
          <a:xfrm>
            <a:off x="395280" y="189000"/>
            <a:ext cx="81532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遭遇火灾如何正确脱险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遭遇火灾，应采取正确有效的方法自救逃生，减少人身伤亡损失：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l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一旦身受火灾危胁，千万不要惊慌失措，要冷静地确定自己所处位置，根据周围的烟、火光、温度等分析判断火势，不要盲目采取行动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2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平房的，如果门的周围火势不大，应迅速离开火场。反之，则必须另行选择出口脱身（如从窗口跳出），或者采取保护措施（如用水淋湿衣服、用温湿的棉被包住头部和上身等）以后再离开火场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3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发现火情不要盲目打开门窗，否则有可能引火入室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4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身处楼房的，不要盲目乱跑、更不要跳楼逃生，这样会造成不应有的伤亡。可以躲到居室里或者阳台上。紧闭门窗，隔断火路，等待救援。有条件的，可以不断向门窗上浇水降温，以延缓火势蔓延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(5)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失火的楼房内，逃生不可使用电梯，应通过防火通道走楼梯脱险。因为失火后电梯竖井往往成为烟火的通道。并且电梯随时可能发生故障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图片 65538" descr="ARROW1"/>
          <p:cNvPicPr/>
          <p:nvPr/>
        </p:nvPicPr>
        <p:blipFill>
          <a:blip r:embed="rId1"/>
          <a:stretch/>
        </p:blipFill>
        <p:spPr>
          <a:xfrm>
            <a:off x="7620120" y="6297480"/>
            <a:ext cx="114300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2680" y="-17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前 言</a:t>
            </a:r>
            <a:r>
              <a:rPr b="0" lang="en-US" sz="6000" spc="-1" strike="noStrike">
                <a:solidFill>
                  <a:srgbClr val="ff3399"/>
                </a:solidFill>
                <a:latin typeface="方正粗倩简体"/>
                <a:ea typeface="方正粗倩简体"/>
              </a:rPr>
              <a:t>: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216360" y="981000"/>
            <a:ext cx="9325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同学们，从你们记事时，就常会听爸爸妈妈说“干什么事，都要注意安全”。你们知道吗？老师们和家长们每天所最惦记的就是你们的安全。安全真的有那么重要吗？让我们来看一组惊人的数字吧！据了解，我国每年大约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1.6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万名高中生非正常死亡，高中生因安全事故、食物中毒、溺水等死亡的，平均每天有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40</a:t>
            </a:r>
            <a:r>
              <a:rPr b="1" lang="zh-CN" sz="3200" spc="-1" strike="noStrike">
                <a:solidFill>
                  <a:srgbClr val="00c600"/>
                </a:solidFill>
                <a:latin typeface="华文中宋"/>
                <a:ea typeface="华文中宋"/>
              </a:rPr>
              <a:t>多人，也就是说每天将有一个班的学生在“消失”。这给社会、给家庭带来了不幸，给很多父母造成无法愈合的创伤。这就更加充分地证明了这一点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中宋"/>
                <a:ea typeface="华文中宋"/>
              </a:rPr>
              <a:t>安全很重要！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66561"/>
          <p:cNvSpPr/>
          <p:nvPr/>
        </p:nvSpPr>
        <p:spPr>
          <a:xfrm>
            <a:off x="0" y="260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6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因火势太猛，必须从楼房内逃生的，可以从二层处跳下，但要选择不坚硬的地面，同时应从楼上先扔下被褥等增加地面的缓冲，然后再顺窗滑下，要尽量缩小下落高度，做到双脚先落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7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在有把握的情况下、可以将绳索（也可用床单等撕开连接起来）一头系在窗框上，然后顺绳索滑落到地面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8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逃生时。尽量采取保护措施，如用湿毛巾捂住口鼻、用湿衣物包裹身体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9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如身上衣物着火，可以迅速脱掉衣物，或者就地滚动，以身体压灭火焰，还可以跳进附近的水池、小河中，将身上的火熄灭，总之要尽量减少身体烧伤面积，减轻烧伤程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(10)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火灾发生时，常会产生对人体有毒有害的气体，所以要预防烟毒，应尽量选择上风处停留或以湿的毛巾或口罩保护口、鼻及眼睛，避免有毒有害烟气侵害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20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今年冬天非常冷，很多地方特别是农村河流（沟）大量结冰，在不安全的冰面上滑冰非常容易发生冰面溺水事故，因此提醒大家严禁滑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户外冰雪运动中容易发生运动伤害和摔伤，所以要做好充分的准备活动，在专业的教练带领下进行户外滑雪运动并注意保暖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文本框 67586"/>
          <p:cNvSpPr/>
          <p:nvPr/>
        </p:nvSpPr>
        <p:spPr>
          <a:xfrm>
            <a:off x="2096280" y="189000"/>
            <a:ext cx="49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三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户外冰雪运动和冰面溺水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883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在进行冰上运动时，要确保冰面的安全系数达到百分之百，方可进行游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户外冰雪运动容易发生运动不当导致的摔伤，所以在进行冰雪运动时要充分进行身体各关节的准备活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学生在冰面游玩时，必须有专业老师或家长的陪同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、禁止学生个人或结伴到村、小区等场所的河湾水渠游玩，禁止到冰面滑冰、玩耍，尤其是引黄工程河。不得许多人聚堆在冰面上游玩，以免发生事故同时落水，对营救产生不利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正值寒假，云南省昭通市昭阳区的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名小学生在村口结冰湖面上溜冰时，由于冰面断裂不慎全部落水，其中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人溺水身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3" descr="1_2008021414564425YWd"/>
          <p:cNvPicPr/>
          <p:nvPr/>
        </p:nvPicPr>
        <p:blipFill>
          <a:blip r:embed="rId1"/>
          <a:stretch/>
        </p:blipFill>
        <p:spPr>
          <a:xfrm>
            <a:off x="1187280" y="1628640"/>
            <a:ext cx="7218360" cy="40942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843360" y="6629400"/>
            <a:ext cx="36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971640" y="5950080"/>
            <a:ext cx="7345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救援人员在湖面上打捞落水学生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6200" y="115560"/>
            <a:ext cx="583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华文彩云"/>
                <a:ea typeface="华文彩云"/>
              </a:rPr>
              <a:t>      </a:t>
            </a:r>
            <a:r>
              <a:rPr b="0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四</a:t>
            </a:r>
            <a:r>
              <a:rPr b="1" lang="zh-CN" sz="3600" spc="-1" strike="noStrike">
                <a:solidFill>
                  <a:srgbClr val="ffff00"/>
                </a:solidFill>
                <a:latin typeface="华文彩云"/>
                <a:ea typeface="华文彩云"/>
              </a:rPr>
              <a:t>、燃放烟花爆竹安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9200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在春节燃放烟花爆竹是我国传统习惯，特别是除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夕之夜，在非禁放区烟花爆竹响彻云天，此起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伏，整夜不停，以示辞旧迎新。为了确保自己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他人能平安地过一个愉快的春节，燃放烟花爆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要做到以下几点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4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5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6" descr="yh037"/>
          <p:cNvPicPr/>
          <p:nvPr/>
        </p:nvPicPr>
        <p:blipFill>
          <a:blip r:embed="rId3"/>
          <a:stretch/>
        </p:blipFill>
        <p:spPr>
          <a:xfrm>
            <a:off x="468360" y="3803760"/>
            <a:ext cx="4103640" cy="2865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yh033"/>
          <p:cNvPicPr/>
          <p:nvPr/>
        </p:nvPicPr>
        <p:blipFill>
          <a:blip r:embed="rId4"/>
          <a:stretch/>
        </p:blipFill>
        <p:spPr>
          <a:xfrm>
            <a:off x="4572000" y="3789360"/>
            <a:ext cx="4248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23640" y="2347560"/>
            <a:ext cx="92883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应到有销售许可证的专营场所购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中小学生燃放烟花要有大人带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易燃物方圆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0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米内不得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手持烟花爆竹燃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不许直对行人或人群燃放烟花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点燃鞭炮后，若没有炸响，在未确认不存在安全问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题之前，不要急于上前查看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烟花爆竹应存放在远离火源的安全地方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、燃放烟花爆竹，严禁横放、斜放，也不要燃放“钻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00"/>
                </a:solidFill>
                <a:latin typeface="华文中宋"/>
                <a:ea typeface="华文中宋"/>
              </a:rPr>
              <a:t>猴”之类升高空，射程远的难以控制的品种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5" descr="yanhuayanhuo2_146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2200" y="189000"/>
            <a:ext cx="7705800" cy="11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五、自我保护和安全求助常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360" y="1483920"/>
            <a:ext cx="921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一）当你独自在家时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1.</a:t>
            </a:r>
            <a:r>
              <a:rPr b="1" lang="zh-CN" sz="2800" spc="-1" strike="noStrike">
                <a:solidFill>
                  <a:srgbClr val="ffff00"/>
                </a:solidFill>
                <a:latin typeface="华文中宋"/>
                <a:ea typeface="华文中宋"/>
              </a:rPr>
              <a:t>遇到陌生人来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先不要开门，并检查门是否锁好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问来人是谁，来找谁，有什么事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无论来人是否说认识你的家人，而你并不认识来人，不要告诉他任何事情，更不可让他进来。告诉来人有什么事可以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人坚持不走，并以种种借口非要进门再说，请千万不要开门。必要的时候，可以打电话给邻居或派出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⑤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一点是：千万不能先开门再问来人是谁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7640" y="1196640"/>
            <a:ext cx="8496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有陌生人打来电话问父母的情况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ahoma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首先问来电话的人是谁，有什么事。如果你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并不认识来话人，请不要告诉他任何事情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来话人要你父母的电话、手机号码，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不要告诉他，你可以请来话人留下姓名、单位、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话及留言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对于陌生人打来的电话，你最好不要让对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知道只有你一个人在家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3" descr="2007613121950805_2"/>
          <p:cNvPicPr/>
          <p:nvPr/>
        </p:nvPicPr>
        <p:blipFill>
          <a:blip r:embed="rId1"/>
          <a:stretch/>
        </p:blipFill>
        <p:spPr>
          <a:xfrm rot="20652000">
            <a:off x="7426080" y="200160"/>
            <a:ext cx="139212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920" y="333000"/>
            <a:ext cx="8531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在门外发现家里好像有人在偷东西，请不要大声喊叫， 更不要冒然进屋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到同学或邻居家，把情况告诉大人们。如果证实家中确实来小偷，应迅速拨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特别提醒大家注意的是：遇到情况不要害怕，不要慌，千万不要自己冲进屋或大喊大叫，以免自己人小力单受伤害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发现家里有被偷过的迹象，自己千万不要乱动任何东西，要保护现场，以便破案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你发现有陌生人在撬邻居家的门，很可能是来了小偷，这时你不要轻易跑到门口大声喊叫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应当打派出所电话或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报警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如果家里没有电话，可在邻居家门口没有情况时，迅速到附近同学或其他领居家把情况告诉大人，并打电话报警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3">
            <a:hlinkClick r:id="rId1"/>
          </p:cNvPr>
          <p:cNvSpPr/>
          <p:nvPr/>
        </p:nvSpPr>
        <p:spPr>
          <a:xfrm>
            <a:off x="76320" y="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4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矩形 8"/>
          <p:cNvSpPr/>
          <p:nvPr/>
        </p:nvSpPr>
        <p:spPr>
          <a:xfrm>
            <a:off x="3135240" y="189000"/>
            <a:ext cx="268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家中来了小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矩形 11"/>
          <p:cNvSpPr/>
          <p:nvPr/>
        </p:nvSpPr>
        <p:spPr>
          <a:xfrm>
            <a:off x="3096720" y="3735360"/>
            <a:ext cx="3414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发现有人在撬邻居家的门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720" y="189000"/>
            <a:ext cx="84582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（二）在回家或外出的路上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8720" y="907560"/>
            <a:ext cx="8459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如果在路上遇到你不认识的陌生人向你打听家里或父母的情况，或以某种借口（如维修、检查、查电表等等）让你带他到家里去时，你千万不要向他提供任何情况，更不要信以为真，将陌生人冒然往家里带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只要这个人你不认识，无论他说什么，你也不要轻信，不要同他多说话，并迅速走开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同时你要对此人格外注意，尽可能不自己独行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）外出时如遇走失的情况，每个同学要记住自己的家庭住址、父母的工作单位和电话号码，一些亲戚的情况也要熟知。另外，匪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火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0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和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999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急救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交通事故报警、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1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电话号码查询等急救和常用电话也要记熟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24000" y="54936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紧张而忙碌的一学期即将结束，同学们期盼已久的寒假就要到来了，在假期中你们不仅有了更多的时间和空间来放松一下，而且还要过欢乐喜庆的春节，你们可以走亲访友、穿新衣、放鞭炮……总之，这一段时间是你们最轻松愉快的日子。但是这期间也最容易发生一些安全事故。今天让我们来一起学习寒假安全知识，以预防寒假安全事故。首先我们先讨论讨论寒假都有哪些方面应引起我们重视呢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45059" descr="128609260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7813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98640" y="76320"/>
            <a:ext cx="3394080" cy="104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六、食品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560" y="1905120"/>
            <a:ext cx="69850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</a:rPr>
              <a:t>一、中学生食品安全应注意的问题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到正规商店里购买，不买校园周边、街</a:t>
            </a:r>
            <a:r>
              <a:rPr b="0" lang="zh-CN" sz="2400" spc="-1" strike="noStrike">
                <a:solidFill>
                  <a:srgbClr val="ff3399"/>
                </a:solidFill>
                <a:latin typeface="宋体"/>
              </a:rPr>
              <a:t>头巷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尾的“三无”食品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购买正规厂家生产的食品尽量选择信誉度较好的品牌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仔细查看商品标签食品标签中必须标注产品名称、配料表、净含量、厂名、厂址、保质期、产品标准号等。不买标签不规范的产品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食品是否适合自己食用。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不盲目随从广告老是广告的宣传并不代表科学那是商家利益的体现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十大“垃圾”食品及其危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一、油炸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油炸淀粉导致心血管疾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致癌物质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二、腌制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高血压，肾负担过重，导致鼻咽癌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影响粘膜系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对肠胃有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易得溃疡和发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、加工类肉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肉干、肉松、香肠等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亚硝酸盐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防腐和显色作用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防腐剂，加重肝脏负担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四、饼干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不含低温烘烤和全麦饼干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食用香精和色素过多对肝脏功能造成负担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严重破坏维生素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、营养成分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图片 72707" descr="2011031958899065"/>
          <p:cNvPicPr/>
          <p:nvPr/>
        </p:nvPicPr>
        <p:blipFill>
          <a:blip r:embed="rId1"/>
          <a:stretch/>
        </p:blipFill>
        <p:spPr>
          <a:xfrm>
            <a:off x="6730920" y="0"/>
            <a:ext cx="2413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五、汽水、可乐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磷酸、碳酸、会带走体内大量的钙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，喝后有饱胀感，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六、方便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指方便面和膨化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含防腐剂、香精损肝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只有热量，没有营养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七、罐头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包括鱼肉类和水果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破坏维生素，使蛋白质变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热量过多，营养成分低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八、话梅蜜饯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果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三大致癌物质之一，亚硝酸盐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盐分过高，含防腐剂、香精损肝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九、冷冻甜品类食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冰淇淋、冰棒和各种雪糕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奶油极易引起肥胖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糖量过高影响正餐。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十、烧烤类食品，主要危害是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含大量“三苯四丙吡”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三大致癌物质之首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只烤鸡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60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支烟的毒性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、导致蛋白质炭化变性，加重肾脏、肝脏负担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74753"/>
          <p:cNvSpPr/>
          <p:nvPr/>
        </p:nvSpPr>
        <p:spPr>
          <a:xfrm>
            <a:off x="228600" y="990720"/>
            <a:ext cx="8915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人们通常把天然气、石油液化气、煤气等可燃性气体都叫做煤气。煤气给人们生活带来了许多方便，但如果使用不当，它也会造成灾难。使用煤气要注意以下各点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认真阅读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燃气器具等的使用说明书，严格按照说明书的要求操作、使用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人工点火的燃气灶具，在点火时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要坚持“火等气”的原则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即先将火源凑近灶具然后再开启气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经常保持燃气器具的完好，发现漏气，及时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检修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；使用过程中遇到漏气的情况，应该立即关闭总阀门，切断气源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燃气器具在工作状态中，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人不能长时间离开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以防止火被风吹灭或被锅中溢出的水浇灭，造成煤气大量泄漏而发生火灾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　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．使用燃气器具（如煤气炉、燃气热水器等），应充分</a:t>
            </a:r>
            <a:r>
              <a:rPr b="1" lang="zh-CN" sz="2400" spc="-1" strike="noStrike">
                <a:solidFill>
                  <a:srgbClr val="99ff33"/>
                </a:solidFill>
                <a:latin typeface="华文中宋"/>
                <a:ea typeface="华文中宋"/>
              </a:rPr>
              <a:t>保证室内的通风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保持足够的氧气，防止煤气中毒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文本框 74755"/>
          <p:cNvSpPr/>
          <p:nvPr/>
        </p:nvSpPr>
        <p:spPr>
          <a:xfrm>
            <a:off x="3177720" y="206280"/>
            <a:ext cx="285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七、</a:t>
            </a:r>
            <a:r>
              <a:rPr b="1" lang="zh-CN" sz="4000" spc="-1" strike="noStrike">
                <a:solidFill>
                  <a:srgbClr val="ffff00"/>
                </a:solidFill>
                <a:latin typeface="Tahoma"/>
                <a:ea typeface="华文彩云"/>
              </a:rPr>
              <a:t>煤气中毒预防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75777" descr="line1"/>
          <p:cNvPicPr/>
          <p:nvPr/>
        </p:nvPicPr>
        <p:blipFill>
          <a:blip r:embed="rId1"/>
          <a:stretch/>
        </p:blipFill>
        <p:spPr>
          <a:xfrm>
            <a:off x="304920" y="6157800"/>
            <a:ext cx="8839080" cy="49212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75778"/>
          <p:cNvSpPr/>
          <p:nvPr/>
        </p:nvSpPr>
        <p:spPr>
          <a:xfrm>
            <a:off x="468360" y="260280"/>
            <a:ext cx="820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我们通常所说的是指用煤球炉取暖而产生的煤气中毒：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尤其在冬季的雨雪、阴天或者气压低的天气里，要注意及时清扫烟囱，保持内部通畅，并要经常开窗通风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在发现患者煤气中毒后应立即平放卧床，保暖，脱离中毒现场，开窗换气，轻症患者即可恢复。重度患者必须立即送医院进行氧气和综合治疗，对呼吸及心跳停止者，则应立即试用人工呼吸及胸外心脏按摩，尽力抢救。预防煤气中毒主要在于保持房间空气流通，认真执行安全操作规程，增强对一氧化碳中毒的认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中宋"/>
              </a:rPr>
              <a:t>救助时，首先要松解中毒者的衣扣，清除口鼻分泌物，保持呼吸通畅；有条件的可以吸氧。对昏迷不醒者，立即手掐人中穴，同时呼救。对心跳、呼吸微弱或已停止者，立即进行人工呼吸，胸外按压，并迅速送往医院抢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09440" y="189000"/>
            <a:ext cx="5398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八、网络道德安全教育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353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市镇上有不少网吧，这些网吧瞄准的市场就是青少年学生。一些学生迷上网络游戏后，便欺骗家长和老师，设法筹资，利用一切可利用的时间上网。有许许多多原先是优秀的学生，因误入网吧，整日沉迷于虚幻世界之中，学习之类则抛之脑后，并且身体健康状况日下。网吧不仅有学生几天几夜也打不“出关”的游戏，更有不健康、不宜中学生观看的黄色网页 。所以大家要遵守网络道德和安全规定，不进入歌厅、舞厅、迪厅、网吧等，远离毒品，珍爱生命。不参与不健康的娱乐活动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43920"/>
            <a:ext cx="871380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树立网络责任意识和道德意识，正确对待网络虚拟世界，合理使用互联网和手机，提高对黄色网站、暴力和淫秽色情信息、不良网络游戏等危害性的认识，增强对不良信息的辨别能力，主动拒绝不良信息。不浏览、不制作、不传播不良信息，不进入营业性网吧，不登陆不健康网站，不玩不良网络游戏，防止网络沉迷和受到不良影响，上网时不轻信网上言论，不泄露个人信息，不回复不明提问，远离成人聊天室和黄色网站；形成自觉抵制网络不良信息的风气。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------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摘自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中华人民共和国教育部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             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2010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年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月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13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Tahoma"/>
              </a:rPr>
              <a:t>日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通知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7476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九、遵纪守法、加强安全自护意识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7640" y="1052280"/>
            <a:ext cx="89154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遵纪守法，不到网吧、游戏厅等禁止未成年人进入的场所，也不要涉足营业性电子游戏室、台球厅、录像厅、卡啦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OK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厅、歌舞厅等娱乐场所。不参加不健康的娱乐活动，不听、不信、不传、不参与封建迷信活动，坚决抵制邪教活动。不购买、不借阅内容不健康的书刊、报纸、光碟、录像带；不看低级趣味的电影、电视。多读健康的书刊，多看乐观的节目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结交不良青少年，不打架斗殴。不随意模仿电视或游戏中的暴力行为，不沉溺网络，不参与迷信和赌博活动，远离毒品，不看低级色情书刊和影像。如有不良青少年向自己要钱要物，要及时告诉家长或向警察求救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同学们最好不要独自出门，高年级的同学出门要向爸爸妈妈说明去向和同伴姓名，按时回家，不在外留宿，不留同学在家过夜。不把家庭情况、电话号码、父母及自己姓名随意告诉陌生人。不轻信他人花言巧语，不接受陌生人的食物和其他物品，以防上当受骗。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    </a:t>
            </a:r>
            <a:r>
              <a:rPr b="1" lang="en-US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十、如何过一个有意义的假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560" y="1125360"/>
            <a:ext cx="850716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一、快乐寒假从计划开始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与家长一起制定一个切实可行的寒假计划。比如，学会一两项劳动技能和一两项体育技能；发展一两项爱好；读一两本好书，写一篇读后感；做一件有意义的事等等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二、积极参加各种有意义的实践活动</a:t>
            </a:r>
            <a:br>
              <a:rPr sz="28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　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素质教育的日渐深入人心，学生自身能力、素质的提高也越来越重要。根据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桓台县马桥实验学校寒假社会实践活动方案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同学们利用假期的时间可以以小组的形式，适当的做一些社会调查、敬老院献爱心、小区服务等有意义的社会实践活动，增加学校里学不到的知识，培养更好的社会适应能力。活动过程中一定要注意安全。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95280" y="333000"/>
            <a:ext cx="8569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三、文化课补习承上启下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en-US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寒假是一个补习的黄金时间，它起到了承上启下的衔接作用。学生利用寒假巩固上学期知识，预习新知识就会为下学期学习减轻难度，树立自信心。要学会分配时间，利用寒假时间查漏补缺，重点补习自己的弱项，为新学期的进步打好基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第四、劳逸结合，节制上网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随着社会的进步，学生不可能完全与网络绝缘。但如果仅仅沉溺于聊天偷菜或网络游戏中，那将不仅仅耽误学习，对我们的身体和精神健康也会带来不良影响。因此，希望同学们合理的分配每天的学习和娱乐时间，每天保证至少两小时的学习时间，上网时间不超过一个小时 ，劳逸结合，效率更高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25992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专家们指出，如果提高我们中小学生的自我保护能力，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80%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的意外伤害事故是可以避免的。而导致悲剧发生的一个重要原因，就是我们的青少年欠缺安全防卫知识和防卫意识，自我保护能力差。所以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3399"/>
                </a:solidFill>
                <a:latin typeface="Tahoma"/>
              </a:rPr>
              <a:t>学习安全知识更重要 ！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c600"/>
                </a:solidFill>
                <a:latin typeface="Tahoma"/>
                <a:ea typeface="仿宋_GB2312"/>
              </a:rPr>
              <a:t>要牢固树立“安全第一”的思想，懂得安全的重要意义，做到：安全第一，从我做起；安全第一，从小事做起。关注安全，关爱生命。我要安全，我懂安全。时时讲安全，事事讲安全，人人讲安全，保证人人都安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27653" descr="17206_111746014000_2"/>
          <p:cNvPicPr/>
          <p:nvPr/>
        </p:nvPicPr>
        <p:blipFill>
          <a:blip r:embed="rId1"/>
          <a:stretch/>
        </p:blipFill>
        <p:spPr>
          <a:xfrm>
            <a:off x="0" y="1125360"/>
            <a:ext cx="5219640" cy="5732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3708360" y="1395360"/>
            <a:ext cx="54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  <a:ea typeface="华文中宋"/>
              </a:rPr>
              <a:t>最后，祝愿同学们新年新气象，快乐每一天！度过一个安全、快乐有意义的假期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-252360" y="442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  </a:t>
            </a:r>
            <a:r>
              <a:rPr b="1" lang="zh-CN" sz="7200" spc="-1" strike="noStrike">
                <a:solidFill>
                  <a:srgbClr val="ff3399"/>
                </a:solidFill>
                <a:latin typeface="黑体"/>
                <a:ea typeface="黑体"/>
              </a:rPr>
              <a:t>结束语：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4360" y="404280"/>
            <a:ext cx="7921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寒假安全教育班会内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、交通安全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二、火灾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户外冰雪运动和冰面溺水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、燃放烟花爆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、自我保护和安全求助常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、食品安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七、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煤气中毒预防教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八、网络道德安全教育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九、遵纪守法、加强安全自护意识</a:t>
            </a:r>
            <a:r>
              <a:rPr b="1" lang="zh-CN" sz="3200" spc="-1" strike="noStrike">
                <a:solidFill>
                  <a:srgbClr val="ffff00"/>
                </a:solidFill>
                <a:latin typeface="华文彩云"/>
                <a:ea typeface="华文彩云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、如何过一个有意义的假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lx07010402_40660"/>
          <p:cNvPicPr/>
          <p:nvPr/>
        </p:nvPicPr>
        <p:blipFill>
          <a:blip r:embed="rId1"/>
          <a:stretch/>
        </p:blipFill>
        <p:spPr>
          <a:xfrm>
            <a:off x="601560" y="1844640"/>
            <a:ext cx="8002800" cy="4321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彩云"/>
                <a:ea typeface="华文彩云"/>
              </a:rPr>
              <a:t>一、交通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2007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日，贵阳，假期结束第一天，三名小学生横穿马路，被一辆白色特锐车碾压当场死亡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348000" y="6165720"/>
            <a:ext cx="2879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文中宋"/>
                <a:ea typeface="华文中宋"/>
              </a:rPr>
              <a:t>车祸现场惨不忍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步行时应该注意什么？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691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一 、在道路上须遵守事项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道路上行走，要走人行道；没有人行道的道路，要靠路边行走。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车前，车后急穿道路或在车行道内坐卧、停留、嬉闹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钻越、跨越、倚坐人行护栏或道路隔离设施，扒车、强行拦车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在道路上使用滑板、旱冰鞋等滑行工具；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进入高架道路、高速公路以及其他禁止行人进入的道路。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二、横穿道路时，可能遇到的危险因素会大大增加，应特别注意安全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听从交警的指挥；要遵守交通规则，做到 “ 红灯停， 绿灯行”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要走人行横道（斑马线），做到“一看二慢三通过” ；在有过街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天桥和地下通道的路段，应自觉走过街天桥和地下通道。千万不可翻越路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的栏杆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穿越道路时，要走直线，不可迂回穿行；在没有人行横道的路段，一定要在横过马路</a:t>
            </a:r>
            <a:r>
              <a:rPr b="1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前左右看看，在确认没有危险的情况下，快速通过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过马路时千万不要急行猛跑，更不要在路上玩耍、打闹或在道路上使用滑板、旱冰鞋等滑行工具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不要突然横穿道路，特别是道路对面有熟人、朋友呼唤，或者自己要乘坐的公共汽车已 经进站，千万不能贸然行事，以免发生意外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973080" y="-27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华文中宋"/>
                <a:ea typeface="华文中宋"/>
              </a:rPr>
              <a:t>骑车安全</a:t>
            </a:r>
            <a:r>
              <a:rPr b="1" lang="zh-CN" sz="8800" spc="-1" strike="noStrike">
                <a:solidFill>
                  <a:srgbClr val="ffff00"/>
                </a:solidFill>
                <a:latin typeface="华文中宋"/>
                <a:ea typeface="华文中宋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252720" y="981000"/>
            <a:ext cx="97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《道路交通管理条例》第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条规定：未满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岁的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童，不准在道路上骑自行车、三轮车和推拉人力车。  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了解车辆性能，做到车辆的车闸、车铃齐全有效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依次行驶，不抢道，不占道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规定的非机动车道内行车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集中精力，骑车不戴耳机、耳塞，不听录音、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播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在转弯前，减速慢行，向后瞭望，伸手示意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按规定停放车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要听从交警指挥，服从管理；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在遇到红灯时，依次停在路口停止线以外。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雪雾天气交通安全教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华文彩云"/>
                <a:ea typeface="华文彩云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自行车轮胎不要充气太足，这样可以增加与地面摩擦，不易滑倒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要选择无冰冻、雪层浅的平坦路面，不要猛捏车闸，不急拐弯，拐弯的角度也应尽量大些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雪天骑车，应与前面的车辆、行人保持较大的距离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、 雨雪天气，道路泥泞湿滑，骑车要经历更加集中，随时准备应付突发情况，骑行的速度要比正常天气时慢些才好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25:55Z</dcterms:created>
  <dc:creator>ibm</dc:creator>
  <dc:description/>
  <dc:language>en-US</dc:language>
  <cp:lastModifiedBy>Administrator</cp:lastModifiedBy>
  <dcterms:modified xsi:type="dcterms:W3CDTF">2016-02-26T08:17:11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