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1.jpeg" ContentType="image/jpeg"/>
  <Override PartName="/ppt/media/image9.jpeg" ContentType="image/jpeg"/>
  <Override PartName="/ppt/media/drumroll.wav" ContentType="audio/x-wav"/>
  <Override PartName="/ppt/media/image3.jpeg" ContentType="image/jpeg"/>
  <Override PartName="/ppt/media/image7.gif" ContentType="image/gif"/>
  <Override PartName="/ppt/media/image5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gif" ContentType="image/gif"/>
  <Override PartName="/ppt/media/image18.gif" ContentType="image/gif"/>
  <Override PartName="/ppt/media/image1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199-074F-4522-919A-4F46722F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CA1-BB3A-43E2-B989-49634931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957EA-E86C-4B77-9827-7FF779AD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39771-02EF-4D01-A1DE-B3748CA8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76A48-A146-43D2-B2C2-00C6FCEF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F2E2E-2D9E-4FDB-B560-E6F64814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17F84-E89F-4DC8-8220-4682D83D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DABBD-E706-4AC1-B6C1-55422153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4287D-1077-4176-89F0-7C75D769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7A0A6-B9EA-4AA4-9859-665AB7BD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22477-3B6D-4159-B6BC-3AD4368E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A31B4-1F0E-4A2F-8DF2-58F5100A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DA8-2E00-48F2-B122-B994CFF0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D4D28-0193-49D3-A5CC-79661040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7113F-E8B1-4F2F-B224-A4085C2D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79F5C-71A3-4A46-8DFE-D16ADF16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A9643-A11B-4BC4-8230-EA6AD293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BC9FC-A0A7-4D0A-A603-AA7B68E5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94130-21C8-4F8D-A540-6C073A9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2A57C-7CCB-4B06-9A7C-093EA6BB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A0E90-3EDC-43BA-ADAC-96411700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B2748-A0C9-45FF-A404-879F476F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6BDD7-BD55-4BD7-BB2D-24F2FC73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226-44E9-4BE9-AE38-916931C4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F65E5-2427-49B8-9F8B-7E74F076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42B71-19FE-44EE-A40E-FCCC8C5A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12C85-7EE1-4A3B-B490-6FE4762B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2C226-536D-48A1-8D8E-168D6C1E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84128-AF22-4CC6-877F-E22C7333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B94BA-10A5-4097-8636-4DEADD7F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7DE15-E504-4DED-95CD-804D1C7F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3D780-F63F-442B-B400-8E0BBA4C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C64C5-B4DC-4081-8308-5E4F177F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A96FD-E257-4F2D-9BB4-B877B759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4355-F957-4A8D-B903-E8C81939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40DEE-09E1-46D5-AAAD-797798B8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BD8D1-9C03-4171-91E8-EFC139F3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193B3-BD46-4940-9686-D8A0B62F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92997-81F2-4269-8B89-6684610F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24094-CCA5-4987-998F-1E8C6D8C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41CD8-FBB8-475C-AD4D-D5E74D9D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A8243-783D-4F70-8D0D-9E0B0C8E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4A3EA-7576-4C3E-9177-E9E3C324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1A6C8-2A34-4D25-ABA1-1F80E0BC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EBCE6-3C3D-4D3F-8968-DE2BD2C0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C01A-D958-4B5A-BF18-E8A93512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FE8DC-48CA-44E8-8F96-9A782CC7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45EDC-86A4-49A8-B958-30FAACEF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1E718-80E6-4228-87FD-8004C9C4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3CEB9-B687-4066-8062-1BFA07A1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BCD4B-F90A-4416-A8DF-9856F57C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AD5DE-5427-4951-A019-19AC3D8E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C5729-4563-4C68-A26F-0FD5E280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CA9E9-003D-4F06-B7DB-B6F7EACF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DFA7C-75BA-4745-9C4D-D9F0552B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A1E45-84D8-48DF-BDCD-BF7C7A36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2A98-5397-454B-900D-33D72C57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20491-3586-44BB-A6A1-B865AF73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C60D3-F02C-473A-8FAC-3D69ADB8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1E909-8245-4D50-9D4F-135A6AF2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6FB78-3D21-430F-A99A-DB2B1641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06A8D-E45A-4388-A8AD-2ECF3CDB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7BB28-A247-4417-83E5-46EFB938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95A4A-5931-48E2-A4CD-19D27D58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325D2-91A6-45C0-A9FF-2E54E632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8744FD-B14C-4724-A20B-E2DBAF78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BF3A6-E8D3-4437-94EA-5FC467C2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D454-88D9-41F7-A428-E5295C4A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4C71F-045E-4C8A-A03E-D095091B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8ADB4-30E7-43B0-BDD6-7C8DD4BC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B098B-BB16-4FDA-88B0-E409C348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089F2-7267-44A5-AF8F-526C2628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3DC57-2392-49DF-A46A-8D34E8BB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831CF-5207-4CD8-AFE4-8A58240D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E85BC-3223-4C80-8709-C8D4ED08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E0F6C5-7951-44B6-A3E2-36CA1D32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15E8D-38B1-4C61-B3AA-A6655B1F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5D4C2-82D3-4B2F-9354-9D2B7883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3373-F857-4B41-949D-9DD92029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71F47-BDF3-4508-BADD-FB4CD808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3F2F85-A1A8-4AB9-9892-89E6837F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F2128B-B919-4FD2-9885-7E5BEB7C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23141-007F-45C9-A804-986F5F1A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D2248-6CE2-4E0E-ABEB-D8614D3F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32749-850A-4B52-8E8E-C63B1A5F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EA130-817F-4C7C-B8F3-D1168B6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4425A-9758-4B51-9561-0905DC3E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FA2E2-DD45-400A-869F-78D9E8F6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7CC42-9821-40D6-82A1-8FB251A0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B623-71A2-44E6-A48C-EF6DC602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3E89FE-0AB5-4CE8-AF2A-B062B96D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E6BB-1AF5-4804-A231-EBE2EB8B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258-5ACB-4571-8F78-3AC92E16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0831-D5EB-4732-AAEC-3227EFB7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A899-BD30-4A04-BBB0-DA172CD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80B5-DC7F-4444-B649-E6504D6D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9CA6-0112-470E-B3C5-A83ADCA3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12B2-7302-4911-B323-E4181CE2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B474-C4E1-42CE-B600-16CE0204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A350-A038-42ED-B10C-E8F39A60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092B-138E-4A37-A876-659F16FD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A71D-44A5-436C-AEC3-199F22E1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22ED-0167-4038-960F-C014818F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DF3-78BD-4BE0-8895-60682A28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2C0CD-6100-42D5-9954-4BD9BA7B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A1638-8CA7-4F53-BAD1-B51F9AC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2165-472D-4EAE-AFEA-CC485710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DF9F-84BA-4928-8D6C-1E06568B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C7DC-5FDB-4627-9207-1210C8E5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75A1-0C05-4669-B97E-EACBB6EE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3062-9412-47FB-A1E9-1306F24A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7165F-357A-424D-9CDA-CC2C6576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D0E82-0B3A-4039-BADD-FA00C3C4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7832-51D3-4ED3-BAF8-2A6A83D7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82A-E2A9-4E84-B3C6-B9999E59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ACC0-792F-4AB9-BEA6-1DDC60C8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3A9E1-D729-4251-AB29-E1948F20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4886C-D6D7-4016-ADAB-CE5FF11C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ECBD-0664-431F-8CD4-4402B482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FB5C1-3299-4B35-88FA-D6C0F94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985CB-C5DC-42E3-B13A-19862D45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7685-20E0-41EA-A4E2-12FF22CF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4906E-CFB4-44D8-BDD7-24303154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CBD3C-EE86-477B-A231-0DAFC780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5612A-A709-490B-82F7-542ADCD9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CC9-0F70-4249-8312-4AB7E503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753BA-2A9F-4A9D-830A-F842530D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2034C-A31C-48F6-878C-C9ED720D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B7F6A-4199-4412-A152-51880839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59953-5E28-4204-A175-775147A5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7A2B-7790-4633-936A-C0206F91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09AEE-15A9-4C60-B5D0-7DF308DD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D74B-CAD4-41B5-996D-CF19FF10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B09C9-098F-48C3-9698-7F122653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F8FCD-ACD9-4540-A954-304606A4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37CD1-6D35-4C87-B50B-85D67F31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B77-3962-4815-AF67-A1D17115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52310-64EB-42EB-8CF5-E8B03604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6E986-59DB-4302-8C9E-6F78E085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C17F7-6B77-405A-AA21-BF3AF7B9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61F17-A164-4D39-B81E-2B0C2A87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08C36-1566-4415-A91A-FB373128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34EE2-4092-4118-B507-501BD38A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DF267-7D75-469F-805E-ACC9787D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7DF69-C48A-48B2-9495-B181E5FC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0E12A-014A-4EDA-AF98-7C089FD0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46C3F-1138-480B-A0BE-F70DFBC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00A-D653-4192-ACD3-13343391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B05C2-DCB4-404B-AFD1-FEDA3896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1C9FB-6F36-40C7-B74C-6485064E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6142-CED2-4CAB-9628-AF10AAC9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DB6AE-71D3-4673-9EBC-840EF5BF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821AF-8026-47D9-BA55-C0EDE14C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053C6-2D29-4DF9-ACC9-57D594AC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AAFE-2C8B-4321-BB51-9D9EE7B0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BD4A2-2287-4426-8A60-3A7675AB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C72EA-0874-4093-AD4D-0F3A9C4B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E3465-626E-4812-89BA-0EED6E1D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828-6FDA-407F-983E-C48FDB23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16CB3-7DD0-4B88-BA97-B2D8540C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CA179-699C-4607-8C92-C2C2900C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A6A8A-0148-41A6-A5BE-4A2C4DB4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3F348-4C38-4512-A6FC-2F3CF2E0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55AA9-BD04-4659-9464-588B564D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3C68E-104C-4714-9BDE-1F43FA01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412AF-9F4F-4BBD-9DB5-3D9A45F4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3AEF3-A040-43C4-9469-5FFD1A41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79171-9BA7-4E84-AF0A-3BEB8399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8611C-9AD7-4E5A-9DAD-5A0C1ABD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E04-3AAB-4B6E-A901-33C090CA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04150-992A-45CA-9B51-7BEB1103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E0667-E630-480B-8A02-DD8BE034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A0F44-9F11-4D65-B9C8-91A6548B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5406F-DEF0-4E91-B766-13A743E8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A198C-4D9D-4363-9730-18294F61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4D162-FE55-488F-82F7-53B2B27E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24659-B345-4E07-A3E0-8DA6E1FF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D6FBA-010A-4B9E-AFF1-315F31A8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6D6C6-372F-4C56-B32E-9D71EB39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E96A2-D59D-48F7-9640-B83F215B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B0E6-3C64-46EE-841B-1B5A1BAC8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9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3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3F9E-CD32-4068-8F8F-48B46B4C63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3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446C-2C80-4DAA-81FA-D972DBDDA8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8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E237-58EA-461F-B79B-8D9B6F6B1A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2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F685-FF33-48DD-A205-30C8325B4F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6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4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BC9D-5C29-4FA5-82BE-88F68AEF06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1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FDB2-C948-423F-BBCC-FD560BB37A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4BB8-9EE9-430D-B4D0-30C6C4C277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2D83-358E-4353-8BB0-E3B42C5E5D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66A0-E2AB-44C4-BFE0-DE2CF37CF5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0E64-D220-480E-9B51-949B9F5497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1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3807-1E96-4953-A623-309283FDC5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0025-9771-4894-8FA4-965CE2EFDE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0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FEFB-E886-4BE1-9F99-3FED3F43AC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4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213D-1485-43CD-AFE1-28F2D42B80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upbook.net/web/?action_viewnews_itemid_127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k6699.com/html/200603/29/1636571063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高中寒假开学收心主题班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205092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1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9001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一、没有严格自律，就没有非凡的成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卫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个人保持：不在室、舍、院乱扔、不在教室零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日生负责：及时到位、标准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床铺、书桌：整齐有序、善于整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4" descr="image1397"/>
          <p:cNvPicPr/>
          <p:nvPr/>
        </p:nvPicPr>
        <p:blipFill>
          <a:blip r:embed="rId1"/>
          <a:stretch/>
        </p:blipFill>
        <p:spPr>
          <a:xfrm>
            <a:off x="4038480" y="152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j088"/>
          <p:cNvPicPr/>
          <p:nvPr/>
        </p:nvPicPr>
        <p:blipFill>
          <a:blip r:embed="rId2"/>
          <a:stretch/>
        </p:blipFill>
        <p:spPr>
          <a:xfrm>
            <a:off x="8001000" y="4343400"/>
            <a:ext cx="457200" cy="228600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2"/>
          <p:cNvSpPr/>
          <p:nvPr/>
        </p:nvSpPr>
        <p:spPr>
          <a:xfrm>
            <a:off x="785880" y="503064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是一只雄鹰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生命里只有翱翔没有放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9001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二、没有非凡的付出，就没有理想的人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反思自己的学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选择倾理：你的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语数英理化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选择倾文：你的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语数英地理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假期作业：失去的永远失去，得到的永远属于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（数学反面、英语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卷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这就是差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基础不牢，地动山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Picture 4" descr="image1397"/>
          <p:cNvPicPr/>
          <p:nvPr/>
        </p:nvPicPr>
        <p:blipFill>
          <a:blip r:embed="rId1"/>
          <a:stretch/>
        </p:blipFill>
        <p:spPr>
          <a:xfrm>
            <a:off x="4038480" y="152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" descr="j088"/>
          <p:cNvPicPr/>
          <p:nvPr/>
        </p:nvPicPr>
        <p:blipFill>
          <a:blip r:embed="rId2"/>
          <a:stretch/>
        </p:blipFill>
        <p:spPr>
          <a:xfrm>
            <a:off x="8001000" y="4343400"/>
            <a:ext cx="45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高一基础要打牢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高二学习要跟上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高三要多做题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多练习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三年的学习就像一项工程，最关键的是基建，基础打不好，工程就完不成，即使勉强完成了，也经不起风雨的考验，所谓“皮之不存，毛将焉附”，即使勉强为之，也只不过像某些丧尽天良的开发商那样又生产了一批“豆腐渣工程”。我们高一、高二的学习也是如此，基础打不牢，到高三我们就很难提升，最后也很难经得起高考的验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663040" cy="651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一个故事说，能够到达金字塔顶端的只有两种动物，一是雄鹰，靠自己的天赋和翅膀飞了上去。但是，大家也都知道，有另外一种动物，也到了金字塔的顶端。那就是蜗牛。蜗牛肯定只能是爬上去。从低下爬到上面可能要一个月、两个月，甚至一年、两年。在金字塔顶端，人们确实找到了蜗牛的痕迹。我相信蜗牛绝对不会一帆风顺地爬上去，一定会掉下来、再爬、掉下来、再爬。但是，同学们所要知道的是，蜗牛只要爬到金字塔顶端，它眼中所看到的世界，它收获的成就，跟雄鹰是一模一样的。所以，也许我们在座的同学有的是雄鹰，有的是蜗牛。我在高中的时候，包括到今天为止，我一直认为我是一只蜗牛。但是我一直在爬，也许还没有爬到金字塔的顶端。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但是只要你在爬，就足以给自己留下令生命感动的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66268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如果我们的生命不为自己留下一些让自己热泪盈眶的日子，你的生命就是白过的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必须为自己创造一些让自己感动的日子，你才能够感动别人。我们这儿有富裕家庭来的，也有贫困家庭来的，我们生命的起点由不得你选择出生在富裕家庭还是贫困家庭，如果你生在贫困家庭，你不能说老爸把我收回去，我不想在这里待着。但是我们生命的终点是由我们自己选择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179280" y="50007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觉得只要有两样东西在心中，我们就能成就自己的人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13880" y="785880"/>
            <a:ext cx="8178840" cy="530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样叫做理想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每个人自小就有各种理想。只要你心中有理想，有志向，同学们，你终将走向成功。你所要做到的就是在这个过程要有艰苦奋斗、忍受挫折和失败的能力，要不断地把自己的心胸扩大，才能够把事情做得更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393040" cy="505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二样东西叫良心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什么叫良心呢？就是要做好事，要做对得起自己对得起别人的事情，要有和别人分享的姿态，要有愿意为别人服务的精神。有良心的人会从你具体的生活中间做的事情体现出来，而且你所做的事情一定对你未来的生命产生影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71320" y="857160"/>
            <a:ext cx="8321400" cy="58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勤能补拙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于每一位学子来说，在掌握学习方法前你必须学会勤奋。高中有很多课需要你听，有很多书需要你看，有很多作业需要你做，而这些都要靠勤奋。</a:t>
            </a: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没有勤奋这块垫脚石，学习就很难获得成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391600" cy="63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人都知道，高三基本不上新课，因为新课早在高一高二学完了。这意味着什么，就把自己当成一个士兵一样，高三的一年基本都是大演练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你跟不上部队，别人也不会因你而等着，你只能比别人付出的更多才行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了高考，就像冲入战场一般，从平时的积累决定你是落荒而逃还是迎难而上。高三的学习阶段也像是盖房子一样，如果你前面的根基牢固，你会轻松自如，每天收获的也多一点，吸收的快一点，当然也可以花点时间弥补过去学习存在的缝隙。冰冻三尺非一日之寒，所以不要在平时把学习的心思寄托在高考上，正所谓一步一人生。不要到了进入考场时感到后悔，抱怨自己以前没有努力，也许你没有任何的理由，也没有人能够同情你，因为你没有抓住学习的时光，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遗憾是别人的，后悔是自己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、劝世良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642960" y="2143080"/>
            <a:ext cx="819612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别谈恋爱，那恋爱谈了白谈，还耽误功夫，划不来。遵守纪律，别让扣分，扣多了麻烦的很，常有被劝退的，所以自己要小心。高一高二把基础打好了，高三一加强，上个重点不是什么难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3" descr="2006719_c4ae32170395af47e920f13d7ebfe81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06111208273088668"/>
          <p:cNvPicPr/>
          <p:nvPr/>
        </p:nvPicPr>
        <p:blipFill>
          <a:blip r:embed="rId3"/>
          <a:stretch/>
        </p:blipFill>
        <p:spPr>
          <a:xfrm>
            <a:off x="0" y="0"/>
            <a:ext cx="4162320" cy="752400"/>
          </a:xfrm>
          <a:prstGeom prst="rect">
            <a:avLst/>
          </a:prstGeom>
          <a:ln w="0">
            <a:noFill/>
          </a:ln>
        </p:spPr>
      </p:pic>
      <p:sp>
        <p:nvSpPr>
          <p:cNvPr id="660" name="WordArt 4"/>
          <p:cNvSpPr txBox="1"/>
          <p:nvPr/>
        </p:nvSpPr>
        <p:spPr>
          <a:xfrm>
            <a:off x="285840" y="1714680"/>
            <a:ext cx="8858160" cy="25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新学期、新起点、新期待 </a:t>
            </a:r>
            <a:endParaRPr b="1" lang="en-US" sz="4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857160" y="9288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方正行楷简体"/>
                <a:ea typeface="方正行楷简体"/>
              </a:rPr>
              <a:t>相聚未名湖畔是亿万学子的期盼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3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6"/>
          <p:cNvSpPr/>
          <p:nvPr/>
        </p:nvSpPr>
        <p:spPr>
          <a:xfrm>
            <a:off x="285840" y="121428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Verdana"/>
                <a:ea typeface="方正姚体"/>
              </a:rPr>
              <a:t>早恋是一枚包着糖衣的苦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8"/>
          <p:cNvSpPr/>
          <p:nvPr/>
        </p:nvSpPr>
        <p:spPr>
          <a:xfrm>
            <a:off x="152712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714240" y="2714760"/>
            <a:ext cx="7559640" cy="82512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Comic Sans MS"/>
              </a:rPr>
              <a:t>人生每个阶段都有每个阶段的使命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我们千万不可以在春天就去挥霍夏天。</a:t>
            </a:r>
            <a:r>
              <a:rPr b="1" lang="zh-CN" sz="4000" spc="-1" strike="noStrike">
                <a:solidFill>
                  <a:srgbClr val="3333cc"/>
                </a:solidFill>
                <a:latin typeface="Comic Sans MS"/>
              </a:rPr>
              <a:t>莫让情感航船过早靠岸。</a:t>
            </a:r>
            <a:r>
              <a:rPr b="1" lang="zh-CN" sz="48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228600" y="2895480"/>
            <a:ext cx="8713800" cy="581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华文新魏"/>
                <a:ea typeface="华文新魏"/>
              </a:rPr>
              <a:t>一天时间的利用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学习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工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／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457200" y="990720"/>
            <a:ext cx="813600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的时间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上课时间＋自习时间＋真正利用的课余时间－发呆时间－闲聊时间－借东西时间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 …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3791520" y="548640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ahoma"/>
              </a:rPr>
              <a:t>你的时间利用率高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ahoma"/>
              </a:rPr>
              <a:t>主要是什么习惯产生的影响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5" descr="image001"/>
          <p:cNvPicPr/>
          <p:nvPr/>
        </p:nvPicPr>
        <p:blipFill>
          <a:blip r:embed="rId1"/>
          <a:stretch/>
        </p:blipFill>
        <p:spPr>
          <a:xfrm>
            <a:off x="0" y="0"/>
            <a:ext cx="4114800" cy="76500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6"/>
          <p:cNvSpPr/>
          <p:nvPr/>
        </p:nvSpPr>
        <p:spPr>
          <a:xfrm>
            <a:off x="678168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成功有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7" descr="22"/>
          <p:cNvPicPr/>
          <p:nvPr/>
        </p:nvPicPr>
        <p:blipFill>
          <a:blip r:embed="rId2"/>
          <a:stretch/>
        </p:blipFill>
        <p:spPr>
          <a:xfrm flipH="1" rot="10800000">
            <a:off x="4876920" y="532800"/>
            <a:ext cx="3978000" cy="759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懶人的願望50"/>
          <p:cNvPicPr/>
          <p:nvPr/>
        </p:nvPicPr>
        <p:blipFill>
          <a:blip r:embed="rId3"/>
          <a:stretch/>
        </p:blipFill>
        <p:spPr>
          <a:xfrm>
            <a:off x="0" y="449568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9"/>
          <p:cNvSpPr/>
          <p:nvPr/>
        </p:nvSpPr>
        <p:spPr>
          <a:xfrm>
            <a:off x="1785960" y="3714840"/>
            <a:ext cx="5214960" cy="1357200"/>
          </a:xfrm>
          <a:prstGeom prst="cloudCallout">
            <a:avLst>
              <a:gd name="adj1" fmla="val -68875"/>
              <a:gd name="adj2" fmla="val 62402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、珍惜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拒绝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康体简体"/>
              </a:rPr>
              <a:t>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制定计划。经过两个星期的学习，大家对自己学科上存在的问题应该都十分清楚了，因此要详细地根据自身情况制定一份合理周全的计划，并尽力去完成。如果一天因疲惫而不能完成，那么在第二天一定设法补上，绝对不能在学习上“欠债”。因此要注意两点：一、计划是用来执行的，没有可行性，完成不了的计划没有任何意义，只会突然增加你的愧疚感，或者让你对学习变得麻木。二、计划一旦制定就要坚决执行，不可随便打破，否则就会陷入恶性循环，最终成为一纸空言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紧跟进度。认真听课，按时完成作业，看似简单，实际非常困难，高强度的课堂和习题训练，会让你身心疲惫，但一定要坚持，绝不能掉队，不懂就问，直到彻底弄明白才罢手。另外也不能自以为是，故作聪明地跑开课程和老师，完全自主复习，以免浪费时间，事倍功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及时纠错。消化知识，巩固训练，复习检测都需要做题，套用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话，“做一套题，难免要错上几道”。但是这些错题，以及老师提醒过的典型例题要在做过之后及时纠错，积累下来。并安排时间去“反刍”，直到真正消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学习态度积极、端正。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习成绩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教师授课质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生学科基础）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学生学习积极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致零因素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服从管理、热爱学习：是作为一名学生的根本职责，也是作为学生的最低标准和要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立足高一，着眼于高二高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夯实基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关注三大基础学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文：关注地理（语数英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理：关注理化（语数英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8224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每天自问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42760" y="1356840"/>
            <a:ext cx="876924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今天充分利用时间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今天上课积极动脑子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今天作业独立完成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今天不懂的问题解决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今天的低级失误减少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良好的学习习惯养成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今天做无效的劳动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今天爸爸妈妈在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琥珀"/>
              </a:rPr>
              <a:t>明天我要如何的改变自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6" descr="节日9"/>
          <p:cNvPicPr/>
          <p:nvPr/>
        </p:nvPicPr>
        <p:blipFill>
          <a:blip r:embed="rId1"/>
          <a:stretch/>
        </p:blipFill>
        <p:spPr>
          <a:xfrm>
            <a:off x="41400" y="380880"/>
            <a:ext cx="9102600" cy="685800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248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我不相信被动会有收获，凡事一定要主动出击才能成功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迈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乔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762120" y="257184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一位哲人说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你的心态就是你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主人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571680" y="428616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一位伟人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要么你去驾驭生命，要么是生命驾驭你。你的心态决定谁是坐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谁是骑师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Picture 7" descr="image1320"/>
          <p:cNvPicPr/>
          <p:nvPr/>
        </p:nvPicPr>
        <p:blipFill>
          <a:blip r:embed="rId2"/>
          <a:stretch/>
        </p:blipFill>
        <p:spPr>
          <a:xfrm>
            <a:off x="92160" y="4038480"/>
            <a:ext cx="669960" cy="8384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image1320"/>
          <p:cNvPicPr/>
          <p:nvPr/>
        </p:nvPicPr>
        <p:blipFill>
          <a:blip r:embed="rId3"/>
          <a:stretch/>
        </p:blipFill>
        <p:spPr>
          <a:xfrm>
            <a:off x="92160" y="2209680"/>
            <a:ext cx="669960" cy="838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9" descr="image1320"/>
          <p:cNvPicPr/>
          <p:nvPr/>
        </p:nvPicPr>
        <p:blipFill>
          <a:blip r:embed="rId4"/>
          <a:stretch/>
        </p:blipFill>
        <p:spPr>
          <a:xfrm>
            <a:off x="15840" y="304920"/>
            <a:ext cx="669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42012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5" descr="39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35" name="WordArt 6"/>
          <p:cNvSpPr txBox="1"/>
          <p:nvPr/>
        </p:nvSpPr>
        <p:spPr>
          <a:xfrm>
            <a:off x="228600" y="0"/>
            <a:ext cx="8610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珍惜现在我们所拥有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0" y="0"/>
            <a:ext cx="9144000" cy="6643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3" descr="200632916405670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06560"/>
            <a:ext cx="9144000" cy="58514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4"/>
          <p:cNvSpPr/>
          <p:nvPr/>
        </p:nvSpPr>
        <p:spPr>
          <a:xfrm>
            <a:off x="571680" y="128592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方正行楷简体"/>
                <a:ea typeface="方正行楷简体"/>
              </a:rPr>
              <a:t>在美丽的水木清华度过自己的金色年华是亿万学子的梦想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75052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的一生是奋斗的一生，但是有的人一生过得很伟大，有的人一生过得很琐碎。如果我们有一个伟大的理想，有一颗善良的心，我们一定能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把很多琐碎的日子堆砌起来，变成一个伟大的生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但是如果你每天庸庸碌碌，没有理想，从此停止进步，那未来你一辈子的日子堆积起来将永远是一堆琐碎。所以，我希望所有的同学能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把自己每天平凡的日子堆砌成伟大的人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0" y="-4201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7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9" name="WordArt 9"/>
          <p:cNvSpPr txBox="1"/>
          <p:nvPr/>
        </p:nvSpPr>
        <p:spPr>
          <a:xfrm>
            <a:off x="-214200" y="714240"/>
            <a:ext cx="9001080" cy="41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好的开始是成功的一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40" name="矩形 5"/>
          <p:cNvSpPr/>
          <p:nvPr/>
        </p:nvSpPr>
        <p:spPr>
          <a:xfrm>
            <a:off x="1214280" y="4929120"/>
            <a:ext cx="7286760" cy="91692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Well begun is half don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新学期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标志着松散、高度自我的寒假生活的结束，紧张忙碌、规范自律的新学年的开始。从现在开始，全体同学都要消除“寒假综合症”，以崭新的姿态、满腔的热忱、饱满的精神投入新的学习之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6" descr="image0880"/>
          <p:cNvPicPr/>
          <p:nvPr/>
        </p:nvPicPr>
        <p:blipFill>
          <a:blip r:embed="rId1"/>
          <a:stretch/>
        </p:blipFill>
        <p:spPr>
          <a:xfrm>
            <a:off x="7391520" y="5753160"/>
            <a:ext cx="914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新起点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机遇与挑战并存，压力与动力同在，我相信，我们有信心、有能力，能在新的起点上赢得新的胜利，续写新的篇章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4" descr="image1397"/>
          <p:cNvPicPr/>
          <p:nvPr/>
        </p:nvPicPr>
        <p:blipFill>
          <a:blip r:embed="rId1"/>
          <a:stretch/>
        </p:blipFill>
        <p:spPr>
          <a:xfrm>
            <a:off x="4038480" y="152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" descr="j088"/>
          <p:cNvPicPr/>
          <p:nvPr/>
        </p:nvPicPr>
        <p:blipFill>
          <a:blip r:embed="rId2"/>
          <a:stretch/>
        </p:blipFill>
        <p:spPr>
          <a:xfrm>
            <a:off x="8001000" y="4343400"/>
            <a:ext cx="45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5" descr="节日13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75960" y="499680"/>
            <a:ext cx="8762760" cy="64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新期待”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昨天的辉煌凝固成永恒的美丽，今日的期待孕育着明天的丰碑。同学们，琴弦松弛，奏不出动听的乐曲；纪律散漫，点不燃生命的火焰。如果你希望成功，当以组织纪律为保证，以创新理论为指导，以师生互动为动力，以质量成绩为目标，勇于超越自己的昨天和前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己把自己说服，是一种理智的胜利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己被自己感动，是一种心灵的升华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己把自己征服，是一种人生的成熟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6" descr="image0519"/>
          <p:cNvPicPr/>
          <p:nvPr/>
        </p:nvPicPr>
        <p:blipFill>
          <a:blip r:embed="rId2"/>
          <a:stretch/>
        </p:blipFill>
        <p:spPr>
          <a:xfrm>
            <a:off x="4038480" y="76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1920" y="-4201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SmartArt 占位符 8" descr="i10b.jpg"/>
          <p:cNvPicPr/>
          <p:nvPr/>
        </p:nvPicPr>
        <p:blipFill>
          <a:blip r:embed="rId1"/>
          <a:stretch/>
        </p:blipFill>
        <p:spPr>
          <a:xfrm>
            <a:off x="1714680" y="1285920"/>
            <a:ext cx="5857560" cy="521496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1676520" y="3657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WordArt 8"/>
          <p:cNvSpPr txBox="1"/>
          <p:nvPr/>
        </p:nvSpPr>
        <p:spPr>
          <a:xfrm rot="5400000">
            <a:off x="-1905120" y="3276360"/>
            <a:ext cx="541008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改掉假期的生活方式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7" name="WordArt 10"/>
          <p:cNvSpPr txBox="1"/>
          <p:nvPr/>
        </p:nvSpPr>
        <p:spPr>
          <a:xfrm>
            <a:off x="1828800" y="1522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开学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78" name="WordArt 11"/>
          <p:cNvSpPr txBox="1"/>
          <p:nvPr/>
        </p:nvSpPr>
        <p:spPr>
          <a:xfrm rot="5400000">
            <a:off x="5638680" y="3200400"/>
            <a:ext cx="533376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藏起春节的温馨甜蜜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-4201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WordArt 7"/>
          <p:cNvSpPr txBox="1"/>
          <p:nvPr/>
        </p:nvSpPr>
        <p:spPr>
          <a:xfrm rot="5400000">
            <a:off x="5715000" y="3276360"/>
            <a:ext cx="51814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总结假期的为人处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1" name="WordArt 8"/>
          <p:cNvSpPr txBox="1"/>
          <p:nvPr/>
        </p:nvSpPr>
        <p:spPr>
          <a:xfrm>
            <a:off x="2133720" y="15228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起跑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82" name="WordArt 10"/>
          <p:cNvSpPr txBox="1"/>
          <p:nvPr/>
        </p:nvSpPr>
        <p:spPr>
          <a:xfrm rot="5400000">
            <a:off x="-1714320" y="31618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记住过年的亲人嘱咐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3" name="Picture 11" descr="43"/>
          <p:cNvPicPr/>
          <p:nvPr/>
        </p:nvPicPr>
        <p:blipFill>
          <a:blip r:embed="rId1"/>
          <a:stretch/>
        </p:blipFill>
        <p:spPr>
          <a:xfrm>
            <a:off x="1905120" y="1447920"/>
            <a:ext cx="55623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9001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一、没有严格自律，就没有非凡的行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纪律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课堂专心致志</a:t>
            </a:r>
            <a:r>
              <a:rPr b="1" lang="zh-CN" sz="2800" spc="-1" strike="noStrike">
                <a:solidFill>
                  <a:srgbClr val="191966"/>
                </a:solidFill>
                <a:latin typeface="Comic Sans MS"/>
              </a:rPr>
              <a:t>（微笑、点头、虚心、尊重）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课间静班不乱窜、不喧哗</a:t>
            </a:r>
            <a:r>
              <a:rPr b="1" lang="zh-CN" sz="2800" spc="-1" strike="noStrike">
                <a:solidFill>
                  <a:srgbClr val="191966"/>
                </a:solidFill>
                <a:latin typeface="Comic Sans MS"/>
              </a:rPr>
              <a:t>（交往、串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自习安静、高效</a:t>
            </a:r>
            <a:r>
              <a:rPr b="1" lang="zh-CN" sz="2800" spc="-1" strike="noStrike">
                <a:solidFill>
                  <a:srgbClr val="191966"/>
                </a:solidFill>
                <a:latin typeface="Comic Sans MS"/>
              </a:rPr>
              <a:t>（入静、秩序、计划、用心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两休及时、专一</a:t>
            </a:r>
            <a:r>
              <a:rPr b="1" lang="zh-CN" sz="2800" spc="-1" strike="noStrike">
                <a:solidFill>
                  <a:srgbClr val="191966"/>
                </a:solidFill>
                <a:latin typeface="Comic Sans MS"/>
              </a:rPr>
              <a:t>（抢时间休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4" descr="image1397"/>
          <p:cNvPicPr/>
          <p:nvPr/>
        </p:nvPicPr>
        <p:blipFill>
          <a:blip r:embed="rId1"/>
          <a:stretch/>
        </p:blipFill>
        <p:spPr>
          <a:xfrm>
            <a:off x="4038480" y="152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" descr="j088"/>
          <p:cNvPicPr/>
          <p:nvPr/>
        </p:nvPicPr>
        <p:blipFill>
          <a:blip r:embed="rId2"/>
          <a:stretch/>
        </p:blipFill>
        <p:spPr>
          <a:xfrm>
            <a:off x="8001000" y="4343400"/>
            <a:ext cx="457200" cy="228600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2"/>
          <p:cNvSpPr/>
          <p:nvPr/>
        </p:nvSpPr>
        <p:spPr>
          <a:xfrm>
            <a:off x="785880" y="4429080"/>
            <a:ext cx="77724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是一只雄鹰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生命里只有翱翔没有放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4:10:23Z</dcterms:created>
  <dc:creator>CHangJianGuo</dc:creator>
  <dc:description/>
  <dc:language>en-US</dc:language>
  <cp:lastModifiedBy>未知用户</cp:lastModifiedBy>
  <dcterms:modified xsi:type="dcterms:W3CDTF">2016-02-23T01:42:29Z</dcterms:modified>
  <cp:revision>45</cp:revision>
  <dc:subject/>
  <dc:title>PowerPoint 演示文稿</dc:title>
</cp:coreProperties>
</file>