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4.png" ContentType="image/png"/>
  <Override PartName="/ppt/media/image9.png" ContentType="image/pn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AF6F5-B616-4E50-BBA6-90DFFA985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2A0C-A0B9-4BB9-AFEB-D80F6D393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F0908-B841-4C68-9008-54C2F2B5E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C8E0E-0B2B-4957-979A-3E7B5EA62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2F12B-4F75-4E2D-B1A0-A7825E81A8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C450C-63DD-46F0-889C-8B3BF74D6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B4A8-4B01-42A1-98E9-1BC2647C3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6E3A6-55E1-4B75-A7B4-2AB915B8E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98F1-E15C-4347-B229-23C4CB4729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1C7F2-AD4B-4B76-8F54-CD3B2412F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2D133-25C3-42FB-9F34-07E599146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1ABC6-B9CB-453F-9E4C-EA5014099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F7BE0-9BEF-4648-834A-DACAE479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D7B19D-F55F-4EE1-83A4-81CF0CAE8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45CF4-788A-4DC6-B4C1-435DDDB103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E39DAF-B0D3-41E1-B4BB-282FCBF181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94776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524280" y="19810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137124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94776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524280" y="41306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B5D778-5B5E-4D62-8E96-59614A9CF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41D10-FB46-4EFC-99A2-F5D21F7D3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838BF-53B4-4211-97D6-5DC233E40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59EF-B6C0-4865-AD3A-DC507F6D96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240" y="53316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FE893-C371-44BC-8901-78177ADBC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94CEE-33F8-4691-93F4-F5DF89FFC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276160" y="41306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FBD54-FAA4-468A-9764-6B145912A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276160" y="19810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240" y="41306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83D39-8114-4538-9C2D-87E90E144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3712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3429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2388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AC957-35D7-483A-B9B1-F807E8190A8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932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SzPct val="95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581280" y="685440"/>
            <a:ext cx="556128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78695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78695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18A26-F2A9-439B-9031-457B7F42440A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8.xml"/><Relationship Id="rId2" Type="http://schemas.openxmlformats.org/officeDocument/2006/relationships/slide" Target="slide30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7.xm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33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1186920" y="1557360"/>
            <a:ext cx="762012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65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1" lang="zh-CN" sz="6600" spc="-1" strike="noStrike">
                <a:solidFill>
                  <a:srgbClr val="000000"/>
                </a:solidFill>
                <a:latin typeface="华文行楷"/>
                <a:ea typeface="华文行楷"/>
              </a:rPr>
              <a:t>为期末联考而战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835280" y="4149720"/>
            <a:ext cx="67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华文行楷"/>
                <a:ea typeface="华文行楷"/>
              </a:rPr>
              <a:t>-----</a:t>
            </a:r>
            <a:r>
              <a:rPr b="1" i="1" lang="zh-CN" sz="2800" spc="-1" strike="noStrike">
                <a:solidFill>
                  <a:srgbClr val="6600cc"/>
                </a:solidFill>
                <a:latin typeface="华文行楷"/>
                <a:ea typeface="华文行楷"/>
              </a:rPr>
              <a:t>高三</a:t>
            </a:r>
            <a:r>
              <a:rPr b="1" i="1" lang="en-US" sz="2800" spc="-1" strike="noStrike">
                <a:solidFill>
                  <a:srgbClr val="6600cc"/>
                </a:solidFill>
                <a:latin typeface="华文行楷"/>
                <a:ea typeface="华文行楷"/>
              </a:rPr>
              <a:t>(9)</a:t>
            </a:r>
            <a:r>
              <a:rPr b="1" i="1" lang="zh-CN" sz="2800" spc="-1" strike="noStrike">
                <a:solidFill>
                  <a:srgbClr val="6600cc"/>
                </a:solidFill>
                <a:latin typeface="华文行楷"/>
                <a:ea typeface="华文行楷"/>
              </a:rPr>
              <a:t>班期末考前复习主题班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1692360" y="333360"/>
            <a:ext cx="70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黑体"/>
                <a:ea typeface="黑体"/>
              </a:rPr>
              <a:t>一、仔细制定一个考前复习计划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1476360" y="1052640"/>
            <a:ext cx="7199280" cy="18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每到这时，有些同学就感到焦头烂额，不知道该怎么复习、复习哪门科好。我提醒你首先要制定一个临考复习计划，有了这个计划，后期复习任务的完成，才有了具体的时间和空间，也就可以结束忙乱无序的紧张心态，使你的心情平静下来。如果复习没计划，西打一捶，东打一棒，肯定事倍功半。在安排计划时，要考虑以下几个问题：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每科老师都有计划，老师经历过很多次高考，肯定比你有经验，要参照老师的计划安排，结合自身情况制订一个既与老师计划一致又符合自己实际的计划来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计划时要把时间划分好。临考前的时间大致分为两部分：一部分归教师支配，一部分归自己支配。在跟着老师复习的时间内一定要力争学会，把它看成是考前的“最后一次”见面，不要再寄希望于以后自己再找时间复习，因为事实上已没有这个“时间”了。在自己支配的学习时间内，要认真安排好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403280" y="765000"/>
            <a:ext cx="7561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在安排学习任务时，要轻重缓急得当。学习时间十分有限，要在这有限的时间内分清“重和急”、“轻和缓”。“重和急”指的是自己尚未复习或只要投入时间就可以掌握的重点内容和学科，对这部分要重点“扫荡”。“轻和缓”指的是非重点，难度小，占分不多的部分，也可以是自己掌握得比较好的部分，或者，虽然重要但在短时间内已无法掌握的内容，这部分少用时间，敢于大胆舍弃。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4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、临考前，时间也许是最让你焦虑不安的了，总希望能多一天时间复习，但时间是根本无法延伸的。解决的途径只有一个，即克服拖沓现象，提高时间的利用率。 复习前要明确复习的任务，确定完成任务的最后期限，做到“日事日毕，日清日高”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1186920" y="907920"/>
            <a:ext cx="7620120" cy="476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二、有效利用复习时间</a:t>
            </a:r>
            <a:br>
              <a:rPr sz="2400"/>
            </a:b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恩格斯说：“没有计划的学习简直就是荒唐。”学习好与差的一个重要区别就在于有无计划。有适用的复习计划，能统筹兼顾地安排好各科学习，这就是学习优良者的共同点。有的同学认为，学校和老师自然会为大家安排复习计划，用不着自己在费事，跟着老师走、按着学校的要求办就可以了。这种想法不对。学校和老师的计划主要是从教的角度，针对全体同学订的，除了遵照执行以外，还应针对自己的情况，从学的角度更具体地制订出个人的复习计划。两方面互相照应配合，才能收到更好的复习效果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58560" y="6922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有了复习计划，就要有效地利用时间。离期末考试只有一周多一点的时间了，时间对于我们来说相当重要，所以我们要以迎接期末考试的复习为重心。那么怎样才能在有限的时间内做更多的事情？我认为：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依靠学习技能，可以提高学习效率，这样就能完成更多的任务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充分利用往往被浪费或认为无足轻重的小块时间，这样就能获得比别人更多的时间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）通过自我控制，养成好习惯，改掉坏习惯。平时，同学们浪费时间的现象非常普遍。如：聊天、没有节制地玩、无目的的东张西望、无目的的看与学习无关的书、为崇拜的人分散精力、看或写不必要的东西等等。 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期末考试近在眼前，要求同学们一切以复习迎考为中心，把必须要做的事情和可做可不做的事情清楚地分开，安排一个切实可行的复习计划并且利用好复习时间，真正钻进去，发扬埋头苦干的精神。当然，我们还要注意休息，劳逸结合，均衡进餐，保持充沛的精力，以最佳的应试状态迎接期末考试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58560" y="765000"/>
            <a:ext cx="7885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三、讲究复习方法，提高复习效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如何讲究复习方法，在复习中要突出“四要”和“三练”。“四要”就是：第一，对面知识和概念的来龙去脉要搞清楚。既要注重结果，更要注重过程，以能力立意的试题往往是知识和概念的迁移，只有把过程搞清楚，才能在知识迁移中融会贯通，举一反三。第二，对知识和概念的易混点也就是难点要归纳类比。即要辩别易混点的区别与内在联系，建议同学们尽量找出自己的疑难问题，记录在册，及时找老师和同学解决。第三，对知识和概念的重要问题也就是主干知识要构建学科知识体系。即要归纳总结，经常对知识进行疏理，使学科知识结构网络逐步清晰。第四，对知识和概念的运用要依据学科思维方式去思考和分析，掌握学科的思维方式和思想方法，考试答题规范有序，避免不合符规范而扣分，该得的分没有得。</a:t>
            </a:r>
            <a:br>
              <a:rPr sz="2400"/>
            </a:b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三练”就是：一练“审题”与“破题”的方法。要善于在以能力立意的问题中捕捉隐含条件，找到解决问题的关健。二练“开放性”与“多角度”的思维方法，一个问题要善于从多角度多侧面去分析，使知识“迁移”和“再生”。三练“经典题例”，课本上或课堂上老师讲到的典型题例往往是经典的题目，是重难点的剖析，应特别注意分析的思路和方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3300"/>
                </a:solidFill>
                <a:latin typeface="Times New Roman"/>
              </a:rPr>
              <a:t>特别提醒</a:t>
            </a:r>
            <a:r>
              <a:rPr b="1" lang="en-US" sz="6000" spc="-1" strike="noStrike">
                <a:solidFill>
                  <a:srgbClr val="ff3300"/>
                </a:solidFill>
                <a:latin typeface="Times New Roman"/>
              </a:rPr>
              <a:t>: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58560" y="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r>
              <a:rPr b="1" lang="en-US" sz="2800" spc="-1" strike="noStrike">
                <a:solidFill>
                  <a:srgbClr val="0066ff"/>
                </a:solidFill>
                <a:latin typeface="新宋体"/>
                <a:ea typeface="新宋体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新宋体"/>
                <a:ea typeface="新宋体"/>
              </a:rPr>
              <a:t>、在回扣复习阶段一定要注意各科时间上的合理分配，要齐头并进。一花独秀不是春，百花齐放春满园。各科要均衡发展，每门功课都要复习到位，不能对优势学科掉以轻心，也不能对薄弱学科失去信心。只是不同层次的功课，对你要求各不相同，复习的目标和策略做到相应变化。</a:t>
            </a:r>
            <a:br>
              <a:rPr sz="2800"/>
            </a:br>
            <a:r>
              <a:rPr b="1" lang="en-US" sz="2800" spc="-1" strike="noStrike">
                <a:solidFill>
                  <a:srgbClr val="0066ff"/>
                </a:solidFill>
                <a:latin typeface="新宋体"/>
                <a:ea typeface="新宋体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新宋体"/>
                <a:ea typeface="新宋体"/>
              </a:rPr>
              <a:t>、效率第一，适可而止。效率是成功的关键，追求一定时间内的效率是学习的目标，尤其是课堂效率，课堂是学习的主战场，效率是学习的主线。能一节课完成的任务，决不拖到下一节。能一分钟做完的事决不用两分钟。但劳累决不能过度，决不能学到自己头疼时还学。只要是学到感觉要疼，脑子要管了，就要大胆休息，或变换学习科目及方式</a:t>
            </a:r>
            <a:r>
              <a:rPr b="0" lang="zh-CN" sz="2800" spc="-1" strike="noStrike">
                <a:solidFill>
                  <a:srgbClr val="0066ff"/>
                </a:solidFill>
                <a:latin typeface="新宋体"/>
                <a:ea typeface="新宋体"/>
              </a:rPr>
              <a:t>。</a:t>
            </a:r>
            <a:br>
              <a:rPr sz="2800"/>
            </a:br>
            <a:r>
              <a:rPr b="0" lang="zh-CN" sz="2800" spc="-1" strike="noStrike">
                <a:solidFill>
                  <a:srgbClr val="0066ff"/>
                </a:solidFill>
                <a:latin typeface="新宋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340000" y="1989000"/>
            <a:ext cx="5688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ff"/>
                </a:solidFill>
                <a:latin typeface="Times New Roman"/>
              </a:rPr>
              <a:t>3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</a:rPr>
              <a:t>、互帮互学，共同受益。学习是一个自我完善的过程，也应是一种集体协作的过程。所谓水涨船高，个人成绩的取得，实际上是集体共同进步的结果。好问能使人受益匪浅，多向老师请教，多与同学交流，整天把自己局限于个人狭小的思维空间上，得不偿失。多鼓励同学，鼓舞别人的过程自己也受到了鼓励。高兴了，与同学共享，一个人的快乐变成两个人的快乐；痛苦了，与朋友说说，两个人承担一个痛苦要轻松得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。 </a:t>
            </a:r>
            <a:br>
              <a:rPr sz="2800"/>
            </a:b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63640" y="620640"/>
            <a:ext cx="691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4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、任何单一的活动持续时间过长，都会引起人的厌倦疲劳，注意力分散，从而降低学习效率。所以要不断变化学习内容和学习方式，避免单科独进，方法单一，使各科内容的交替进行，耳眼口手脑并用，听说读写算并进，学习方式多样化。换新的方式学习新的内容时，对原有的学习来说实质上就是一种休息，这样高效地利用时间，可以更快更好地获取知识。 </a:t>
            </a:r>
            <a:br>
              <a:rPr sz="2400"/>
            </a:b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   </a:t>
            </a:r>
            <a:r>
              <a:rPr b="1" lang="en-US" sz="2400" spc="-1" strike="noStrike">
                <a:solidFill>
                  <a:srgbClr val="0066ff"/>
                </a:solidFill>
                <a:latin typeface="宋体"/>
              </a:rPr>
              <a:t>5</a:t>
            </a:r>
            <a:r>
              <a:rPr b="1" lang="zh-CN" sz="2400" spc="-1" strike="noStrike">
                <a:solidFill>
                  <a:srgbClr val="0066ff"/>
                </a:solidFill>
                <a:latin typeface="宋体"/>
              </a:rPr>
              <a:t>、心静如水，别浮躁，贵在坚持。要立志把凳子坐穿。我要说，谁坐到最后，谁就会胜利，谁坚持到最后，谁就会成功。快到考试了，连凳子都坐不住，还想得高分？要有任外边翻江蹈海，我自岿然不动的气魄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547640" y="476280"/>
            <a:ext cx="7128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黑体"/>
                <a:ea typeface="黑体"/>
              </a:rPr>
              <a:t>友情提醒：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476360" y="1844640"/>
            <a:ext cx="7272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今天距离</a:t>
            </a:r>
            <a:r>
              <a:rPr b="1" lang="zh-CN" sz="4800" spc="-1" strike="noStrike">
                <a:solidFill>
                  <a:srgbClr val="cc0066"/>
                </a:solidFill>
                <a:latin typeface="华文行楷"/>
                <a:ea typeface="华文行楷"/>
              </a:rPr>
              <a:t>期末联考</a:t>
            </a:r>
            <a:r>
              <a:rPr b="1" lang="zh-CN" sz="36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仅有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052720" y="3341520"/>
            <a:ext cx="5975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3300"/>
                </a:solidFill>
                <a:latin typeface="微软简综艺"/>
                <a:ea typeface="微软简综艺"/>
              </a:rPr>
              <a:t>捌天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3500280"/>
            <a:ext cx="1042920" cy="1043280"/>
          </a:xfrm>
          <a:custGeom>
            <a:avLst/>
            <a:gdLst>
              <a:gd name="textAreaLeft" fmla="*/ 67320 w 1042920"/>
              <a:gd name="textAreaRight" fmla="*/ 975600 w 1042920"/>
              <a:gd name="textAreaTop" fmla="*/ 67320 h 1043280"/>
              <a:gd name="textAreaBottom" fmla="*/ 975960 h 1043280"/>
            </a:gdLst>
            <a:ahLst/>
            <a:rect l="textAreaLeft" t="textAreaTop" r="textAreaRight" b="textAreaBottom"/>
            <a:pathLst>
              <a:path w="21600" h="21607">
                <a:moveTo>
                  <a:pt x="0" y="0"/>
                </a:moveTo>
                <a:lnTo>
                  <a:pt x="21600" y="0"/>
                </a:lnTo>
                <a:lnTo>
                  <a:pt x="21600" y="21607"/>
                </a:lnTo>
                <a:lnTo>
                  <a:pt x="0" y="21607"/>
                </a:lnTo>
                <a:close/>
              </a:path>
              <a:path fill="lightenLess" w="21600" h="21607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7">
                <a:moveTo>
                  <a:pt x="21600" y="0"/>
                </a:moveTo>
                <a:lnTo>
                  <a:pt x="21600" y="21607"/>
                </a:lnTo>
                <a:lnTo>
                  <a:pt x="20200" y="20207"/>
                </a:lnTo>
                <a:lnTo>
                  <a:pt x="20200" y="1400"/>
                </a:lnTo>
                <a:close/>
              </a:path>
              <a:path fill="darkenLess" w="21600" h="21607">
                <a:moveTo>
                  <a:pt x="21600" y="21607"/>
                </a:moveTo>
                <a:lnTo>
                  <a:pt x="0" y="21607"/>
                </a:lnTo>
                <a:lnTo>
                  <a:pt x="1400" y="20207"/>
                </a:lnTo>
                <a:lnTo>
                  <a:pt x="20200" y="20207"/>
                </a:lnTo>
                <a:close/>
              </a:path>
              <a:path fill="lighten" w="21600" h="21607">
                <a:moveTo>
                  <a:pt x="0" y="21607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7"/>
                </a:lnTo>
                <a:close/>
              </a:path>
              <a:path fill="darken" w="21600" h="21607">
                <a:moveTo>
                  <a:pt x="3794" y="8410"/>
                </a:moveTo>
                <a:lnTo>
                  <a:pt x="8224" y="8410"/>
                </a:lnTo>
                <a:lnTo>
                  <a:pt x="12645" y="3797"/>
                </a:lnTo>
                <a:lnTo>
                  <a:pt x="12645" y="17810"/>
                </a:lnTo>
                <a:lnTo>
                  <a:pt x="8224" y="13197"/>
                </a:lnTo>
                <a:lnTo>
                  <a:pt x="3794" y="13197"/>
                </a:lnTo>
                <a:close/>
              </a:path>
              <a:path fill="darken" w="21600" h="21607">
                <a:moveTo>
                  <a:pt x="14299" y="10804"/>
                </a:moveTo>
                <a:lnTo>
                  <a:pt x="17806" y="10804"/>
                </a:lnTo>
              </a:path>
              <a:path fill="darken" w="21600" h="21607">
                <a:moveTo>
                  <a:pt x="14299" y="8410"/>
                </a:moveTo>
                <a:lnTo>
                  <a:pt x="17806" y="5642"/>
                </a:lnTo>
              </a:path>
              <a:path fill="darken" w="21600" h="21607">
                <a:moveTo>
                  <a:pt x="14299" y="13197"/>
                </a:moveTo>
                <a:lnTo>
                  <a:pt x="17806" y="15965"/>
                </a:lnTo>
              </a:path>
            </a:pathLst>
          </a:custGeom>
          <a:noFill/>
          <a:ln cap="sq"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332000" y="549360"/>
            <a:ext cx="7619760" cy="511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6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、集中精力，心无旁骛。我们都学过荀子的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《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劝学</a:t>
            </a:r>
            <a:r>
              <a:rPr b="1" lang="en-US" sz="2400" spc="-1" strike="noStrike">
                <a:solidFill>
                  <a:srgbClr val="0066ff"/>
                </a:solidFill>
                <a:latin typeface="Times New Roman"/>
              </a:rPr>
              <a:t>》</a:t>
            </a: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，其中说到：“蚓无爪牙之利，筋骨之强，上食埃土，下饮黄泉，用心一也。”这里讲的就是学习要专心致志的道理。考前时间不很多了，别在计较那些小事，别把心思用在学习之外的事情上，生气、打架、谈恋爱，都没时间。</a:t>
            </a:r>
            <a:br>
              <a:rPr sz="2400"/>
            </a:br>
            <a:r>
              <a:rPr b="1" lang="zh-CN" sz="2400" spc="-1" strike="noStrike">
                <a:solidFill>
                  <a:srgbClr val="0066ff"/>
                </a:solidFill>
                <a:latin typeface="Times New Roman"/>
              </a:rPr>
              <a:t>同学们，考试不难，关键在技巧，技巧不多，关键把握好，发挥技巧，心态更重要，心态好就必须吃好、睡好、玩好、信心好、心情好。当前到了最关键的时刻，一切都在显示我们已进入到考前备战状态。关键的时刻每个同学都要相信自己，顶得住，站得稳，按照学校部署，稳扎稳打，用实际行动去争取本来属于自己的成功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2124000" y="476280"/>
            <a:ext cx="266400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同学们：成功在向我们招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华文行楷"/>
                <a:ea typeface="华文行楷"/>
              </a:rPr>
              <a:t>加油啊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4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24000" y="0"/>
            <a:ext cx="8820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684360" y="333360"/>
            <a:ext cx="7543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你是否知道？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116000" y="4365720"/>
            <a:ext cx="7489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你的进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         </a:t>
            </a:r>
            <a:r>
              <a:rPr b="1" lang="zh-CN" sz="3600" spc="-1" strike="noStrike">
                <a:solidFill>
                  <a:srgbClr val="ff3300"/>
                </a:solidFill>
                <a:latin typeface="新宋体"/>
                <a:ea typeface="新宋体"/>
              </a:rPr>
              <a:t>是老师我最大的骄傲！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979640" y="2060640"/>
            <a:ext cx="5472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你拼搏的身后是我默默关注的目光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1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13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2916360" y="836640"/>
            <a:ext cx="5327640" cy="28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雄鹰就要搏击长空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是骏马就要驰骋千里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1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611280" y="549360"/>
            <a:ext cx="7885080" cy="490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三九最棒     自信向上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</a:t>
            </a:r>
            <a:r>
              <a:rPr b="1" i="1" lang="zh-CN" sz="54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团结自强   共创辉煌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203640" y="3933720"/>
            <a:ext cx="594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楷体_GB2312"/>
                <a:ea typeface="楷体_GB2312"/>
              </a:rPr>
              <a:t>范中三九班班训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" dur="500"/>
                                        <p:tgtEl>
                                          <p:spTgt spid="1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3" dur="500"/>
                                        <p:tgtEl>
                                          <p:spTgt spid="1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333240" y="204480"/>
            <a:ext cx="40388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成功无捷径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447920" y="1295280"/>
            <a:ext cx="7467480" cy="19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   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一个青年职员平时工作懒懒散散，在转正前一个月他问老板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如果我兢兢业业工作一个月，我能转正吗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95280" y="3657600"/>
            <a:ext cx="762012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老板答道：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“你的问题让我想到一个冰冷房间里的温度计，你用热手捂着它，能使表上显示温度上升，不过房间一点也不觉得温暖。”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3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905120" y="838080"/>
            <a:ext cx="670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今天的成就是因为昨天的积累，明天的成功则有赖于今天的努力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5410080"/>
            <a:ext cx="754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华文隶书"/>
              </a:rPr>
              <a:t>因为你有选择，你主宰自己的人生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523880" y="2852640"/>
            <a:ext cx="762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其实真正的成功是一个过程，是将勤奋和努力融入每天的生活中，融入每天的学习中。这要靠我们的意志，但更重要的是建立一个良好的生活习惯和学习习惯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371240" y="152280"/>
            <a:ext cx="75438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 u="sng">
                <a:solidFill>
                  <a:srgbClr val="003300"/>
                </a:solidFill>
                <a:uFillTx/>
                <a:latin typeface="Times New Roman"/>
                <a:hlinkClick r:id="rId1" action="ppaction://hlinksldjump"/>
              </a:rPr>
              <a:t>找　问　题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371600" y="1143000"/>
            <a:ext cx="746748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　　　</a:t>
            </a:r>
            <a:r>
              <a:rPr b="1" lang="zh-CN" sz="4000" spc="-1" strike="noStrike">
                <a:solidFill>
                  <a:srgbClr val="ff3300"/>
                </a:solidFill>
                <a:latin typeface="Times New Roman"/>
              </a:rPr>
              <a:t>故事：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有三只猎狗追一只土拨鼠，土拨鼠钻进了一个树洞。这只树洞只有一个出口，可不一会儿，从树洞里钻出一只兔子。兔子飞快地向前跑，并爬上一棵大树。兔子在树上，仓皇中没站稳，掉了下来，砸晕了正仰头看的三只猎狗，最后，兔子终于逃脱了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447920" y="3124080"/>
            <a:ext cx="716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问：“这个故事有什么问题吗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71600" y="3657600"/>
            <a:ext cx="510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答：（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1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）“兔子不会爬树。”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905120" y="4114800"/>
            <a:ext cx="55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（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2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）“一只兔子不可能同时砸晕三只猎狗。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523880" y="4648320"/>
            <a:ext cx="464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问：“还有没有问题？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00200" y="5181480"/>
            <a:ext cx="723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可是还有一个问题，你们都没有提到，“土拨鼠哪里去了？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>
            <a:hlinkClick r:id="rId2" action="ppaction://hlinksldjump"/>
          </p:cNvPr>
          <p:cNvSpPr/>
          <p:nvPr/>
        </p:nvSpPr>
        <p:spPr>
          <a:xfrm>
            <a:off x="6705720" y="6248520"/>
            <a:ext cx="1218960" cy="228600"/>
          </a:xfrm>
          <a:prstGeom prst="rightArrow">
            <a:avLst>
              <a:gd name="adj1" fmla="val 50000"/>
              <a:gd name="adj2" fmla="val 133307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2819520" y="2438280"/>
            <a:ext cx="3429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1209600" y="96840"/>
            <a:ext cx="773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土拨鼠，也叫旱獭，生活在北美洲和欧亚大陆广大的山林中。它们喜群居，善掘土，所挖地道深达数米，内有铺草的居室，非常舒适。它们不贮存食物，而是在夏天往体内贮存脂肪以便冬季在洞内冬眠。它们每年一般要在地洞或空心树干内蛰伏半年，有的甚至长达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个月之久。冬季最冷的时候，冬眠中的土拨鼠心跳可由活跃期的每分钟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200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次降至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、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5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次，体温下降，呼吸频率减到每分钟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次。这是它们新陈代谢的最低点。如果气温降得太低，它们体内的神经系统便会唤醒自己，使它起来活动数小时以产生热力，然后再恢复冬眠状态。土拨鼠非常机警，不仅经常察看周围情况，还专门有负责放哨的，一遇敌情，警号便发出，全体火速钻入地下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>
            <a:hlinkClick r:id="rId1" action="ppaction://hlinksldjump"/>
          </p:cNvPr>
          <p:cNvSpPr/>
          <p:nvPr/>
        </p:nvSpPr>
        <p:spPr>
          <a:xfrm>
            <a:off x="7010280" y="6095880"/>
            <a:ext cx="1311480" cy="300240"/>
          </a:xfrm>
          <a:prstGeom prst="leftArrow">
            <a:avLst>
              <a:gd name="adj1" fmla="val 37500"/>
              <a:gd name="adj2" fmla="val 210680"/>
            </a:avLst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476360" y="260280"/>
            <a:ext cx="7201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期末考试还有八天的时间，现在进入到考前的回扣复习阶段，我们从来没有象今天这样体会到时间的宝贵。“宝贵”有两层含义，一则是指时间的有限性，它要求我们必须倍加珍惜，二则是时间的有用性，就是说这段考前的时间很有用，很关键，要求我们必须充分利用。考试专家分析，如果这十几天的复习都能科学有效的话，结果能使你总成绩再提高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分！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分好吓人，让人梦想！但仔细分析起来并不奇怪，也并非不可能。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分分到语数外，每科只有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10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分，如果通过回扣复习，巩固了基础，加强了审题、书写规范的训练，理清了知识体系，弄通了几个重要模糊点，想通了几个与高考相仿的题目，每科提高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7——10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分，是完全有可能的。因此，在今天的班会上，我要向同学们喊出一个口号，那就是“为</a:t>
            </a:r>
            <a:r>
              <a:rPr b="1" lang="en-US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50</a:t>
            </a:r>
            <a:r>
              <a:rPr b="1" lang="zh-CN" sz="2800" spc="-1" strike="noStrike">
                <a:solidFill>
                  <a:srgbClr val="3333ff"/>
                </a:solidFill>
                <a:latin typeface="楷体_GB2312"/>
                <a:ea typeface="楷体_GB2312"/>
              </a:rPr>
              <a:t>分而战！”，这就是我们考前的任务和目标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523880" y="1752480"/>
            <a:ext cx="7620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在追求人生目标的过程中，我们有时也会被途中的细枝末节和一些毫无意义的琐事分散精力，扰乱视线，以至中途停顿下来，或是走上岔路，而放弃了自己原先追求的目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457200"/>
            <a:ext cx="802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不要忘了时刻提醒自己，土拨鼠哪去了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0" y="4419720"/>
            <a:ext cx="571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自己心目中的目标哪去了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971640" y="475920"/>
            <a:ext cx="7704000" cy="638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高中学生保持积极的情绪是学习好、生活好的前提和条件。要保持积极的情绪首先应对自己、对他人期望不要过高。如果对自己要求过分苛刻，把目标定得太高，超出了自己的能力，无法达到，自己便会垂头丧气。　　其次，掌握调节情绪的方法。一般来说，积极的思维都是与积极的情感、积极的行为联系在一起的，反之则相反。例如，考试失败了如果你用“我天生就笨，我永远也学不好”这样的思维方法，则你将会产生自卑、消沉、烦闷等消极情绪，在学习上也会表现出不认真学习、甚至做出违反课堂纪律等消极行为。相反，如果你用“我是不是不够用功？是不是学习方法有问题？还是由于基础太差？”等思维方法，找出考试失败原因，你将会产生振作、向上等积极情绪，在行为上也会表现出更加用功和刻苦。　　最后，学会笑口常开。现在的学习越来越具竞争性，面对与自己并肩作战的同学应以谦虚和自信来要求自己，同时应学会开怀地笑，会心地笑，放声地笑，使自己的生活充满笑声。总之，在过渡时期，要调整好精神状态，争取以乐观和实事求是的态度来面对变化。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2666880" y="571680"/>
            <a:ext cx="381024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371600" y="228600"/>
            <a:ext cx="7277040" cy="629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371240" y="759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一个简单道理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447920" y="1523880"/>
            <a:ext cx="7467480" cy="44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　　　</a:t>
            </a: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从前，有两个饥饿的人得到了一位长者的恩赐：一根鱼杆和一篓鲜活硕大的鱼。经过谈判，其中，一个人得到了一篓鱼，另一个得到了一根鱼杆。得到鱼的人原地就用干柴搭起篝火煮起了鱼，他狼吞虎咽，还没有品出鲜鱼的肉香，转眼间，连鱼带汤就被他吃了个精光，不久，他便饿死在空空的鱼篓旁。另一个人则提着鱼杆继续忍饥挨饿，一步步艰难地向海边走去，可当他已经看到不远处那片蔚蓝色的大海时，他浑身的最后一点力气也使完了，他也只能眼巴巴地带着无尽的遗憾撒手人间。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71600" y="44928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0000"/>
                </a:solidFill>
                <a:latin typeface="Times New Roman"/>
              </a:rPr>
              <a:t>　　又有两个饥饿的人，他们同样得到了长者恩赐的一根鱼杆和一篓鱼。只是经过谈判，他们并没有各奔东西，而是商定共同去找寻大海，他俩每次饥饿时，只煮一条鱼。他们经过遥远的跋涉，终于来到了海边，从此，两人开始了捕鱼为生的日子，几年后，他们盖起了房子，有了各自的家庭、子女，有了自己建造的渔船，过上了幸福安康的生活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3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447920" y="1066680"/>
            <a:ext cx="7086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赢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输 ，输－－赢的想法，只是一方得到的短暂的快乐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752480" y="274320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　赢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--</a:t>
            </a:r>
            <a:r>
              <a:rPr b="1" lang="zh-CN" sz="32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赢的想法，才有可能双方得到长久的快乐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057400" y="4572000"/>
            <a:ext cx="6095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有时候，一个简单的道理，却足以给人意味悠长的生命启示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/>
          </p:nvPr>
        </p:nvSpPr>
        <p:spPr>
          <a:xfrm>
            <a:off x="1295280" y="761760"/>
            <a:ext cx="784872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有两位武士不约而同的走入森林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第一位武士在树下看到金色的盾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第二位武士在同一棵树下看到了银色的盾牌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金盾牌、银盾牌 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两个人为此争吵不休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气得两人拔出剑来准备一决胜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两人整整撕杀了几天都分不出胜负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0000"/>
                </a:solidFill>
                <a:latin typeface="Times New Roman"/>
              </a:rPr>
              <a:t>当两人累得坐在地上喘息时才发现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冲　　　突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371600" y="4648320"/>
            <a:ext cx="6019920" cy="8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盾牌的正面是金色，反面是银色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原来这是一个双面盾牌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600200" y="5791320"/>
            <a:ext cx="7219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一个坚持己见者将会失去通融性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6934320" y="2819520"/>
            <a:ext cx="2209680" cy="2819160"/>
            <a:chOff x="6934320" y="2819520"/>
            <a:chExt cx="2209680" cy="2819160"/>
          </a:xfrm>
        </p:grpSpPr>
        <p:sp>
          <p:nvSpPr>
            <p:cNvPr id="177" name=""/>
            <p:cNvSpPr/>
            <p:nvPr/>
          </p:nvSpPr>
          <p:spPr>
            <a:xfrm>
              <a:off x="6934320" y="2819520"/>
              <a:ext cx="2209680" cy="2819160"/>
            </a:xfrm>
            <a:prstGeom prst="irregularSeal2">
              <a:avLst/>
            </a:prstGeom>
            <a:solidFill>
              <a:srgbClr val="66ff33"/>
            </a:solidFill>
            <a:ln cap="sq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6934320" y="3505320"/>
              <a:ext cx="2209680" cy="157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减少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没有必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66ff"/>
                  </a:solidFill>
                  <a:latin typeface="楷体_GB2312"/>
                  <a:ea typeface="楷体_GB2312"/>
                </a:rPr>
                <a:t>的争斗！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294920" y="152280"/>
            <a:ext cx="7543800" cy="60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运用智慧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447920" y="1066680"/>
            <a:ext cx="74674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　　英国皇家海军有一次招考雇员，口试题目为：在一个大风雪的夜晚，你开着一辆车，经过一个车站，有三个人在等车。一位是快病死的老太太、一位是救过你命的医生、一位是你梦寐以求的情人。你会载哪一位？说明你的理由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981080" y="3962520"/>
            <a:ext cx="624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载情人，因为可能一辈子再也碰不到！　　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828800" y="4724280"/>
            <a:ext cx="655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2400" spc="-1" strike="noStrike">
                <a:solidFill>
                  <a:srgbClr val="990000"/>
                </a:solidFill>
                <a:latin typeface="Times New Roman"/>
              </a:rPr>
              <a:t>答案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：“把车钥匙给医生，让他载着老太太去医院，自己留下来陪情人等车。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81080" y="2811600"/>
            <a:ext cx="4038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载老太太，因为救人第一</a:t>
            </a: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981080" y="3352680"/>
            <a:ext cx="396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990000"/>
                </a:solidFill>
                <a:latin typeface="Times New Roman"/>
              </a:rPr>
              <a:t>载医生，因为知恩图报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447920" y="838080"/>
            <a:ext cx="739116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r>
              <a:rPr b="1" lang="zh-CN" sz="32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几乎每个人都认为这是最好的答案，但是居然没人能事先说出同样的答案。是因为我们思维习惯受限制？还是因为我们坚持原有的利益，不愿放手（没想过要放弃自己的车）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295280" y="4419720"/>
            <a:ext cx="810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300"/>
                </a:solidFill>
                <a:latin typeface="隶书"/>
                <a:ea typeface="隶书"/>
              </a:rPr>
              <a:t>在很多时候，人应该学会放弃！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2" dur="indefinite" restart="never" nodeType="tmRoot">
          <p:childTnLst>
            <p:seq>
              <p:cTn id="343" dur="indefinite" nodeType="mainSeq">
                <p:childTnLst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正确的认识和积极的态度最重要</a:t>
            </a:r>
            <a:endParaRPr b="0" lang="en-US" sz="32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476360" y="1197000"/>
            <a:ext cx="727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66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9900ff"/>
                </a:solidFill>
                <a:latin typeface="楷体_GB2312"/>
                <a:ea typeface="楷体_GB2312"/>
              </a:rPr>
              <a:t>前中国男足教练米卢用他的“态度决定一切”带领中国首次冲进世界杯，我想，态度的力量也可以帮我们全力以赴冲刺期末。看到同学们信心十足，干劲冲天，走起路来抬头挺胸，步伐快捷而稳当，老师心中高兴，老师相信自己，也相信同学们，上次其中考试证明，我们一定会取得好成绩，扎实的复习预示着我们一定会取得成功。如果有人说：“老师，我受不了了，我想放弃”。我送给你一句话：“放弃就是背叛”。请看奥运会上运动员拼搏的身影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294920" y="-360"/>
            <a:ext cx="75438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6600"/>
                </a:solidFill>
                <a:latin typeface="Times New Roman"/>
              </a:rPr>
              <a:t>师从大师</a:t>
            </a:r>
            <a:endParaRPr b="0" lang="en-US" sz="36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47920" y="838080"/>
            <a:ext cx="746748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   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一位音乐系的学生走进练习室，钢琴上，摆着一份全新的乐谱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 “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超高难度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”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他翻动着，喃喃自语，感觉自己对弹奏钢琴的信心似乎跌到了谷底，消磨殆尽。已经三个月了！自从跟了这位新的指导教授之后，他不知道，为什么教授要以这种方式整人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   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勉强打起精神。他开始用十只手指头奋战、奋战、奋战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...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琴间盖住了练习室外教授走来的脚步声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   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指导教授是个极有名的钢琴大师。授课第一天，他给自己的新学生一份乐谱。“试试看吧！”他说。乐谱难度颇高，学生弹得生涩僵滞，错误百出。“还不熟，回去好好练习！”教授在下课时，如此叮嘱学生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学生练了一个星期，第二周上课时正准备让教授验收，没想到教授又给了他一份难度更高的乐谱。“试试看吧”！上星期的课，教授提也没提。学生再次挣扎于更高难度的技巧挑战。第三周，更难的乐谱又出现了。同样的情形持续着，学生每次在课堂上都被一份新的乐谱所困扰，然后把它带回练习，接着再回到课堂上，重新面临两倍难度的乐谱，却怎么样都追不上进度，一点也没有因为上周的练习而有驾轻就熟的感觉。学生感到越来越不安、沮丧和气馁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  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教授走进练习室。学生再也忍不住了。他必须向钢琴大师提出这三个月来何以不断折磨自己的质疑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 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教授没开口，他抽出了最早的第一份乐谱，交给学生。“弹奏吧！”他以坚定的眼神望着学生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不可思议的结果发生了，连学生自已都惊讶万分，他居然可以将这首曲子弹奏得如此美妙，如此精湛！教授又让学生试了第二堂课的乐谱，学生依然呈现超高水准的表现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...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演奏结束，学生怔怔地看着老师，说不出话来。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     “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如果，我任由你表现最擅长的部分，可能你还在练习最早的那份乐谱，就不会有现在这样的程度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............”</a:t>
            </a:r>
            <a:r>
              <a:rPr b="1" lang="zh-CN" sz="1600" spc="-1" strike="noStrike">
                <a:solidFill>
                  <a:srgbClr val="990000"/>
                </a:solidFill>
                <a:latin typeface="Times New Roman"/>
              </a:rPr>
              <a:t>钢琴大师缓缓地说。</a:t>
            </a:r>
            <a:r>
              <a:rPr b="1" lang="zh-CN" sz="1400" spc="-1" strike="noStrike">
                <a:solidFill>
                  <a:srgbClr val="99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"/>
          <p:cNvSpPr/>
          <p:nvPr/>
        </p:nvSpPr>
        <p:spPr>
          <a:xfrm>
            <a:off x="1447920" y="83808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  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人，往往习惯于表现自己所熟悉、所擅长的领域。但如果我们愿意回首，细细检视，将会恍然大悟：面对紧锣密鼓的工作挑战，难度渐升的工作压力，持续提升自我，不也就在不知不觉间养成了今日的诸般能力吗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057400" y="335268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因为，人，确实有无限的潜力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76520" y="4343400"/>
            <a:ext cx="670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   </a:t>
            </a:r>
            <a:r>
              <a:rPr b="1" lang="zh-CN" sz="24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有了这层体悟与认识，会让我们更欣然乐意地面对未来更多的难题，不断磨练自己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12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7124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37124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2944800" y="1628640"/>
            <a:ext cx="6199200" cy="522936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5689440" cy="501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9e2b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1403280" y="1052640"/>
            <a:ext cx="741672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00"/>
              </a:spcBef>
              <a:buClr>
                <a:srgbClr val="996600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有的同学在学习的时候，一点主动权都没有，有的甚至把学习看作是一种负担，感到苦恼，觉得厌烦。但有的同学就不是这样，他们在学习中，结合自己的生活方式妥善安排时间，合理利用时间，并且时刻注意运用科学的学习方法，运用自己的聪明智慧去寻求最好的效果。他们就象游泳运动员，在知识的海洋里从容自如地畅游，完全获得了主动，成为了学习的主人。针对这些现象，结合期末迎考，我想提几点要求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3T07:24:32Z</dcterms:created>
  <dc:creator/>
  <dc:description/>
  <dc:language>en-US</dc:language>
  <cp:lastModifiedBy>微软用户</cp:lastModifiedBy>
  <dcterms:modified xsi:type="dcterms:W3CDTF">2011-03-27T07:34:39Z</dcterms:modified>
  <cp:revision>84</cp:revision>
  <dc:subject/>
  <dc:title/>
</cp:coreProperties>
</file>