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FD0-F523-46EC-AA28-3F2B60AA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4D5-38E7-4C93-AC7F-2DF60E9F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21F-39E8-4266-BB12-6F424FD9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DEE-8F7D-475B-B824-C9C95ED2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C43-D4A7-4E80-A2A9-05E941DB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749-957E-4741-8309-2065E45B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7A4-7E52-4A72-ACEF-4F67D9F8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B0C-1912-4BA5-BA15-537E3646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6F6-A94E-4E1D-84B2-2001720C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3C3-3323-499C-92AE-FE7EF1BD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A13-4F1C-4057-8767-271B5A57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72D-E564-446A-9916-7E07AC6A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248F-AAA0-4A0A-A246-21E3C94557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4gee.com/design/animal1/big_page/0131.htm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2276640"/>
            <a:ext cx="53290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欢迎大家重返校园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260280"/>
            <a:ext cx="8136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过了一个月，苏格拉底又问，这回，坚持下来的学生只剩下八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年过后，苏格拉底再一次问大家：“请告诉我，最简单的甩手运动，还有哪几位同学坚持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时，整个教室里，只有一人举起了手。这个学生就是后来成为古希腊另一位大哲学家的柏拉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2760" y="586728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0846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完这个故事后，你有什么想法，怎样的心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615960"/>
            <a:ext cx="914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钱伟长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钱伟长，江苏无锡人，著名力学家、应用数学家、教育家和社会活动家；历任中国科学院院士，上海大学校长，南京航空航天大学名誉校长，耀华中学名誉校长。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上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在上海逝世，享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与钱学森、钱三强并称“三钱”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钱伟长毕业于清华大学物理系。当初，他选择物理专业，不是因为专长，而是出于一个年轻学子的爱国之情。考清华时，钱伟长的国文和历史特别出色，每门都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，而数学、物理、化学、外语极差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门课加起来只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，其中，外语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，物理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。基于这种情况，他顺理成章地选择清华大学中文系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挑好志愿的第二天，“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八”事变爆发了。钱伟长认为，只有科学才能救国，于是，他主动要求改学物理，找到理学院的院长叶企荪教授和物理系主任吴有训教授，结果，他们都建议钱伟长读中文系。</a:t>
            </a:r>
            <a:br>
              <a:rPr sz="2800"/>
            </a:br>
            <a:br>
              <a:rPr sz="2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26028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此，钱伟长缠了吴有训一个星期。吴有训每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上课，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就等在他的办公室。由于不堪纠缠，吴有训只得答应了。不过，他与钱伟长签订了一个君子协定：如果在一年内，钱伟长的数学微积分和物理成绩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以下，就将他退回中文系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钱伟长是一个非常用功的人，除了吃饭、睡觉，将所有的时间都用到学业上。吴有训有心栽培，经常教他一些正确的学习方法，钱伟长的成绩迅速提高。第一学期结束时，他的物理及格了；学年结束，数学、物理、化学、外语都达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分。清华本科毕业后，他考取本校物理系研究生。后来出国留学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获得加拿大多伦多大学博士学位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51664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扬长避短是一般的“通则”，可并不意味着从短处进攻，就一定不会成功。钱伟长就是一个明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0"/>
            <a:ext cx="83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钱伟长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 不相信有天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是不相信有天才的，我只相信勤奋，只要刻苦钻研，一定会取得好成绩。”钱伟长曾写道。许多认识钱伟长的人，无不赞叹他学识渊博、才思敏捷，也有不少人认为他是个天才。但他从未承认过这一点，相反他说：“‘天才’是不存在的。无论谁，也无论有什么样的条件，要想学得好，要想搞出成就，最先和最后必不可少的都是勤奋。”因此，晚年他还自信地说：这么多年来，我没有懒过，我的知识没有老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2382480"/>
            <a:ext cx="837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百无聊赖地坐在桌前，对着那一摞摞厚重的教科书、参考书、习题册呆望了一会儿，从中捡出一本，乱翻了几页，从中挑出一道题，结果半个小时也没能做出结果，然后只有没好气地把它再丢回书堆中去，再捡起一本……在这简单的重复劳动中，时间匆匆而过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这样的经历，你是否有过？这是心理空虚和急躁的表现：一方面想抓紧时间，努力学习；另一方面，又常常举棋不定，不知从何下手，往往由于一些小难题而自暴自弃。这时候，你想过解决问题的办法了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5877000"/>
            <a:ext cx="7490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计划是实现目标的前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83664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道姆斯教授曾说过：“年青人，永远不要担心未来，未来也不可捉摸，只要你活在现在，把握住现在的每一分每一秒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集中所有的注意力把正在做的事当成唯一重要的事去做，全力以赴，你会做得最好的，成功肯定会属于你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933720"/>
            <a:ext cx="64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81080" y="1735200"/>
            <a:ext cx="4953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的态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决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的人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的眼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决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的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73392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态度→行为→习惯→性格→命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1052640"/>
            <a:ext cx="8497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成功的条件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坚持     勤奋     自信   计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正确的认识       积极的态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76500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643280" y="201600"/>
            <a:ext cx="3598920" cy="3298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6560" y="465480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谧的非洲大草原上，夕阳西下，这时，一头狮子在沉思：明天当太阳升起，我要奔跑，以追上跑得最快的羚羊；此时，一只羚羊也在沉思：明天当太阳升起，我要奔跑，以逃脱跑的快的狮子。那么，无论你是狮子或是羚羊，当太阳升起，你要做的，就是奔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的，奔跑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68360" y="1125360"/>
            <a:ext cx="5328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雄鹰就要搏击长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骏马就要驰骋千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8000" y="1125360"/>
            <a:ext cx="4105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新学期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新气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79736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二（三）班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26920" y="620640"/>
            <a:ext cx="791244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祝愿各位同学在新学期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身体健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         </a:t>
            </a: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进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1628640"/>
            <a:ext cx="78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Times New Roman"/>
                <a:ea typeface="华文楷体"/>
              </a:rPr>
              <a:t>  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祝愿我们在新学期里合作愉快，生活幸福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	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2133720"/>
            <a:ext cx="86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往事不堪回首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220500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把悲伤抛给过去，把希望留给未来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26920" y="3141720"/>
            <a:ext cx="7201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如何缓解学习压力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907920"/>
            <a:ext cx="52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cc"/>
                </a:solidFill>
                <a:latin typeface="Arial"/>
              </a:rPr>
              <a:t>讨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1773360"/>
            <a:ext cx="487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不要把目标定得高于自己能力所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细黑"/>
                <a:ea typeface="华文细黑"/>
              </a:rPr>
              <a:t>、有效地分配时间，将学习任务或工作任务按轻重缓急编定先后次序，然后依次逐步完成。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603760" y="1197000"/>
            <a:ext cx="3505320" cy="6629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无论你的学习压力属于何种程度，你都不用担心，因为下面我就来介绍几种减压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219240"/>
            <a:ext cx="3505320" cy="6629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1125360"/>
            <a:ext cx="487656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9900"/>
                </a:solidFill>
                <a:latin typeface="华文细黑"/>
                <a:ea typeface="华文细黑"/>
              </a:rPr>
              <a:t>3</a:t>
            </a:r>
            <a:r>
              <a:rPr b="1" lang="zh-CN" sz="2600" spc="-1" strike="noStrike">
                <a:solidFill>
                  <a:srgbClr val="ff9900"/>
                </a:solidFill>
                <a:latin typeface="华文细黑"/>
                <a:ea typeface="华文细黑"/>
              </a:rPr>
              <a:t>、课余时应做适量运动。 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ff9900"/>
                </a:solidFill>
                <a:latin typeface="华文细黑"/>
                <a:ea typeface="华文细黑"/>
              </a:rPr>
              <a:t>4</a:t>
            </a:r>
            <a:r>
              <a:rPr b="1" lang="zh-CN" sz="2600" spc="-1" strike="noStrike">
                <a:solidFill>
                  <a:srgbClr val="ff9900"/>
                </a:solidFill>
                <a:latin typeface="华文细黑"/>
                <a:ea typeface="华文细黑"/>
              </a:rPr>
              <a:t>、遇到困扰或情绪低落时，可与家人或朋友倾诉，通过与同学，同事的沟通获得支持和关怀，亦可发泄情绪 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9900"/>
                </a:solidFill>
                <a:latin typeface="华文细黑"/>
                <a:ea typeface="华文细黑"/>
              </a:rPr>
              <a:t>5</a:t>
            </a:r>
            <a:r>
              <a:rPr b="1" lang="zh-CN" sz="2600" spc="-1" strike="noStrike">
                <a:solidFill>
                  <a:srgbClr val="ff9900"/>
                </a:solidFill>
                <a:latin typeface="华文细黑"/>
                <a:ea typeface="华文细黑"/>
              </a:rPr>
              <a:t>、即使再忙，也要有必要而充分的睡眠，这对松弛绷紧的神经至关紧要，对于处在身体发育时期的学生来说尤为重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3927600" cy="6172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19162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华文细黑"/>
                <a:ea typeface="华文细黑"/>
              </a:rPr>
              <a:t>6</a:t>
            </a:r>
            <a:r>
              <a:rPr b="1" lang="zh-CN" sz="4800" spc="-1" strike="noStrike">
                <a:solidFill>
                  <a:srgbClr val="ff9900"/>
                </a:solidFill>
                <a:latin typeface="华文细黑"/>
                <a:ea typeface="华文细黑"/>
              </a:rPr>
              <a:t>、养成持之以恒，平衡有序的生活习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89000"/>
            <a:ext cx="86421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成功在于坚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学第一天，古希腊大哲学家苏格拉底对学生们说：“今天咱们只学一件最简单也是最最容易做的事儿。每人把胳膊尽量往前甩，然后再尽量往后甩。”说着，苏格拉底示范了一遍。“从今天开始，每天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。大家能做到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们都笑了。这么简单的事，有什么做不到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了一个月，苏格拉底问学生们：“每天甩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，哪些同学坚持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％的同学骄傲地举起了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1:02:15Z</dcterms:created>
  <dc:creator>微软用户</dc:creator>
  <dc:description/>
  <dc:language>en-US</dc:language>
  <cp:lastModifiedBy>惠普专卖店</cp:lastModifiedBy>
  <dcterms:modified xsi:type="dcterms:W3CDTF">2012-08-30T23:35:41Z</dcterms:modified>
  <cp:revision>7</cp:revision>
  <dc:subject/>
  <dc:title>幻灯片 1</dc:title>
</cp:coreProperties>
</file>