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C67-F0AE-469D-A346-D230E264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7B0-19AE-4C1A-BA0A-0E7482A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3FC-13C4-4BA2-8521-99EAAEBC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91B-5806-4D72-BD43-8C0A97BA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44C-969A-474A-9C75-B915AC0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9BAB-723E-4127-84DA-66F81D5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FE3B-2738-45FB-9F48-C59077E7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CF7-A457-422F-A5CB-430D7F47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157-1C02-41B6-A385-828C49D3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8375-5E1C-42C9-A10B-686A271D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62D8-1574-4660-8205-07E409D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FE9-1220-4337-84AF-EFA21AED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40F3-FC53-48DE-AF60-77B3588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489-463E-4765-B92F-66C642A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7A7-DE20-4546-A7E5-8F5B356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6505-6081-4B5D-8AA5-A9E501A9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0835-E90E-4519-B5F3-438D293F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567-7FB7-41AD-BC7C-5F395F4C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DD3-A4CA-43F8-BFDA-C6182E5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E8D-C6B9-4707-AC86-4EF3A60F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017-8E2C-4672-ABBE-1F32B44C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936-5B28-4C89-B89B-3B89562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45A-FABF-4CEE-8A7A-CB90F755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60F-2C4C-4DDA-A187-C699EFC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9196-A162-4C09-B5C4-0D9A07CA7E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未知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2F3-EED5-41B4-AA4F-7A8D7A7B247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2008325145019972_2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357200" y="1643040"/>
            <a:ext cx="60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dbf"/>
                </a:solidFill>
                <a:latin typeface="Times New Roman"/>
              </a:rPr>
              <a:t>与法同行，平安相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357200" y="3013200"/>
            <a:ext cx="57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隶书"/>
              </a:rPr>
              <a:t>法制安全教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835280" y="43657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西海寄校    保学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公共电汽车时，下面的行为哪个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车厢内随意站立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车时扶好扶手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将手或身体置于车窗外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有人行道的路上，你应该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人行道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走非机动车道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心所欲，哪儿没车走哪儿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我国的道路通行原则是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侧通行原则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间通行原则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车尾白灯闪烁时，表示汽车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进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倒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小汽车要系安全带，下面哪个说法正确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前排乘车人可以不系安全带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司机和前排乘车人必须系安全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中华人民共和国道路交通管理条例规定未满（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）岁的儿童，不准在道路上骑自行车、三轮车和推拉人力车。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岁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经过一个有信号灯的铁路道口时，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直接从铁路上穿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看看左右没火车就快速走过去。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在准许通过的信号灯亮时通过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开车带小红参加姑姑的婚礼，在婚礼上，爸爸喝了三瓶啤酒，婚礼结束后，小红坐爸爸的车回家。请问，下面哪些说法是正确的？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和小红都违反了道路交通安全法的有关规定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喝三杯啤酒没有关系，照样可以开车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．爸爸违反了道路交通安全法的有关规定，小红没有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当你过人行横道时，应该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左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右看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一停二看三通过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安全篇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2dfd36137bb49d32cb80c46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28760" y="171468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法制安全篇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feifei\桌面\jiaotong\第一册第二单元.files\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交通安全篇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Times New Roman"/>
              </a:rPr>
              <a:t>校园案例辨析：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小明平时经常小偷小摸。老师告诉他的父母，他的父母虽向老师交还了赃款，却一副满不在乎的样子，总认为是小事一桩，不值得大惊小怪，还阴阳怪气说：“怎么啦？不就拿了一点钱嘛，又没犯罪。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请问：这是不是小事？请说明理由。</a:t>
            </a:r>
            <a:br>
              <a:rPr sz="54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在学校里，我们应该注意什么呢？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利器、易燃物品这些东西不准带进校门：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不能往高处攀爬，更不能翻越围墙、滑楼梯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上下楼梯靠右行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下课了，不能追赶打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、言行要文明，不说脏话，不打架骂人，不给同学取绰号。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》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是二，一是一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要学习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善恶美丑辨分明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人人夸我懂道理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害人心，不可取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防人之心别麻痹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坏人坏事不能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多做好事为集体。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遇坏人，别着急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沉着冷静出主意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报警电话一点通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犯罪分子无处去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小朋友，听仔细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法律法规是武器。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日积月累多学习，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遵纪守法别忘记。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考考你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小朋友，你们知道这些特殊的电话号码吗？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20  110  119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图片 4" descr="2142051_195300317527_2.jpg"/>
          <p:cNvPicPr/>
          <p:nvPr/>
        </p:nvPicPr>
        <p:blipFill>
          <a:blip r:embed="rId2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357200" y="178596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4dbf"/>
                </a:solidFill>
                <a:latin typeface="Times New Roman"/>
              </a:rPr>
              <a:t>安全自护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洋洋和小帅结伴放学回家。突然，洋洋发现后面好像有人在跟踪他们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小帅！你是不是觉得有人在跟踪我们啊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哪有呀，开玩笑了吧？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“真的有人跟踪我们，你偷偷回头看看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果然有人！两人十分害怕。可是该怎么办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发现自己被人跟踪，最好往   人多的地方走，如果附近有警察或交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警，就赶紧向他们求助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如果找不到警察，可以走到附近商店，向售货员借电话，请家人来接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你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千万注意，不要被坏人追到小巷子里或者死胡同里，万一碰到这样的情况，赶紧按别人家的门铃或大声叫：“救命！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ba1591"/>
                </a:solidFill>
                <a:latin typeface="Times New Roman"/>
              </a:rPr>
              <a:t>见招拆招：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平时可以随身携带一个哨子，遇到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坏人的时候，就用力吹哨子，引起路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人的注意，吓退坏人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不要在脖上挂钥匙，防止被人尾随入室。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快到家门口时，停下看看身后，确定无人跟踪再开门进家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/Documents and Settings/Administrator/My Documents/My Pictures/0002003.jpg0002003"/>
          <p:cNvPicPr/>
          <p:nvPr/>
        </p:nvPicPr>
        <p:blipFill>
          <a:blip r:embed="rId1"/>
          <a:stretch/>
        </p:blipFill>
        <p:spPr>
          <a:xfrm>
            <a:off x="34920" y="765000"/>
            <a:ext cx="9072720" cy="605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3"/>
          <p:cNvGraphicFramePr/>
          <p:nvPr/>
        </p:nvGraphicFramePr>
        <p:xfrm>
          <a:off x="0" y="0"/>
          <a:ext cx="9144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4"/>
          <p:cNvSpPr/>
          <p:nvPr/>
        </p:nvSpPr>
        <p:spPr>
          <a:xfrm>
            <a:off x="324000" y="9907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衷心祝福大家平安、快乐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6076800"/>
          <a:ext cx="9144000" cy="78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076800"/>
                    <a:ext cx="91440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平安是福.mp3" descr="平安是福"/>
          <p:cNvPicPr/>
          <p:nvPr/>
        </p:nvPicPr>
        <p:blipFill>
          <a:blip r:embed="rId6"/>
          <a:stretch/>
        </p:blipFill>
        <p:spPr>
          <a:xfrm>
            <a:off x="3851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/>
                </p:stCondLst>
                <p:childTnLst>
                  <p:par>
                    <p:cTn id="16" fill="hold">
                      <p:stCondLst>
                        <p:cond evt="onClick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344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</a:rPr>
              <a:t>交通知识抢答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在没有人行道的路上行走，应该：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靠路边行走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随意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通过人行横道时，红色信号灯亮了，这时应该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抢跑过马路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等候绿灯亮后再走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汽车的转向灯左边闪烁时，汽车向：</a:t>
            </a:r>
            <a:br>
              <a:rPr sz="131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转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转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行人可以搭乘电动自行车、人力货运三轮车、轻便摩托车吗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能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能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乘坐轿车时从哪边下车最安全？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左边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右边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5382364504661730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如果看到有汽车撞人后要逃跑了，你应该立即：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记下车牌号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告诉老师或家长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．不需要做任何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0:45:37Z</dcterms:created>
  <dc:creator>hw</dc:creator>
  <dc:description/>
  <dc:language>en-US</dc:language>
  <cp:lastModifiedBy>雨林木风</cp:lastModifiedBy>
  <cp:lastPrinted>1899-12-30T00:00:00Z</cp:lastPrinted>
  <dcterms:modified xsi:type="dcterms:W3CDTF">2013-02-26T08:43:31Z</dcterms:modified>
  <cp:revision>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