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28.jpeg" ContentType="image/jpeg"/>
  <Override PartName="/ppt/media/image51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50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33.jpeg" ContentType="image/jpeg"/>
  <Override PartName="/ppt/media/image36.jpeg" ContentType="image/jpeg"/>
  <Override PartName="/ppt/media/image45.jpeg" ContentType="image/jpeg"/>
  <Override PartName="/ppt/media/image44.wmf" ContentType="image/x-wmf"/>
  <Override PartName="/ppt/media/image46.jpeg" ContentType="image/jpeg"/>
  <Override PartName="/ppt/media/image31.png" ContentType="image/png"/>
  <Override PartName="/ppt/media/image6.png" ContentType="image/png"/>
  <Override PartName="/ppt/media/image47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8.jpeg" ContentType="image/jpeg"/>
  <Override PartName="/ppt/media/image53.jpeg" ContentType="image/jpeg"/>
  <Override PartName="/ppt/media/image38.jpeg" ContentType="image/jpeg"/>
  <Override PartName="/ppt/media/image49.jpeg" ContentType="image/jpeg"/>
  <Override PartName="/ppt/media/image54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40.jpeg" ContentType="image/jpeg"/>
  <Override PartName="/ppt/media/image13.jpeg" ContentType="image/jpeg"/>
  <Override PartName="/ppt/media/image4.png" ContentType="image/pn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BE2D-A858-4DA8-A528-36346D9B4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AD8B-8CB8-4BA4-8C3B-F98829DC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70E0-6AE7-4575-B602-0AAD25A4A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2B0C-426C-4A29-BC73-7F6D791DF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C2F1-390F-4FE1-B949-BD83937A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8ADF-B258-4EE8-A56B-F926AF7A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0E29-FFCA-4FC1-B2C7-D80EC8D5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A3B8-70FD-4A62-A811-C694D958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8103-B643-4690-B2DA-3D1606F2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4AD0-BAE8-4370-9E69-00FB1040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DFAE-96A3-4A1B-9D14-B9CB9E77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99CD-7A9C-4B99-BCB8-F22862C1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B7AA-FF04-4C1F-9BD5-73AE04FC2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image.baidu.com/i?ct=503316480&amp;z=0&amp;tn=baiduimagedetail&amp;word=%C7%F1%C9%D9%D4%C6&amp;in=21985&amp;cl=2&amp;cm=1&amp;sc=0&amp;lm=-1&amp;pn=5&amp;rn=1&amp;di=551237172&amp;ln=553" TargetMode="External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image.baidu.com/i?ct=503316480&amp;z=0&amp;tn=baiduimagedetail&amp;word=%B6%AD%B4%E6%C8%F0&amp;in=26896&amp;cl=2&amp;cm=1&amp;sc=0&amp;lm=-1&amp;pn=15&amp;rn=1&amp;di=2226762964&amp;ln=1996" TargetMode="External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gsrc.baidu.com/forum/pic/item/387f8e4445837041510ffeb1.jpg" TargetMode="External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1" descr=""/>
          <p:cNvPicPr/>
          <p:nvPr/>
        </p:nvPicPr>
        <p:blipFill>
          <a:blip r:embed="rId2"/>
          <a:stretch/>
        </p:blipFill>
        <p:spPr>
          <a:xfrm>
            <a:off x="-754200" y="-1247760"/>
            <a:ext cx="10079280" cy="74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-384120"/>
            <a:ext cx="8561160" cy="8651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732720" y="836640"/>
            <a:ext cx="107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放风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37460_t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971640" y="386064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为了缅怀革命先烈，进行爱国主义教育，传承民族传统， 继承革命遗志，让我们共同踏上被记忆尘封已久的革命道路，共同追忆那红色足迹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5429160" cy="3876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9280" y="4276800"/>
            <a:ext cx="4086360" cy="2581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381560" y="32860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-666360" y="1557360"/>
            <a:ext cx="175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1341360"/>
            <a:ext cx="78487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扫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又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上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扫墓时，人们要携带酒食果品、纸钱等物品到墓地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将食物供祭在亲人墓前，再将纸钱焚化，为坟墓培上新土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折几枝嫩绿的新枝插在坟上，然后叩头行礼祭拜，最后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掉酒食回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876920" cy="5084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380360" y="549360"/>
            <a:ext cx="1446120" cy="5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404640"/>
            <a:ext cx="4114800" cy="5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35280" y="5157000"/>
            <a:ext cx="56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站在烈士纪念碑前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誓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YC01\Desktop\20090402155548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12524_t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6"/>
          <p:cNvSpPr txBox="1"/>
          <p:nvPr/>
        </p:nvSpPr>
        <p:spPr>
          <a:xfrm>
            <a:off x="2268360" y="1197000"/>
            <a:ext cx="5472360" cy="11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3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缅怀革命先烈，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4" name="WordArt 7"/>
          <p:cNvSpPr txBox="1"/>
          <p:nvPr/>
        </p:nvSpPr>
        <p:spPr>
          <a:xfrm>
            <a:off x="900000" y="2781360"/>
            <a:ext cx="525636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继承革命遗志！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46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179280" y="0"/>
            <a:ext cx="2419560" cy="781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3"/>
          <a:stretch/>
        </p:blipFill>
        <p:spPr>
          <a:xfrm>
            <a:off x="179280" y="1557360"/>
            <a:ext cx="2409840" cy="647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4"/>
          <a:stretch/>
        </p:blipFill>
        <p:spPr>
          <a:xfrm>
            <a:off x="179280" y="765000"/>
            <a:ext cx="2390760" cy="828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5"/>
          <a:stretch/>
        </p:blipFill>
        <p:spPr>
          <a:xfrm>
            <a:off x="179280" y="2205000"/>
            <a:ext cx="2376720" cy="650880"/>
          </a:xfrm>
          <a:prstGeom prst="rect">
            <a:avLst/>
          </a:prstGeom>
          <a:ln w="0">
            <a:noFill/>
          </a:ln>
        </p:spPr>
      </p:pic>
      <p:sp>
        <p:nvSpPr>
          <p:cNvPr id="110" name="WordArt 9"/>
          <p:cNvSpPr txBox="1"/>
          <p:nvPr/>
        </p:nvSpPr>
        <p:spPr>
          <a:xfrm>
            <a:off x="3419640" y="333360"/>
            <a:ext cx="1657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刘胡兰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250920" y="2495520"/>
            <a:ext cx="86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云周西村的反动村长石佩怀，为阎锡山军派粮派款、递送情报，成为当地一害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4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的一天，刘胡兰配合武工队员将其处死。阎锡山匪军恼羞成怒，决定实施报复行动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4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，刘胡兰因叛徒告密而被捕。她镇静地把奶奶给的银戒指、八路军连长送的手绢和作为入党信物的万金油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件宝贵的纪念品交给继母后，被敌人带走。刘胡兰在威逼利诱面前不为所动，眼见匪军连铡了几个人，怒问一声：“我咋个死法？”匪军喝叫“一个样”后，她自己坦然躺在刀座上。当时，她尚未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周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U54P55T4D92126F50DT200605111646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3" name="WordArt 5"/>
          <p:cNvSpPr txBox="1"/>
          <p:nvPr/>
        </p:nvSpPr>
        <p:spPr>
          <a:xfrm rot="423600">
            <a:off x="2196720" y="139320"/>
            <a:ext cx="23335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494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邱少云事迹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494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4" name="Picture 7" descr="u=638211511,79232958&amp;fm=0&amp;gp=2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4200" y="1143000"/>
            <a:ext cx="3071880" cy="48578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8"/>
          <p:cNvSpPr/>
          <p:nvPr/>
        </p:nvSpPr>
        <p:spPr>
          <a:xfrm>
            <a:off x="3714840" y="1143000"/>
            <a:ext cx="493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66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95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月，为打击美国和南朝鲜军队，中国人民志愿军第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军第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9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师第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87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团战士邱少云参加潜伏部队，并担任爆破任务。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日上午，敌机进行低空扫射，并投掷燃烧弹。飞迸的燃烧液燃遍他全身。为了不暴露潜伏目标，邱少云任凭烈火烧焦身体一动不动，直至壮烈牺牲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436da5fbe717efc3b48f31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u=1895368203,2096266105&amp;fm=0&amp;gp=-3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64000" y="3789360"/>
            <a:ext cx="2311560" cy="24145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468360" y="2205000"/>
            <a:ext cx="468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66ff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1948</a:t>
            </a:r>
            <a:r>
              <a:rPr b="0" lang="zh-CN" sz="2000" spc="-1" strike="noStrike">
                <a:solidFill>
                  <a:srgbClr val="0066ff"/>
                </a:solidFill>
                <a:latin typeface="Arial"/>
              </a:rPr>
              <a:t>年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66ff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66ff"/>
                </a:solidFill>
                <a:latin typeface="Arial"/>
              </a:rPr>
              <a:t>日，我军攻打隆化城的战斗打响。董存瑞任爆破组组长，带领战友接连炸毁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66ff"/>
                </a:solidFill>
                <a:latin typeface="Arial"/>
              </a:rPr>
              <a:t>座炮楼、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66ff"/>
                </a:solidFill>
                <a:latin typeface="Arial"/>
              </a:rPr>
              <a:t>座碉堡，胜利完成了规定的任务。连队随即发起冲锋，突然遭敌猛烈火力的封锁。部队受阻于开阔地带，董存瑞挺身而出，向连长请战，毅然抱起炸药包，冲向暗堡，前进时左腿负伤，顽强坚持冲至桥下。危急关头，他毅然地用左手托起炸药包，右手拉燃导火索，高喊：“为了新中国，冲啊！！”碉堡被炸毁，董存瑞以自己的生命为部队开辟了前进的道路，此时，他年仅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19</a:t>
            </a:r>
            <a:r>
              <a:rPr b="0" lang="zh-CN" sz="2000" spc="-1" strike="noStrike">
                <a:solidFill>
                  <a:srgbClr val="0066ff"/>
                </a:solidFill>
                <a:latin typeface="Arial"/>
              </a:rPr>
              <a:t>岁。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42840"/>
            <a:ext cx="914400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6324840" cy="4761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7391160" cy="46638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80880" y="510552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还有更多的人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他们倒在了革命前进的路上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没有留下名字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可他们在人民的心中都有一个共同的名字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英雄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838080" y="380880"/>
            <a:ext cx="6553440" cy="4724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914400" y="304920"/>
            <a:ext cx="6629400" cy="4724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ircl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1500"/>
                            </p:stCondLst>
                            <p:childTnLst>
                              <p:par>
                                <p:cTn id="220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343400" cy="4572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572000" y="15228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09480" y="502920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他们中也有像我们一样年龄的孩子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为了中华民族的崛起和新中国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他们走上革命的道路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circl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36847_t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WordArt 5"/>
          <p:cNvSpPr txBox="1"/>
          <p:nvPr/>
        </p:nvSpPr>
        <p:spPr>
          <a:xfrm>
            <a:off x="2268360" y="1197000"/>
            <a:ext cx="5472360" cy="11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3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缅怀革命先烈，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9" name="WordArt 6"/>
          <p:cNvSpPr txBox="1"/>
          <p:nvPr/>
        </p:nvSpPr>
        <p:spPr>
          <a:xfrm>
            <a:off x="900000" y="2781360"/>
            <a:ext cx="525636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继承革命遗志！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1" name="Rectangl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 txBox="1"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8991720" cy="6019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04920" y="6156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孝顺父母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做一个有孝心的孩子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304920"/>
            <a:ext cx="8458200" cy="59436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8580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面对挑战，勇往直前，学会刚毅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5720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面对困难，敢于说不，学会勇敢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914400" y="62164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热爱劳动，做个勤劳的孩子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6278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发奋读书，肩负天下！做一个有志向的孩子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447920" y="137160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62784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尊敬老师，做一个懂礼貌的孩子 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9144000" cy="3718080"/>
            <a:chOff x="0" y="0"/>
            <a:chExt cx="9144000" cy="371808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01916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0" y="981000"/>
              <a:ext cx="1019160" cy="96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0" y="1916280"/>
              <a:ext cx="101916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4"/>
            <a:stretch/>
          </p:blipFill>
          <p:spPr>
            <a:xfrm>
              <a:off x="0" y="2708280"/>
              <a:ext cx="581040" cy="10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5"/>
            <a:stretch/>
          </p:blipFill>
          <p:spPr>
            <a:xfrm>
              <a:off x="5076720" y="0"/>
              <a:ext cx="40672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6"/>
            <a:stretch/>
          </p:blipFill>
          <p:spPr>
            <a:xfrm>
              <a:off x="8024760" y="765000"/>
              <a:ext cx="1119240" cy="158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"/>
          <p:cNvSpPr/>
          <p:nvPr/>
        </p:nvSpPr>
        <p:spPr>
          <a:xfrm>
            <a:off x="971640" y="1700280"/>
            <a:ext cx="748980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我国的二十四节气之一。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时百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说法：“万物生长此时，皆清洁而明净。故谓之清明。”清明一到，气温升高，雨量增多，正是春耕春种的大好时节。故有“植树造林，莫过清明”的农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但是，清明作为节日，与纯粹的节气又有所不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清明节，又叫踏青节，它是在每年阳历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间，正是春光明媚的时节，也正是人们春游（古代叫踏青）的好时候，所以古人有清明踏青的习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另外，清明节也是我国最重要的祭祀节日，是祭祖和扫墓的日子。直到今天，清明节祭拜祖先，悼念已逝的亲人的习俗仍很盛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549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993300"/>
                </a:solidFill>
                <a:latin typeface="Arial"/>
                <a:ea typeface="黑体"/>
              </a:rPr>
              <a:t>清 明 节 简 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8534520" y="6248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763640" y="1557360"/>
            <a:ext cx="86364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>
                    <a:alpha val="43000"/>
                  </a:srgbClr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华文行楷"/>
              </a:rPr>
              <a:t>清明</a:t>
            </a:r>
            <a:endParaRPr b="0" lang="en-US" sz="1800" spc="-1" strike="noStrike">
              <a:ln w="9360">
                <a:solidFill>
                  <a:srgbClr val="800000"/>
                </a:solidFill>
                <a:miter/>
              </a:ln>
              <a:solidFill>
                <a:srgbClr val="ffffff">
                  <a:alpha val="43000"/>
                </a:srgbClr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14400" y="6278400"/>
            <a:ext cx="922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遵守班纪校规，做一个守纪的孩子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38080" y="62784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爱护环境，做一个讲文明的孩子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80880" y="6324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关爱他人，做一个善良的孩子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438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韩国：扫墓不烧纸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韩国人扫墓，主要是在墓前摆上酒、水果、蒸糕等，然后行礼祭拜，从来没有点火烧纸给阴间送钱的概念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本：怀念不只在清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除了在御盆节时请灵送灵以外，平时去寺庙悼念祖先的日本人也不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新加坡：祭祖传统不敢丢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东南亚地区华人拥有独特的宗乡会馆文化，它的形成与华人的清明节祭祖传统密切相关，可以说南来华人都是这么凝聚起来的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 rot="180000">
            <a:off x="1979280" y="620280"/>
            <a:ext cx="5486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对待清明节各国方式不一样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0"/>
            <a:ext cx="9144000" cy="3718080"/>
            <a:chOff x="0" y="0"/>
            <a:chExt cx="9144000" cy="3718080"/>
          </a:xfrm>
        </p:grpSpPr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01916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0" y="981000"/>
              <a:ext cx="1019160" cy="96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0" y="1916280"/>
              <a:ext cx="101916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4"/>
            <a:stretch/>
          </p:blipFill>
          <p:spPr>
            <a:xfrm>
              <a:off x="0" y="2708280"/>
              <a:ext cx="581040" cy="10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5"/>
            <a:stretch/>
          </p:blipFill>
          <p:spPr>
            <a:xfrm>
              <a:off x="5076720" y="0"/>
              <a:ext cx="40672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6"/>
            <a:stretch/>
          </p:blipFill>
          <p:spPr>
            <a:xfrm>
              <a:off x="8024760" y="765000"/>
              <a:ext cx="1119240" cy="158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"/>
          <p:cNvSpPr/>
          <p:nvPr/>
        </p:nvSpPr>
        <p:spPr>
          <a:xfrm>
            <a:off x="1116000" y="260280"/>
            <a:ext cx="7343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993300"/>
                </a:solidFill>
                <a:latin typeface="Arial"/>
              </a:rPr>
              <a:t>清明节传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关于寒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</a:rPr>
              <a:t>由于清明与寒食的日子接近，而寒食是民间禁火扫墓的日子，渐渐寒食与清明就合二为一了，而寒食既成为清明的别称，也变成为清明节的一个习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此后，寒食、清明成了全国百姓的隆重节日。每逢寒食，人们即不生火做饭，只吃冷食。在北方，老百姓只吃事先做好的冷食如枣饼、麦糕等；在南方，则多为青团和糯米糖藕。每届清明，人们把柳条编成圈儿戴在头上，把柳条枝插在房前屋后，以示怀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8534520" y="6248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50920" y="3284640"/>
            <a:ext cx="2089080" cy="2603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631960" y="274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89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习 俗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1197000"/>
            <a:ext cx="4319280" cy="8769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补充</a:t>
            </a:r>
            <a:r>
              <a:rPr b="1" lang="zh-TW" sz="2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这是我国古代清明节习俗。秋千即揪着皮绳而迁移。它的历史很古老，最早叫千秋，后为了避忌讳，改为秋千。打秋千不仅可以增进健康，而且可以培养勇敢精神，至今为人们特别是儿童所喜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48006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11280" y="4797360"/>
            <a:ext cx="1986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放风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0720" y="3860640"/>
            <a:ext cx="4392360" cy="8769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补充</a:t>
            </a:r>
            <a:r>
              <a:rPr b="1" lang="zh-TW" sz="2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每逢清明时节，人们不仅白天放风筝，夜间也放。夜里在风筝下或风稳拉线上挂上一串串彩色的小灯笼，象闪烁的明星，被称为“神灯”。还有的人把风筝放上蓝天后，便剪断牵线，任凭清风把它们送往天涯海角，据说这能除病消灾，给自己带来好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24000" y="404640"/>
            <a:ext cx="1871640" cy="2194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484360" y="13413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cc"/>
                </a:solidFill>
                <a:latin typeface="Times New Roman"/>
                <a:ea typeface="华文新魏"/>
              </a:rPr>
              <a:t>荡秋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26946" r="753" b="0"/>
          <a:stretch/>
        </p:blipFill>
        <p:spPr>
          <a:xfrm>
            <a:off x="468360" y="260280"/>
            <a:ext cx="4608360" cy="3125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292720" y="1052640"/>
            <a:ext cx="3468600" cy="5040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11280" y="414972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燕子来时春社，梨花落后清明。”每年公历四月五日是清明节，又叫踏青节，据传始于古代帝王将相“墓祭”之礼，后来民间亦相仿效，于此日祭祖扫墓，历代沿袭而成为中华民族一种固定的风俗。由于节期很长，有十日前八日后及十日前十日后两种说法，这近二十天内均属清明节。每逢此节，人们都要到先人墓前祭奠，以寄托缅怀思念之情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3500280"/>
            <a:ext cx="33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78f75"/>
                </a:solidFill>
                <a:latin typeface="华文新魏"/>
                <a:ea typeface="华文新魏"/>
              </a:rPr>
              <a:t>扫 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097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211640" y="83664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荡秋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17080" cy="6245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211640" y="90792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踏青（春游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2409840" y="476280"/>
            <a:ext cx="11985480" cy="8055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71640" y="9810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植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1T09:39:45Z</dcterms:created>
  <dc:creator>www.yuwen99.com</dc:creator>
  <dc:description/>
  <cp:keywords>www.yuwen99.com</cp:keywords>
  <dc:language>en-US</dc:language>
  <cp:lastModifiedBy>Skyfree</cp:lastModifiedBy>
  <dcterms:modified xsi:type="dcterms:W3CDTF">2014-03-31T06:23:31Z</dcterms:modified>
  <cp:revision>34</cp:revision>
  <dc:subject>www.yuwen99.com</dc:subject>
  <dc:title>www.yuwen99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