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55D2-1AA0-444A-977C-C64BD6EF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D991-1968-4237-8E8E-930CA9CC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53DF-1FEB-4ED5-8E72-C93C8C3B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97D-99E7-42F7-AC40-04D11353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C117-2061-40B3-94E8-DBDC08F6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7CC-EC64-4AAE-8B27-A2850052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16F0-DC9B-4F49-8E36-C8B3DB6E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76C-4C0A-443B-8CB2-3791A4DC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AF1C-B70B-4CD0-9BC8-C3D4D19B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505-39F7-4DF8-9C14-F5A3F6FC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FFF-D8CA-4107-9418-20CD977D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700A-9A7C-4CF1-86DA-396A0D30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CFEA-C6A1-486B-866E-A5CC6F90F72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80AB-5578-419F-A190-AB0D8879ED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直接连接符 7"/>
          <p:cNvSpPr/>
          <p:nvPr/>
        </p:nvSpPr>
        <p:spPr>
          <a:xfrm>
            <a:off x="395280" y="692280"/>
            <a:ext cx="8569440" cy="0"/>
          </a:xfrm>
          <a:prstGeom prst="line">
            <a:avLst/>
          </a:prstGeom>
          <a:ln w="38160">
            <a:solidFill>
              <a:srgbClr val="d996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8"/>
          <p:cNvSpPr/>
          <p:nvPr/>
        </p:nvSpPr>
        <p:spPr>
          <a:xfrm>
            <a:off x="3348000" y="6237360"/>
            <a:ext cx="5616720" cy="0"/>
          </a:xfrm>
          <a:prstGeom prst="line">
            <a:avLst/>
          </a:prstGeom>
          <a:ln w="38160">
            <a:solidFill>
              <a:srgbClr val="d996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6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3095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2"/>
          <p:cNvSpPr/>
          <p:nvPr/>
        </p:nvSpPr>
        <p:spPr>
          <a:xfrm>
            <a:off x="826920" y="4653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西西软件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395280" y="115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模板使用说明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611280" y="1125360"/>
            <a:ext cx="78483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7937640" y="6308640"/>
            <a:ext cx="109836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 O G 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TextBox 1" descr=""/>
          <p:cNvPicPr/>
          <p:nvPr/>
        </p:nvPicPr>
        <p:blipFill>
          <a:blip r:embed="rId1"/>
          <a:stretch/>
        </p:blipFill>
        <p:spPr>
          <a:xfrm>
            <a:off x="1116000" y="2620800"/>
            <a:ext cx="74851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1T02:54:36Z</dcterms:created>
  <dc:creator>li</dc:creator>
  <dc:description/>
  <dc:language>en-US</dc:language>
  <cp:lastModifiedBy>Administrator</cp:lastModifiedBy>
  <dcterms:modified xsi:type="dcterms:W3CDTF">2016-01-27T09:33:10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