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3880" y="2441160"/>
            <a:ext cx="122954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7200" spc="-1" strike="noStrike">
                <a:solidFill>
                  <a:srgbClr val="25464c"/>
                </a:solidFill>
                <a:latin typeface="Heiti SC Light"/>
                <a:ea typeface="宋体"/>
              </a:rPr>
              <a:t>对外汉语课堂教学技巧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2901960" y="6100920"/>
            <a:ext cx="6146640" cy="419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zh-CN" sz="2400" spc="-1" strike="noStrike">
                <a:solidFill>
                  <a:srgbClr val="25464c"/>
                </a:solidFill>
                <a:latin typeface="Heiti SC Light"/>
                <a:ea typeface="宋体"/>
              </a:rPr>
              <a:t>西西软件园编辑整理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676BE4-22F9-48CF-A729-28C0246AD241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宋体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9DB3C0-6C87-4897-A4E5-E778C31C0911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1320840" y="1031760"/>
            <a:ext cx="94741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教法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1320840" y="1949400"/>
            <a:ext cx="103503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不同的语言要素、语言技能，不同的教学策略和教学方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320840" y="2711520"/>
            <a:ext cx="103503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具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325520" y="4114800"/>
            <a:ext cx="10352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学法流派、理论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2101680" y="4908600"/>
            <a:ext cx="10352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语法翻译法、直接法、听说法、功能法、任务型教学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130480" y="5622840"/>
            <a:ext cx="874224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“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拿来主义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130480" y="6399360"/>
            <a:ext cx="888516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语言环境对学生的学习效果影响巨大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DBBD55-8BDA-4F4B-8FF7-203F5FD06934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37" name="Picture 2" descr="InsertedImage.jpg"/>
          <p:cNvPicPr/>
          <p:nvPr/>
        </p:nvPicPr>
        <p:blipFill>
          <a:blip r:embed="rId1"/>
          <a:stretch/>
        </p:blipFill>
        <p:spPr>
          <a:xfrm>
            <a:off x="1297080" y="596880"/>
            <a:ext cx="10409040" cy="84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B441C3-57A1-4050-B191-74FD75A8CDC0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1306440" y="739800"/>
            <a:ext cx="103903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堂教学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308240" y="1951200"/>
            <a:ext cx="1038852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精讲多练原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306440" y="2762280"/>
            <a:ext cx="94996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正确简明原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244520" y="3732120"/>
            <a:ext cx="77407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循序渐进原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301760" y="4629240"/>
            <a:ext cx="266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启发鼓励原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1244520" y="5638680"/>
            <a:ext cx="78040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知识性和趣味性相结合原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1306440" y="6472080"/>
            <a:ext cx="26672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适当使用外语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B59EB3-90A0-4C0D-8054-3A7042ED5679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1693800" y="2011320"/>
            <a:ext cx="624996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语言学习的两个层面：懂 和 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78080" y="984240"/>
            <a:ext cx="30477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精讲多练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5348160" y="3610080"/>
            <a:ext cx="104396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精讲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32520" y="2714760"/>
            <a:ext cx="360" cy="726840"/>
            <a:chOff x="6032520" y="2714760"/>
            <a:chExt cx="360" cy="726840"/>
          </a:xfrm>
        </p:grpSpPr>
        <p:sp>
          <p:nvSpPr>
            <p:cNvPr id="151" name="Line 5"/>
            <p:cNvSpPr/>
            <p:nvPr/>
          </p:nvSpPr>
          <p:spPr>
            <a:xfrm>
              <a:off x="6032520" y="2714760"/>
              <a:ext cx="0" cy="726840"/>
            </a:xfrm>
            <a:prstGeom prst="line">
              <a:avLst/>
            </a:prstGeom>
            <a:ln w="25560">
              <a:solidFill>
                <a:srgbClr val="66748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032520" y="2714760"/>
              <a:ext cx="360" cy="72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153" name="AutoShape 6"/>
          <p:cNvSpPr/>
          <p:nvPr/>
        </p:nvSpPr>
        <p:spPr>
          <a:xfrm>
            <a:off x="6278400" y="3610080"/>
            <a:ext cx="16653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多练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970680" y="2714760"/>
            <a:ext cx="360" cy="726840"/>
            <a:chOff x="6970680" y="2714760"/>
            <a:chExt cx="360" cy="726840"/>
          </a:xfrm>
        </p:grpSpPr>
        <p:sp>
          <p:nvSpPr>
            <p:cNvPr id="155" name="Line 7"/>
            <p:cNvSpPr/>
            <p:nvPr/>
          </p:nvSpPr>
          <p:spPr>
            <a:xfrm>
              <a:off x="6970680" y="2714760"/>
              <a:ext cx="0" cy="726840"/>
            </a:xfrm>
            <a:prstGeom prst="line">
              <a:avLst/>
            </a:prstGeom>
            <a:ln w="25560">
              <a:solidFill>
                <a:srgbClr val="66748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970680" y="2714760"/>
              <a:ext cx="360" cy="72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157" name="AutoShape 8"/>
          <p:cNvSpPr/>
          <p:nvPr/>
        </p:nvSpPr>
        <p:spPr>
          <a:xfrm>
            <a:off x="1820880" y="4349880"/>
            <a:ext cx="900576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两方面的含义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890720" y="5256360"/>
            <a:ext cx="1044108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时间的掌控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1890720" y="5940360"/>
            <a:ext cx="81532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内容的选择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1892160" y="6827760"/>
            <a:ext cx="104396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重现率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968CF0-6404-4D21-9C0D-8F6F4ACC22AB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1341360" y="882720"/>
            <a:ext cx="30481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正确简明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41360" y="1679400"/>
            <a:ext cx="103680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汉语知识、中国文化知识、历史知识、国情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341360" y="2441520"/>
            <a:ext cx="104140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洗得很干净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976560" y="2441520"/>
            <a:ext cx="103665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洗得干净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1311120" y="3290760"/>
            <a:ext cx="1036800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句尾“的”和“了”的语义差别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2057400" y="4156200"/>
            <a:ext cx="1036800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你怎么来了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057400" y="4908600"/>
            <a:ext cx="103680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你怎么来的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481040" y="5784840"/>
            <a:ext cx="104014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指令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2301840" y="5784840"/>
            <a:ext cx="6464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明白、清楚，避免含混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1481040" y="6492960"/>
            <a:ext cx="49532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问题的设计也要清晰，准确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AutoShape 12"/>
          <p:cNvSpPr/>
          <p:nvPr/>
        </p:nvSpPr>
        <p:spPr>
          <a:xfrm>
            <a:off x="1468440" y="7246800"/>
            <a:ext cx="103964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要对学生的水平和知识背景有预估能力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E45D8C-63DC-4BCC-AA02-EEB41A00CCD0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1289160" y="801720"/>
            <a:ext cx="10413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循序渐进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1928880" y="1860480"/>
            <a:ext cx="82184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词汇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359160" y="1860480"/>
            <a:ext cx="104252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义项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930320" y="3767040"/>
            <a:ext cx="104014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“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不”和“没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1928880" y="2884320"/>
            <a:ext cx="10402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都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3359160" y="2884320"/>
            <a:ext cx="104140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总括；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4653000" y="2884320"/>
            <a:ext cx="2477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已经；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930320" y="5051520"/>
            <a:ext cx="104014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难度适宜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1930320" y="6000840"/>
            <a:ext cx="104014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练习的难度梯级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13C62F-66FB-455F-890B-A62DB9191635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308240" y="865080"/>
            <a:ext cx="10386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堂提问的技巧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1839960" y="183024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问题的类型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2205000" y="331308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信息类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205000" y="4113360"/>
            <a:ext cx="617220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理解类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205000" y="494820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应用类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465280" y="5721480"/>
            <a:ext cx="1038888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分析类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205000" y="653400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评价类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E1A6B7-C42F-4441-B882-DCEF16F07C26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306440" y="1482840"/>
            <a:ext cx="10402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时间、地点、人物、事件、情节、经过、原因、结果等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1295280" y="417600"/>
            <a:ext cx="1041408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信息类问题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306440" y="2247840"/>
            <a:ext cx="10402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可以做热身练习，也可以用来引导学生开口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306440" y="3193920"/>
            <a:ext cx="104029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理解类问题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308240" y="4137120"/>
            <a:ext cx="103996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怎么、怎么样、为什么、是什么意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308240" y="4881600"/>
            <a:ext cx="103996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检查教学效果和教学目标的实现程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1295280" y="5896080"/>
            <a:ext cx="1039968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应用类问题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1308240" y="6873840"/>
            <a:ext cx="103996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要求学生应用所学的语言表达一定的意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1308240" y="7578720"/>
            <a:ext cx="104011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可以作为课堂练习，尤其是课文练习的重点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876B85-7758-4C83-9C82-5BCE39CD3961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1289160" y="941400"/>
            <a:ext cx="10413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分析类问题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1274760" y="1706400"/>
            <a:ext cx="104014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要求学生对学过的内容进行分析、解释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274760" y="2538360"/>
            <a:ext cx="10388520" cy="128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这一类问题难度比上面所说的三类要大不少，对学生的词汇量和语法掌握程度都有比较高的要求，属于自由表达练习，但又不脱离课文内容，应该在中高级阶段给学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1149480" y="4286160"/>
            <a:ext cx="103503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评价类问题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1123920" y="5468760"/>
            <a:ext cx="104014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对课文里的人物、事件做出自己的评价，说出自己的看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274760" y="6492960"/>
            <a:ext cx="10401480" cy="1676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这一类问题的难度跟上面的分析类差不多，但需要学生有更多个人思考，并将思考结果用汉语表达出来，虽然还是基于课文，但发散性比较强，课文只是提供了一个切入点，学生要表达自己的观点，因此也属于中高级阶段的练习方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AA3BF2-D23D-49A8-A3E7-F2B957F2F123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801720" y="692280"/>
            <a:ext cx="1041408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启发鼓励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814320" y="2198520"/>
            <a:ext cx="1159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我在上课听录音的时候，我大部分听得懂。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所以老师问我“听不懂吗？”的时候，我经常说一点点。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可是前天她问我了“一点点是多少？”我觉得“一点点是一点点！！”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老师觉得我全部听不懂！！但是呢，我真的一点点听得懂，只有不是很明白，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我汉语说得不太好，不知道应该怎么说，我不能回答她的问题，所以她觉得我不明白！！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还有上课的时候，她不明白怎么说的时候，她常常问我“</a:t>
            </a:r>
            <a:r>
              <a:rPr b="0" lang="en-US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XXX</a:t>
            </a: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，听不懂吗？”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这是什么意思呢？？我不明白这个意思，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老师应该说：听得懂吗？她为什么对我“你听不懂吗”？？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我不但很生气，而且很可惜</a:t>
            </a:r>
            <a:r>
              <a:rPr b="0" lang="en-US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……</a:t>
            </a:r>
            <a:r>
              <a:rPr b="0" lang="zh-CN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！！看起来，她只是空忙</a:t>
            </a:r>
            <a:r>
              <a:rPr b="0" lang="en-US" sz="3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……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3C357E-EF7D-4EBF-B3AC-5B6C31FE797D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282680" y="1108080"/>
            <a:ext cx="1043928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良好的开端非常重要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405080" y="2541600"/>
            <a:ext cx="1031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堂教学是特殊的人际交流，第一印象规律同样适用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405080" y="3714840"/>
            <a:ext cx="1031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目的：消除紧张，拉近距离，建立信任，打好基础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1405080" y="4908600"/>
            <a:ext cx="1031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方式：精采的开场白，对学生尊重理解的态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405080" y="6013440"/>
            <a:ext cx="1031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努力记住学生的名字，或者告诉学生，为什么记不住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738632-2CFE-4753-BE76-16DAB9FC61B0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281240" y="1407960"/>
            <a:ext cx="10440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讨论：这位老师犯了什么错误呢？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95360" y="2505240"/>
            <a:ext cx="1032660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首先，最好不要问学生“懂不懂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395360" y="3359160"/>
            <a:ext cx="1032660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其次，用肯定形式而不是否定形式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395360" y="4181400"/>
            <a:ext cx="104410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再次，学生无法回答时，不要再追问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1724040" y="5391000"/>
            <a:ext cx="10439280" cy="128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宽容、理解学生的偏误，与学生坦诚交流，指出学习语言的一般规律，主动降低自己的身份，消除学生的紧张感和师生间的距离感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D9C39A-93B5-421A-A788-CB76614DFCE7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AutoShape 2"/>
          <p:cNvSpPr/>
          <p:nvPr/>
        </p:nvSpPr>
        <p:spPr>
          <a:xfrm>
            <a:off x="1003320" y="1065240"/>
            <a:ext cx="103125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知识性和趣味性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1308240" y="2685960"/>
            <a:ext cx="103867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心理学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611360" y="3506760"/>
            <a:ext cx="10388520" cy="88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当人处于轻松愉快的状态下，大脑的活跃度更高，因此接受能力也比较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611360" y="4915080"/>
            <a:ext cx="10388520" cy="1422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成年人的注意力集中时间为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50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分钟左右，这是指理想状态，实际上我们上课，学生们很难集中注意力达到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50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分钟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一对一教学除外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308240" y="6729480"/>
            <a:ext cx="103867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堂的节奏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60F4ED-B688-4888-93ED-CCDB94400CE2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314360" y="766800"/>
            <a:ext cx="103633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适当使用外语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1325520" y="4349880"/>
            <a:ext cx="1047276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学环境的影响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325520" y="2457360"/>
            <a:ext cx="10352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尽量为学生营造汉语环境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5E43F8-00B0-435A-A862-DA1C568F2DC7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1306440" y="1289160"/>
            <a:ext cx="103903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堂纠错技巧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1306440" y="3502080"/>
            <a:ext cx="1039032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练习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出错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纠错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再练习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再出错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——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再纠错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308240" y="613404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一容忍、二防范、三纠正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1306440" y="2392200"/>
            <a:ext cx="103903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学习语言、提高语言能力的过程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308240" y="512136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对待学生出错的态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AF9115-BF19-4059-8D5C-35D69B87313F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1301760" y="1227240"/>
            <a:ext cx="10388520" cy="148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三个方面的能力：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审错的能力、辨错的能力和纠错的能力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2092320" y="3475080"/>
            <a:ext cx="10267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审错是能够发现学生的错误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2092320" y="4743360"/>
            <a:ext cx="10375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辨错是要分辨学生错误的性质和原因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2079720" y="5878440"/>
            <a:ext cx="10388520" cy="88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纠错是教师针对学生的错误能够开出药方，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采取有效的方法帮助学生自我改正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B6BA9C-4384-4E0A-92C2-C6593474C233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1303200" y="706320"/>
            <a:ext cx="914400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一般的纠错原则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2071800" y="1681200"/>
            <a:ext cx="104137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以尊重学生的感情、不伤害自尊心为前提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2071800" y="2714760"/>
            <a:ext cx="1038852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选择错误的类型、纠错的时机和方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2071800" y="3746520"/>
            <a:ext cx="104137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了解学生的本意，根据学生的本意改正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071800" y="4802040"/>
            <a:ext cx="103629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尽量考虑和保留汉语的特点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2071800" y="5740560"/>
            <a:ext cx="1041372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纠错以后要设计“再练习”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2071800" y="6794640"/>
            <a:ext cx="1041372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通过纠错教给学生判断对错和纠正错误的方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071800" y="781200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通过纠错教师要发现自己教学的失误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542AE6-95B2-41F6-AF71-3E39425C8E53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248" name="Picture 2" descr="InsertedImage.jpg"/>
          <p:cNvPicPr/>
          <p:nvPr/>
        </p:nvPicPr>
        <p:blipFill>
          <a:blip r:embed="rId1"/>
          <a:stretch/>
        </p:blipFill>
        <p:spPr>
          <a:xfrm>
            <a:off x="1773360" y="260280"/>
            <a:ext cx="9443880" cy="7499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"/>
          <p:cNvSpPr/>
          <p:nvPr/>
        </p:nvSpPr>
        <p:spPr>
          <a:xfrm>
            <a:off x="3263760" y="8061480"/>
            <a:ext cx="582768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电子邮件：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conglin@blcu.edu.cn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1214280" y="1260360"/>
            <a:ext cx="83059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堂教学的概念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484280" y="2492280"/>
            <a:ext cx="10328400" cy="889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堂教学技巧，是教学法框架下的细节问题、技术问题、经验问题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214280" y="4070520"/>
            <a:ext cx="740412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fe9043"/>
                </a:solidFill>
                <a:latin typeface="Arial"/>
                <a:ea typeface="宋体"/>
              </a:rPr>
              <a:t>教学有法而无定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360440" y="5149800"/>
            <a:ext cx="10576080" cy="95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堂教学涉及两个角度、四个方面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: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师「教什么、怎么教」；学生「学什么、怎么学」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306440" y="7197840"/>
            <a:ext cx="10623600" cy="888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个人意见：课堂教学是教师掌控和引导下的</a:t>
            </a:r>
            <a:r>
              <a:rPr b="0" lang="zh-CN" sz="3000" spc="-1" strike="noStrike">
                <a:solidFill>
                  <a:srgbClr val="fe9043"/>
                </a:solidFill>
                <a:latin typeface="Arial"/>
                <a:ea typeface="宋体"/>
              </a:rPr>
              <a:t>以学生为中心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的教学实践活动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37E2E7-47DA-40AB-9098-CFF9A2F8E5D4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6C6406-D37E-4813-B97B-378E2DA6FD6F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306440" y="996840"/>
            <a:ext cx="103903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教什么的问题：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341360" y="1967040"/>
            <a:ext cx="10388520" cy="128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学生等级、所开设课程、课程之间的配合关系、教学目标、所用教材等等。教师要做到心中有数。只有了解了要教什么以及为什么要教该内容，才能决定怎么教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306440" y="6148440"/>
            <a:ext cx="10423440" cy="2070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表现为一种愿望，这种愿望能否实现，或者在多大程度上能够得以实现，基本上取决于大学或者语言学校的规定课程，学生本身没有太大的自主权。但是，任课教师对此应该有所了解，你应该知道你的学生想学什么，以及为什么想学这部分内容，因为学生的学习目的和动机，对他们的学习效果有很大的影响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306440" y="4603680"/>
            <a:ext cx="3492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学什么的问题：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F9D7CC-5DF2-41F4-BF69-56FE89A49690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308240" y="1797120"/>
            <a:ext cx="103867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今天讨论的重点：</a:t>
            </a:r>
            <a:r>
              <a:rPr b="0" lang="zh-CN" sz="3500" spc="-1" strike="noStrike">
                <a:solidFill>
                  <a:srgbClr val="fe9043"/>
                </a:solidFill>
                <a:latin typeface="Arial"/>
                <a:ea typeface="宋体"/>
              </a:rPr>
              <a:t>怎么教</a:t>
            </a: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。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1308240" y="2765520"/>
            <a:ext cx="104011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有哪些常见的学习语言的方法、途径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1314360" y="3867120"/>
            <a:ext cx="10388520" cy="252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个别辅导或者说单独教学、一对一教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小组教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习得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直接交际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通过游戏、影视剧、美食等等学习语言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308240" y="6585120"/>
            <a:ext cx="9016920" cy="55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学校教学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Arial"/>
              </a:rPr>
              <a:t>----------</a:t>
            </a: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实现手段：课堂教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465200" y="7446960"/>
            <a:ext cx="9283680" cy="888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从时间上看，教学过程可以分为三个阶段：课前、课中、课后。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336886-97C1-4E44-9D04-01C49D315ACE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3924360" y="1508040"/>
            <a:ext cx="1033776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堂教学的基础：备课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366920" y="3673440"/>
            <a:ext cx="10256760" cy="389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备课的内容：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型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材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学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E8E40E-05C8-48BD-A635-C9E08C91668D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459080" y="1650960"/>
            <a:ext cx="104155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课型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440000" y="2693880"/>
            <a:ext cx="10413720" cy="1028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不同的课型   不同的教学方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459080" y="3618000"/>
            <a:ext cx="10415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各个课型的配合关系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1459080" y="4627440"/>
            <a:ext cx="103629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分课型教学技能问题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440000" y="5621400"/>
            <a:ext cx="10342440" cy="13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综合课、口语课、听力课、阅读课、写作课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影视听说课、汉字书法课、报刊阅读课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1440000" y="7348680"/>
            <a:ext cx="1034244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本门课在整个课程体系中的地位和作用以及教学目标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00D4B1-CDA7-411A-8A4A-33DDFBBF1F24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312920" y="927000"/>
            <a:ext cx="103885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教材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312920" y="1716120"/>
            <a:ext cx="103773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通读教材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019320" y="1716120"/>
            <a:ext cx="103759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胸有全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312920" y="2471760"/>
            <a:ext cx="969624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本课程知识点目录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312920" y="3201840"/>
            <a:ext cx="103885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知识点的逻辑线索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1314360" y="3900600"/>
            <a:ext cx="103870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材知识网络图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312920" y="4629240"/>
            <a:ext cx="1036332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系统性、连贯性和阶段性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1486080" y="5460840"/>
            <a:ext cx="10362960" cy="167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通过对各个分目标的实现作为铺垫，逐级递升，为实现课程教学总目标服务，更好地把握每次课的教学分目标与教学总目标的关系，明确教学任务，进而明确每个单元、每一课的教学目标、任务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486080" y="7513560"/>
            <a:ext cx="10362960" cy="1282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教学设计紧紧围绕教学目标进行，做到更加周密合理，克服教学的盲目性和随意性，加强教学的计划性和科学性，以便最高效地实现教学目标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>
            <a:off x="6261120" y="9271080"/>
            <a:ext cx="127080" cy="355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7337F9-8D65-47C9-A012-7148E99864F2}" type="slidenum">
              <a:rPr b="0" lang="zh-CN" sz="18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&lt;number&gt;</a:t>
            </a:fld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1314360" y="752400"/>
            <a:ext cx="10363320" cy="54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500" spc="-1" strike="noStrike">
                <a:solidFill>
                  <a:srgbClr val="25464c"/>
                </a:solidFill>
                <a:latin typeface="Arial"/>
                <a:ea typeface="宋体"/>
              </a:rPr>
              <a:t>学生</a:t>
            </a:r>
            <a:endParaRPr b="0" lang="en-US" sz="3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312920" y="2166840"/>
            <a:ext cx="9074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了解学生的国籍，以便于了解学生的规律性错误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312920" y="3005280"/>
            <a:ext cx="1036476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了解学生的知识背景，以便于针对性设计练习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312920" y="3798720"/>
            <a:ext cx="10352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了解学生的性格，以便于有效激发学生的学习积极性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090880" y="4629240"/>
            <a:ext cx="527688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课堂练习应该落实到人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2090880" y="5361120"/>
            <a:ext cx="779760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至少，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181320" y="5361120"/>
            <a:ext cx="6286680" cy="495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也应该区分练习的难易程度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325520" y="6129360"/>
            <a:ext cx="10352160" cy="495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marL="266760" algn="just">
              <a:lnSpc>
                <a:spcPct val="100000"/>
              </a:lnSpc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zh-CN" sz="3000" spc="-1" strike="noStrike">
                <a:solidFill>
                  <a:srgbClr val="25464c"/>
                </a:solidFill>
                <a:latin typeface="Arial"/>
                <a:ea typeface="宋体"/>
              </a:rPr>
              <a:t>备学生就是了解学生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0T09:22:26Z</dcterms:created>
  <dc:creator/>
  <dc:description/>
  <dc:language>en-US</dc:language>
  <cp:lastModifiedBy>Administrator</cp:lastModifiedBy>
  <dcterms:modified xsi:type="dcterms:W3CDTF">2016-05-10T09:25:21Z</dcterms:modified>
  <cp:revision>4</cp:revision>
  <dc:subject/>
  <dc:title>对外汉语课堂教学技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