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72A-285F-43EE-A71B-E37D0B59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01A-43F4-4BD6-89B3-4A8D6B11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7A1-6E1B-4819-9C2A-B0ED8AA0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B15-E576-4FA7-B350-3A59E1E8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E64-2937-412E-BE27-6E442652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5E4-F187-403F-95FE-190317FF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F11-259F-4A61-8B9A-60EAFF4D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B2A-5621-4274-8483-06232D06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D54-77C4-4AC5-8993-851CB2FB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8F7-767B-4B37-B318-4DD6A6B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76E-8DB2-4E1D-ADD1-61D6D466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05B-304C-4C61-A339-7B026DD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7031-5148-4303-BD0E-B48463EA3A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" descr="13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6.png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7.png"/>
          <p:cNvPicPr/>
          <p:nvPr/>
        </p:nvPicPr>
        <p:blipFill>
          <a:blip r:embed="rId4"/>
          <a:stretch/>
        </p:blipFill>
        <p:spPr>
          <a:xfrm>
            <a:off x="0" y="258840"/>
            <a:ext cx="9144000" cy="54054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8.png"/>
          <p:cNvPicPr/>
          <p:nvPr/>
        </p:nvPicPr>
        <p:blipFill>
          <a:blip r:embed="rId5"/>
          <a:srcRect l="0" t="2782" r="0" b="17015"/>
          <a:stretch/>
        </p:blipFill>
        <p:spPr>
          <a:xfrm>
            <a:off x="0" y="19044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11.png"/>
          <p:cNvPicPr/>
          <p:nvPr/>
        </p:nvPicPr>
        <p:blipFill>
          <a:blip r:embed="rId6"/>
          <a:srcRect l="0" t="6662" r="90838" b="19997"/>
          <a:stretch/>
        </p:blipFill>
        <p:spPr>
          <a:xfrm>
            <a:off x="0" y="457200"/>
            <a:ext cx="838080" cy="5029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12.png"/>
          <p:cNvPicPr/>
          <p:nvPr/>
        </p:nvPicPr>
        <p:blipFill>
          <a:blip r:embed="rId7"/>
          <a:srcRect l="85471" t="6510" r="0" b="20616"/>
          <a:stretch/>
        </p:blipFill>
        <p:spPr>
          <a:xfrm>
            <a:off x="7815240" y="446040"/>
            <a:ext cx="1328760" cy="49975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7" descr="10.png"/>
          <p:cNvPicPr/>
          <p:nvPr/>
        </p:nvPicPr>
        <p:blipFill>
          <a:blip r:embed="rId8"/>
          <a:srcRect l="5969" t="3580" r="2981" b="17613"/>
          <a:stretch/>
        </p:blipFill>
        <p:spPr>
          <a:xfrm>
            <a:off x="395280" y="0"/>
            <a:ext cx="8325000" cy="5403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14.png"/>
          <p:cNvPicPr/>
          <p:nvPr/>
        </p:nvPicPr>
        <p:blipFill>
          <a:blip r:embed="rId9"/>
          <a:srcRect l="12584" t="38392" r="0" b="19540"/>
          <a:stretch/>
        </p:blipFill>
        <p:spPr>
          <a:xfrm>
            <a:off x="1260360" y="2925720"/>
            <a:ext cx="7991640" cy="28861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3" descr="15.png"/>
          <p:cNvPicPr/>
          <p:nvPr/>
        </p:nvPicPr>
        <p:blipFill>
          <a:blip r:embed="rId10"/>
          <a:srcRect l="0" t="54027" r="72073" b="22989"/>
          <a:stretch/>
        </p:blipFill>
        <p:spPr>
          <a:xfrm>
            <a:off x="0" y="3705120"/>
            <a:ext cx="2554200" cy="1576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4" descr="16.png"/>
          <p:cNvPicPr/>
          <p:nvPr/>
        </p:nvPicPr>
        <p:blipFill>
          <a:blip r:embed="rId11"/>
          <a:srcRect l="14828" t="42073" r="31554" b="28964"/>
          <a:stretch/>
        </p:blipFill>
        <p:spPr>
          <a:xfrm>
            <a:off x="1355760" y="2884320"/>
            <a:ext cx="4903920" cy="1987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55640" y="1341360"/>
            <a:ext cx="7848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016</a:t>
            </a:r>
            <a:r>
              <a:rPr b="0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学组织部工作计划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autoRev="1" nodeType="withEffect" fill="hold" presetClass="emph" presetID="6" repeatCount="2000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300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" descr="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1" descr="13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" descr="6.png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" descr="7.png"/>
          <p:cNvPicPr/>
          <p:nvPr/>
        </p:nvPicPr>
        <p:blipFill>
          <a:blip r:embed="rId4"/>
          <a:stretch/>
        </p:blipFill>
        <p:spPr>
          <a:xfrm>
            <a:off x="108000" y="260280"/>
            <a:ext cx="9144000" cy="5405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693720"/>
            <a:ext cx="5975280" cy="792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50000">
                <a:srgbClr val="5a7bbc"/>
              </a:gs>
              <a:gs pos="100000">
                <a:srgbClr val="0033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76500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 综合测评附加分评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0680" y="2290680"/>
            <a:ext cx="148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00" y="1989000"/>
            <a:ext cx="5616000" cy="685800"/>
            <a:chOff x="1908000" y="1989000"/>
            <a:chExt cx="5616000" cy="685800"/>
          </a:xfrm>
        </p:grpSpPr>
        <p:sp>
          <p:nvSpPr>
            <p:cNvPr id="61" name="AutoShape 47"/>
            <p:cNvSpPr/>
            <p:nvPr/>
          </p:nvSpPr>
          <p:spPr>
            <a:xfrm>
              <a:off x="2360520" y="2108160"/>
              <a:ext cx="51634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e2eed1"/>
                </a:gs>
                <a:gs pos="100000">
                  <a:srgbClr val="c0504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48"/>
            <p:cNvSpPr/>
            <p:nvPr/>
          </p:nvSpPr>
          <p:spPr>
            <a:xfrm>
              <a:off x="1908000" y="1989000"/>
              <a:ext cx="815040" cy="685800"/>
            </a:xfrm>
            <a:prstGeom prst="diamond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49"/>
            <p:cNvSpPr/>
            <p:nvPr/>
          </p:nvSpPr>
          <p:spPr>
            <a:xfrm>
              <a:off x="2632320" y="2163600"/>
              <a:ext cx="407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制定了加分扣分标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50"/>
            <p:cNvSpPr/>
            <p:nvPr/>
          </p:nvSpPr>
          <p:spPr>
            <a:xfrm>
              <a:off x="2126160" y="208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908000" y="2781360"/>
            <a:ext cx="5616000" cy="685800"/>
            <a:chOff x="1908000" y="2781360"/>
            <a:chExt cx="5616000" cy="685800"/>
          </a:xfrm>
        </p:grpSpPr>
        <p:sp>
          <p:nvSpPr>
            <p:cNvPr id="66" name="AutoShape 52"/>
            <p:cNvSpPr/>
            <p:nvPr/>
          </p:nvSpPr>
          <p:spPr>
            <a:xfrm>
              <a:off x="2360520" y="2900520"/>
              <a:ext cx="51634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f81bd"/>
                </a:gs>
                <a:gs pos="50000">
                  <a:srgbClr val="d7e6f4"/>
                </a:gs>
                <a:gs pos="100000">
                  <a:srgbClr val="4f81b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53"/>
            <p:cNvSpPr/>
            <p:nvPr/>
          </p:nvSpPr>
          <p:spPr>
            <a:xfrm>
              <a:off x="1908000" y="2781360"/>
              <a:ext cx="815040" cy="685800"/>
            </a:xfrm>
            <a:prstGeom prst="diamond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54"/>
            <p:cNvSpPr/>
            <p:nvPr/>
          </p:nvSpPr>
          <p:spPr>
            <a:xfrm>
              <a:off x="2632320" y="2955960"/>
              <a:ext cx="407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统计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人的获奖及参加活动的情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55"/>
            <p:cNvSpPr/>
            <p:nvPr/>
          </p:nvSpPr>
          <p:spPr>
            <a:xfrm>
              <a:off x="2126160" y="28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908000" y="3665520"/>
            <a:ext cx="5616000" cy="685800"/>
            <a:chOff x="1908000" y="3665520"/>
            <a:chExt cx="5616000" cy="685800"/>
          </a:xfrm>
        </p:grpSpPr>
        <p:sp>
          <p:nvSpPr>
            <p:cNvPr id="71" name="AutoShape 57"/>
            <p:cNvSpPr/>
            <p:nvPr/>
          </p:nvSpPr>
          <p:spPr>
            <a:xfrm>
              <a:off x="2360520" y="3784680"/>
              <a:ext cx="51634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497d"/>
                </a:gs>
                <a:gs pos="50000">
                  <a:srgbClr val="daebf0"/>
                </a:gs>
                <a:gs pos="100000">
                  <a:srgbClr val="1f497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58"/>
            <p:cNvSpPr/>
            <p:nvPr/>
          </p:nvSpPr>
          <p:spPr>
            <a:xfrm>
              <a:off x="1908000" y="3665520"/>
              <a:ext cx="815040" cy="685800"/>
            </a:xfrm>
            <a:prstGeom prst="diamond">
              <a:avLst/>
            </a:prstGeom>
            <a:solidFill>
              <a:srgbClr val="1f497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9"/>
            <p:cNvSpPr/>
            <p:nvPr/>
          </p:nvSpPr>
          <p:spPr>
            <a:xfrm>
              <a:off x="2632320" y="3840120"/>
              <a:ext cx="407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进行附加分的评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60"/>
            <p:cNvSpPr/>
            <p:nvPr/>
          </p:nvSpPr>
          <p:spPr>
            <a:xfrm>
              <a:off x="2126160" y="37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62"/>
          <p:cNvSpPr/>
          <p:nvPr/>
        </p:nvSpPr>
        <p:spPr>
          <a:xfrm>
            <a:off x="2413080" y="4726080"/>
            <a:ext cx="51642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/>
              </a:gs>
              <a:gs pos="50000">
                <a:srgbClr val="e7edee"/>
              </a:gs>
              <a:gs pos="100000">
                <a:srgbClr val="800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3"/>
          <p:cNvSpPr/>
          <p:nvPr/>
        </p:nvSpPr>
        <p:spPr>
          <a:xfrm>
            <a:off x="1908000" y="4579920"/>
            <a:ext cx="814680" cy="685800"/>
          </a:xfrm>
          <a:prstGeom prst="diamond">
            <a:avLst/>
          </a:prstGeom>
          <a:solidFill>
            <a:srgbClr val="8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4"/>
          <p:cNvSpPr/>
          <p:nvPr/>
        </p:nvSpPr>
        <p:spPr>
          <a:xfrm>
            <a:off x="2633760" y="4756320"/>
            <a:ext cx="50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将结果发回各班 各班自行审核并统一进行答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5"/>
          <p:cNvSpPr/>
          <p:nvPr/>
        </p:nvSpPr>
        <p:spPr>
          <a:xfrm>
            <a:off x="2126160" y="4678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" descr="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1" descr="13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" descr="6.png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7.png"/>
          <p:cNvPicPr/>
          <p:nvPr/>
        </p:nvPicPr>
        <p:blipFill>
          <a:blip r:embed="rId4"/>
          <a:stretch/>
        </p:blipFill>
        <p:spPr>
          <a:xfrm>
            <a:off x="0" y="258840"/>
            <a:ext cx="9144000" cy="54054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8.png"/>
          <p:cNvPicPr/>
          <p:nvPr/>
        </p:nvPicPr>
        <p:blipFill>
          <a:blip r:embed="rId5"/>
          <a:srcRect l="0" t="2782" r="0" b="17015"/>
          <a:stretch/>
        </p:blipFill>
        <p:spPr>
          <a:xfrm>
            <a:off x="0" y="19044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8.png"/>
          <p:cNvPicPr/>
          <p:nvPr/>
        </p:nvPicPr>
        <p:blipFill>
          <a:blip r:embed="rId6"/>
          <a:srcRect l="0" t="2782" r="0" b="17015"/>
          <a:stretch/>
        </p:blipFill>
        <p:spPr>
          <a:xfrm>
            <a:off x="34920" y="260280"/>
            <a:ext cx="91440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5867280" y="1844640"/>
            <a:ext cx="3183120" cy="2808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108000" y="1774800"/>
            <a:ext cx="2952720" cy="27496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987640" y="2133720"/>
            <a:ext cx="2871720" cy="2447640"/>
            <a:chOff x="2987640" y="2133720"/>
            <a:chExt cx="2871720" cy="2447640"/>
          </a:xfrm>
        </p:grpSpPr>
        <p:sp>
          <p:nvSpPr>
            <p:cNvPr id="88" name="AutoShape 8"/>
            <p:cNvSpPr/>
            <p:nvPr/>
          </p:nvSpPr>
          <p:spPr>
            <a:xfrm>
              <a:off x="3344400" y="2916720"/>
              <a:ext cx="2514960" cy="812880"/>
            </a:xfrm>
            <a:prstGeom prst="rightArrow">
              <a:avLst>
                <a:gd name="adj1" fmla="val 48824"/>
                <a:gd name="adj2" fmla="val 50777"/>
              </a:avLst>
            </a:prstGeom>
            <a:gradFill rotWithShape="0">
              <a:gsLst>
                <a:gs pos="0">
                  <a:srgbClr val="e5c037"/>
                </a:gs>
                <a:gs pos="100000">
                  <a:srgbClr val="6a5919"/>
                </a:gs>
              </a:gsLst>
              <a:lin ang="10800000"/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987640" y="2133720"/>
              <a:ext cx="2514960" cy="2447640"/>
              <a:chOff x="2987640" y="2133720"/>
              <a:chExt cx="2514960" cy="244764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3402000" y="2134440"/>
                <a:ext cx="1819800" cy="2401920"/>
                <a:chOff x="3402000" y="2134440"/>
                <a:chExt cx="1819800" cy="2401920"/>
              </a:xfrm>
            </p:grpSpPr>
            <p:sp>
              <p:nvSpPr>
                <p:cNvPr id="91" name="Freeform 12"/>
                <p:cNvSpPr/>
                <p:nvPr/>
              </p:nvSpPr>
              <p:spPr>
                <a:xfrm flipH="1" flipV="1">
                  <a:off x="3402360" y="2134080"/>
                  <a:ext cx="1819440" cy="1011240"/>
                </a:xfrm>
                <a:prstGeom prst="pi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48484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13"/>
                <p:cNvSpPr/>
                <p:nvPr/>
              </p:nvSpPr>
              <p:spPr>
                <a:xfrm flipH="1">
                  <a:off x="3401640" y="3525120"/>
                  <a:ext cx="1798920" cy="1011240"/>
                </a:xfrm>
                <a:prstGeom prst="pi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48484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AutoShape 14"/>
              <p:cNvSpPr/>
              <p:nvPr/>
            </p:nvSpPr>
            <p:spPr>
              <a:xfrm flipH="1">
                <a:off x="2987640" y="2960280"/>
                <a:ext cx="2514960" cy="717480"/>
              </a:xfrm>
              <a:prstGeom prst="rightArrow">
                <a:avLst>
                  <a:gd name="adj1" fmla="val 53991"/>
                  <a:gd name="adj2" fmla="val 49252"/>
                </a:avLst>
              </a:prstGeom>
              <a:gradFill rotWithShape="0">
                <a:gsLst>
                  <a:gs pos="0">
                    <a:srgbClr val="c0504d"/>
                  </a:gs>
                  <a:gs pos="100000">
                    <a:srgbClr val="375112"/>
                  </a:gs>
                </a:gsLst>
                <a:lin ang="10800000"/>
              </a:gradFill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8"/>
              <p:cNvSpPr/>
              <p:nvPr/>
            </p:nvSpPr>
            <p:spPr>
              <a:xfrm>
                <a:off x="3539880" y="2133720"/>
                <a:ext cx="1829160" cy="2447640"/>
              </a:xfrm>
              <a:prstGeom prst="rect">
                <a:avLst/>
              </a:prstGeom>
              <a:gradFill rotWithShape="0">
                <a:gsLst>
                  <a:gs pos="0">
                    <a:srgbClr val="f4f4f4"/>
                  </a:gs>
                  <a:gs pos="50000">
                    <a:srgbClr val="eeece1"/>
                  </a:gs>
                  <a:gs pos="100000">
                    <a:srgbClr val="f4f4f4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3564000" y="1989000"/>
            <a:ext cx="1801800" cy="2592360"/>
          </a:xfrm>
          <a:custGeom>
            <a:avLst/>
            <a:gdLst>
              <a:gd name="textAreaLeft" fmla="*/ 263880 w 1801800"/>
              <a:gd name="textAreaRight" fmla="*/ 1537920 w 1801800"/>
              <a:gd name="textAreaTop" fmla="*/ 263880 h 2592360"/>
              <a:gd name="textAreaBottom" fmla="*/ 2328480 h 2592360"/>
            </a:gdLst>
            <a:ahLst/>
            <a:rect l="textAreaLeft" t="textAreaTop" r="textAreaRight" b="textAreaBottom"/>
            <a:pathLst>
              <a:path w="21600" h="31075">
                <a:moveTo>
                  <a:pt x="10800" y="0"/>
                </a:moveTo>
                <a:arcTo wR="10800" hR="10800" stAng="16200000" swAng="-5400000"/>
                <a:lnTo>
                  <a:pt x="0" y="20275"/>
                </a:lnTo>
                <a:arcTo wR="10800" hR="10800" stAng="10800000" swAng="-5400000"/>
                <a:lnTo>
                  <a:pt x="10800" y="310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50000">
                <a:srgbClr val="5a7bbc"/>
              </a:gs>
              <a:gs pos="100000">
                <a:srgbClr val="0033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94240" y="2276640"/>
            <a:ext cx="1277640" cy="23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情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" descr="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1" descr="13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" descr="6.png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4" descr="7.png"/>
          <p:cNvPicPr/>
          <p:nvPr/>
        </p:nvPicPr>
        <p:blipFill>
          <a:blip r:embed="rId4"/>
          <a:stretch/>
        </p:blipFill>
        <p:spPr>
          <a:xfrm>
            <a:off x="0" y="258840"/>
            <a:ext cx="9144000" cy="54054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" descr="8.png"/>
          <p:cNvPicPr/>
          <p:nvPr/>
        </p:nvPicPr>
        <p:blipFill>
          <a:blip r:embed="rId5"/>
          <a:srcRect l="0" t="2782" r="0" b="17015"/>
          <a:stretch/>
        </p:blipFill>
        <p:spPr>
          <a:xfrm>
            <a:off x="0" y="40464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920" y="765000"/>
            <a:ext cx="489744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50000">
                <a:srgbClr val="5a7bbc"/>
              </a:gs>
              <a:gs pos="100000">
                <a:srgbClr val="0033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69372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 青年政治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492360" y="1844640"/>
            <a:ext cx="4896000" cy="3247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7"/>
          <p:cNvSpPr/>
          <p:nvPr/>
        </p:nvSpPr>
        <p:spPr>
          <a:xfrm>
            <a:off x="611280" y="1917720"/>
            <a:ext cx="223344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405e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8120" y="244620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2197080"/>
            <a:ext cx="223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团委书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黄俊鹏老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持青年政治学校开学典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2" descr="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1" descr="13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" descr="6.png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4" descr="7.png"/>
          <p:cNvPicPr/>
          <p:nvPr/>
        </p:nvPicPr>
        <p:blipFill>
          <a:blip r:embed="rId4"/>
          <a:stretch/>
        </p:blipFill>
        <p:spPr>
          <a:xfrm>
            <a:off x="0" y="258840"/>
            <a:ext cx="9144000" cy="54054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" descr="8.png"/>
          <p:cNvPicPr/>
          <p:nvPr/>
        </p:nvPicPr>
        <p:blipFill>
          <a:blip r:embed="rId5"/>
          <a:srcRect l="0" t="2782" r="0" b="17015"/>
          <a:stretch/>
        </p:blipFill>
        <p:spPr>
          <a:xfrm>
            <a:off x="0" y="19044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549360"/>
            <a:ext cx="489564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50000">
                <a:srgbClr val="5a7bbc"/>
              </a:gs>
              <a:gs pos="100000">
                <a:srgbClr val="0033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66560" y="1557360"/>
            <a:ext cx="5500800" cy="3672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6588000" y="1917720"/>
            <a:ext cx="1827360" cy="2685600"/>
            <a:chOff x="6588000" y="1917720"/>
            <a:chExt cx="1827360" cy="2685600"/>
          </a:xfrm>
        </p:grpSpPr>
        <p:grpSp>
          <p:nvGrpSpPr>
            <p:cNvPr id="116" name=""/>
            <p:cNvGrpSpPr/>
            <p:nvPr/>
          </p:nvGrpSpPr>
          <p:grpSpPr>
            <a:xfrm>
              <a:off x="6588000" y="1917720"/>
              <a:ext cx="1827360" cy="2685600"/>
              <a:chOff x="6588000" y="1917720"/>
              <a:chExt cx="1827360" cy="2685600"/>
            </a:xfrm>
          </p:grpSpPr>
          <p:sp>
            <p:nvSpPr>
              <p:cNvPr id="117" name=""/>
              <p:cNvSpPr/>
              <p:nvPr/>
            </p:nvSpPr>
            <p:spPr>
              <a:xfrm>
                <a:off x="6588000" y="1917720"/>
                <a:ext cx="1827360" cy="268560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7932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6796800" y="1962000"/>
                <a:ext cx="1409760" cy="1013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6732000" y="2783160"/>
              <a:ext cx="158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董继华院长团课第一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4000" y="54936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 青年政治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2" descr="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1" descr="13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6.png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7.png"/>
          <p:cNvPicPr/>
          <p:nvPr/>
        </p:nvPicPr>
        <p:blipFill>
          <a:blip r:embed="rId4"/>
          <a:stretch/>
        </p:blipFill>
        <p:spPr>
          <a:xfrm>
            <a:off x="0" y="258840"/>
            <a:ext cx="9144000" cy="54054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" descr="8.png"/>
          <p:cNvPicPr/>
          <p:nvPr/>
        </p:nvPicPr>
        <p:blipFill>
          <a:blip r:embed="rId5"/>
          <a:srcRect l="0" t="2782" r="0" b="17015"/>
          <a:stretch/>
        </p:blipFill>
        <p:spPr>
          <a:xfrm>
            <a:off x="-34920" y="189000"/>
            <a:ext cx="9142560" cy="5500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8000" y="549360"/>
            <a:ext cx="691344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50000">
                <a:srgbClr val="5a7bbc"/>
              </a:gs>
              <a:gs pos="100000">
                <a:srgbClr val="0033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76280"/>
            <a:ext cx="66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 党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入党积极分子培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635280" y="1557360"/>
            <a:ext cx="4681800" cy="31114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4"/>
          <p:cNvSpPr/>
          <p:nvPr/>
        </p:nvSpPr>
        <p:spPr>
          <a:xfrm>
            <a:off x="324000" y="2133720"/>
            <a:ext cx="2879640" cy="165564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3dcdf"/>
              </a:gs>
              <a:gs pos="100000">
                <a:srgbClr val="8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720" y="2205000"/>
            <a:ext cx="261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邹茜书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党校开学典礼致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1" descr="13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3" descr="6.png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4" descr="7.png"/>
          <p:cNvPicPr/>
          <p:nvPr/>
        </p:nvPicPr>
        <p:blipFill>
          <a:blip r:embed="rId4"/>
          <a:stretch/>
        </p:blipFill>
        <p:spPr>
          <a:xfrm>
            <a:off x="0" y="258840"/>
            <a:ext cx="9144000" cy="54054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5" descr="8.png"/>
          <p:cNvPicPr/>
          <p:nvPr/>
        </p:nvPicPr>
        <p:blipFill>
          <a:blip r:embed="rId5"/>
          <a:srcRect l="0" t="2782" r="0" b="17015"/>
          <a:stretch/>
        </p:blipFill>
        <p:spPr>
          <a:xfrm>
            <a:off x="0" y="19044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5" descr="8.png"/>
          <p:cNvPicPr/>
          <p:nvPr/>
        </p:nvPicPr>
        <p:blipFill>
          <a:blip r:embed="rId6"/>
          <a:srcRect l="0" t="2782" r="0" b="17015"/>
          <a:stretch/>
        </p:blipFill>
        <p:spPr>
          <a:xfrm>
            <a:off x="-34920" y="189000"/>
            <a:ext cx="9142560" cy="5500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8000" y="549360"/>
            <a:ext cx="691344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50000">
                <a:srgbClr val="5a7bbc"/>
              </a:gs>
              <a:gs pos="100000">
                <a:srgbClr val="0033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476280"/>
            <a:ext cx="66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 党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入党积极分子培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3203640" y="1486080"/>
            <a:ext cx="5707080" cy="3816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468360" y="2349360"/>
            <a:ext cx="2376360" cy="165600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50000">
                <a:srgbClr val="eeece1"/>
              </a:gs>
              <a:gs pos="100000">
                <a:srgbClr val="f1f1f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63700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功成教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在授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" descr="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" descr="13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" descr="6.png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5" descr="7.png"/>
          <p:cNvPicPr/>
          <p:nvPr/>
        </p:nvPicPr>
        <p:blipFill>
          <a:blip r:embed="rId4"/>
          <a:stretch/>
        </p:blipFill>
        <p:spPr>
          <a:xfrm>
            <a:off x="0" y="258840"/>
            <a:ext cx="9144000" cy="54054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6" descr="8.png"/>
          <p:cNvPicPr/>
          <p:nvPr/>
        </p:nvPicPr>
        <p:blipFill>
          <a:blip r:embed="rId5"/>
          <a:srcRect l="0" t="2782" r="0" b="17015"/>
          <a:stretch/>
        </p:blipFill>
        <p:spPr>
          <a:xfrm>
            <a:off x="0" y="19044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7" descr="11.png"/>
          <p:cNvPicPr/>
          <p:nvPr/>
        </p:nvPicPr>
        <p:blipFill>
          <a:blip r:embed="rId6"/>
          <a:srcRect l="0" t="6662" r="90838" b="19997"/>
          <a:stretch/>
        </p:blipFill>
        <p:spPr>
          <a:xfrm>
            <a:off x="0" y="457200"/>
            <a:ext cx="838080" cy="50292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8" descr="12.png"/>
          <p:cNvPicPr/>
          <p:nvPr/>
        </p:nvPicPr>
        <p:blipFill>
          <a:blip r:embed="rId7"/>
          <a:srcRect l="85471" t="6510" r="0" b="20616"/>
          <a:stretch/>
        </p:blipFill>
        <p:spPr>
          <a:xfrm>
            <a:off x="7815240" y="446040"/>
            <a:ext cx="1328760" cy="49975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9" descr="10.png"/>
          <p:cNvPicPr/>
          <p:nvPr/>
        </p:nvPicPr>
        <p:blipFill>
          <a:blip r:embed="rId8"/>
          <a:srcRect l="5969" t="3580" r="2981" b="17613"/>
          <a:stretch/>
        </p:blipFill>
        <p:spPr>
          <a:xfrm>
            <a:off x="546120" y="246240"/>
            <a:ext cx="8325000" cy="5403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1" descr="14.png"/>
          <p:cNvPicPr/>
          <p:nvPr/>
        </p:nvPicPr>
        <p:blipFill>
          <a:blip r:embed="rId9"/>
          <a:srcRect l="12584" t="38392" r="0" b="19540"/>
          <a:stretch/>
        </p:blipFill>
        <p:spPr>
          <a:xfrm>
            <a:off x="1150920" y="2631960"/>
            <a:ext cx="7993080" cy="28861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2" descr="15.png"/>
          <p:cNvPicPr/>
          <p:nvPr/>
        </p:nvPicPr>
        <p:blipFill>
          <a:blip r:embed="rId10"/>
          <a:srcRect l="0" t="54027" r="72073" b="22989"/>
          <a:stretch/>
        </p:blipFill>
        <p:spPr>
          <a:xfrm>
            <a:off x="0" y="3705120"/>
            <a:ext cx="2554200" cy="15764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3" descr="16.png"/>
          <p:cNvPicPr/>
          <p:nvPr/>
        </p:nvPicPr>
        <p:blipFill>
          <a:blip r:embed="rId11"/>
          <a:srcRect l="14828" t="42073" r="31554" b="28964"/>
          <a:stretch/>
        </p:blipFill>
        <p:spPr>
          <a:xfrm>
            <a:off x="1355760" y="2884320"/>
            <a:ext cx="4903920" cy="198756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14" descr=""/>
          <p:cNvPicPr/>
          <p:nvPr/>
        </p:nvPicPr>
        <p:blipFill>
          <a:blip r:embed="rId12"/>
          <a:stretch/>
        </p:blipFill>
        <p:spPr>
          <a:xfrm>
            <a:off x="-1473120" y="1704960"/>
            <a:ext cx="12310920" cy="25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autoRev="1" nodeType="withEffect" fill="hold" presetClass="emph" presetID="6" repeatCount="2000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 repeatCount="300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10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600"/>
                            </p:stCondLst>
                            <p:childTnLst>
                              <p:par>
                                <p:cTn id="2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9:22:34Z</dcterms:created>
  <dc:creator>Administrator</dc:creator>
  <dc:description/>
  <cp:keywords/>
  <dc:language>en-US</dc:language>
  <cp:lastModifiedBy>未知用户</cp:lastModifiedBy>
  <cp:lastPrinted>1899-12-30T00:00:00Z</cp:lastPrinted>
  <dcterms:modified xsi:type="dcterms:W3CDTF">2015-12-31T02:15:3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88</vt:lpwstr>
  </property>
</Properties>
</file>