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3F4-00DF-41D9-9E11-ED5B4A12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517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8600" y="4595760"/>
            <a:ext cx="517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469-E101-462F-B9FA-5670CCB6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38600" y="459576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91440" y="459576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AB5-C21F-4AE9-A076-91D60030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89280" y="403848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9600" y="403848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38600" y="459576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89280" y="459576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9600" y="459576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D23-4FB4-43DB-9772-153DAB22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E4E9-5133-4CCC-A83F-E1C87CBA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3860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7A7A-BF12-40F7-975F-0336A84B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21CA-54C7-4085-8347-555E8A69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3B2E-4469-4BF3-8E5B-E1834700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B757-C948-4EE4-807D-2599E126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33560" y="2134800"/>
            <a:ext cx="5181480" cy="88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147-F33C-41D2-958F-F4135EC1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38600" y="459576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4525-D3F3-4530-8C13-5402F1DB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3860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61D-A0ED-4C91-B357-AE488152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91440" y="459576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398C-2C4F-4CDA-82C0-B03ED94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38600" y="4595760"/>
            <a:ext cx="517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43A6-D948-4C50-B9F7-F3FE45E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517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38600" y="4595760"/>
            <a:ext cx="517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1C83-7CAE-4502-BE10-A84F8720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38600" y="459576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91440" y="459576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056A-9BCA-4072-A9B0-FA41A1A7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89280" y="403848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9600" y="403848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38600" y="459576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489280" y="459576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9600" y="4595760"/>
            <a:ext cx="166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B82D-F868-48A8-940D-9FA0859D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173-EADE-4D53-B6E7-ED4AF752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28C-590D-4351-8919-611BA31A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A21-BF83-414F-9F59-1A9A3625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33560" y="2134800"/>
            <a:ext cx="5181480" cy="88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EAF-EAB1-4CD7-A531-AFA1A8BF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38600" y="459576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C19-C59A-4E72-99E4-402FB50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91440" y="459576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65B-49E8-487E-992B-068D41BD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3860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91440" y="4038480"/>
            <a:ext cx="252612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38600" y="4595760"/>
            <a:ext cx="5176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D30-7C58-4248-83F0-60BB7E4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C9DC-A84B-4EAD-8B71-3CBEE5AC599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DFC3-6892-47AE-90C6-E267A8F758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从入学开始准备毕业</a:t>
            </a:r>
            <a:endParaRPr b="1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3860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刘  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微软全球技术中心    部门经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304920"/>
          <a:ext cx="2616120" cy="609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2616120" cy="6095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333333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539120" y="6461280"/>
            <a:ext cx="124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本讲座内容仅代表个人观点</a:t>
            </a:r>
            <a:endParaRPr b="0" lang="en-US" sz="10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代表讲师及嘉宾所属公司立场</a:t>
            </a:r>
            <a:endParaRPr b="0" lang="en-US" sz="1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6019920"/>
            <a:ext cx="1092240" cy="5382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Verdana"/>
                <a:ea typeface="宋体"/>
              </a:rPr>
              <a:t>感谢嘉宾</a:t>
            </a:r>
            <a:endParaRPr b="0" lang="en-US" sz="1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Verdana"/>
                <a:ea typeface="宋体"/>
              </a:rPr>
              <a:t>的时间</a:t>
            </a:r>
            <a:endParaRPr b="0" lang="en-US" sz="1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经常看到的一些文章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讲座：成功求职方略——简历写作和面试技巧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对应届毕业生提个醒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面试要注意什么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见人说人话见鬼说鬼话 不同“型号”考官过过招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如何回答十个最棘手的面谈问题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这样的招聘考题你要当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劳动合同的管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签定劳动合同要注意哪些问题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及时定位、莫失良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介绍自己的优缺点有技巧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一份精致的自荐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学会展示自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700000">
            <a:off x="1447560" y="1980720"/>
            <a:ext cx="5562360" cy="2362320"/>
          </a:xfrm>
          <a:prstGeom prst="rect">
            <a:avLst/>
          </a:prstGeom>
          <a:solidFill>
            <a:srgbClr val="5f5f5f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Verdana"/>
                <a:ea typeface="宋体"/>
              </a:rPr>
              <a:t>只注重技巧，不注重素质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700000">
            <a:off x="5076360" y="3055680"/>
            <a:ext cx="2286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Verdana"/>
                <a:ea typeface="宋体"/>
              </a:rPr>
              <a:t>可能也是因为来不及了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从今天开始计划你的职业生涯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41960" y="1434240"/>
            <a:ext cx="5735880" cy="4128840"/>
            <a:chOff x="2541960" y="1434240"/>
            <a:chExt cx="5735880" cy="4128840"/>
          </a:xfrm>
        </p:grpSpPr>
        <p:sp>
          <p:nvSpPr>
            <p:cNvPr id="179" name="_s98311"/>
            <p:cNvSpPr/>
            <p:nvPr/>
          </p:nvSpPr>
          <p:spPr>
            <a:xfrm>
              <a:off x="4362480" y="2167920"/>
              <a:ext cx="2095200" cy="209556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46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0" name="_s98312"/>
            <p:cNvSpPr/>
            <p:nvPr/>
          </p:nvSpPr>
          <p:spPr>
            <a:xfrm>
              <a:off x="4866480" y="1434240"/>
              <a:ext cx="1088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以终为始 </a:t>
              </a:r>
              <a:endParaRPr b="0" lang="en-US" sz="2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1" name="_s98313"/>
            <p:cNvSpPr/>
            <p:nvPr/>
          </p:nvSpPr>
          <p:spPr>
            <a:xfrm>
              <a:off x="5051160" y="3363120"/>
              <a:ext cx="2095560" cy="20952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2" name="_s98314"/>
            <p:cNvSpPr/>
            <p:nvPr/>
          </p:nvSpPr>
          <p:spPr>
            <a:xfrm>
              <a:off x="7189560" y="5039640"/>
              <a:ext cx="108828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要事为先</a:t>
              </a:r>
              <a:endParaRPr b="0" lang="en-US" sz="2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3" name="_s98315"/>
            <p:cNvSpPr/>
            <p:nvPr/>
          </p:nvSpPr>
          <p:spPr>
            <a:xfrm>
              <a:off x="3671640" y="3360960"/>
              <a:ext cx="2095200" cy="209556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46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4" name="_s98316"/>
            <p:cNvSpPr/>
            <p:nvPr/>
          </p:nvSpPr>
          <p:spPr>
            <a:xfrm>
              <a:off x="2541960" y="5039640"/>
              <a:ext cx="108828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主动积极</a:t>
              </a:r>
              <a:endParaRPr b="0" lang="en-US" sz="26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以终为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791320" y="3733920"/>
            <a:ext cx="3276360" cy="3038040"/>
            <a:chOff x="5791320" y="3733920"/>
            <a:chExt cx="3276360" cy="3038040"/>
          </a:xfrm>
        </p:grpSpPr>
        <p:sp>
          <p:nvSpPr>
            <p:cNvPr id="187" name=""/>
            <p:cNvSpPr/>
            <p:nvPr/>
          </p:nvSpPr>
          <p:spPr>
            <a:xfrm>
              <a:off x="6906960" y="4946040"/>
              <a:ext cx="760680" cy="60840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53160" y="4692240"/>
              <a:ext cx="1267920" cy="1166760"/>
            </a:xfrm>
            <a:prstGeom prst="ellipse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Times New Roman"/>
                </a:rPr>
                <a:t>      </a:t>
              </a:r>
              <a:r>
                <a:rPr b="1" lang="zh-CN" sz="1600" spc="-1" strike="noStrike">
                  <a:solidFill>
                    <a:srgbClr val="f8f8f8"/>
                  </a:solidFill>
                  <a:latin typeface="Times New Roman"/>
                </a:rPr>
                <a:t>内在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9720" y="4387680"/>
              <a:ext cx="1774800" cy="1775520"/>
            </a:xfrm>
            <a:prstGeom prst="ellipse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45920" y="4134240"/>
              <a:ext cx="2282040" cy="2282760"/>
            </a:xfrm>
            <a:prstGeom prst="ellipse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91320" y="3829680"/>
              <a:ext cx="2941200" cy="2942280"/>
            </a:xfrm>
            <a:prstGeom prst="ellipse">
              <a:avLst/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9200" y="4755600"/>
              <a:ext cx="8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Times New Roman"/>
                </a:rPr>
                <a:t>       </a:t>
              </a:r>
              <a:r>
                <a:rPr b="1" lang="zh-CN" sz="1600" spc="-1" strike="noStrike">
                  <a:solidFill>
                    <a:srgbClr val="f8f8f8"/>
                  </a:solidFill>
                  <a:latin typeface="Times New Roman"/>
                </a:rPr>
                <a:t>想法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6200" y="4494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Times New Roman"/>
                </a:rPr>
                <a:t>行动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8840" y="42422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Times New Roman"/>
                </a:rPr>
                <a:t>习惯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87560" y="399564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Times New Roman"/>
                </a:rPr>
                <a:t>          </a:t>
              </a:r>
              <a:r>
                <a:rPr b="1" lang="zh-CN" sz="1600" spc="-1" strike="noStrike">
                  <a:solidFill>
                    <a:srgbClr val="f8f8f8"/>
                  </a:solidFill>
                  <a:latin typeface="Times New Roman"/>
                </a:rPr>
                <a:t>性格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55280" y="3733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Times New Roman"/>
                </a:rPr>
                <a:t>命运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616880" y="3930840"/>
              <a:ext cx="1115640" cy="1166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7640" y="4538160"/>
              <a:ext cx="1400040" cy="1240560"/>
            </a:xfrm>
            <a:custGeom>
              <a:avLst/>
              <a:gdLst/>
              <a:ahLst/>
              <a:rect l="l" t="t" r="r" b="b"/>
              <a:pathLst>
                <a:path w="1325" h="1174">
                  <a:moveTo>
                    <a:pt x="0" y="746"/>
                  </a:moveTo>
                  <a:cubicBezTo>
                    <a:pt x="203" y="728"/>
                    <a:pt x="123" y="739"/>
                    <a:pt x="240" y="722"/>
                  </a:cubicBezTo>
                  <a:cubicBezTo>
                    <a:pt x="374" y="741"/>
                    <a:pt x="328" y="722"/>
                    <a:pt x="392" y="786"/>
                  </a:cubicBezTo>
                  <a:cubicBezTo>
                    <a:pt x="405" y="826"/>
                    <a:pt x="429" y="856"/>
                    <a:pt x="376" y="874"/>
                  </a:cubicBezTo>
                  <a:cubicBezTo>
                    <a:pt x="277" y="868"/>
                    <a:pt x="252" y="872"/>
                    <a:pt x="176" y="834"/>
                  </a:cubicBezTo>
                  <a:cubicBezTo>
                    <a:pt x="165" y="818"/>
                    <a:pt x="155" y="802"/>
                    <a:pt x="144" y="786"/>
                  </a:cubicBezTo>
                  <a:cubicBezTo>
                    <a:pt x="129" y="764"/>
                    <a:pt x="146" y="732"/>
                    <a:pt x="152" y="706"/>
                  </a:cubicBezTo>
                  <a:cubicBezTo>
                    <a:pt x="167" y="642"/>
                    <a:pt x="290" y="592"/>
                    <a:pt x="344" y="578"/>
                  </a:cubicBezTo>
                  <a:cubicBezTo>
                    <a:pt x="368" y="581"/>
                    <a:pt x="395" y="574"/>
                    <a:pt x="416" y="586"/>
                  </a:cubicBezTo>
                  <a:cubicBezTo>
                    <a:pt x="428" y="593"/>
                    <a:pt x="422" y="612"/>
                    <a:pt x="424" y="626"/>
                  </a:cubicBezTo>
                  <a:cubicBezTo>
                    <a:pt x="428" y="661"/>
                    <a:pt x="429" y="695"/>
                    <a:pt x="432" y="730"/>
                  </a:cubicBezTo>
                  <a:cubicBezTo>
                    <a:pt x="437" y="714"/>
                    <a:pt x="443" y="698"/>
                    <a:pt x="448" y="682"/>
                  </a:cubicBezTo>
                  <a:cubicBezTo>
                    <a:pt x="451" y="674"/>
                    <a:pt x="456" y="658"/>
                    <a:pt x="456" y="658"/>
                  </a:cubicBezTo>
                  <a:cubicBezTo>
                    <a:pt x="445" y="586"/>
                    <a:pt x="444" y="534"/>
                    <a:pt x="392" y="482"/>
                  </a:cubicBezTo>
                  <a:cubicBezTo>
                    <a:pt x="369" y="459"/>
                    <a:pt x="320" y="418"/>
                    <a:pt x="320" y="418"/>
                  </a:cubicBezTo>
                  <a:cubicBezTo>
                    <a:pt x="303" y="470"/>
                    <a:pt x="322" y="541"/>
                    <a:pt x="352" y="586"/>
                  </a:cubicBezTo>
                  <a:cubicBezTo>
                    <a:pt x="371" y="583"/>
                    <a:pt x="390" y="571"/>
                    <a:pt x="408" y="578"/>
                  </a:cubicBezTo>
                  <a:cubicBezTo>
                    <a:pt x="422" y="584"/>
                    <a:pt x="422" y="606"/>
                    <a:pt x="432" y="618"/>
                  </a:cubicBezTo>
                  <a:cubicBezTo>
                    <a:pt x="434" y="621"/>
                    <a:pt x="512" y="685"/>
                    <a:pt x="520" y="690"/>
                  </a:cubicBezTo>
                  <a:cubicBezTo>
                    <a:pt x="520" y="690"/>
                    <a:pt x="580" y="710"/>
                    <a:pt x="592" y="714"/>
                  </a:cubicBezTo>
                  <a:cubicBezTo>
                    <a:pt x="600" y="717"/>
                    <a:pt x="616" y="722"/>
                    <a:pt x="616" y="722"/>
                  </a:cubicBezTo>
                  <a:cubicBezTo>
                    <a:pt x="640" y="719"/>
                    <a:pt x="665" y="722"/>
                    <a:pt x="688" y="714"/>
                  </a:cubicBezTo>
                  <a:cubicBezTo>
                    <a:pt x="713" y="705"/>
                    <a:pt x="720" y="642"/>
                    <a:pt x="720" y="642"/>
                  </a:cubicBezTo>
                  <a:cubicBezTo>
                    <a:pt x="696" y="546"/>
                    <a:pt x="550" y="607"/>
                    <a:pt x="472" y="610"/>
                  </a:cubicBezTo>
                  <a:cubicBezTo>
                    <a:pt x="403" y="607"/>
                    <a:pt x="333" y="609"/>
                    <a:pt x="264" y="602"/>
                  </a:cubicBezTo>
                  <a:cubicBezTo>
                    <a:pt x="239" y="599"/>
                    <a:pt x="224" y="538"/>
                    <a:pt x="224" y="538"/>
                  </a:cubicBezTo>
                  <a:cubicBezTo>
                    <a:pt x="233" y="466"/>
                    <a:pt x="241" y="442"/>
                    <a:pt x="312" y="418"/>
                  </a:cubicBezTo>
                  <a:cubicBezTo>
                    <a:pt x="408" y="346"/>
                    <a:pt x="492" y="342"/>
                    <a:pt x="600" y="306"/>
                  </a:cubicBezTo>
                  <a:cubicBezTo>
                    <a:pt x="597" y="333"/>
                    <a:pt x="588" y="359"/>
                    <a:pt x="592" y="386"/>
                  </a:cubicBezTo>
                  <a:cubicBezTo>
                    <a:pt x="593" y="396"/>
                    <a:pt x="601" y="368"/>
                    <a:pt x="608" y="362"/>
                  </a:cubicBezTo>
                  <a:cubicBezTo>
                    <a:pt x="640" y="334"/>
                    <a:pt x="677" y="324"/>
                    <a:pt x="696" y="282"/>
                  </a:cubicBezTo>
                  <a:cubicBezTo>
                    <a:pt x="703" y="267"/>
                    <a:pt x="712" y="234"/>
                    <a:pt x="712" y="234"/>
                  </a:cubicBezTo>
                  <a:cubicBezTo>
                    <a:pt x="693" y="206"/>
                    <a:pt x="680" y="197"/>
                    <a:pt x="648" y="186"/>
                  </a:cubicBezTo>
                  <a:cubicBezTo>
                    <a:pt x="570" y="197"/>
                    <a:pt x="605" y="181"/>
                    <a:pt x="544" y="242"/>
                  </a:cubicBezTo>
                  <a:cubicBezTo>
                    <a:pt x="533" y="253"/>
                    <a:pt x="523" y="263"/>
                    <a:pt x="512" y="274"/>
                  </a:cubicBezTo>
                  <a:cubicBezTo>
                    <a:pt x="501" y="285"/>
                    <a:pt x="480" y="306"/>
                    <a:pt x="480" y="306"/>
                  </a:cubicBezTo>
                  <a:cubicBezTo>
                    <a:pt x="467" y="346"/>
                    <a:pt x="453" y="386"/>
                    <a:pt x="440" y="426"/>
                  </a:cubicBezTo>
                  <a:cubicBezTo>
                    <a:pt x="443" y="437"/>
                    <a:pt x="441" y="449"/>
                    <a:pt x="448" y="458"/>
                  </a:cubicBezTo>
                  <a:cubicBezTo>
                    <a:pt x="453" y="465"/>
                    <a:pt x="464" y="465"/>
                    <a:pt x="472" y="466"/>
                  </a:cubicBezTo>
                  <a:cubicBezTo>
                    <a:pt x="522" y="473"/>
                    <a:pt x="624" y="482"/>
                    <a:pt x="624" y="482"/>
                  </a:cubicBezTo>
                  <a:cubicBezTo>
                    <a:pt x="661" y="479"/>
                    <a:pt x="699" y="481"/>
                    <a:pt x="736" y="474"/>
                  </a:cubicBezTo>
                  <a:cubicBezTo>
                    <a:pt x="752" y="471"/>
                    <a:pt x="774" y="442"/>
                    <a:pt x="784" y="434"/>
                  </a:cubicBezTo>
                  <a:cubicBezTo>
                    <a:pt x="870" y="367"/>
                    <a:pt x="947" y="287"/>
                    <a:pt x="1024" y="210"/>
                  </a:cubicBezTo>
                  <a:cubicBezTo>
                    <a:pt x="961" y="194"/>
                    <a:pt x="963" y="191"/>
                    <a:pt x="864" y="210"/>
                  </a:cubicBezTo>
                  <a:cubicBezTo>
                    <a:pt x="765" y="229"/>
                    <a:pt x="748" y="379"/>
                    <a:pt x="656" y="410"/>
                  </a:cubicBezTo>
                  <a:cubicBezTo>
                    <a:pt x="659" y="381"/>
                    <a:pt x="658" y="351"/>
                    <a:pt x="664" y="322"/>
                  </a:cubicBezTo>
                  <a:cubicBezTo>
                    <a:pt x="688" y="200"/>
                    <a:pt x="834" y="158"/>
                    <a:pt x="936" y="138"/>
                  </a:cubicBezTo>
                  <a:cubicBezTo>
                    <a:pt x="1035" y="145"/>
                    <a:pt x="1061" y="120"/>
                    <a:pt x="1088" y="202"/>
                  </a:cubicBezTo>
                  <a:cubicBezTo>
                    <a:pt x="1082" y="309"/>
                    <a:pt x="1087" y="403"/>
                    <a:pt x="992" y="466"/>
                  </a:cubicBezTo>
                  <a:cubicBezTo>
                    <a:pt x="969" y="464"/>
                    <a:pt x="917" y="464"/>
                    <a:pt x="888" y="450"/>
                  </a:cubicBezTo>
                  <a:cubicBezTo>
                    <a:pt x="812" y="412"/>
                    <a:pt x="878" y="436"/>
                    <a:pt x="824" y="418"/>
                  </a:cubicBezTo>
                  <a:cubicBezTo>
                    <a:pt x="794" y="388"/>
                    <a:pt x="758" y="368"/>
                    <a:pt x="728" y="338"/>
                  </a:cubicBezTo>
                  <a:cubicBezTo>
                    <a:pt x="711" y="269"/>
                    <a:pt x="658" y="127"/>
                    <a:pt x="744" y="98"/>
                  </a:cubicBezTo>
                  <a:cubicBezTo>
                    <a:pt x="820" y="109"/>
                    <a:pt x="880" y="146"/>
                    <a:pt x="952" y="170"/>
                  </a:cubicBezTo>
                  <a:cubicBezTo>
                    <a:pt x="982" y="160"/>
                    <a:pt x="998" y="139"/>
                    <a:pt x="1024" y="122"/>
                  </a:cubicBezTo>
                  <a:cubicBezTo>
                    <a:pt x="1035" y="88"/>
                    <a:pt x="1052" y="61"/>
                    <a:pt x="1064" y="26"/>
                  </a:cubicBezTo>
                  <a:cubicBezTo>
                    <a:pt x="1067" y="18"/>
                    <a:pt x="1080" y="0"/>
                    <a:pt x="1072" y="2"/>
                  </a:cubicBezTo>
                  <a:cubicBezTo>
                    <a:pt x="1061" y="5"/>
                    <a:pt x="1051" y="7"/>
                    <a:pt x="1040" y="10"/>
                  </a:cubicBezTo>
                  <a:cubicBezTo>
                    <a:pt x="981" y="49"/>
                    <a:pt x="1004" y="27"/>
                    <a:pt x="968" y="74"/>
                  </a:cubicBezTo>
                  <a:cubicBezTo>
                    <a:pt x="973" y="109"/>
                    <a:pt x="967" y="147"/>
                    <a:pt x="984" y="178"/>
                  </a:cubicBezTo>
                  <a:cubicBezTo>
                    <a:pt x="999" y="205"/>
                    <a:pt x="1038" y="210"/>
                    <a:pt x="1056" y="234"/>
                  </a:cubicBezTo>
                  <a:cubicBezTo>
                    <a:pt x="1086" y="274"/>
                    <a:pt x="1069" y="259"/>
                    <a:pt x="1104" y="282"/>
                  </a:cubicBezTo>
                  <a:cubicBezTo>
                    <a:pt x="1037" y="327"/>
                    <a:pt x="954" y="289"/>
                    <a:pt x="880" y="314"/>
                  </a:cubicBezTo>
                  <a:cubicBezTo>
                    <a:pt x="849" y="376"/>
                    <a:pt x="862" y="479"/>
                    <a:pt x="904" y="538"/>
                  </a:cubicBezTo>
                  <a:cubicBezTo>
                    <a:pt x="911" y="547"/>
                    <a:pt x="921" y="553"/>
                    <a:pt x="928" y="562"/>
                  </a:cubicBezTo>
                  <a:cubicBezTo>
                    <a:pt x="940" y="577"/>
                    <a:pt x="949" y="594"/>
                    <a:pt x="960" y="610"/>
                  </a:cubicBezTo>
                  <a:cubicBezTo>
                    <a:pt x="967" y="621"/>
                    <a:pt x="984" y="629"/>
                    <a:pt x="984" y="642"/>
                  </a:cubicBezTo>
                  <a:cubicBezTo>
                    <a:pt x="984" y="653"/>
                    <a:pt x="969" y="625"/>
                    <a:pt x="960" y="618"/>
                  </a:cubicBezTo>
                  <a:cubicBezTo>
                    <a:pt x="945" y="606"/>
                    <a:pt x="929" y="595"/>
                    <a:pt x="912" y="586"/>
                  </a:cubicBezTo>
                  <a:cubicBezTo>
                    <a:pt x="882" y="571"/>
                    <a:pt x="855" y="552"/>
                    <a:pt x="824" y="538"/>
                  </a:cubicBezTo>
                  <a:cubicBezTo>
                    <a:pt x="809" y="531"/>
                    <a:pt x="776" y="522"/>
                    <a:pt x="776" y="522"/>
                  </a:cubicBezTo>
                  <a:cubicBezTo>
                    <a:pt x="761" y="507"/>
                    <a:pt x="743" y="497"/>
                    <a:pt x="728" y="482"/>
                  </a:cubicBezTo>
                  <a:cubicBezTo>
                    <a:pt x="713" y="467"/>
                    <a:pt x="703" y="449"/>
                    <a:pt x="688" y="434"/>
                  </a:cubicBezTo>
                  <a:cubicBezTo>
                    <a:pt x="643" y="300"/>
                    <a:pt x="747" y="289"/>
                    <a:pt x="840" y="258"/>
                  </a:cubicBezTo>
                  <a:cubicBezTo>
                    <a:pt x="904" y="266"/>
                    <a:pt x="911" y="265"/>
                    <a:pt x="952" y="306"/>
                  </a:cubicBezTo>
                  <a:cubicBezTo>
                    <a:pt x="971" y="364"/>
                    <a:pt x="964" y="338"/>
                    <a:pt x="976" y="386"/>
                  </a:cubicBezTo>
                  <a:cubicBezTo>
                    <a:pt x="973" y="410"/>
                    <a:pt x="976" y="435"/>
                    <a:pt x="968" y="458"/>
                  </a:cubicBezTo>
                  <a:cubicBezTo>
                    <a:pt x="956" y="494"/>
                    <a:pt x="872" y="530"/>
                    <a:pt x="840" y="546"/>
                  </a:cubicBezTo>
                  <a:cubicBezTo>
                    <a:pt x="794" y="569"/>
                    <a:pt x="840" y="557"/>
                    <a:pt x="784" y="578"/>
                  </a:cubicBezTo>
                  <a:cubicBezTo>
                    <a:pt x="690" y="613"/>
                    <a:pt x="579" y="642"/>
                    <a:pt x="520" y="730"/>
                  </a:cubicBezTo>
                  <a:cubicBezTo>
                    <a:pt x="523" y="749"/>
                    <a:pt x="523" y="768"/>
                    <a:pt x="528" y="786"/>
                  </a:cubicBezTo>
                  <a:cubicBezTo>
                    <a:pt x="554" y="882"/>
                    <a:pt x="652" y="889"/>
                    <a:pt x="728" y="914"/>
                  </a:cubicBezTo>
                  <a:cubicBezTo>
                    <a:pt x="736" y="922"/>
                    <a:pt x="749" y="927"/>
                    <a:pt x="752" y="938"/>
                  </a:cubicBezTo>
                  <a:cubicBezTo>
                    <a:pt x="765" y="983"/>
                    <a:pt x="690" y="985"/>
                    <a:pt x="664" y="994"/>
                  </a:cubicBezTo>
                  <a:cubicBezTo>
                    <a:pt x="531" y="978"/>
                    <a:pt x="464" y="981"/>
                    <a:pt x="384" y="874"/>
                  </a:cubicBezTo>
                  <a:cubicBezTo>
                    <a:pt x="340" y="742"/>
                    <a:pt x="406" y="651"/>
                    <a:pt x="528" y="610"/>
                  </a:cubicBezTo>
                  <a:cubicBezTo>
                    <a:pt x="595" y="612"/>
                    <a:pt x="762" y="580"/>
                    <a:pt x="832" y="650"/>
                  </a:cubicBezTo>
                  <a:cubicBezTo>
                    <a:pt x="847" y="709"/>
                    <a:pt x="864" y="789"/>
                    <a:pt x="896" y="842"/>
                  </a:cubicBezTo>
                  <a:cubicBezTo>
                    <a:pt x="906" y="858"/>
                    <a:pt x="917" y="874"/>
                    <a:pt x="928" y="890"/>
                  </a:cubicBezTo>
                  <a:cubicBezTo>
                    <a:pt x="939" y="906"/>
                    <a:pt x="976" y="922"/>
                    <a:pt x="976" y="922"/>
                  </a:cubicBezTo>
                  <a:cubicBezTo>
                    <a:pt x="1011" y="887"/>
                    <a:pt x="1026" y="841"/>
                    <a:pt x="1056" y="802"/>
                  </a:cubicBezTo>
                  <a:cubicBezTo>
                    <a:pt x="1076" y="742"/>
                    <a:pt x="1132" y="703"/>
                    <a:pt x="1152" y="642"/>
                  </a:cubicBezTo>
                  <a:cubicBezTo>
                    <a:pt x="1162" y="613"/>
                    <a:pt x="1176" y="554"/>
                    <a:pt x="1176" y="554"/>
                  </a:cubicBezTo>
                  <a:cubicBezTo>
                    <a:pt x="1173" y="538"/>
                    <a:pt x="1184" y="509"/>
                    <a:pt x="1168" y="506"/>
                  </a:cubicBezTo>
                  <a:cubicBezTo>
                    <a:pt x="986" y="471"/>
                    <a:pt x="1005" y="510"/>
                    <a:pt x="896" y="546"/>
                  </a:cubicBezTo>
                  <a:cubicBezTo>
                    <a:pt x="847" y="595"/>
                    <a:pt x="800" y="625"/>
                    <a:pt x="736" y="650"/>
                  </a:cubicBezTo>
                  <a:cubicBezTo>
                    <a:pt x="704" y="647"/>
                    <a:pt x="671" y="650"/>
                    <a:pt x="640" y="642"/>
                  </a:cubicBezTo>
                  <a:cubicBezTo>
                    <a:pt x="614" y="635"/>
                    <a:pt x="591" y="568"/>
                    <a:pt x="584" y="546"/>
                  </a:cubicBezTo>
                  <a:cubicBezTo>
                    <a:pt x="608" y="486"/>
                    <a:pt x="629" y="484"/>
                    <a:pt x="680" y="450"/>
                  </a:cubicBezTo>
                  <a:cubicBezTo>
                    <a:pt x="767" y="392"/>
                    <a:pt x="857" y="332"/>
                    <a:pt x="960" y="306"/>
                  </a:cubicBezTo>
                  <a:cubicBezTo>
                    <a:pt x="1001" y="279"/>
                    <a:pt x="1045" y="232"/>
                    <a:pt x="1064" y="186"/>
                  </a:cubicBezTo>
                  <a:cubicBezTo>
                    <a:pt x="1070" y="170"/>
                    <a:pt x="1075" y="154"/>
                    <a:pt x="1080" y="138"/>
                  </a:cubicBezTo>
                  <a:cubicBezTo>
                    <a:pt x="1083" y="130"/>
                    <a:pt x="1088" y="114"/>
                    <a:pt x="1088" y="114"/>
                  </a:cubicBezTo>
                  <a:cubicBezTo>
                    <a:pt x="1073" y="69"/>
                    <a:pt x="1069" y="49"/>
                    <a:pt x="1024" y="34"/>
                  </a:cubicBezTo>
                  <a:cubicBezTo>
                    <a:pt x="973" y="37"/>
                    <a:pt x="922" y="32"/>
                    <a:pt x="872" y="42"/>
                  </a:cubicBezTo>
                  <a:cubicBezTo>
                    <a:pt x="853" y="46"/>
                    <a:pt x="824" y="74"/>
                    <a:pt x="824" y="74"/>
                  </a:cubicBezTo>
                  <a:cubicBezTo>
                    <a:pt x="795" y="117"/>
                    <a:pt x="811" y="152"/>
                    <a:pt x="832" y="194"/>
                  </a:cubicBezTo>
                  <a:cubicBezTo>
                    <a:pt x="851" y="232"/>
                    <a:pt x="824" y="211"/>
                    <a:pt x="864" y="258"/>
                  </a:cubicBezTo>
                  <a:cubicBezTo>
                    <a:pt x="885" y="282"/>
                    <a:pt x="921" y="299"/>
                    <a:pt x="944" y="322"/>
                  </a:cubicBezTo>
                  <a:cubicBezTo>
                    <a:pt x="953" y="331"/>
                    <a:pt x="958" y="345"/>
                    <a:pt x="968" y="354"/>
                  </a:cubicBezTo>
                  <a:cubicBezTo>
                    <a:pt x="1023" y="404"/>
                    <a:pt x="1079" y="423"/>
                    <a:pt x="1104" y="498"/>
                  </a:cubicBezTo>
                  <a:cubicBezTo>
                    <a:pt x="1099" y="535"/>
                    <a:pt x="1101" y="556"/>
                    <a:pt x="1088" y="586"/>
                  </a:cubicBezTo>
                  <a:cubicBezTo>
                    <a:pt x="1025" y="733"/>
                    <a:pt x="926" y="758"/>
                    <a:pt x="784" y="786"/>
                  </a:cubicBezTo>
                  <a:cubicBezTo>
                    <a:pt x="757" y="783"/>
                    <a:pt x="730" y="786"/>
                    <a:pt x="704" y="778"/>
                  </a:cubicBezTo>
                  <a:cubicBezTo>
                    <a:pt x="693" y="775"/>
                    <a:pt x="689" y="761"/>
                    <a:pt x="680" y="754"/>
                  </a:cubicBezTo>
                  <a:cubicBezTo>
                    <a:pt x="639" y="719"/>
                    <a:pt x="621" y="686"/>
                    <a:pt x="592" y="642"/>
                  </a:cubicBezTo>
                  <a:cubicBezTo>
                    <a:pt x="595" y="594"/>
                    <a:pt x="591" y="545"/>
                    <a:pt x="600" y="498"/>
                  </a:cubicBezTo>
                  <a:cubicBezTo>
                    <a:pt x="605" y="474"/>
                    <a:pt x="672" y="498"/>
                    <a:pt x="672" y="498"/>
                  </a:cubicBezTo>
                  <a:cubicBezTo>
                    <a:pt x="700" y="526"/>
                    <a:pt x="716" y="519"/>
                    <a:pt x="728" y="554"/>
                  </a:cubicBezTo>
                  <a:cubicBezTo>
                    <a:pt x="725" y="626"/>
                    <a:pt x="759" y="749"/>
                    <a:pt x="680" y="802"/>
                  </a:cubicBezTo>
                  <a:cubicBezTo>
                    <a:pt x="631" y="835"/>
                    <a:pt x="566" y="851"/>
                    <a:pt x="512" y="874"/>
                  </a:cubicBezTo>
                  <a:cubicBezTo>
                    <a:pt x="490" y="883"/>
                    <a:pt x="469" y="895"/>
                    <a:pt x="448" y="906"/>
                  </a:cubicBezTo>
                  <a:cubicBezTo>
                    <a:pt x="433" y="914"/>
                    <a:pt x="400" y="922"/>
                    <a:pt x="400" y="922"/>
                  </a:cubicBezTo>
                  <a:cubicBezTo>
                    <a:pt x="392" y="930"/>
                    <a:pt x="381" y="936"/>
                    <a:pt x="376" y="946"/>
                  </a:cubicBezTo>
                  <a:cubicBezTo>
                    <a:pt x="368" y="961"/>
                    <a:pt x="360" y="994"/>
                    <a:pt x="360" y="994"/>
                  </a:cubicBezTo>
                  <a:cubicBezTo>
                    <a:pt x="363" y="1031"/>
                    <a:pt x="359" y="1070"/>
                    <a:pt x="368" y="1106"/>
                  </a:cubicBezTo>
                  <a:cubicBezTo>
                    <a:pt x="373" y="1124"/>
                    <a:pt x="461" y="1148"/>
                    <a:pt x="480" y="1154"/>
                  </a:cubicBezTo>
                  <a:cubicBezTo>
                    <a:pt x="595" y="1149"/>
                    <a:pt x="650" y="1174"/>
                    <a:pt x="728" y="1122"/>
                  </a:cubicBezTo>
                  <a:cubicBezTo>
                    <a:pt x="780" y="1045"/>
                    <a:pt x="763" y="918"/>
                    <a:pt x="712" y="842"/>
                  </a:cubicBezTo>
                  <a:cubicBezTo>
                    <a:pt x="703" y="795"/>
                    <a:pt x="688" y="722"/>
                    <a:pt x="640" y="706"/>
                  </a:cubicBezTo>
                  <a:cubicBezTo>
                    <a:pt x="582" y="735"/>
                    <a:pt x="528" y="769"/>
                    <a:pt x="472" y="802"/>
                  </a:cubicBezTo>
                  <a:cubicBezTo>
                    <a:pt x="424" y="831"/>
                    <a:pt x="375" y="876"/>
                    <a:pt x="320" y="890"/>
                  </a:cubicBezTo>
                  <a:cubicBezTo>
                    <a:pt x="346" y="813"/>
                    <a:pt x="454" y="767"/>
                    <a:pt x="520" y="730"/>
                  </a:cubicBezTo>
                  <a:cubicBezTo>
                    <a:pt x="616" y="677"/>
                    <a:pt x="704" y="620"/>
                    <a:pt x="792" y="554"/>
                  </a:cubicBezTo>
                  <a:cubicBezTo>
                    <a:pt x="870" y="495"/>
                    <a:pt x="784" y="576"/>
                    <a:pt x="848" y="522"/>
                  </a:cubicBezTo>
                  <a:cubicBezTo>
                    <a:pt x="884" y="492"/>
                    <a:pt x="858" y="504"/>
                    <a:pt x="896" y="482"/>
                  </a:cubicBezTo>
                  <a:cubicBezTo>
                    <a:pt x="916" y="470"/>
                    <a:pt x="934" y="466"/>
                    <a:pt x="952" y="450"/>
                  </a:cubicBezTo>
                  <a:cubicBezTo>
                    <a:pt x="1034" y="377"/>
                    <a:pt x="970" y="422"/>
                    <a:pt x="1024" y="386"/>
                  </a:cubicBezTo>
                  <a:cubicBezTo>
                    <a:pt x="1063" y="327"/>
                    <a:pt x="1133" y="289"/>
                    <a:pt x="1192" y="250"/>
                  </a:cubicBezTo>
                  <a:cubicBezTo>
                    <a:pt x="1164" y="193"/>
                    <a:pt x="1135" y="201"/>
                    <a:pt x="1080" y="186"/>
                  </a:cubicBezTo>
                  <a:cubicBezTo>
                    <a:pt x="1008" y="166"/>
                    <a:pt x="934" y="145"/>
                    <a:pt x="864" y="122"/>
                  </a:cubicBezTo>
                  <a:cubicBezTo>
                    <a:pt x="861" y="114"/>
                    <a:pt x="853" y="106"/>
                    <a:pt x="856" y="98"/>
                  </a:cubicBezTo>
                  <a:cubicBezTo>
                    <a:pt x="860" y="89"/>
                    <a:pt x="872" y="88"/>
                    <a:pt x="880" y="82"/>
                  </a:cubicBezTo>
                  <a:cubicBezTo>
                    <a:pt x="944" y="36"/>
                    <a:pt x="875" y="76"/>
                    <a:pt x="976" y="42"/>
                  </a:cubicBezTo>
                  <a:cubicBezTo>
                    <a:pt x="992" y="37"/>
                    <a:pt x="1024" y="26"/>
                    <a:pt x="1024" y="26"/>
                  </a:cubicBezTo>
                  <a:cubicBezTo>
                    <a:pt x="1072" y="34"/>
                    <a:pt x="1079" y="44"/>
                    <a:pt x="1120" y="58"/>
                  </a:cubicBezTo>
                  <a:cubicBezTo>
                    <a:pt x="1141" y="79"/>
                    <a:pt x="1186" y="139"/>
                    <a:pt x="1208" y="154"/>
                  </a:cubicBezTo>
                  <a:cubicBezTo>
                    <a:pt x="1226" y="208"/>
                    <a:pt x="1199" y="215"/>
                    <a:pt x="1264" y="202"/>
                  </a:cubicBezTo>
                  <a:cubicBezTo>
                    <a:pt x="1272" y="194"/>
                    <a:pt x="1283" y="188"/>
                    <a:pt x="1288" y="178"/>
                  </a:cubicBezTo>
                  <a:cubicBezTo>
                    <a:pt x="1296" y="163"/>
                    <a:pt x="1304" y="130"/>
                    <a:pt x="1304" y="130"/>
                  </a:cubicBezTo>
                  <a:cubicBezTo>
                    <a:pt x="1295" y="104"/>
                    <a:pt x="1301" y="93"/>
                    <a:pt x="1264" y="114"/>
                  </a:cubicBezTo>
                  <a:cubicBezTo>
                    <a:pt x="1254" y="120"/>
                    <a:pt x="1249" y="131"/>
                    <a:pt x="1240" y="138"/>
                  </a:cubicBezTo>
                  <a:cubicBezTo>
                    <a:pt x="1212" y="161"/>
                    <a:pt x="1181" y="180"/>
                    <a:pt x="1152" y="202"/>
                  </a:cubicBezTo>
                  <a:cubicBezTo>
                    <a:pt x="1145" y="207"/>
                    <a:pt x="1135" y="206"/>
                    <a:pt x="1128" y="210"/>
                  </a:cubicBezTo>
                  <a:cubicBezTo>
                    <a:pt x="1092" y="230"/>
                    <a:pt x="1061" y="253"/>
                    <a:pt x="1032" y="282"/>
                  </a:cubicBezTo>
                  <a:cubicBezTo>
                    <a:pt x="1016" y="329"/>
                    <a:pt x="1022" y="404"/>
                    <a:pt x="1048" y="450"/>
                  </a:cubicBezTo>
                  <a:cubicBezTo>
                    <a:pt x="1062" y="475"/>
                    <a:pt x="1076" y="481"/>
                    <a:pt x="1088" y="506"/>
                  </a:cubicBezTo>
                  <a:cubicBezTo>
                    <a:pt x="1092" y="514"/>
                    <a:pt x="1091" y="523"/>
                    <a:pt x="1096" y="530"/>
                  </a:cubicBezTo>
                  <a:cubicBezTo>
                    <a:pt x="1111" y="553"/>
                    <a:pt x="1149" y="573"/>
                    <a:pt x="1168" y="586"/>
                  </a:cubicBezTo>
                  <a:cubicBezTo>
                    <a:pt x="1198" y="606"/>
                    <a:pt x="1232" y="653"/>
                    <a:pt x="1256" y="682"/>
                  </a:cubicBezTo>
                  <a:cubicBezTo>
                    <a:pt x="1292" y="725"/>
                    <a:pt x="1303" y="805"/>
                    <a:pt x="1312" y="858"/>
                  </a:cubicBezTo>
                  <a:cubicBezTo>
                    <a:pt x="1301" y="960"/>
                    <a:pt x="1325" y="909"/>
                    <a:pt x="1280" y="946"/>
                  </a:cubicBezTo>
                  <a:cubicBezTo>
                    <a:pt x="1271" y="953"/>
                    <a:pt x="1265" y="964"/>
                    <a:pt x="1256" y="970"/>
                  </a:cubicBezTo>
                  <a:cubicBezTo>
                    <a:pt x="1249" y="975"/>
                    <a:pt x="1240" y="974"/>
                    <a:pt x="1232" y="978"/>
                  </a:cubicBezTo>
                  <a:cubicBezTo>
                    <a:pt x="1223" y="982"/>
                    <a:pt x="1208" y="994"/>
                    <a:pt x="1208" y="994"/>
                  </a:cubicBezTo>
                </a:path>
              </a:pathLst>
            </a:custGeom>
            <a:noFill/>
            <a:ln w="126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08000" y="533520"/>
            <a:ext cx="1555560" cy="5790960"/>
          </a:xfrm>
          <a:prstGeom prst="rect">
            <a:avLst/>
          </a:prstGeom>
          <a:solidFill>
            <a:srgbClr val="5f5f5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Arial"/>
                <a:ea typeface="黑体"/>
              </a:rPr>
              <a:t>知道你的目的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你的终点为你提供方向和重点。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Arial"/>
              </a:rPr>
              <a:t>特别是当生命短暂，资源有限的时候。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想一想你将来要做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想不清楚也没有关系，至少想一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马上写一份简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找你的朋友打分，自己审阅，看看有多少含金量，给自己一个分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找出需要改进的地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成绩？经验？证书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制定计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什么时间之前完成什么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791320" y="3591000"/>
            <a:ext cx="3190680" cy="3190680"/>
            <a:chOff x="5791320" y="3591000"/>
            <a:chExt cx="3190680" cy="3190680"/>
          </a:xfrm>
        </p:grpSpPr>
        <p:sp>
          <p:nvSpPr>
            <p:cNvPr id="202" name=""/>
            <p:cNvSpPr/>
            <p:nvPr/>
          </p:nvSpPr>
          <p:spPr>
            <a:xfrm>
              <a:off x="5791320" y="3591000"/>
              <a:ext cx="3190680" cy="319068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07520" y="4512600"/>
              <a:ext cx="1364400" cy="1364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35600" y="4929480"/>
              <a:ext cx="1335240" cy="40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2e4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8f8f8"/>
                  </a:solidFill>
                  <a:latin typeface="Arial Narrow"/>
                </a:rPr>
                <a:t>影响圈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70800" y="3935520"/>
              <a:ext cx="1334160" cy="40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2e4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8f8f8"/>
                  </a:solidFill>
                  <a:latin typeface="Arial Narrow"/>
                </a:rPr>
                <a:t>关注圈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积极主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做好花费四年的时间的准备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三年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四个月的准备，只能是包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要去关注你不能影响的东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应该关注你能改变的东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断审视你的结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调整计划，甚至目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制造机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优于：抓住机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优于：等待机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要事为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事分轻重缓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当然每个人的轻重缓急不一样，这和每个人的价值观有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要事为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重要但是不紧急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最重要的是坚持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成功就是“不断的提高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869080" y="3505320"/>
            <a:ext cx="3052440" cy="3172680"/>
            <a:chOff x="5869080" y="3505320"/>
            <a:chExt cx="3052440" cy="3172680"/>
          </a:xfrm>
        </p:grpSpPr>
        <p:sp>
          <p:nvSpPr>
            <p:cNvPr id="211" name=""/>
            <p:cNvSpPr/>
            <p:nvPr/>
          </p:nvSpPr>
          <p:spPr>
            <a:xfrm>
              <a:off x="6165720" y="3808080"/>
              <a:ext cx="2737080" cy="2782440"/>
            </a:xfrm>
            <a:prstGeom prst="rect">
              <a:avLst/>
            </a:prstGeom>
            <a:solidFill>
              <a:srgbClr val="5f5f5f"/>
            </a:solidFill>
            <a:ln w="25560">
              <a:solidFill>
                <a:srgbClr val="8e6a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35520" y="3505320"/>
              <a:ext cx="1381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 Narrow"/>
                </a:rPr>
                <a:t>NOT URGENT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51680" y="3505320"/>
              <a:ext cx="138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 Narrow"/>
                </a:rPr>
                <a:t>URGENT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333760" y="4325760"/>
              <a:ext cx="140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 Narrow"/>
                </a:rPr>
                <a:t>IMPORTANT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5385600" y="5604480"/>
              <a:ext cx="15678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 Narrow"/>
                </a:rPr>
                <a:t>NOT IMPORTANT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2280" y="3815280"/>
              <a:ext cx="25380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5325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dddd"/>
                  </a:solidFill>
                  <a:latin typeface="Impact"/>
                </a:rPr>
                <a:t>I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4360" y="6188040"/>
              <a:ext cx="39096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5325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dddd"/>
                  </a:solidFill>
                  <a:latin typeface="Impact"/>
                </a:rPr>
                <a:t>III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30920" y="6188040"/>
              <a:ext cx="37548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5325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dddd"/>
                  </a:solidFill>
                  <a:latin typeface="Impact"/>
                </a:rPr>
                <a:t>IV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17960" y="3815280"/>
              <a:ext cx="322200" cy="33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5325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dddd"/>
                  </a:solidFill>
                  <a:latin typeface="Impact"/>
                </a:rPr>
                <a:t>II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172560" y="5200560"/>
              <a:ext cx="2748960" cy="7920"/>
            </a:xfrm>
            <a:prstGeom prst="line">
              <a:avLst/>
            </a:prstGeom>
            <a:ln w="25560">
              <a:solidFill>
                <a:srgbClr val="8e6a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34440" y="3808080"/>
              <a:ext cx="0" cy="2784600"/>
            </a:xfrm>
            <a:prstGeom prst="line">
              <a:avLst/>
            </a:prstGeom>
            <a:ln w="25560">
              <a:solidFill>
                <a:srgbClr val="8e6a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71680" y="4601520"/>
              <a:ext cx="652680" cy="5965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w="12600">
              <a:solidFill>
                <a:srgbClr val="8e6a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47400" y="4197600"/>
              <a:ext cx="1128960" cy="10033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w="12600">
              <a:solidFill>
                <a:srgbClr val="8e6a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71920" y="5219640"/>
              <a:ext cx="352440" cy="3128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w="12600">
              <a:solidFill>
                <a:srgbClr val="8e6a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42360" y="5219640"/>
              <a:ext cx="100080" cy="885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8100000"/>
            </a:gradFill>
            <a:ln w="12600">
              <a:solidFill>
                <a:srgbClr val="8e6a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5000" y="4806720"/>
              <a:ext cx="88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20-25%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22080" y="4613040"/>
              <a:ext cx="88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65-80%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30560" y="5200560"/>
              <a:ext cx="59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&gt;1%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32320" y="5252040"/>
              <a:ext cx="59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其他建议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保持正确、良好的心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不要有名牌优越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有潜力，为什么你看不到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失利不失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要认为外企的人就会读英文简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面试题没有题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招聘不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公平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icrosoft Logo"/>
              </a:rPr>
              <a:t>举例：微软选择人才标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4429" t="50419" r="17132" b="7228"/>
          <a:stretch/>
        </p:blipFill>
        <p:spPr>
          <a:xfrm>
            <a:off x="2133720" y="3809880"/>
            <a:ext cx="4248000" cy="2221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rcRect l="50008" t="9490" r="0" b="17439"/>
          <a:stretch/>
        </p:blipFill>
        <p:spPr>
          <a:xfrm>
            <a:off x="4608360" y="1568520"/>
            <a:ext cx="2708280" cy="3830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rcRect l="4927" t="0" r="34537" b="31148"/>
          <a:stretch/>
        </p:blipFill>
        <p:spPr>
          <a:xfrm>
            <a:off x="2168640" y="1170000"/>
            <a:ext cx="3278160" cy="3610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495760" y="1265400"/>
            <a:ext cx="286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8f8f8"/>
                </a:solidFill>
                <a:latin typeface="Arial"/>
                <a:ea typeface="黑体"/>
              </a:rPr>
              <a:t>激情向上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5302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8f8f8"/>
                </a:solidFill>
                <a:latin typeface="Arial"/>
                <a:ea typeface="黑体"/>
              </a:rPr>
              <a:t>扎实基础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8680" y="3276720"/>
            <a:ext cx="36939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8f8f8"/>
                </a:solidFill>
                <a:latin typeface="Arial"/>
                <a:ea typeface="黑体"/>
              </a:rPr>
              <a:t>聪明好学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演示：积极上进的激情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73860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teve Ballme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激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47680" y="228600"/>
            <a:ext cx="7677000" cy="823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f8f8"/>
                </a:solidFill>
                <a:latin typeface="Times New Roman"/>
                <a:ea typeface="黑体"/>
              </a:rPr>
              <a:t>举例：微软的优秀员工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5105520"/>
            <a:ext cx="8896320" cy="1676160"/>
          </a:xfrm>
          <a:prstGeom prst="rect">
            <a:avLst/>
          </a:prstGeom>
          <a:gradFill rotWithShape="0">
            <a:gsLst>
              <a:gs pos="0">
                <a:srgbClr val="4b5fc3"/>
              </a:gs>
              <a:gs pos="100000">
                <a:srgbClr val="0c0f1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职业化；敬业；耐心；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工作积极投入、努力进取；较强的适应环境能力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2133720"/>
            <a:ext cx="8076960" cy="2971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有创造力；有合作精神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对工作的有热忱和有兴趣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对产品、技术有强烈的激情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自我勉励、不断完善</a:t>
            </a: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善于思考、善于决断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与公司目标一致的思维</a:t>
            </a: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f8f8f8"/>
                </a:solidFill>
                <a:latin typeface="黑体"/>
                <a:ea typeface="黑体"/>
              </a:rPr>
              <a:t>有危机感与竞争意识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1295280"/>
            <a:ext cx="6781680" cy="8384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f8f8"/>
                </a:solidFill>
                <a:latin typeface="Times New Roman"/>
                <a:ea typeface="黑体"/>
              </a:rPr>
              <a:t>Passion, </a:t>
            </a:r>
            <a:r>
              <a:rPr b="1" lang="zh-CN" sz="3600" spc="-1" strike="noStrike">
                <a:solidFill>
                  <a:srgbClr val="f8f8f8"/>
                </a:solidFill>
                <a:latin typeface="Times New Roman"/>
                <a:ea typeface="黑体"/>
              </a:rPr>
              <a:t>全心投入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演示：电影片断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73860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微软的员工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为什么我会在这里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6838920" cy="41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90" name=""/>
          <p:cNvGrpSpPr/>
          <p:nvPr/>
        </p:nvGrpSpPr>
        <p:grpSpPr>
          <a:xfrm>
            <a:off x="3108240" y="1752480"/>
            <a:ext cx="1311480" cy="4496040"/>
            <a:chOff x="3108240" y="1752480"/>
            <a:chExt cx="1311480" cy="4496040"/>
          </a:xfrm>
        </p:grpSpPr>
        <p:sp>
          <p:nvSpPr>
            <p:cNvPr id="91" name=""/>
            <p:cNvSpPr/>
            <p:nvPr/>
          </p:nvSpPr>
          <p:spPr>
            <a:xfrm>
              <a:off x="3124080" y="1752480"/>
              <a:ext cx="0" cy="4496040"/>
            </a:xfrm>
            <a:prstGeom prst="line">
              <a:avLst/>
            </a:prstGeom>
            <a:ln w="572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1752480"/>
              <a:ext cx="0" cy="4496040"/>
            </a:xfrm>
            <a:prstGeom prst="line">
              <a:avLst/>
            </a:prstGeom>
            <a:ln w="572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08240" y="1828800"/>
              <a:ext cx="1311480" cy="368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333333"/>
              </a:solidFill>
              <a:miter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Arial"/>
                  <a:ea typeface="黑体"/>
                </a:rPr>
                <a:t>大学时光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391520" y="1676520"/>
            <a:ext cx="1447560" cy="685800"/>
          </a:xfrm>
          <a:prstGeom prst="wedgeRoundRectCallout">
            <a:avLst>
              <a:gd name="adj1" fmla="val -86402"/>
              <a:gd name="adj2" fmla="val 77777"/>
              <a:gd name="adj3" fmla="val 16667"/>
            </a:avLst>
          </a:prstGeom>
          <a:solidFill>
            <a:srgbClr val="5f5f5f"/>
          </a:soli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黑体"/>
              </a:rPr>
              <a:t>你认识问题的深度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3809880"/>
            <a:ext cx="1447920" cy="457200"/>
          </a:xfrm>
          <a:prstGeom prst="wedgeRoundRectCallout">
            <a:avLst>
              <a:gd name="adj1" fmla="val -92212"/>
              <a:gd name="adj2" fmla="val 204861"/>
              <a:gd name="adj3" fmla="val 16667"/>
            </a:avLst>
          </a:prstGeom>
          <a:solidFill>
            <a:srgbClr val="5f5f5f"/>
          </a:soli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你的时间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4572000"/>
            <a:ext cx="1447920" cy="762120"/>
          </a:xfrm>
          <a:prstGeom prst="wedgeRoundRectCallout">
            <a:avLst>
              <a:gd name="adj1" fmla="val -69189"/>
              <a:gd name="adj2" fmla="val 56666"/>
              <a:gd name="adj3" fmla="val 16667"/>
            </a:avLst>
          </a:prstGeom>
          <a:solidFill>
            <a:srgbClr val="5f5f5f"/>
          </a:soli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你修正自己的能力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447920" y="6588000"/>
            <a:ext cx="1092240" cy="53820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Verdana"/>
                <a:ea typeface="宋体"/>
              </a:rPr>
              <a:t>I am here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6797 C 0.03542 -0.1237 0.04722 -0.17919 0.08003 -0.20832 C 0.11285 -0.23745 0.17535 -0.2319 0.21996 -0.24231 C 0.26424 -0.25271 0.31649 -0.24647 0.34531 -0.27144 C 0.37413 -0.29641 0.37812 -0.36254 0.39444 -0.39237 C 0.41076 -0.42219 0.425 -0.44693 0.44358 -0.45063 C 0.4618 -0.45433 0.49149 -0.43121 0.50538 -0.41433 C 0.5191 -0.39745 0.51424 -0.35953 0.52726 -0.3489 C 0.53993 -0.33826 0.56858 -0.33757 0.58368 -0.35121 C 0.59878 -0.36485 0.59861 -0.40069 0.61805 -0.43121 C 0.63733 -0.46173 0.66406 -0.55214 0.70017 -0.53364 C 0.73628 -0.51514 0.80677 -0.36508 0.83489 -0.32069 E">
                                      <p:cBhvr>
                                        <p:cTn id="45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你想对在校同学说什么？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9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William &amp; Wend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学好英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Lind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定位自己，设立明确目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Ga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做有创造性的事！（架个电台，把钢琴改造成电子琴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Eric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每天晚上想一想，今天是否太颓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447880" y="1447560"/>
            <a:ext cx="339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Fe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来西雅图，我请大家吃饭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Eile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现在的小孩要戒骄戒躁，在没有学会本领以前不要展望太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St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Get things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Hong-W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学好英语，学好沟通，开朗一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多说一点……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1" name=""/>
          <p:cNvSpPr/>
          <p:nvPr/>
        </p:nvSpPr>
        <p:spPr>
          <a:xfrm>
            <a:off x="5234760" y="3827880"/>
            <a:ext cx="67752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《迷惘的大学生》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、第一份工作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04760" y="2514600"/>
            <a:ext cx="3390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a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待遇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b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制度严谨规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c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际关系相对简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d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工作环境优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e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同事们都很优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47880" y="2514600"/>
            <a:ext cx="3390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a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就值这个价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b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商业好像很简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c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变得越来越天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d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便利都理所当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e)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痛绝别人不上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89280" y="1371600"/>
            <a:ext cx="63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Arial"/>
              </a:rPr>
              <a:t>第一份工作需要找像微软、联合利华、四大这样的公司（大外企）吗？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20700000">
            <a:off x="5866920" y="5028840"/>
            <a:ext cx="2286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Verdana"/>
                <a:ea typeface="宋体"/>
              </a:rPr>
              <a:t>不见得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、谁给你实践机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调查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小泉参拜靖国神社事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给民工小学讲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新东方做老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3322800"/>
            <a:ext cx="4876560" cy="337932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Mr Liu,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Long time no see, how are you getting along?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I have just finished GRE written test. Today I went to New Oriental School to have an interview. They asked me to give a lesson next week to see if I am eligible to be a teacher in that school. I do feel a bit lucky that they give an opportunity. I wanna say thank you to you because it is you who inspire me to the thing that I once thought as impossible.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Thank you very much!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I wish sincerely that you have good spirits everyday!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Yours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8f8f8"/>
                </a:solidFill>
                <a:latin typeface="Verdana"/>
              </a:rPr>
              <a:t>somebody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、出国读书，学校排名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出国读书、好大学的标准都降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从上往下数一数，你排名第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就业形势从来不曾差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认为自己达标的人越来越多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谢谢！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738600" y="4038480"/>
            <a:ext cx="51768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  <a:ea typeface="宋体"/>
              </a:rPr>
              <a:t>Winner is never quitter, quitter is never w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严峻的就业形势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1828800"/>
            <a:ext cx="7480080" cy="4183200"/>
            <a:chOff x="1600200" y="1828800"/>
            <a:chExt cx="7480080" cy="4183200"/>
          </a:xfrm>
        </p:grpSpPr>
        <p:graphicFrame>
          <p:nvGraphicFramePr>
            <p:cNvPr id="100" name=""/>
            <p:cNvGraphicFramePr/>
            <p:nvPr/>
          </p:nvGraphicFramePr>
          <p:xfrm>
            <a:off x="1600200" y="1828800"/>
            <a:ext cx="7480080" cy="3781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1828800"/>
                      <a:ext cx="7480080" cy="37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4129200" y="5643720"/>
              <a:ext cx="30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*  </a:t>
              </a: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截至</a:t>
              </a: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2003</a:t>
              </a: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年</a:t>
              </a: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6</a:t>
              </a: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月</a:t>
              </a: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日，</a:t>
              </a: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50%</a:t>
              </a:r>
              <a:r>
                <a:rPr b="0" lang="zh-CN" sz="1800" spc="-1" strike="noStrike">
                  <a:solidFill>
                    <a:srgbClr val="f8f8f8"/>
                  </a:solidFill>
                  <a:latin typeface="Arial"/>
                </a:rPr>
                <a:t>应届大学毕业生未找到工作。</a:t>
              </a: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826320" y="6333480"/>
            <a:ext cx="40932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黑体"/>
                <a:ea typeface="黑体"/>
              </a:rPr>
              <a:t>而且，就业还只是职业生涯的第一步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什么决定了你的好职业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成绩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GPA4.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，单科全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经验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学生会主席、在大公司做过实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证书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语六级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99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MCSE/MCDBA/MCSD/CCNA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驾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包装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BEBEYON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稿、奥美设计、香港印刷的简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环境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都考研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出国，大公司扩招，招聘信息就我知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运气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全看考官心情……是不是要穿得漂亮一点？给总裁写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aggressive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的信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838080"/>
            <a:ext cx="12952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好职业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97180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Verdana"/>
              </a:rPr>
              <a:t>？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18148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0"/>
            <a:endCxn id="106" idx="2"/>
          </p:cNvCxnSpPr>
          <p:nvPr/>
        </p:nvCxnSpPr>
        <p:spPr>
          <a:xfrm flipV="1">
            <a:off x="875880" y="1980720"/>
            <a:ext cx="1080" cy="99144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cxnSp>
        <p:nvCxnSpPr>
          <p:cNvPr id="110" name=""/>
          <p:cNvCxnSpPr>
            <a:stCxn id="108" idx="0"/>
            <a:endCxn id="107" idx="2"/>
          </p:cNvCxnSpPr>
          <p:nvPr/>
        </p:nvCxnSpPr>
        <p:spPr>
          <a:xfrm flipV="1">
            <a:off x="875880" y="4114080"/>
            <a:ext cx="1080" cy="106740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 rot="20700000">
            <a:off x="1447560" y="1980720"/>
            <a:ext cx="5562360" cy="2362320"/>
          </a:xfrm>
          <a:prstGeom prst="rect">
            <a:avLst/>
          </a:prstGeom>
          <a:solidFill>
            <a:srgbClr val="5f5f5f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Verdana"/>
                <a:ea typeface="宋体"/>
              </a:rPr>
              <a:t>不，唯一能决定好职业的，是作为商品的</a:t>
            </a:r>
            <a:br>
              <a:rPr sz="4000"/>
            </a:br>
            <a:r>
              <a:rPr b="1" lang="zh-CN" sz="6000" spc="-1" strike="noStrike">
                <a:solidFill>
                  <a:srgbClr val="ffff00"/>
                </a:solidFill>
                <a:latin typeface="Verdana"/>
                <a:ea typeface="宋体"/>
              </a:rPr>
              <a:t>特别的</a:t>
            </a:r>
            <a:r>
              <a:rPr b="1" lang="zh-CN" sz="6000" spc="-1" strike="noStrike">
                <a:solidFill>
                  <a:srgbClr val="f8f8f8"/>
                </a:solidFill>
                <a:latin typeface="Verdana"/>
                <a:ea typeface="宋体"/>
              </a:rPr>
              <a:t>你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700000">
            <a:off x="6298920" y="3271320"/>
            <a:ext cx="1092240" cy="53820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Verdana"/>
                <a:ea typeface="宋体"/>
              </a:rPr>
              <a:t>ON SALE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什么能够决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特别的</a:t>
            </a:r>
            <a:r>
              <a:rPr b="1" lang="zh-CN" sz="4000" spc="-1" strike="noStrike">
                <a:solidFill>
                  <a:srgbClr val="f8f8f8"/>
                </a:solidFill>
                <a:latin typeface="黑体"/>
              </a:rPr>
              <a:t>你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苦修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量背单词、每天学习工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1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小时、一寸一寸耕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名门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在一所好的大学，在一家好的公司做过实习，跟过一个好的导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秘籍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元钱西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天苦游，给民工小学讲课，开过并失败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家公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性格决定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自信、健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我本特别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没有任何人和我一样，我就是很特别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83808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好职业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12952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特别的</a:t>
            </a: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你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518148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8f8f8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6" idx="0"/>
            <a:endCxn id="115" idx="2"/>
          </p:cNvCxnSpPr>
          <p:nvPr/>
        </p:nvCxnSpPr>
        <p:spPr>
          <a:xfrm flipV="1">
            <a:off x="875880" y="1980720"/>
            <a:ext cx="1080" cy="99144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cxnSp>
        <p:nvCxnSpPr>
          <p:cNvPr id="119" name=""/>
          <p:cNvCxnSpPr>
            <a:stCxn id="117" idx="0"/>
            <a:endCxn id="116" idx="2"/>
          </p:cNvCxnSpPr>
          <p:nvPr/>
        </p:nvCxnSpPr>
        <p:spPr>
          <a:xfrm flipV="1">
            <a:off x="875880" y="4114080"/>
            <a:ext cx="1080" cy="106740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 rot="20700000">
            <a:off x="1447560" y="1980720"/>
            <a:ext cx="5562360" cy="2362320"/>
          </a:xfrm>
          <a:prstGeom prst="rect">
            <a:avLst/>
          </a:prstGeom>
          <a:solidFill>
            <a:srgbClr val="5f5f5f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Verdana"/>
                <a:ea typeface="宋体"/>
              </a:rPr>
              <a:t>不，唯一能决定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特别</a:t>
            </a:r>
            <a:r>
              <a:rPr b="1" lang="zh-CN" sz="4000" spc="-1" strike="noStrike">
                <a:solidFill>
                  <a:srgbClr val="f8f8f8"/>
                </a:solidFill>
                <a:latin typeface="Verdana"/>
                <a:ea typeface="宋体"/>
              </a:rPr>
              <a:t>的你的是</a:t>
            </a:r>
            <a:br>
              <a:rPr sz="4000"/>
            </a:br>
            <a:r>
              <a:rPr b="1" lang="zh-CN" sz="6000" spc="-1" strike="noStrike">
                <a:solidFill>
                  <a:srgbClr val="66ffff"/>
                </a:solidFill>
                <a:latin typeface="Verdana"/>
                <a:ea typeface="宋体"/>
              </a:rPr>
              <a:t>素质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19840" y="5533920"/>
            <a:ext cx="119556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黑体"/>
                <a:ea typeface="黑体"/>
              </a:rPr>
              <a:t>= </a:t>
            </a:r>
            <a:r>
              <a:rPr b="1" lang="zh-CN" sz="1800" spc="-1" strike="noStrike">
                <a:solidFill>
                  <a:srgbClr val="f8f8f8"/>
                </a:solidFill>
                <a:latin typeface="黑体"/>
                <a:ea typeface="黑体"/>
              </a:rPr>
              <a:t>自暴自弃论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181480"/>
            <a:ext cx="12952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素质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什么是我所说的素质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83808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好职业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97180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特别的你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181480"/>
            <a:ext cx="12952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素质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5" idx="0"/>
            <a:endCxn id="124" idx="2"/>
          </p:cNvCxnSpPr>
          <p:nvPr/>
        </p:nvCxnSpPr>
        <p:spPr>
          <a:xfrm flipV="1">
            <a:off x="875880" y="1980720"/>
            <a:ext cx="1080" cy="99144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cxnSp>
        <p:nvCxnSpPr>
          <p:cNvPr id="128" name=""/>
          <p:cNvCxnSpPr>
            <a:stCxn id="126" idx="0"/>
            <a:endCxn id="125" idx="2"/>
          </p:cNvCxnSpPr>
          <p:nvPr/>
        </p:nvCxnSpPr>
        <p:spPr>
          <a:xfrm flipV="1">
            <a:off x="875880" y="4114080"/>
            <a:ext cx="1080" cy="106740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grpSp>
        <p:nvGrpSpPr>
          <p:cNvPr id="129" name=""/>
          <p:cNvGrpSpPr/>
          <p:nvPr/>
        </p:nvGrpSpPr>
        <p:grpSpPr>
          <a:xfrm>
            <a:off x="2233440" y="1773360"/>
            <a:ext cx="6224760" cy="4259160"/>
            <a:chOff x="2233440" y="1773360"/>
            <a:chExt cx="6224760" cy="4259160"/>
          </a:xfrm>
        </p:grpSpPr>
        <p:sp>
          <p:nvSpPr>
            <p:cNvPr id="130" name=""/>
            <p:cNvSpPr/>
            <p:nvPr/>
          </p:nvSpPr>
          <p:spPr>
            <a:xfrm>
              <a:off x="2878200" y="1773360"/>
              <a:ext cx="4865760" cy="4259160"/>
            </a:xfrm>
            <a:custGeom>
              <a:avLst/>
              <a:gdLst/>
              <a:ahLst/>
              <a:rect l="l" t="t" r="r" b="b"/>
              <a:pathLst>
                <a:path w="3933" h="3443">
                  <a:moveTo>
                    <a:pt x="1730" y="0"/>
                  </a:moveTo>
                  <a:lnTo>
                    <a:pt x="1714" y="33"/>
                  </a:lnTo>
                  <a:lnTo>
                    <a:pt x="1706" y="58"/>
                  </a:lnTo>
                  <a:lnTo>
                    <a:pt x="1689" y="83"/>
                  </a:lnTo>
                  <a:lnTo>
                    <a:pt x="1689" y="108"/>
                  </a:lnTo>
                  <a:lnTo>
                    <a:pt x="1672" y="132"/>
                  </a:lnTo>
                  <a:lnTo>
                    <a:pt x="1672" y="157"/>
                  </a:lnTo>
                  <a:lnTo>
                    <a:pt x="1656" y="182"/>
                  </a:lnTo>
                  <a:lnTo>
                    <a:pt x="1656" y="207"/>
                  </a:lnTo>
                  <a:lnTo>
                    <a:pt x="1648" y="232"/>
                  </a:lnTo>
                  <a:lnTo>
                    <a:pt x="1639" y="257"/>
                  </a:lnTo>
                  <a:lnTo>
                    <a:pt x="1631" y="281"/>
                  </a:lnTo>
                  <a:lnTo>
                    <a:pt x="1614" y="306"/>
                  </a:lnTo>
                  <a:lnTo>
                    <a:pt x="1598" y="331"/>
                  </a:lnTo>
                  <a:lnTo>
                    <a:pt x="1581" y="356"/>
                  </a:lnTo>
                  <a:lnTo>
                    <a:pt x="1556" y="372"/>
                  </a:lnTo>
                  <a:lnTo>
                    <a:pt x="1532" y="381"/>
                  </a:lnTo>
                  <a:lnTo>
                    <a:pt x="1507" y="406"/>
                  </a:lnTo>
                  <a:lnTo>
                    <a:pt x="1482" y="414"/>
                  </a:lnTo>
                  <a:lnTo>
                    <a:pt x="1457" y="414"/>
                  </a:lnTo>
                  <a:lnTo>
                    <a:pt x="1424" y="422"/>
                  </a:lnTo>
                  <a:lnTo>
                    <a:pt x="1391" y="422"/>
                  </a:lnTo>
                  <a:lnTo>
                    <a:pt x="1366" y="422"/>
                  </a:lnTo>
                  <a:lnTo>
                    <a:pt x="1341" y="430"/>
                  </a:lnTo>
                  <a:lnTo>
                    <a:pt x="1316" y="447"/>
                  </a:lnTo>
                  <a:lnTo>
                    <a:pt x="1308" y="480"/>
                  </a:lnTo>
                  <a:lnTo>
                    <a:pt x="1300" y="505"/>
                  </a:lnTo>
                  <a:lnTo>
                    <a:pt x="1292" y="538"/>
                  </a:lnTo>
                  <a:lnTo>
                    <a:pt x="1283" y="571"/>
                  </a:lnTo>
                  <a:lnTo>
                    <a:pt x="1275" y="604"/>
                  </a:lnTo>
                  <a:lnTo>
                    <a:pt x="1267" y="629"/>
                  </a:lnTo>
                  <a:lnTo>
                    <a:pt x="1250" y="654"/>
                  </a:lnTo>
                  <a:lnTo>
                    <a:pt x="1225" y="670"/>
                  </a:lnTo>
                  <a:lnTo>
                    <a:pt x="1192" y="695"/>
                  </a:lnTo>
                  <a:lnTo>
                    <a:pt x="1167" y="712"/>
                  </a:lnTo>
                  <a:lnTo>
                    <a:pt x="1143" y="720"/>
                  </a:lnTo>
                  <a:lnTo>
                    <a:pt x="1118" y="728"/>
                  </a:lnTo>
                  <a:lnTo>
                    <a:pt x="1093" y="736"/>
                  </a:lnTo>
                  <a:lnTo>
                    <a:pt x="1069" y="738"/>
                  </a:lnTo>
                  <a:lnTo>
                    <a:pt x="1043" y="753"/>
                  </a:lnTo>
                  <a:lnTo>
                    <a:pt x="1018" y="761"/>
                  </a:lnTo>
                  <a:lnTo>
                    <a:pt x="994" y="770"/>
                  </a:lnTo>
                  <a:lnTo>
                    <a:pt x="927" y="803"/>
                  </a:lnTo>
                  <a:lnTo>
                    <a:pt x="903" y="819"/>
                  </a:lnTo>
                  <a:lnTo>
                    <a:pt x="886" y="852"/>
                  </a:lnTo>
                  <a:lnTo>
                    <a:pt x="869" y="877"/>
                  </a:lnTo>
                  <a:lnTo>
                    <a:pt x="861" y="902"/>
                  </a:lnTo>
                  <a:lnTo>
                    <a:pt x="853" y="927"/>
                  </a:lnTo>
                  <a:lnTo>
                    <a:pt x="845" y="952"/>
                  </a:lnTo>
                  <a:lnTo>
                    <a:pt x="836" y="976"/>
                  </a:lnTo>
                  <a:lnTo>
                    <a:pt x="820" y="1001"/>
                  </a:lnTo>
                  <a:lnTo>
                    <a:pt x="811" y="1034"/>
                  </a:lnTo>
                  <a:lnTo>
                    <a:pt x="803" y="1067"/>
                  </a:lnTo>
                  <a:lnTo>
                    <a:pt x="795" y="1092"/>
                  </a:lnTo>
                  <a:lnTo>
                    <a:pt x="787" y="1117"/>
                  </a:lnTo>
                  <a:lnTo>
                    <a:pt x="762" y="1175"/>
                  </a:lnTo>
                  <a:lnTo>
                    <a:pt x="737" y="1208"/>
                  </a:lnTo>
                  <a:lnTo>
                    <a:pt x="720" y="1233"/>
                  </a:lnTo>
                  <a:lnTo>
                    <a:pt x="704" y="1258"/>
                  </a:lnTo>
                  <a:lnTo>
                    <a:pt x="687" y="1283"/>
                  </a:lnTo>
                  <a:lnTo>
                    <a:pt x="671" y="1307"/>
                  </a:lnTo>
                  <a:lnTo>
                    <a:pt x="662" y="1332"/>
                  </a:lnTo>
                  <a:lnTo>
                    <a:pt x="646" y="1357"/>
                  </a:lnTo>
                  <a:lnTo>
                    <a:pt x="629" y="1382"/>
                  </a:lnTo>
                  <a:lnTo>
                    <a:pt x="613" y="1440"/>
                  </a:lnTo>
                  <a:lnTo>
                    <a:pt x="588" y="1465"/>
                  </a:lnTo>
                  <a:lnTo>
                    <a:pt x="571" y="1489"/>
                  </a:lnTo>
                  <a:lnTo>
                    <a:pt x="547" y="1506"/>
                  </a:lnTo>
                  <a:lnTo>
                    <a:pt x="522" y="1523"/>
                  </a:lnTo>
                  <a:lnTo>
                    <a:pt x="489" y="1539"/>
                  </a:lnTo>
                  <a:lnTo>
                    <a:pt x="456" y="1564"/>
                  </a:lnTo>
                  <a:lnTo>
                    <a:pt x="431" y="1572"/>
                  </a:lnTo>
                  <a:lnTo>
                    <a:pt x="406" y="1589"/>
                  </a:lnTo>
                  <a:lnTo>
                    <a:pt x="381" y="1605"/>
                  </a:lnTo>
                  <a:lnTo>
                    <a:pt x="356" y="1630"/>
                  </a:lnTo>
                  <a:lnTo>
                    <a:pt x="307" y="1647"/>
                  </a:lnTo>
                  <a:lnTo>
                    <a:pt x="268" y="1638"/>
                  </a:lnTo>
                  <a:lnTo>
                    <a:pt x="215" y="1659"/>
                  </a:lnTo>
                  <a:lnTo>
                    <a:pt x="179" y="1674"/>
                  </a:lnTo>
                  <a:lnTo>
                    <a:pt x="162" y="1755"/>
                  </a:lnTo>
                  <a:lnTo>
                    <a:pt x="148" y="1820"/>
                  </a:lnTo>
                  <a:lnTo>
                    <a:pt x="143" y="1844"/>
                  </a:lnTo>
                  <a:lnTo>
                    <a:pt x="141" y="1868"/>
                  </a:lnTo>
                  <a:lnTo>
                    <a:pt x="149" y="1878"/>
                  </a:lnTo>
                  <a:lnTo>
                    <a:pt x="141" y="1911"/>
                  </a:lnTo>
                  <a:lnTo>
                    <a:pt x="124" y="1969"/>
                  </a:lnTo>
                  <a:lnTo>
                    <a:pt x="108" y="1994"/>
                  </a:lnTo>
                  <a:lnTo>
                    <a:pt x="91" y="2060"/>
                  </a:lnTo>
                  <a:lnTo>
                    <a:pt x="83" y="2085"/>
                  </a:lnTo>
                  <a:lnTo>
                    <a:pt x="75" y="2118"/>
                  </a:lnTo>
                  <a:lnTo>
                    <a:pt x="58" y="2143"/>
                  </a:lnTo>
                  <a:lnTo>
                    <a:pt x="50" y="2209"/>
                  </a:lnTo>
                  <a:lnTo>
                    <a:pt x="42" y="2234"/>
                  </a:lnTo>
                  <a:lnTo>
                    <a:pt x="33" y="2292"/>
                  </a:lnTo>
                  <a:lnTo>
                    <a:pt x="25" y="2317"/>
                  </a:lnTo>
                  <a:lnTo>
                    <a:pt x="25" y="2350"/>
                  </a:lnTo>
                  <a:lnTo>
                    <a:pt x="17" y="2375"/>
                  </a:lnTo>
                  <a:lnTo>
                    <a:pt x="17" y="2400"/>
                  </a:lnTo>
                  <a:lnTo>
                    <a:pt x="17" y="2433"/>
                  </a:lnTo>
                  <a:lnTo>
                    <a:pt x="17" y="2499"/>
                  </a:lnTo>
                  <a:lnTo>
                    <a:pt x="17" y="2524"/>
                  </a:lnTo>
                  <a:lnTo>
                    <a:pt x="17" y="2582"/>
                  </a:lnTo>
                  <a:lnTo>
                    <a:pt x="17" y="2631"/>
                  </a:lnTo>
                  <a:lnTo>
                    <a:pt x="9" y="2698"/>
                  </a:lnTo>
                  <a:lnTo>
                    <a:pt x="9" y="2747"/>
                  </a:lnTo>
                  <a:lnTo>
                    <a:pt x="9" y="2797"/>
                  </a:lnTo>
                  <a:lnTo>
                    <a:pt x="0" y="2880"/>
                  </a:lnTo>
                  <a:lnTo>
                    <a:pt x="0" y="2946"/>
                  </a:lnTo>
                  <a:lnTo>
                    <a:pt x="0" y="3012"/>
                  </a:lnTo>
                  <a:lnTo>
                    <a:pt x="28" y="3097"/>
                  </a:lnTo>
                  <a:lnTo>
                    <a:pt x="54" y="3176"/>
                  </a:lnTo>
                  <a:lnTo>
                    <a:pt x="61" y="3186"/>
                  </a:lnTo>
                  <a:lnTo>
                    <a:pt x="64" y="3191"/>
                  </a:lnTo>
                  <a:lnTo>
                    <a:pt x="71" y="3191"/>
                  </a:lnTo>
                  <a:lnTo>
                    <a:pt x="102" y="3248"/>
                  </a:lnTo>
                  <a:lnTo>
                    <a:pt x="138" y="3263"/>
                  </a:lnTo>
                  <a:lnTo>
                    <a:pt x="182" y="3268"/>
                  </a:lnTo>
                  <a:lnTo>
                    <a:pt x="207" y="3277"/>
                  </a:lnTo>
                  <a:lnTo>
                    <a:pt x="232" y="3285"/>
                  </a:lnTo>
                  <a:lnTo>
                    <a:pt x="265" y="3293"/>
                  </a:lnTo>
                  <a:lnTo>
                    <a:pt x="298" y="3310"/>
                  </a:lnTo>
                  <a:lnTo>
                    <a:pt x="331" y="3318"/>
                  </a:lnTo>
                  <a:lnTo>
                    <a:pt x="356" y="3335"/>
                  </a:lnTo>
                  <a:lnTo>
                    <a:pt x="409" y="3318"/>
                  </a:lnTo>
                  <a:lnTo>
                    <a:pt x="453" y="3325"/>
                  </a:lnTo>
                  <a:lnTo>
                    <a:pt x="481" y="3332"/>
                  </a:lnTo>
                  <a:lnTo>
                    <a:pt x="505" y="3335"/>
                  </a:lnTo>
                  <a:lnTo>
                    <a:pt x="529" y="3339"/>
                  </a:lnTo>
                  <a:lnTo>
                    <a:pt x="558" y="3339"/>
                  </a:lnTo>
                  <a:lnTo>
                    <a:pt x="580" y="3351"/>
                  </a:lnTo>
                  <a:lnTo>
                    <a:pt x="616" y="3361"/>
                  </a:lnTo>
                  <a:lnTo>
                    <a:pt x="638" y="3343"/>
                  </a:lnTo>
                  <a:lnTo>
                    <a:pt x="681" y="3330"/>
                  </a:lnTo>
                  <a:lnTo>
                    <a:pt x="704" y="3310"/>
                  </a:lnTo>
                  <a:lnTo>
                    <a:pt x="772" y="3282"/>
                  </a:lnTo>
                  <a:lnTo>
                    <a:pt x="820" y="3293"/>
                  </a:lnTo>
                  <a:lnTo>
                    <a:pt x="853" y="3285"/>
                  </a:lnTo>
                  <a:lnTo>
                    <a:pt x="878" y="3277"/>
                  </a:lnTo>
                  <a:lnTo>
                    <a:pt x="903" y="3268"/>
                  </a:lnTo>
                  <a:lnTo>
                    <a:pt x="927" y="3268"/>
                  </a:lnTo>
                  <a:lnTo>
                    <a:pt x="952" y="3260"/>
                  </a:lnTo>
                  <a:lnTo>
                    <a:pt x="977" y="3244"/>
                  </a:lnTo>
                  <a:lnTo>
                    <a:pt x="981" y="3217"/>
                  </a:lnTo>
                  <a:lnTo>
                    <a:pt x="1002" y="3207"/>
                  </a:lnTo>
                  <a:lnTo>
                    <a:pt x="1014" y="3207"/>
                  </a:lnTo>
                  <a:lnTo>
                    <a:pt x="1041" y="3198"/>
                  </a:lnTo>
                  <a:lnTo>
                    <a:pt x="1062" y="3181"/>
                  </a:lnTo>
                  <a:lnTo>
                    <a:pt x="1077" y="3167"/>
                  </a:lnTo>
                  <a:lnTo>
                    <a:pt x="1081" y="3152"/>
                  </a:lnTo>
                  <a:lnTo>
                    <a:pt x="1129" y="3121"/>
                  </a:lnTo>
                  <a:lnTo>
                    <a:pt x="1189" y="3095"/>
                  </a:lnTo>
                  <a:lnTo>
                    <a:pt x="1217" y="3086"/>
                  </a:lnTo>
                  <a:lnTo>
                    <a:pt x="1242" y="3070"/>
                  </a:lnTo>
                  <a:lnTo>
                    <a:pt x="1273" y="3039"/>
                  </a:lnTo>
                  <a:lnTo>
                    <a:pt x="1292" y="3053"/>
                  </a:lnTo>
                  <a:lnTo>
                    <a:pt x="1325" y="3053"/>
                  </a:lnTo>
                  <a:lnTo>
                    <a:pt x="1350" y="3053"/>
                  </a:lnTo>
                  <a:lnTo>
                    <a:pt x="1374" y="3062"/>
                  </a:lnTo>
                  <a:lnTo>
                    <a:pt x="1407" y="3070"/>
                  </a:lnTo>
                  <a:lnTo>
                    <a:pt x="1432" y="3086"/>
                  </a:lnTo>
                  <a:lnTo>
                    <a:pt x="1449" y="3111"/>
                  </a:lnTo>
                  <a:lnTo>
                    <a:pt x="1482" y="3128"/>
                  </a:lnTo>
                  <a:lnTo>
                    <a:pt x="1507" y="3136"/>
                  </a:lnTo>
                  <a:lnTo>
                    <a:pt x="1571" y="3159"/>
                  </a:lnTo>
                  <a:lnTo>
                    <a:pt x="1598" y="3144"/>
                  </a:lnTo>
                  <a:lnTo>
                    <a:pt x="1623" y="3144"/>
                  </a:lnTo>
                  <a:lnTo>
                    <a:pt x="1656" y="3144"/>
                  </a:lnTo>
                  <a:lnTo>
                    <a:pt x="1737" y="3119"/>
                  </a:lnTo>
                  <a:lnTo>
                    <a:pt x="1722" y="3128"/>
                  </a:lnTo>
                  <a:lnTo>
                    <a:pt x="1755" y="3111"/>
                  </a:lnTo>
                  <a:lnTo>
                    <a:pt x="1780" y="3103"/>
                  </a:lnTo>
                  <a:lnTo>
                    <a:pt x="1846" y="3095"/>
                  </a:lnTo>
                  <a:lnTo>
                    <a:pt x="1871" y="3086"/>
                  </a:lnTo>
                  <a:lnTo>
                    <a:pt x="1904" y="3078"/>
                  </a:lnTo>
                  <a:lnTo>
                    <a:pt x="1954" y="3078"/>
                  </a:lnTo>
                  <a:lnTo>
                    <a:pt x="1987" y="3078"/>
                  </a:lnTo>
                  <a:lnTo>
                    <a:pt x="2020" y="3111"/>
                  </a:lnTo>
                  <a:lnTo>
                    <a:pt x="2045" y="3136"/>
                  </a:lnTo>
                  <a:lnTo>
                    <a:pt x="2070" y="3161"/>
                  </a:lnTo>
                  <a:lnTo>
                    <a:pt x="2095" y="3186"/>
                  </a:lnTo>
                  <a:lnTo>
                    <a:pt x="2119" y="3202"/>
                  </a:lnTo>
                  <a:lnTo>
                    <a:pt x="2202" y="3268"/>
                  </a:lnTo>
                  <a:lnTo>
                    <a:pt x="2302" y="3318"/>
                  </a:lnTo>
                  <a:lnTo>
                    <a:pt x="2351" y="3335"/>
                  </a:lnTo>
                  <a:lnTo>
                    <a:pt x="2376" y="3335"/>
                  </a:lnTo>
                  <a:lnTo>
                    <a:pt x="2401" y="3335"/>
                  </a:lnTo>
                  <a:lnTo>
                    <a:pt x="2426" y="3335"/>
                  </a:lnTo>
                  <a:lnTo>
                    <a:pt x="2459" y="3360"/>
                  </a:lnTo>
                  <a:lnTo>
                    <a:pt x="2484" y="3376"/>
                  </a:lnTo>
                  <a:lnTo>
                    <a:pt x="2508" y="3401"/>
                  </a:lnTo>
                  <a:lnTo>
                    <a:pt x="2533" y="3417"/>
                  </a:lnTo>
                  <a:lnTo>
                    <a:pt x="2583" y="3426"/>
                  </a:lnTo>
                  <a:lnTo>
                    <a:pt x="2616" y="3434"/>
                  </a:lnTo>
                  <a:lnTo>
                    <a:pt x="2641" y="3442"/>
                  </a:lnTo>
                  <a:lnTo>
                    <a:pt x="2666" y="3442"/>
                  </a:lnTo>
                  <a:lnTo>
                    <a:pt x="2691" y="3442"/>
                  </a:lnTo>
                  <a:lnTo>
                    <a:pt x="2715" y="3442"/>
                  </a:lnTo>
                  <a:lnTo>
                    <a:pt x="2740" y="3442"/>
                  </a:lnTo>
                  <a:lnTo>
                    <a:pt x="2765" y="3442"/>
                  </a:lnTo>
                  <a:lnTo>
                    <a:pt x="2790" y="3442"/>
                  </a:lnTo>
                  <a:lnTo>
                    <a:pt x="2856" y="3442"/>
                  </a:lnTo>
                  <a:lnTo>
                    <a:pt x="2906" y="3442"/>
                  </a:lnTo>
                  <a:lnTo>
                    <a:pt x="2972" y="3442"/>
                  </a:lnTo>
                  <a:lnTo>
                    <a:pt x="3038" y="3442"/>
                  </a:lnTo>
                  <a:lnTo>
                    <a:pt x="3104" y="3442"/>
                  </a:lnTo>
                  <a:lnTo>
                    <a:pt x="3129" y="3434"/>
                  </a:lnTo>
                  <a:lnTo>
                    <a:pt x="3154" y="3434"/>
                  </a:lnTo>
                  <a:lnTo>
                    <a:pt x="3179" y="3426"/>
                  </a:lnTo>
                  <a:lnTo>
                    <a:pt x="3204" y="3417"/>
                  </a:lnTo>
                  <a:lnTo>
                    <a:pt x="3229" y="3409"/>
                  </a:lnTo>
                  <a:lnTo>
                    <a:pt x="3253" y="3393"/>
                  </a:lnTo>
                  <a:lnTo>
                    <a:pt x="3287" y="3368"/>
                  </a:lnTo>
                  <a:lnTo>
                    <a:pt x="3311" y="3343"/>
                  </a:lnTo>
                  <a:lnTo>
                    <a:pt x="3336" y="3310"/>
                  </a:lnTo>
                  <a:lnTo>
                    <a:pt x="3361" y="3285"/>
                  </a:lnTo>
                  <a:lnTo>
                    <a:pt x="3369" y="3260"/>
                  </a:lnTo>
                  <a:lnTo>
                    <a:pt x="3394" y="3235"/>
                  </a:lnTo>
                  <a:lnTo>
                    <a:pt x="3411" y="3211"/>
                  </a:lnTo>
                  <a:lnTo>
                    <a:pt x="3436" y="3186"/>
                  </a:lnTo>
                  <a:lnTo>
                    <a:pt x="3460" y="3161"/>
                  </a:lnTo>
                  <a:lnTo>
                    <a:pt x="3485" y="3144"/>
                  </a:lnTo>
                  <a:lnTo>
                    <a:pt x="3510" y="3120"/>
                  </a:lnTo>
                  <a:lnTo>
                    <a:pt x="3568" y="3103"/>
                  </a:lnTo>
                  <a:lnTo>
                    <a:pt x="3593" y="3078"/>
                  </a:lnTo>
                  <a:lnTo>
                    <a:pt x="3609" y="2995"/>
                  </a:lnTo>
                  <a:lnTo>
                    <a:pt x="3618" y="2962"/>
                  </a:lnTo>
                  <a:lnTo>
                    <a:pt x="3626" y="2929"/>
                  </a:lnTo>
                  <a:lnTo>
                    <a:pt x="3634" y="2904"/>
                  </a:lnTo>
                  <a:lnTo>
                    <a:pt x="3643" y="2871"/>
                  </a:lnTo>
                  <a:lnTo>
                    <a:pt x="3643" y="2813"/>
                  </a:lnTo>
                  <a:lnTo>
                    <a:pt x="3659" y="2747"/>
                  </a:lnTo>
                  <a:lnTo>
                    <a:pt x="3667" y="2681"/>
                  </a:lnTo>
                  <a:lnTo>
                    <a:pt x="3684" y="2648"/>
                  </a:lnTo>
                  <a:lnTo>
                    <a:pt x="3692" y="2623"/>
                  </a:lnTo>
                  <a:lnTo>
                    <a:pt x="3700" y="2598"/>
                  </a:lnTo>
                  <a:lnTo>
                    <a:pt x="3709" y="2565"/>
                  </a:lnTo>
                  <a:lnTo>
                    <a:pt x="3717" y="2532"/>
                  </a:lnTo>
                  <a:lnTo>
                    <a:pt x="3717" y="2482"/>
                  </a:lnTo>
                  <a:lnTo>
                    <a:pt x="3725" y="2433"/>
                  </a:lnTo>
                  <a:lnTo>
                    <a:pt x="3734" y="2408"/>
                  </a:lnTo>
                  <a:lnTo>
                    <a:pt x="3742" y="2375"/>
                  </a:lnTo>
                  <a:lnTo>
                    <a:pt x="3767" y="2342"/>
                  </a:lnTo>
                  <a:lnTo>
                    <a:pt x="3775" y="2317"/>
                  </a:lnTo>
                  <a:lnTo>
                    <a:pt x="3792" y="2292"/>
                  </a:lnTo>
                  <a:lnTo>
                    <a:pt x="3816" y="2259"/>
                  </a:lnTo>
                  <a:lnTo>
                    <a:pt x="3841" y="2234"/>
                  </a:lnTo>
                  <a:lnTo>
                    <a:pt x="3858" y="2209"/>
                  </a:lnTo>
                  <a:lnTo>
                    <a:pt x="3883" y="2176"/>
                  </a:lnTo>
                  <a:lnTo>
                    <a:pt x="3907" y="2143"/>
                  </a:lnTo>
                  <a:lnTo>
                    <a:pt x="3924" y="2118"/>
                  </a:lnTo>
                  <a:lnTo>
                    <a:pt x="3932" y="2094"/>
                  </a:lnTo>
                  <a:lnTo>
                    <a:pt x="3932" y="2060"/>
                  </a:lnTo>
                  <a:lnTo>
                    <a:pt x="3924" y="2036"/>
                  </a:lnTo>
                  <a:lnTo>
                    <a:pt x="3899" y="2019"/>
                  </a:lnTo>
                  <a:lnTo>
                    <a:pt x="3874" y="2019"/>
                  </a:lnTo>
                  <a:lnTo>
                    <a:pt x="3849" y="2011"/>
                  </a:lnTo>
                  <a:lnTo>
                    <a:pt x="3825" y="2002"/>
                  </a:lnTo>
                  <a:lnTo>
                    <a:pt x="3816" y="1978"/>
                  </a:lnTo>
                  <a:lnTo>
                    <a:pt x="3808" y="1953"/>
                  </a:lnTo>
                  <a:lnTo>
                    <a:pt x="3800" y="1928"/>
                  </a:lnTo>
                  <a:lnTo>
                    <a:pt x="3800" y="1903"/>
                  </a:lnTo>
                  <a:lnTo>
                    <a:pt x="3792" y="1878"/>
                  </a:lnTo>
                  <a:lnTo>
                    <a:pt x="3783" y="1854"/>
                  </a:lnTo>
                  <a:lnTo>
                    <a:pt x="3758" y="1820"/>
                  </a:lnTo>
                  <a:lnTo>
                    <a:pt x="3734" y="1796"/>
                  </a:lnTo>
                  <a:lnTo>
                    <a:pt x="3717" y="1771"/>
                  </a:lnTo>
                  <a:lnTo>
                    <a:pt x="3692" y="1754"/>
                  </a:lnTo>
                  <a:lnTo>
                    <a:pt x="3676" y="1729"/>
                  </a:lnTo>
                  <a:lnTo>
                    <a:pt x="3643" y="1705"/>
                  </a:lnTo>
                  <a:lnTo>
                    <a:pt x="3618" y="1680"/>
                  </a:lnTo>
                  <a:lnTo>
                    <a:pt x="3585" y="1655"/>
                  </a:lnTo>
                  <a:lnTo>
                    <a:pt x="3560" y="1638"/>
                  </a:lnTo>
                  <a:lnTo>
                    <a:pt x="3535" y="1630"/>
                  </a:lnTo>
                  <a:lnTo>
                    <a:pt x="3510" y="1622"/>
                  </a:lnTo>
                  <a:lnTo>
                    <a:pt x="3477" y="1605"/>
                  </a:lnTo>
                  <a:lnTo>
                    <a:pt x="3452" y="1597"/>
                  </a:lnTo>
                  <a:lnTo>
                    <a:pt x="3427" y="1589"/>
                  </a:lnTo>
                  <a:lnTo>
                    <a:pt x="3394" y="1564"/>
                  </a:lnTo>
                  <a:lnTo>
                    <a:pt x="3369" y="1547"/>
                  </a:lnTo>
                  <a:lnTo>
                    <a:pt x="3336" y="1523"/>
                  </a:lnTo>
                  <a:lnTo>
                    <a:pt x="3303" y="1506"/>
                  </a:lnTo>
                  <a:lnTo>
                    <a:pt x="3278" y="1481"/>
                  </a:lnTo>
                  <a:lnTo>
                    <a:pt x="3245" y="1448"/>
                  </a:lnTo>
                  <a:lnTo>
                    <a:pt x="3229" y="1398"/>
                  </a:lnTo>
                  <a:lnTo>
                    <a:pt x="3212" y="1365"/>
                  </a:lnTo>
                  <a:lnTo>
                    <a:pt x="3187" y="1332"/>
                  </a:lnTo>
                  <a:lnTo>
                    <a:pt x="3179" y="1307"/>
                  </a:lnTo>
                  <a:lnTo>
                    <a:pt x="3154" y="1283"/>
                  </a:lnTo>
                  <a:lnTo>
                    <a:pt x="3138" y="1258"/>
                  </a:lnTo>
                  <a:lnTo>
                    <a:pt x="3088" y="1241"/>
                  </a:lnTo>
                  <a:lnTo>
                    <a:pt x="3071" y="1192"/>
                  </a:lnTo>
                  <a:lnTo>
                    <a:pt x="3055" y="1167"/>
                  </a:lnTo>
                  <a:lnTo>
                    <a:pt x="3030" y="1142"/>
                  </a:lnTo>
                  <a:lnTo>
                    <a:pt x="3022" y="1117"/>
                  </a:lnTo>
                  <a:lnTo>
                    <a:pt x="3013" y="1084"/>
                  </a:lnTo>
                  <a:lnTo>
                    <a:pt x="3013" y="1059"/>
                  </a:lnTo>
                  <a:lnTo>
                    <a:pt x="3005" y="1034"/>
                  </a:lnTo>
                  <a:lnTo>
                    <a:pt x="2997" y="1001"/>
                  </a:lnTo>
                  <a:lnTo>
                    <a:pt x="2989" y="952"/>
                  </a:lnTo>
                  <a:lnTo>
                    <a:pt x="3033" y="855"/>
                  </a:lnTo>
                  <a:lnTo>
                    <a:pt x="3030" y="851"/>
                  </a:lnTo>
                  <a:lnTo>
                    <a:pt x="3013" y="843"/>
                  </a:lnTo>
                  <a:lnTo>
                    <a:pt x="3004" y="827"/>
                  </a:lnTo>
                  <a:lnTo>
                    <a:pt x="2987" y="791"/>
                  </a:lnTo>
                  <a:lnTo>
                    <a:pt x="2989" y="788"/>
                  </a:lnTo>
                  <a:lnTo>
                    <a:pt x="2953" y="769"/>
                  </a:lnTo>
                  <a:lnTo>
                    <a:pt x="2913" y="731"/>
                  </a:lnTo>
                  <a:lnTo>
                    <a:pt x="2865" y="697"/>
                  </a:lnTo>
                  <a:lnTo>
                    <a:pt x="2824" y="683"/>
                  </a:lnTo>
                  <a:lnTo>
                    <a:pt x="2740" y="679"/>
                  </a:lnTo>
                  <a:lnTo>
                    <a:pt x="2707" y="670"/>
                  </a:lnTo>
                  <a:lnTo>
                    <a:pt x="2657" y="662"/>
                  </a:lnTo>
                  <a:lnTo>
                    <a:pt x="2608" y="662"/>
                  </a:lnTo>
                  <a:lnTo>
                    <a:pt x="2558" y="654"/>
                  </a:lnTo>
                  <a:lnTo>
                    <a:pt x="2500" y="654"/>
                  </a:lnTo>
                  <a:lnTo>
                    <a:pt x="2464" y="644"/>
                  </a:lnTo>
                  <a:lnTo>
                    <a:pt x="2452" y="553"/>
                  </a:lnTo>
                  <a:lnTo>
                    <a:pt x="2433" y="551"/>
                  </a:lnTo>
                  <a:lnTo>
                    <a:pt x="2411" y="541"/>
                  </a:lnTo>
                  <a:lnTo>
                    <a:pt x="2399" y="548"/>
                  </a:lnTo>
                  <a:lnTo>
                    <a:pt x="2397" y="551"/>
                  </a:lnTo>
                  <a:lnTo>
                    <a:pt x="2387" y="541"/>
                  </a:lnTo>
                  <a:lnTo>
                    <a:pt x="2380" y="531"/>
                  </a:lnTo>
                  <a:lnTo>
                    <a:pt x="2377" y="510"/>
                  </a:lnTo>
                  <a:lnTo>
                    <a:pt x="2361" y="488"/>
                  </a:lnTo>
                  <a:lnTo>
                    <a:pt x="2344" y="459"/>
                  </a:lnTo>
                  <a:lnTo>
                    <a:pt x="2349" y="459"/>
                  </a:lnTo>
                  <a:lnTo>
                    <a:pt x="2349" y="455"/>
                  </a:lnTo>
                  <a:lnTo>
                    <a:pt x="2337" y="431"/>
                  </a:lnTo>
                  <a:lnTo>
                    <a:pt x="2317" y="385"/>
                  </a:lnTo>
                  <a:lnTo>
                    <a:pt x="2296" y="371"/>
                  </a:lnTo>
                  <a:lnTo>
                    <a:pt x="2277" y="356"/>
                  </a:lnTo>
                  <a:lnTo>
                    <a:pt x="2253" y="335"/>
                  </a:lnTo>
                  <a:lnTo>
                    <a:pt x="2202" y="363"/>
                  </a:lnTo>
                  <a:lnTo>
                    <a:pt x="2153" y="381"/>
                  </a:lnTo>
                  <a:lnTo>
                    <a:pt x="2128" y="372"/>
                  </a:lnTo>
                  <a:lnTo>
                    <a:pt x="2103" y="372"/>
                  </a:lnTo>
                  <a:lnTo>
                    <a:pt x="2078" y="364"/>
                  </a:lnTo>
                  <a:lnTo>
                    <a:pt x="2053" y="348"/>
                  </a:lnTo>
                  <a:lnTo>
                    <a:pt x="2037" y="323"/>
                  </a:lnTo>
                  <a:lnTo>
                    <a:pt x="2012" y="298"/>
                  </a:lnTo>
                  <a:lnTo>
                    <a:pt x="1987" y="273"/>
                  </a:lnTo>
                  <a:lnTo>
                    <a:pt x="1970" y="248"/>
                  </a:lnTo>
                  <a:lnTo>
                    <a:pt x="1954" y="215"/>
                  </a:lnTo>
                  <a:lnTo>
                    <a:pt x="1946" y="190"/>
                  </a:lnTo>
                  <a:lnTo>
                    <a:pt x="1929" y="166"/>
                  </a:lnTo>
                  <a:lnTo>
                    <a:pt x="1912" y="141"/>
                  </a:lnTo>
                  <a:lnTo>
                    <a:pt x="1896" y="116"/>
                  </a:lnTo>
                  <a:lnTo>
                    <a:pt x="1879" y="83"/>
                  </a:lnTo>
                  <a:lnTo>
                    <a:pt x="1855" y="58"/>
                  </a:lnTo>
                  <a:lnTo>
                    <a:pt x="1838" y="33"/>
                  </a:lnTo>
                  <a:lnTo>
                    <a:pt x="1813" y="17"/>
                  </a:lnTo>
                  <a:lnTo>
                    <a:pt x="1788" y="0"/>
                  </a:lnTo>
                  <a:lnTo>
                    <a:pt x="1763" y="0"/>
                  </a:lnTo>
                  <a:lnTo>
                    <a:pt x="1730" y="0"/>
                  </a:lnTo>
                  <a:lnTo>
                    <a:pt x="1744" y="8"/>
                  </a:lnTo>
                  <a:lnTo>
                    <a:pt x="1730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33440" y="3257640"/>
              <a:ext cx="6224760" cy="390600"/>
            </a:xfrm>
            <a:custGeom>
              <a:avLst/>
              <a:gdLst/>
              <a:ahLst/>
              <a:rect l="l" t="t" r="r" b="b"/>
              <a:pathLst>
                <a:path w="5032" h="315">
                  <a:moveTo>
                    <a:pt x="0" y="190"/>
                  </a:moveTo>
                  <a:lnTo>
                    <a:pt x="33" y="190"/>
                  </a:lnTo>
                  <a:lnTo>
                    <a:pt x="58" y="198"/>
                  </a:lnTo>
                  <a:lnTo>
                    <a:pt x="124" y="198"/>
                  </a:lnTo>
                  <a:lnTo>
                    <a:pt x="158" y="198"/>
                  </a:lnTo>
                  <a:lnTo>
                    <a:pt x="194" y="188"/>
                  </a:lnTo>
                  <a:lnTo>
                    <a:pt x="223" y="165"/>
                  </a:lnTo>
                  <a:lnTo>
                    <a:pt x="248" y="141"/>
                  </a:lnTo>
                  <a:lnTo>
                    <a:pt x="273" y="116"/>
                  </a:lnTo>
                  <a:lnTo>
                    <a:pt x="306" y="91"/>
                  </a:lnTo>
                  <a:lnTo>
                    <a:pt x="331" y="66"/>
                  </a:lnTo>
                  <a:lnTo>
                    <a:pt x="356" y="41"/>
                  </a:lnTo>
                  <a:lnTo>
                    <a:pt x="386" y="23"/>
                  </a:lnTo>
                  <a:lnTo>
                    <a:pt x="431" y="3"/>
                  </a:lnTo>
                  <a:lnTo>
                    <a:pt x="463" y="0"/>
                  </a:lnTo>
                  <a:lnTo>
                    <a:pt x="488" y="8"/>
                  </a:lnTo>
                  <a:lnTo>
                    <a:pt x="480" y="41"/>
                  </a:lnTo>
                  <a:lnTo>
                    <a:pt x="480" y="66"/>
                  </a:lnTo>
                  <a:lnTo>
                    <a:pt x="480" y="91"/>
                  </a:lnTo>
                  <a:lnTo>
                    <a:pt x="488" y="116"/>
                  </a:lnTo>
                  <a:lnTo>
                    <a:pt x="505" y="141"/>
                  </a:lnTo>
                  <a:lnTo>
                    <a:pt x="538" y="174"/>
                  </a:lnTo>
                  <a:lnTo>
                    <a:pt x="563" y="198"/>
                  </a:lnTo>
                  <a:lnTo>
                    <a:pt x="587" y="207"/>
                  </a:lnTo>
                  <a:lnTo>
                    <a:pt x="633" y="224"/>
                  </a:lnTo>
                  <a:lnTo>
                    <a:pt x="669" y="231"/>
                  </a:lnTo>
                  <a:lnTo>
                    <a:pt x="703" y="232"/>
                  </a:lnTo>
                  <a:lnTo>
                    <a:pt x="728" y="232"/>
                  </a:lnTo>
                  <a:lnTo>
                    <a:pt x="794" y="232"/>
                  </a:lnTo>
                  <a:lnTo>
                    <a:pt x="819" y="232"/>
                  </a:lnTo>
                  <a:lnTo>
                    <a:pt x="844" y="232"/>
                  </a:lnTo>
                  <a:lnTo>
                    <a:pt x="878" y="224"/>
                  </a:lnTo>
                  <a:lnTo>
                    <a:pt x="902" y="215"/>
                  </a:lnTo>
                  <a:lnTo>
                    <a:pt x="927" y="207"/>
                  </a:lnTo>
                  <a:lnTo>
                    <a:pt x="952" y="198"/>
                  </a:lnTo>
                  <a:lnTo>
                    <a:pt x="985" y="182"/>
                  </a:lnTo>
                  <a:lnTo>
                    <a:pt x="1010" y="165"/>
                  </a:lnTo>
                  <a:lnTo>
                    <a:pt x="1034" y="141"/>
                  </a:lnTo>
                  <a:lnTo>
                    <a:pt x="1059" y="124"/>
                  </a:lnTo>
                  <a:lnTo>
                    <a:pt x="1092" y="99"/>
                  </a:lnTo>
                  <a:lnTo>
                    <a:pt x="1103" y="92"/>
                  </a:lnTo>
                  <a:lnTo>
                    <a:pt x="1130" y="66"/>
                  </a:lnTo>
                  <a:lnTo>
                    <a:pt x="1154" y="42"/>
                  </a:lnTo>
                  <a:lnTo>
                    <a:pt x="1182" y="63"/>
                  </a:lnTo>
                  <a:lnTo>
                    <a:pt x="1192" y="73"/>
                  </a:lnTo>
                  <a:lnTo>
                    <a:pt x="1194" y="92"/>
                  </a:lnTo>
                  <a:lnTo>
                    <a:pt x="1214" y="121"/>
                  </a:lnTo>
                  <a:lnTo>
                    <a:pt x="1228" y="150"/>
                  </a:lnTo>
                  <a:lnTo>
                    <a:pt x="1233" y="164"/>
                  </a:lnTo>
                  <a:lnTo>
                    <a:pt x="1240" y="174"/>
                  </a:lnTo>
                  <a:lnTo>
                    <a:pt x="1247" y="186"/>
                  </a:lnTo>
                  <a:lnTo>
                    <a:pt x="1276" y="210"/>
                  </a:lnTo>
                  <a:lnTo>
                    <a:pt x="1298" y="231"/>
                  </a:lnTo>
                  <a:lnTo>
                    <a:pt x="1319" y="251"/>
                  </a:lnTo>
                  <a:lnTo>
                    <a:pt x="1326" y="255"/>
                  </a:lnTo>
                  <a:lnTo>
                    <a:pt x="1348" y="267"/>
                  </a:lnTo>
                  <a:lnTo>
                    <a:pt x="1377" y="270"/>
                  </a:lnTo>
                  <a:lnTo>
                    <a:pt x="1406" y="267"/>
                  </a:lnTo>
                  <a:lnTo>
                    <a:pt x="1437" y="263"/>
                  </a:lnTo>
                  <a:lnTo>
                    <a:pt x="1473" y="260"/>
                  </a:lnTo>
                  <a:lnTo>
                    <a:pt x="1498" y="256"/>
                  </a:lnTo>
                  <a:lnTo>
                    <a:pt x="1531" y="248"/>
                  </a:lnTo>
                  <a:lnTo>
                    <a:pt x="1556" y="240"/>
                  </a:lnTo>
                  <a:lnTo>
                    <a:pt x="1581" y="232"/>
                  </a:lnTo>
                  <a:lnTo>
                    <a:pt x="1614" y="215"/>
                  </a:lnTo>
                  <a:lnTo>
                    <a:pt x="1647" y="198"/>
                  </a:lnTo>
                  <a:lnTo>
                    <a:pt x="1680" y="182"/>
                  </a:lnTo>
                  <a:lnTo>
                    <a:pt x="1713" y="157"/>
                  </a:lnTo>
                  <a:lnTo>
                    <a:pt x="1746" y="132"/>
                  </a:lnTo>
                  <a:lnTo>
                    <a:pt x="1790" y="109"/>
                  </a:lnTo>
                  <a:lnTo>
                    <a:pt x="1823" y="83"/>
                  </a:lnTo>
                  <a:lnTo>
                    <a:pt x="1854" y="66"/>
                  </a:lnTo>
                  <a:lnTo>
                    <a:pt x="1878" y="54"/>
                  </a:lnTo>
                  <a:lnTo>
                    <a:pt x="1895" y="47"/>
                  </a:lnTo>
                  <a:lnTo>
                    <a:pt x="1926" y="37"/>
                  </a:lnTo>
                  <a:lnTo>
                    <a:pt x="1941" y="78"/>
                  </a:lnTo>
                  <a:lnTo>
                    <a:pt x="1946" y="104"/>
                  </a:lnTo>
                  <a:lnTo>
                    <a:pt x="1958" y="131"/>
                  </a:lnTo>
                  <a:lnTo>
                    <a:pt x="1972" y="162"/>
                  </a:lnTo>
                  <a:lnTo>
                    <a:pt x="1978" y="165"/>
                  </a:lnTo>
                  <a:lnTo>
                    <a:pt x="1995" y="190"/>
                  </a:lnTo>
                  <a:lnTo>
                    <a:pt x="2020" y="215"/>
                  </a:lnTo>
                  <a:lnTo>
                    <a:pt x="2044" y="240"/>
                  </a:lnTo>
                  <a:lnTo>
                    <a:pt x="2069" y="256"/>
                  </a:lnTo>
                  <a:lnTo>
                    <a:pt x="2135" y="273"/>
                  </a:lnTo>
                  <a:lnTo>
                    <a:pt x="2169" y="281"/>
                  </a:lnTo>
                  <a:lnTo>
                    <a:pt x="2193" y="289"/>
                  </a:lnTo>
                  <a:lnTo>
                    <a:pt x="2251" y="289"/>
                  </a:lnTo>
                  <a:lnTo>
                    <a:pt x="2351" y="289"/>
                  </a:lnTo>
                  <a:lnTo>
                    <a:pt x="2400" y="289"/>
                  </a:lnTo>
                  <a:lnTo>
                    <a:pt x="2458" y="289"/>
                  </a:lnTo>
                  <a:lnTo>
                    <a:pt x="2508" y="289"/>
                  </a:lnTo>
                  <a:lnTo>
                    <a:pt x="2533" y="281"/>
                  </a:lnTo>
                  <a:lnTo>
                    <a:pt x="2599" y="265"/>
                  </a:lnTo>
                  <a:lnTo>
                    <a:pt x="2632" y="256"/>
                  </a:lnTo>
                  <a:lnTo>
                    <a:pt x="2682" y="240"/>
                  </a:lnTo>
                  <a:lnTo>
                    <a:pt x="2707" y="223"/>
                  </a:lnTo>
                  <a:lnTo>
                    <a:pt x="2731" y="198"/>
                  </a:lnTo>
                  <a:lnTo>
                    <a:pt x="2765" y="174"/>
                  </a:lnTo>
                  <a:lnTo>
                    <a:pt x="2789" y="141"/>
                  </a:lnTo>
                  <a:lnTo>
                    <a:pt x="2806" y="116"/>
                  </a:lnTo>
                  <a:lnTo>
                    <a:pt x="2831" y="83"/>
                  </a:lnTo>
                  <a:lnTo>
                    <a:pt x="2856" y="66"/>
                  </a:lnTo>
                  <a:lnTo>
                    <a:pt x="2877" y="109"/>
                  </a:lnTo>
                  <a:lnTo>
                    <a:pt x="2898" y="152"/>
                  </a:lnTo>
                  <a:lnTo>
                    <a:pt x="2927" y="176"/>
                  </a:lnTo>
                  <a:lnTo>
                    <a:pt x="2972" y="215"/>
                  </a:lnTo>
                  <a:lnTo>
                    <a:pt x="2992" y="231"/>
                  </a:lnTo>
                  <a:lnTo>
                    <a:pt x="3021" y="248"/>
                  </a:lnTo>
                  <a:lnTo>
                    <a:pt x="3046" y="256"/>
                  </a:lnTo>
                  <a:lnTo>
                    <a:pt x="3071" y="265"/>
                  </a:lnTo>
                  <a:lnTo>
                    <a:pt x="3096" y="265"/>
                  </a:lnTo>
                  <a:lnTo>
                    <a:pt x="3124" y="260"/>
                  </a:lnTo>
                  <a:lnTo>
                    <a:pt x="3145" y="256"/>
                  </a:lnTo>
                  <a:lnTo>
                    <a:pt x="3178" y="240"/>
                  </a:lnTo>
                  <a:lnTo>
                    <a:pt x="3212" y="223"/>
                  </a:lnTo>
                  <a:lnTo>
                    <a:pt x="3245" y="207"/>
                  </a:lnTo>
                  <a:lnTo>
                    <a:pt x="3278" y="182"/>
                  </a:lnTo>
                  <a:lnTo>
                    <a:pt x="3311" y="157"/>
                  </a:lnTo>
                  <a:lnTo>
                    <a:pt x="3344" y="141"/>
                  </a:lnTo>
                  <a:lnTo>
                    <a:pt x="3377" y="124"/>
                  </a:lnTo>
                  <a:lnTo>
                    <a:pt x="3402" y="116"/>
                  </a:lnTo>
                  <a:lnTo>
                    <a:pt x="3427" y="116"/>
                  </a:lnTo>
                  <a:lnTo>
                    <a:pt x="3452" y="116"/>
                  </a:lnTo>
                  <a:lnTo>
                    <a:pt x="3460" y="149"/>
                  </a:lnTo>
                  <a:lnTo>
                    <a:pt x="3468" y="182"/>
                  </a:lnTo>
                  <a:lnTo>
                    <a:pt x="3485" y="215"/>
                  </a:lnTo>
                  <a:lnTo>
                    <a:pt x="3506" y="241"/>
                  </a:lnTo>
                  <a:lnTo>
                    <a:pt x="3532" y="277"/>
                  </a:lnTo>
                  <a:lnTo>
                    <a:pt x="3556" y="294"/>
                  </a:lnTo>
                  <a:lnTo>
                    <a:pt x="3578" y="306"/>
                  </a:lnTo>
                  <a:lnTo>
                    <a:pt x="3597" y="313"/>
                  </a:lnTo>
                  <a:lnTo>
                    <a:pt x="3625" y="314"/>
                  </a:lnTo>
                  <a:lnTo>
                    <a:pt x="3692" y="314"/>
                  </a:lnTo>
                  <a:lnTo>
                    <a:pt x="3741" y="314"/>
                  </a:lnTo>
                  <a:lnTo>
                    <a:pt x="3786" y="306"/>
                  </a:lnTo>
                  <a:lnTo>
                    <a:pt x="3832" y="306"/>
                  </a:lnTo>
                  <a:lnTo>
                    <a:pt x="3874" y="298"/>
                  </a:lnTo>
                  <a:lnTo>
                    <a:pt x="3907" y="289"/>
                  </a:lnTo>
                  <a:lnTo>
                    <a:pt x="3932" y="273"/>
                  </a:lnTo>
                  <a:lnTo>
                    <a:pt x="3965" y="240"/>
                  </a:lnTo>
                  <a:lnTo>
                    <a:pt x="3993" y="212"/>
                  </a:lnTo>
                  <a:lnTo>
                    <a:pt x="4039" y="157"/>
                  </a:lnTo>
                  <a:lnTo>
                    <a:pt x="4064" y="132"/>
                  </a:lnTo>
                  <a:lnTo>
                    <a:pt x="4081" y="107"/>
                  </a:lnTo>
                  <a:lnTo>
                    <a:pt x="4114" y="74"/>
                  </a:lnTo>
                  <a:lnTo>
                    <a:pt x="4139" y="50"/>
                  </a:lnTo>
                  <a:lnTo>
                    <a:pt x="4166" y="30"/>
                  </a:lnTo>
                  <a:lnTo>
                    <a:pt x="4202" y="20"/>
                  </a:lnTo>
                  <a:lnTo>
                    <a:pt x="4226" y="73"/>
                  </a:lnTo>
                  <a:lnTo>
                    <a:pt x="4238" y="95"/>
                  </a:lnTo>
                  <a:lnTo>
                    <a:pt x="4257" y="121"/>
                  </a:lnTo>
                  <a:lnTo>
                    <a:pt x="4278" y="152"/>
                  </a:lnTo>
                  <a:lnTo>
                    <a:pt x="4300" y="176"/>
                  </a:lnTo>
                  <a:lnTo>
                    <a:pt x="4326" y="186"/>
                  </a:lnTo>
                  <a:lnTo>
                    <a:pt x="4354" y="198"/>
                  </a:lnTo>
                  <a:lnTo>
                    <a:pt x="4379" y="207"/>
                  </a:lnTo>
                  <a:lnTo>
                    <a:pt x="4404" y="215"/>
                  </a:lnTo>
                  <a:lnTo>
                    <a:pt x="4428" y="223"/>
                  </a:lnTo>
                  <a:lnTo>
                    <a:pt x="4511" y="232"/>
                  </a:lnTo>
                  <a:lnTo>
                    <a:pt x="4561" y="232"/>
                  </a:lnTo>
                  <a:lnTo>
                    <a:pt x="4586" y="232"/>
                  </a:lnTo>
                  <a:lnTo>
                    <a:pt x="4600" y="229"/>
                  </a:lnTo>
                  <a:lnTo>
                    <a:pt x="4602" y="229"/>
                  </a:lnTo>
                  <a:lnTo>
                    <a:pt x="4619" y="223"/>
                  </a:lnTo>
                  <a:lnTo>
                    <a:pt x="4644" y="215"/>
                  </a:lnTo>
                  <a:lnTo>
                    <a:pt x="4668" y="207"/>
                  </a:lnTo>
                  <a:lnTo>
                    <a:pt x="4693" y="198"/>
                  </a:lnTo>
                  <a:lnTo>
                    <a:pt x="4718" y="190"/>
                  </a:lnTo>
                  <a:lnTo>
                    <a:pt x="4743" y="174"/>
                  </a:lnTo>
                  <a:lnTo>
                    <a:pt x="4768" y="157"/>
                  </a:lnTo>
                  <a:lnTo>
                    <a:pt x="4801" y="132"/>
                  </a:lnTo>
                  <a:lnTo>
                    <a:pt x="4833" y="131"/>
                  </a:lnTo>
                  <a:lnTo>
                    <a:pt x="4840" y="150"/>
                  </a:lnTo>
                  <a:lnTo>
                    <a:pt x="4854" y="183"/>
                  </a:lnTo>
                  <a:lnTo>
                    <a:pt x="4875" y="207"/>
                  </a:lnTo>
                  <a:lnTo>
                    <a:pt x="4892" y="232"/>
                  </a:lnTo>
                  <a:lnTo>
                    <a:pt x="4917" y="240"/>
                  </a:lnTo>
                  <a:lnTo>
                    <a:pt x="4942" y="248"/>
                  </a:lnTo>
                  <a:lnTo>
                    <a:pt x="4982" y="258"/>
                  </a:lnTo>
                  <a:lnTo>
                    <a:pt x="5013" y="258"/>
                  </a:lnTo>
                  <a:lnTo>
                    <a:pt x="5024" y="248"/>
                  </a:lnTo>
                  <a:lnTo>
                    <a:pt x="5031" y="251"/>
                  </a:lnTo>
                  <a:lnTo>
                    <a:pt x="5024" y="248"/>
                  </a:lnTo>
                </a:path>
              </a:pathLst>
            </a:custGeom>
            <a:noFill/>
            <a:ln cap="rnd" w="507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760920" y="2666880"/>
            <a:ext cx="2792160" cy="1918800"/>
            <a:chOff x="3760920" y="2666880"/>
            <a:chExt cx="2792160" cy="1918800"/>
          </a:xfrm>
        </p:grpSpPr>
        <p:sp>
          <p:nvSpPr>
            <p:cNvPr id="133" name=""/>
            <p:cNvSpPr/>
            <p:nvPr/>
          </p:nvSpPr>
          <p:spPr>
            <a:xfrm>
              <a:off x="3760920" y="2666880"/>
              <a:ext cx="2792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33"/>
                  </a:solidFill>
                  <a:latin typeface="Arial Black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333333"/>
                  </a:solidFill>
                  <a:latin typeface="Arial Black"/>
                  <a:ea typeface="黑体"/>
                </a:rPr>
                <a:t>Personality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90600" y="4127400"/>
              <a:ext cx="2435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 Black"/>
                  <a:ea typeface="黑体"/>
                </a:rPr>
                <a:t>Character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什么是我所说的素质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83808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好职业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97180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特别的你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181480"/>
            <a:ext cx="12952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素质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0"/>
            <a:endCxn id="136" idx="2"/>
          </p:cNvCxnSpPr>
          <p:nvPr/>
        </p:nvCxnSpPr>
        <p:spPr>
          <a:xfrm flipV="1">
            <a:off x="875880" y="1980720"/>
            <a:ext cx="1080" cy="99144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cxnSp>
        <p:nvCxnSpPr>
          <p:cNvPr id="140" name=""/>
          <p:cNvCxnSpPr>
            <a:stCxn id="138" idx="0"/>
            <a:endCxn id="137" idx="2"/>
          </p:cNvCxnSpPr>
          <p:nvPr/>
        </p:nvCxnSpPr>
        <p:spPr>
          <a:xfrm flipV="1">
            <a:off x="875880" y="4114080"/>
            <a:ext cx="1080" cy="106740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048040" y="3784680"/>
            <a:ext cx="6319800" cy="0"/>
          </a:xfrm>
          <a:prstGeom prst="line">
            <a:avLst/>
          </a:prstGeom>
          <a:ln w="255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083200" y="2038320"/>
            <a:ext cx="0" cy="3981600"/>
          </a:xfrm>
          <a:prstGeom prst="line">
            <a:avLst/>
          </a:prstGeom>
          <a:ln w="255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18400" y="4203720"/>
            <a:ext cx="123840" cy="0"/>
          </a:xfrm>
          <a:prstGeom prst="line">
            <a:avLst/>
          </a:prstGeom>
          <a:ln w="255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951520" y="2387520"/>
            <a:ext cx="61920" cy="139680"/>
          </a:xfrm>
          <a:prstGeom prst="line">
            <a:avLst/>
          </a:prstGeom>
          <a:ln w="255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22840" y="2317680"/>
            <a:ext cx="2356920" cy="2904480"/>
            <a:chOff x="2022840" y="2317680"/>
            <a:chExt cx="2356920" cy="2904480"/>
          </a:xfrm>
        </p:grpSpPr>
        <p:sp>
          <p:nvSpPr>
            <p:cNvPr id="146" name=""/>
            <p:cNvSpPr/>
            <p:nvPr/>
          </p:nvSpPr>
          <p:spPr>
            <a:xfrm>
              <a:off x="2203560" y="231768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8f8f8"/>
                  </a:solidFill>
                  <a:latin typeface="Tahoma"/>
                </a:rPr>
                <a:t>              </a:t>
              </a:r>
              <a:r>
                <a:rPr b="1" lang="zh-CN" sz="2400" spc="-1" strike="noStrike">
                  <a:solidFill>
                    <a:srgbClr val="f8f8f8"/>
                  </a:solidFill>
                  <a:latin typeface="Tahoma"/>
                </a:rPr>
                <a:t>满意区域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22840" y="4762440"/>
              <a:ext cx="23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8f8f8"/>
                  </a:solidFill>
                  <a:latin typeface="Tahoma"/>
                </a:rPr>
                <a:t>               </a:t>
              </a:r>
              <a:r>
                <a:rPr b="1" lang="zh-CN" sz="2400" spc="-1" strike="noStrike">
                  <a:solidFill>
                    <a:srgbClr val="f8f8f8"/>
                  </a:solidFill>
                  <a:latin typeface="Tahoma"/>
                </a:rPr>
                <a:t>不满意区域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180280" y="3784680"/>
            <a:ext cx="24948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20960" y="1409760"/>
            <a:ext cx="3908880" cy="2025360"/>
            <a:chOff x="3720960" y="1409760"/>
            <a:chExt cx="3908880" cy="2025360"/>
          </a:xfrm>
        </p:grpSpPr>
        <p:sp>
          <p:nvSpPr>
            <p:cNvPr id="150" name=""/>
            <p:cNvSpPr/>
            <p:nvPr/>
          </p:nvSpPr>
          <p:spPr>
            <a:xfrm>
              <a:off x="3720960" y="2597040"/>
              <a:ext cx="2229480" cy="838080"/>
            </a:xfrm>
            <a:custGeom>
              <a:avLst/>
              <a:gdLst/>
              <a:ahLst/>
              <a:rect l="l" t="t" r="r" b="b"/>
              <a:pathLst>
                <a:path w="1728" h="504">
                  <a:moveTo>
                    <a:pt x="0" y="432"/>
                  </a:moveTo>
                  <a:cubicBezTo>
                    <a:pt x="504" y="468"/>
                    <a:pt x="1008" y="504"/>
                    <a:pt x="1296" y="432"/>
                  </a:cubicBezTo>
                  <a:cubicBezTo>
                    <a:pt x="1584" y="360"/>
                    <a:pt x="1656" y="72"/>
                    <a:pt x="172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miter/>
            </a:ln>
            <a:effectLst>
              <a:outerShdw dist="36147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37720" y="14097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8f8f8"/>
                  </a:solidFill>
                  <a:latin typeface="Arial"/>
                </a:rPr>
                <a:t>    </a:t>
              </a:r>
              <a:r>
                <a:rPr b="1" i="1" lang="zh-CN" sz="2400" spc="-1" strike="noStrike" u="sng">
                  <a:solidFill>
                    <a:srgbClr val="f8f8f8"/>
                  </a:solidFill>
                  <a:uFillTx/>
                  <a:latin typeface="Arial"/>
                </a:rPr>
                <a:t>满意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20320" y="18986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8f8f8"/>
                  </a:solidFill>
                  <a:latin typeface="Arial"/>
                </a:rPr>
                <a:t>      </a:t>
              </a:r>
              <a:r>
                <a:rPr b="1" i="1" lang="zh-CN" sz="2400" spc="-1" strike="noStrike" u="sng">
                  <a:solidFill>
                    <a:srgbClr val="f8f8f8"/>
                  </a:solidFill>
                  <a:uFillTx/>
                  <a:latin typeface="Arial"/>
                </a:rPr>
                <a:t>令人激动的优点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59040" y="2806200"/>
            <a:ext cx="5332320" cy="1816200"/>
            <a:chOff x="3659040" y="2806200"/>
            <a:chExt cx="5332320" cy="1816200"/>
          </a:xfrm>
        </p:grpSpPr>
        <p:sp>
          <p:nvSpPr>
            <p:cNvPr id="154" name=""/>
            <p:cNvSpPr/>
            <p:nvPr/>
          </p:nvSpPr>
          <p:spPr>
            <a:xfrm flipV="1">
              <a:off x="3659040" y="2806200"/>
              <a:ext cx="3159360" cy="181620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2720" y="3155760"/>
              <a:ext cx="297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8f8f8"/>
                  </a:solidFill>
                  <a:latin typeface="Arial"/>
                </a:rPr>
                <a:t>    </a:t>
              </a:r>
              <a:r>
                <a:rPr b="1" i="1" lang="zh-CN" sz="2400" spc="-1" strike="noStrike" u="sng">
                  <a:solidFill>
                    <a:srgbClr val="f8f8f8"/>
                  </a:solidFill>
                  <a:uFillTx/>
                  <a:latin typeface="Arial"/>
                </a:rPr>
                <a:t>差异优点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092480" y="4203720"/>
            <a:ext cx="4013280" cy="2275920"/>
            <a:chOff x="4092480" y="4203720"/>
            <a:chExt cx="4013280" cy="2275920"/>
          </a:xfrm>
        </p:grpSpPr>
        <p:sp>
          <p:nvSpPr>
            <p:cNvPr id="157" name=""/>
            <p:cNvSpPr/>
            <p:nvPr/>
          </p:nvSpPr>
          <p:spPr>
            <a:xfrm>
              <a:off x="4092480" y="4203720"/>
              <a:ext cx="2725200" cy="1420560"/>
            </a:xfrm>
            <a:custGeom>
              <a:avLst/>
              <a:gdLst/>
              <a:ahLst/>
              <a:rect l="l" t="t" r="r" b="b"/>
              <a:pathLst>
                <a:path w="2112" h="976">
                  <a:moveTo>
                    <a:pt x="0" y="976"/>
                  </a:moveTo>
                  <a:cubicBezTo>
                    <a:pt x="280" y="648"/>
                    <a:pt x="560" y="320"/>
                    <a:pt x="912" y="160"/>
                  </a:cubicBezTo>
                  <a:cubicBezTo>
                    <a:pt x="1264" y="0"/>
                    <a:pt x="1912" y="40"/>
                    <a:pt x="2112" y="16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miter/>
            </a:ln>
            <a:effectLst>
              <a:outerShdw dist="36147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29520" y="4832280"/>
              <a:ext cx="177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8f8f8"/>
                  </a:solidFill>
                  <a:latin typeface="Tahoma"/>
                </a:rPr>
                <a:t>基本的，“必须有的</a:t>
              </a:r>
              <a:br>
                <a:rPr sz="2400"/>
              </a:br>
              <a:r>
                <a:rPr b="1" i="1" lang="zh-CN" sz="2400" spc="-1" strike="noStrike">
                  <a:solidFill>
                    <a:srgbClr val="f8f8f8"/>
                  </a:solidFill>
                  <a:latin typeface="Tahoma"/>
                </a:rPr>
                <a:t>优点”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76080" y="4273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 u="sng">
                  <a:solidFill>
                    <a:srgbClr val="f8f8f8"/>
                  </a:solidFill>
                  <a:uFillTx/>
                  <a:latin typeface="Arial"/>
                </a:rPr>
                <a:t>期待的优点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76160" y="601992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8f8f8"/>
                  </a:solidFill>
                  <a:latin typeface="Arial"/>
                </a:rPr>
                <a:t>    </a:t>
              </a:r>
              <a:r>
                <a:rPr b="1" i="1" lang="zh-CN" sz="2400" spc="-1" strike="noStrike" u="sng">
                  <a:solidFill>
                    <a:srgbClr val="f8f8f8"/>
                  </a:solidFill>
                  <a:uFillTx/>
                  <a:latin typeface="Arial"/>
                </a:rPr>
                <a:t>不满意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rot="4013400">
            <a:off x="5028120" y="3110400"/>
            <a:ext cx="977760" cy="1487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什么是我所说的素质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9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剑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娴熟流利的英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干净整洁的仪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自信深邃的微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不断完善的简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对答如流的面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447880" y="1447560"/>
            <a:ext cx="339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气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正直向上的品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积极上进的激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自信谦逊的气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诚信负责的态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愉快有效的沟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良好学习的基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83808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好职业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971800"/>
            <a:ext cx="12952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</a:rPr>
              <a:t>特别的你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181480"/>
            <a:ext cx="12952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素质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6" idx="0"/>
            <a:endCxn id="165" idx="2"/>
          </p:cNvCxnSpPr>
          <p:nvPr/>
        </p:nvCxnSpPr>
        <p:spPr>
          <a:xfrm flipV="1">
            <a:off x="875880" y="1980720"/>
            <a:ext cx="1080" cy="99144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cxnSp>
        <p:nvCxnSpPr>
          <p:cNvPr id="169" name=""/>
          <p:cNvCxnSpPr>
            <a:stCxn id="167" idx="0"/>
            <a:endCxn id="166" idx="2"/>
          </p:cNvCxnSpPr>
          <p:nvPr/>
        </p:nvCxnSpPr>
        <p:spPr>
          <a:xfrm flipV="1">
            <a:off x="875880" y="4114080"/>
            <a:ext cx="1080" cy="1067400"/>
          </a:xfrm>
          <a:prstGeom prst="straightConnector1">
            <a:avLst/>
          </a:prstGeom>
          <a:ln w="5724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058200" y="5337360"/>
            <a:ext cx="10951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黑体"/>
                <a:ea typeface="黑体"/>
              </a:rPr>
              <a:t>平衡积分表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33560" y="2134800"/>
            <a:ext cx="51814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ll Common Sense?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 rot="20700000">
            <a:off x="3200040" y="1980720"/>
            <a:ext cx="5562720" cy="2362320"/>
          </a:xfrm>
          <a:prstGeom prst="rect">
            <a:avLst/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Verdana"/>
                <a:ea typeface="宋体"/>
              </a:rPr>
              <a:t>But, common sense is not always common practic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3:15:43Z</dcterms:created>
  <dc:creator>Run Liu</dc:creator>
  <dc:description/>
  <dc:language>en-US</dc:language>
  <cp:lastModifiedBy>未知用户</cp:lastModifiedBy>
  <dcterms:modified xsi:type="dcterms:W3CDTF">2016-03-02T02:49:52Z</dcterms:modified>
  <cp:revision>547</cp:revision>
  <dc:subject/>
  <dc:title>你凭什么？！</dc:title>
</cp:coreProperties>
</file>