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885-9691-48BD-BE1D-2F83ADF3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22F-CB70-4C34-90B3-81D56374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732-A2A3-4EE2-AF2B-766FCC46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FC5-86AD-40E5-B461-0BC89A31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511F-9070-4274-B4AD-E60BF2A9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1B24-A63C-4D6B-89A5-B2F298EF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DB12-8CFD-4D0A-AFA2-8BF7FC6E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9D3D-A3D2-478B-9283-27F9D480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DF97-0A77-4057-9916-3381C5B8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50B7-7DE3-4016-90AC-C9E6514E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0A0-2422-4271-8C18-0F0AEB0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814-C120-4C81-BD6E-15DD857C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3605-D99B-4C2A-AC3D-559B1E7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B6AC-5C22-4787-9C7A-D705C26D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3559-A1FB-4B0F-BA3D-136E9715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8C2E-A0E2-423D-84B5-C2CEA5E4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C7B1-6A3E-4850-A4DF-5A4637A1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A64C-B3D4-4F2C-94D7-D2B1AFE7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2669-30D2-43A1-911F-7C18A664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058C-1C8F-4353-A0AE-48249622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C3E1-9912-4D08-9C1D-4AF61090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7FFE-41B9-4965-8A87-C85D2E8C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F9C-FBF9-4D02-8896-DDC0BE78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1CCE9-3D69-4D26-AB0E-E9EF4372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D14D-7DEE-4CD8-A243-6D64938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6DBB-7D16-4B38-AEA6-61C7553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3B58-710F-4CBF-A813-51D01D5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88D3-F0C3-4E5F-80A2-89C7873E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7A74-0D4A-47B8-AF09-04A88876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C8DC-6038-443F-B68F-62C66B9F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2369D-A3B7-4FC4-ACF4-E7ED37F6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316C-5E7B-4FA1-BCAE-A8D862A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E4FE6-6DCF-4A66-AC51-AD243F2A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33F-8057-4C52-9C0F-E94347EC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4FB3-E699-4D69-B286-18651CAF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9520-F055-4812-9944-626C0769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C09C-7E7C-4321-86A2-A7046461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F5AB-F36E-4065-B528-7DCEF1EA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512C-DB80-4B74-91C4-7E37299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6B90C-FA49-4140-B7B6-41449CB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267F-A0BC-42BD-B8E7-496EB046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3F2B-D053-46D6-8824-AA88C2B3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3089F-9C64-4E9E-8325-B34485BC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1CB8A-2997-4F48-B42D-F17FFD1D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697-6C8D-48C2-9F8A-3A4DE280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074C9-D894-455E-BB80-93433E87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FB953-1AB5-4FEA-B1C2-60EBB1F4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FBFFB-A2F9-48B8-9DA0-D8A83DD0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B15CC-DB30-457E-B965-84F12B1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010B1-A277-4FA5-AF5A-B66DAA3E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5CEBD-4817-4432-AE06-24C3486E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5543A-B2AE-4A16-83A8-718B17F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2B4DA-4236-4D33-9399-9BC38AE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6A8BA-1A38-46CF-B1CF-899FEB53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AE07-3FDA-48A9-A1DB-5BD62938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273-5341-4682-BA2D-4D086216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78B14-AED6-472E-AFF7-ABC0649D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17592-F6C4-4A22-A884-672E3DFF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9F32-026A-4E97-882A-AAFC00B1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C4180-EB9B-4027-9668-40DBEF0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851D8-BDC2-4E4A-B095-75075D99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EBA4C-B1EA-48D7-A4AA-13E97010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3C357-5D76-49E9-A486-40E91779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2631-A4B5-4534-B3AE-D815BDA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BB4A-ADD2-4EF5-9238-4398CD12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D9B39-690F-4986-8286-F173AA86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E35-B271-4D82-9B4E-5FBE4930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7FF2A-8999-4148-8F55-D70F8609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2FB8-AD31-482B-854A-0C531C02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A011-0050-40AD-BBC5-A36E9220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8A2D-3A47-4901-B415-3D69F8C5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04BC0-EBF5-443C-A979-E9404AA5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B576A-3574-4CBB-A4EA-661761B4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6E979-79E6-4BFD-A756-CA09AEC8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BB9B-EAFD-4738-A22F-99112ADF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86BE7-D424-4949-BB62-3EFE488E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7C902-0E71-4562-A91A-A50ED6BD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15A-64F3-4EAD-A532-7B5E0980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A460B-0D59-449A-BB7E-5C6635A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4BEE-B495-4D4D-BA07-754B50B8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FD361-D77C-4CC3-9A6E-667AA831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CE87D-ABD9-4D50-9303-004B92AE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0D98C-B159-4747-A372-D3E3E6C7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90D-A284-450E-9A62-93BBE3D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480"/>
            <a:chOff x="0" y="4206960"/>
            <a:chExt cx="9166320" cy="28504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9F7B-1076-46D7-B6F8-6FAD413895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3920"/>
            <a:chOff x="0" y="533520"/>
            <a:chExt cx="9177480" cy="65239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8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4AD9-CDE5-4448-A554-0F31F78CBEC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extBox 6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BAFB-EEC5-4C6D-BBDF-8DA352E8C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5C5-CC4E-434D-AC97-8234B30B5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extBox 6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554D-1E9C-4A12-9257-C7F5504D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extBox 6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D8E0-E455-42F1-9F78-4CE14231C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67160" cy="12445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5194440" y="4102200"/>
            <a:ext cx="3949560" cy="27558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5993-4E3D-4A6C-9F93-C80EDD060D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840040" y="4869000"/>
            <a:ext cx="40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初三（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班主题班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1197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行楷"/>
              </a:rPr>
              <a:t>战严寒、磨意志，创期末辉煌！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心里有一种信念。它叫做坚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骐骥一跃，不能十步；驽马十驾，功在不舍。锲而舍之，朽木不折；锲而不舍，金石可镂。——荀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7640" y="400536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当自己松懈的时候，英国前首相丘吉尔是这么鞭策自己的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决不放弃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决不决不放弃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决不决不决不放弃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556000" y="2551680"/>
            <a:ext cx="583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每个人都希望梦想成真，但成功似乎远在天边遥不可及，是倦怠和不自信让我们放弃努力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实，我们不必想以后的事，只要想着今天我要作些什么，明天我该作些什么，然后努力去完成——就象钟一样，每秒“滴答”摆一下——成功的喜悦就会慢慢浸润我们的生命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 rot="5400000">
            <a:off x="-74880" y="2387520"/>
            <a:ext cx="2741760" cy="19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执着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132000" y="333360"/>
            <a:ext cx="43974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坚持到底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77" name=""/>
          <p:cNvSpPr/>
          <p:nvPr/>
        </p:nvSpPr>
        <p:spPr>
          <a:xfrm>
            <a:off x="755640" y="242100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成功者永不放弃，放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者决不会成功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坚持到底，决不放弃—成功的秘诀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二、正确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704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时间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-----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效率优先、合理安排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复习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-----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做好计划、及时监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考试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-----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适度紧张、稳打稳扎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脚下有一地汗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道酬勤”，就是说上天会照顾勤劳的人的愿望。其实，所有的成功者都是趟着汗水一路走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离开了“勤”字，一切都没有意义。有了“勤”字，它一能补拙，二能出效益，三能节约时间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。“勤”是一切的根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04920" y="2959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908000" y="1052640"/>
            <a:ext cx="53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制定计划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84" name=""/>
          <p:cNvSpPr/>
          <p:nvPr/>
        </p:nvSpPr>
        <p:spPr>
          <a:xfrm>
            <a:off x="2495880" y="2565360"/>
            <a:ext cx="400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成功永远属于有准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的人，没有详细的计划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就不会取得成功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-252360" y="2492280"/>
            <a:ext cx="9396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68360" y="620640"/>
            <a:ext cx="4800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采取行动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87" name=""/>
          <p:cNvSpPr/>
          <p:nvPr/>
        </p:nvSpPr>
        <p:spPr>
          <a:xfrm>
            <a:off x="2421360" y="2421000"/>
            <a:ext cx="453924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因为我奋斗，所以我快乐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奋斗改变命运，梦想让我们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众不同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复习小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要重视基础、重视课本，做好基本题，练好基本功，拿到基本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要重视归纳总结，对做错的题目要及时纠正。要充分总结错题，养成分析错误，改正错误的好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要努力培养思考问题、分析问题、解决问题的能力，要在老师的统一安排下，强化专题训练，提高解题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要突出“五练”，练规范、练速度、练重点、练技巧、练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要学会总结，会一题要懂一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741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考试是三分水平，七分心理。这句话是说明了心理素质影响水平发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对待考试要做到“不烦恼、不害怕、不着急、不骄傲”，用一颗平常心来对待成绩和名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要劳逸结合，保证考试时拥有充沛的精力和积极的心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考试要先易后难，稳打稳扎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763640" y="-36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应试小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547640" y="1484280"/>
            <a:ext cx="56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距离期末考试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只有</a:t>
            </a:r>
            <a:r>
              <a:rPr b="1" lang="zh-CN" sz="5400" spc="-1" strike="noStrike">
                <a:solidFill>
                  <a:srgbClr val="ff0066"/>
                </a:solidFill>
                <a:latin typeface="Verdana"/>
                <a:ea typeface="MS UI Gothic"/>
              </a:rPr>
              <a:t>9</a:t>
            </a: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天了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同学们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加油吧！！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76360" y="155736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对</a:t>
            </a:r>
            <a:r>
              <a:rPr b="1" lang="zh-CN" sz="5400" spc="-1" strike="noStrike">
                <a:solidFill>
                  <a:srgbClr val="d60093"/>
                </a:solidFill>
                <a:latin typeface="华文新魏"/>
                <a:ea typeface="华文新魏"/>
              </a:rPr>
              <a:t>严寒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面对</a:t>
            </a:r>
            <a:r>
              <a:rPr b="1" lang="zh-CN" sz="5400" spc="-1" strike="noStrike">
                <a:solidFill>
                  <a:srgbClr val="d60093"/>
                </a:solidFill>
                <a:latin typeface="华文新魏"/>
                <a:ea typeface="华文新魏"/>
              </a:rPr>
              <a:t>期末考试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你准备好了吗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Times New Roman"/>
              </a:rPr>
              <a:t>一、良好的心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834920" y="2060280"/>
            <a:ext cx="6049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心静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-----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集中注意力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乐观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-----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充满自信力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目标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-----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开动内驱力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自省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-----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加强意志力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68360" y="1916280"/>
            <a:ext cx="7920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如果没有集中的注意力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将渐渐失去方向；我们必将让短暂的复习时间消耗殆尽！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无聊的闲谈，是庸俗的交往，是频繁的打闹……在分散着我们的注意力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注意力高度集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才能专注于学习，才有高效的复习，最大收益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1640" y="33336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从现在开始，我们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更加集中自己的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黑体"/>
              </a:rPr>
              <a:t>注意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Times New Roman"/>
              </a:rPr>
              <a:t>心静、口紧、身正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92000" y="2060640"/>
            <a:ext cx="7056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黑体"/>
              </a:rPr>
              <a:t>心中要有紧迫感和危机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黑体"/>
              </a:rPr>
              <a:t>要将精力、时间用到学习上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黑体"/>
              </a:rPr>
              <a:t>少闲聊、多学习、勤思考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管好嘴、坐好位，身正心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效率高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26920" y="2133720"/>
            <a:ext cx="7696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积极的人，像太阳，照到哪里哪里亮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消极的人，像月亮，初一十五不一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想法决定我们的生活和学习，有什么样的想法，就有什么样的未来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59280" y="549360"/>
            <a:ext cx="3528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信心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00000" y="3402360"/>
            <a:ext cx="741708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相信自己是最优秀的，相信自己是最努力的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1" action="ppaction://hlinksldjump"/>
              </a:rPr>
              <a:t>坚信自己成功的人，已经成功了一半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24000" y="981000"/>
            <a:ext cx="48006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相信自己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27241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2133720"/>
            <a:ext cx="8569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幼圆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大厦巍然屹立，是因为有坚强的支柱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航船破浪前行，是因为有指示方向的罗盘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目标就是人生航船的罗盘！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340000" y="907920"/>
            <a:ext cx="5111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确立目标</a:t>
            </a:r>
            <a:endParaRPr b="0" lang="en-US" sz="5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眼前有一个目标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9640" y="2060640"/>
            <a:ext cx="7488360" cy="367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具体操作中，很多聪明人的做法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盯住眼前的那个同学，以他为赶超对象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再付出努力去超越他。当你做到这一点的时候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定会有成就感的，也一定会越来越有信心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00:53:13Z</dcterms:created>
  <dc:creator>微软用户</dc:creator>
  <dc:description/>
  <dc:language>en-US</dc:language>
  <cp:lastModifiedBy>微软用户</cp:lastModifiedBy>
  <dcterms:modified xsi:type="dcterms:W3CDTF">2011-12-26T06:39:20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