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7C1-9B4B-45A3-9DB1-B30A7258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370-EAD7-4DAD-BC86-F226B51C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8D39B-ED90-449C-BCE6-1AF635CA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1B043-0F4C-410F-AB06-1B507E0D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85800" y="157320"/>
            <a:ext cx="109044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EDEBB-676F-41AA-A599-27DCDF8C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826EB-CD0B-4F63-AB4A-87DAAE75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5598E-3A1B-425A-9913-D298E1DB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0439B-437A-4518-9F56-D738A07D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893F1-DCDD-4277-8089-EA7AAEC1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D2813-ADF0-4CCB-8630-02D6FF7A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3358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79862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854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3358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79862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505A9-BE01-423F-9D8A-A720707A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674B-E6AC-499D-B2C8-7A09EC48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358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862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358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862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00E-5ED5-4FB2-8B48-A2515A66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E300-5923-4DB6-9EE5-FE5B83C7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E5EE-EC34-499B-8A43-1E00E252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7C53-FE31-4EA5-82C4-B829AE3D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0529-AFDA-41A2-88BE-4E5983B4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F687-8FC3-45BF-A88B-B4552ED4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57320"/>
            <a:ext cx="109044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1529-7C0E-482A-8CCE-8D1ECD6D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7DC-72D3-41E0-86A2-3DC81F88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793-2F91-41D3-B74F-9CD18D2E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0402-3475-457B-A951-863F2971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2BDF-DB2D-475C-901D-7371F74D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B7E6-7EE6-4EE2-9022-D49C3F2E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6AE2-1A1C-4322-A4F7-10B9E61E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358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862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358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9862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4BE2-C2C9-46CC-8B84-99FCE780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907DA-80ED-4AF1-9917-5313FF62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5E368-436E-49DA-9E6C-B9C79103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E755-97E9-4ED7-9169-7B69A82D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7264D-914D-4598-B54F-FFFCCA79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3C04-2D58-4E36-A87F-ECF1E256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0F1-1F46-487B-B744-25EE436D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157320"/>
            <a:ext cx="109044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38E4-F37C-4A79-A78E-98FDAAD1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849C-B3DB-4F00-8B77-3395DF86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408BA-D9C1-4922-A956-DD965E1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943BF-D9AB-4C13-B8A0-DF45BF64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0DF34-0A77-452C-9E3C-8ED24184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5A0C-674A-4E5D-A870-62175691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358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862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4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358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862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81E2-E940-4280-A91C-CE47E8B3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602E9-DE08-42B2-84E4-7BEEADCA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6B4BB-B5FE-46D5-9D40-6C0BBAE5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D6347-D48C-4089-A154-F130FBE7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EB7-C71F-46E8-BD0B-5E67DE00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E9C13-AAC1-4A14-84A2-8D4AE8CA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4161-F58B-463D-9A3A-1E92892C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157320"/>
            <a:ext cx="109044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4CC58-E9F3-46D2-AABA-19A3488F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2344C-CE92-41CF-8B2D-4E13CF50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94FB-8AD0-4D5B-9B88-26E8A90A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44DC2-F5C1-4CEB-9BF4-F2DC292C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21338-21CC-45DF-9B36-7178FFA1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5FE8-74A1-48F2-BC35-77535028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358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9862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4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3358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79862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2FDF-6DFB-422A-A700-9397F148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05C74-B11B-4927-B350-80095608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D33-A9B4-4C6B-A04F-102E6C18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7D1F2-25B9-4582-A933-3DC105FD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DB4ED-E430-4299-9FF8-219DB839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5CEB7-37B3-444E-BFD8-21C517F8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31CB6-13DC-4E42-96F7-CDFDF5ED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157320"/>
            <a:ext cx="109044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0A8CB-62AB-4919-A5AC-282EC96A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AB479-0856-4D9A-A511-67A201F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91AE-D9CB-4494-9AD9-90D9F21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C3B3C-CB91-4803-B434-5315A64E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94963-F153-4720-91EF-43A23B62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DC15-B9B3-40E1-B7F7-1CE572FF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7320"/>
            <a:ext cx="109044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A49-D9D7-4435-9651-E7886AE0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3358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9862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4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3358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79862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078D6-A4CF-4D3A-A536-2F4B3A37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E097-3442-4915-A8F4-6194B8DE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16F29-6E9B-4B15-96F1-EDAB5368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50BD7-9685-4D24-93B1-100D222B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3576-6025-4F63-A4D9-78FCB196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17BAB-7744-49DD-8BBA-56EA6020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157320"/>
            <a:ext cx="109044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928D-F53A-4CA0-968E-8BBBCE70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84CE-AB9C-4615-86F4-19E02499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D4E8D-0C5E-4895-881D-EBC47370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BBCFC-466F-4EC6-BC35-2EA6C1D4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C96-29E6-4A22-8FBA-C62E1470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8BE63-80AA-4C05-A8AE-B9B3FDA1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D46D3-3EFB-45B1-8867-A3CA5876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358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9862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854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3358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9862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36E34-585C-48D9-BBE4-36B68ACB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145FE-5631-46BF-BAB1-D54A4AAC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48C40-FAAB-44F3-AE93-629E3F7F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C815C-13F0-4196-B6C5-08112004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90EF-0BC3-4285-8072-4FC3D23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2582B-3C43-48DE-9B4D-88F32763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157320"/>
            <a:ext cx="109044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AF4FA-8BE6-4110-BC87-DA3DFD79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1A687-9116-44B6-9AE0-A8A04F7C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CA5-1B6E-4CFC-9F12-8C94B5E5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D487B-7A64-4A59-B794-54869228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9FF13-C79E-4628-9CEE-F609072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A6EBF-07F9-4D21-A0F9-1B5C3E34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9150F-9F4A-4886-B04C-DD41308F1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3358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79862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4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3358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79862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F78C8-A375-480F-B92E-56593593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908A1-EE81-445A-80BE-DC178945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BC9DC-3F4B-474F-A2A8-6B8DBF9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B0437-8FE3-4301-B21E-EC8E32FA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3E694-1FB9-4C2E-9E82-C1C360D2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95961-836D-4031-8CE9-3A64B394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32E7-E917-401C-BB9A-DE2CB46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157320"/>
            <a:ext cx="10904400" cy="324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B1AF8-6495-4F13-93C1-3A926CEF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B1643-4824-4268-BD32-67C3A05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4A696-8F7C-4499-ADDA-1109939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F35D9-062B-4262-A134-5CDD9FA1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440" y="3807000"/>
            <a:ext cx="107967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B5CF5-8682-485E-8E4E-4A6492E8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17920" y="120492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44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217920" y="3807000"/>
            <a:ext cx="526860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797AD-9060-41DE-A8CC-B4C85D7D8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3358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986240" y="120492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4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3358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986240" y="3807000"/>
            <a:ext cx="347616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3FBBC-A9A3-457C-A099-4D3C6C30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156D2-3C96-4DFE-ACBE-6D24AF59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44E09-47CD-49D6-AF83-AA1ECEAC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34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C2686-A72F-44C4-9F2D-6BA8028F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2615-FC02-4010-A7EB-C1CF76825FEE}" type="datetime">
              <a:rPr b="0" lang="zh-CN" sz="1600" spc="-1" strike="noStrike">
                <a:solidFill>
                  <a:srgbClr val="9d9d9d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22A9-5F9E-494D-8A33-BF5C4BE09B44}" type="slidenum">
              <a:rPr b="0" lang="zh-CN" sz="16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d06240"/>
              </a:buClr>
              <a:buFont typeface="Wingdings" charset="2"/>
              <a:buChar char="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1349"/>
              </a:spcBef>
              <a:buClr>
                <a:srgbClr val="4d62b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7"/>
          <p:cNvGrpSpPr/>
          <p:nvPr/>
        </p:nvGrpSpPr>
        <p:grpSpPr>
          <a:xfrm>
            <a:off x="0" y="0"/>
            <a:ext cx="12204720" cy="6904080"/>
            <a:chOff x="0" y="0"/>
            <a:chExt cx="12204720" cy="6904080"/>
          </a:xfrm>
        </p:grpSpPr>
        <p:sp>
          <p:nvSpPr>
            <p:cNvPr id="42" name="等腰三角形 12"/>
            <p:cNvSpPr/>
            <p:nvPr/>
          </p:nvSpPr>
          <p:spPr>
            <a:xfrm flipV="1">
              <a:off x="7805160" y="0"/>
              <a:ext cx="4399560" cy="6904080"/>
            </a:xfrm>
            <a:custGeom>
              <a:avLst/>
              <a:gdLst/>
              <a:ahLst/>
              <a:rect l="l" t="t" r="r" b="b"/>
              <a:pathLst>
                <a:path w="4399721" h="6904382">
                  <a:moveTo>
                    <a:pt x="0" y="6904382"/>
                  </a:moveTo>
                  <a:lnTo>
                    <a:pt x="4399721" y="0"/>
                  </a:lnTo>
                  <a:cubicBezTo>
                    <a:pt x="4395303" y="2301461"/>
                    <a:pt x="4390886" y="4602921"/>
                    <a:pt x="4386468" y="6904382"/>
                  </a:cubicBezTo>
                  <a:lnTo>
                    <a:pt x="0" y="6904382"/>
                  </a:lnTo>
                  <a:close/>
                </a:path>
              </a:pathLst>
            </a:custGeom>
            <a:solidFill>
              <a:srgbClr val="1c2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" name="矩形 11"/>
            <p:cNvSpPr/>
            <p:nvPr/>
          </p:nvSpPr>
          <p:spPr>
            <a:xfrm>
              <a:off x="0" y="0"/>
              <a:ext cx="11555640" cy="6870960"/>
            </a:xfrm>
            <a:custGeom>
              <a:avLst/>
              <a:gdLst/>
              <a:ahLst/>
              <a:rect l="l" t="t" r="r" b="b"/>
              <a:pathLst>
                <a:path w="9078591" h="6871252">
                  <a:moveTo>
                    <a:pt x="0" y="0"/>
                  </a:moveTo>
                  <a:lnTo>
                    <a:pt x="5673786" y="0"/>
                  </a:lnTo>
                  <a:lnTo>
                    <a:pt x="9078591" y="6871252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6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pic>
          <p:nvPicPr>
            <p:cNvPr id="44" name="图片 10" descr=""/>
            <p:cNvPicPr/>
            <p:nvPr/>
          </p:nvPicPr>
          <p:blipFill>
            <a:blip r:embed="rId2"/>
            <a:srcRect l="15332" t="18076" r="14782" b="34804"/>
            <a:stretch/>
          </p:blipFill>
          <p:spPr>
            <a:xfrm>
              <a:off x="863280" y="2463480"/>
              <a:ext cx="393660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d06240"/>
              </a:buClr>
              <a:buFont typeface="Wingdings" charset="2"/>
              <a:buChar char="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1349"/>
              </a:spcBef>
              <a:buClr>
                <a:srgbClr val="4d62b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53DE-116A-49DD-B913-6E09E1C63D72}" type="datetime">
              <a:rPr b="0" lang="zh-CN" sz="1600" spc="-1" strike="noStrike">
                <a:solidFill>
                  <a:srgbClr val="9d9d9d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A186-888D-44A5-879E-7237D70CC005}" type="slidenum">
              <a:rPr b="0" lang="zh-CN" sz="16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6"/>
          <p:cNvSpPr/>
          <p:nvPr/>
        </p:nvSpPr>
        <p:spPr>
          <a:xfrm>
            <a:off x="0" y="0"/>
            <a:ext cx="12192120" cy="1027080"/>
          </a:xfrm>
          <a:prstGeom prst="rect">
            <a:avLst/>
          </a:prstGeom>
          <a:solidFill>
            <a:srgbClr val="1c2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矩形 11"/>
          <p:cNvSpPr/>
          <p:nvPr/>
        </p:nvSpPr>
        <p:spPr>
          <a:xfrm>
            <a:off x="619200" y="-11160"/>
            <a:ext cx="1033560" cy="1038240"/>
          </a:xfrm>
          <a:custGeom>
            <a:avLst/>
            <a:gdLst/>
            <a:ahLst/>
            <a:rect l="l" t="t" r="r" b="b"/>
            <a:pathLst>
              <a:path w="9078591" h="6871252">
                <a:moveTo>
                  <a:pt x="0" y="0"/>
                </a:moveTo>
                <a:lnTo>
                  <a:pt x="5673786" y="0"/>
                </a:lnTo>
                <a:lnTo>
                  <a:pt x="9078591" y="6871252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d06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d06240"/>
              </a:buClr>
              <a:buFont typeface="Wingdings" charset="2"/>
              <a:buChar char="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1349"/>
              </a:spcBef>
              <a:buClr>
                <a:srgbClr val="4d62b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553F-1E81-4051-BABE-BAF8C26A6973}" type="datetime">
              <a:rPr b="0" lang="zh-CN" sz="1600" spc="-1" strike="noStrike">
                <a:solidFill>
                  <a:srgbClr val="9d9d9d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150A-6F6D-485F-9E09-3D9EFEBB4F3C}" type="slidenum">
              <a:rPr b="0" lang="zh-CN" sz="16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9"/>
          <p:cNvGrpSpPr/>
          <p:nvPr/>
        </p:nvGrpSpPr>
        <p:grpSpPr>
          <a:xfrm>
            <a:off x="0" y="2176560"/>
            <a:ext cx="12198240" cy="1728720"/>
            <a:chOff x="0" y="2176560"/>
            <a:chExt cx="12198240" cy="1728720"/>
          </a:xfrm>
        </p:grpSpPr>
        <p:sp>
          <p:nvSpPr>
            <p:cNvPr id="130" name="任意多边形 6"/>
            <p:cNvSpPr/>
            <p:nvPr/>
          </p:nvSpPr>
          <p:spPr>
            <a:xfrm>
              <a:off x="6120" y="2504880"/>
              <a:ext cx="12192120" cy="1400400"/>
            </a:xfrm>
            <a:custGeom>
              <a:avLst/>
              <a:gdLst/>
              <a:ahLst/>
              <a:rect l="l" t="t" r="r" b="b"/>
              <a:pathLst>
                <a:path w="9144000" h="1076325">
                  <a:moveTo>
                    <a:pt x="0" y="0"/>
                  </a:moveTo>
                  <a:lnTo>
                    <a:pt x="7058024" y="0"/>
                  </a:lnTo>
                  <a:lnTo>
                    <a:pt x="7058024" y="973931"/>
                  </a:lnTo>
                  <a:lnTo>
                    <a:pt x="8354024" y="973931"/>
                  </a:lnTo>
                  <a:lnTo>
                    <a:pt x="8354024" y="0"/>
                  </a:lnTo>
                  <a:lnTo>
                    <a:pt x="9144000" y="0"/>
                  </a:lnTo>
                  <a:lnTo>
                    <a:pt x="9144000" y="1076325"/>
                  </a:lnTo>
                  <a:lnTo>
                    <a:pt x="0" y="1076325"/>
                  </a:lnTo>
                  <a:close/>
                </a:path>
              </a:pathLst>
            </a:custGeom>
            <a:solidFill>
              <a:srgbClr val="ecc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" name="矩形 7"/>
            <p:cNvSpPr/>
            <p:nvPr/>
          </p:nvSpPr>
          <p:spPr>
            <a:xfrm>
              <a:off x="0" y="2728080"/>
              <a:ext cx="9404280" cy="950040"/>
            </a:xfrm>
            <a:prstGeom prst="rect">
              <a:avLst/>
            </a:prstGeom>
            <a:solidFill>
              <a:srgbClr val="d06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" name="矩形 5"/>
            <p:cNvSpPr/>
            <p:nvPr/>
          </p:nvSpPr>
          <p:spPr>
            <a:xfrm>
              <a:off x="9512280" y="2176560"/>
              <a:ext cx="1536480" cy="1501560"/>
            </a:xfrm>
            <a:custGeom>
              <a:avLst/>
              <a:gdLst/>
              <a:ahLst/>
              <a:rect l="l" t="t" r="r" b="b"/>
              <a:pathLst>
                <a:path w="1152000" h="1154343">
                  <a:moveTo>
                    <a:pt x="825732" y="1"/>
                  </a:moveTo>
                  <a:lnTo>
                    <a:pt x="1152000" y="2343"/>
                  </a:lnTo>
                  <a:lnTo>
                    <a:pt x="1152000" y="1154343"/>
                  </a:lnTo>
                  <a:lnTo>
                    <a:pt x="0" y="1154343"/>
                  </a:lnTo>
                  <a:lnTo>
                    <a:pt x="0" y="2343"/>
                  </a:lnTo>
                  <a:lnTo>
                    <a:pt x="323289" y="0"/>
                  </a:lnTo>
                </a:path>
              </a:pathLst>
            </a:custGeom>
            <a:noFill/>
            <a:ln w="19080">
              <a:solidFill>
                <a:srgbClr val="d062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540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d06240"/>
              </a:buClr>
              <a:buFont typeface="Wingdings" charset="2"/>
              <a:buChar char="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1349"/>
              </a:spcBef>
              <a:buClr>
                <a:srgbClr val="4d62b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7E82-D969-4906-8609-F54D24D9D74C}" type="datetime">
              <a:rPr b="0" lang="zh-CN" sz="1600" spc="-1" strike="noStrike">
                <a:solidFill>
                  <a:srgbClr val="9d9d9d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3AE4-64F1-42FF-94A8-B0737C029104}" type="slidenum">
              <a:rPr b="0" lang="zh-CN" sz="16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7"/>
          <p:cNvSpPr/>
          <p:nvPr/>
        </p:nvSpPr>
        <p:spPr>
          <a:xfrm>
            <a:off x="0" y="0"/>
            <a:ext cx="12192120" cy="1027080"/>
          </a:xfrm>
          <a:prstGeom prst="rect">
            <a:avLst/>
          </a:prstGeom>
          <a:solidFill>
            <a:srgbClr val="1c25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5" name="矩形 11"/>
          <p:cNvSpPr/>
          <p:nvPr/>
        </p:nvSpPr>
        <p:spPr>
          <a:xfrm>
            <a:off x="619200" y="-11160"/>
            <a:ext cx="1033560" cy="1038240"/>
          </a:xfrm>
          <a:custGeom>
            <a:avLst/>
            <a:gdLst/>
            <a:ahLst/>
            <a:rect l="l" t="t" r="r" b="b"/>
            <a:pathLst>
              <a:path w="9078591" h="6871252">
                <a:moveTo>
                  <a:pt x="0" y="0"/>
                </a:moveTo>
                <a:lnTo>
                  <a:pt x="5673786" y="0"/>
                </a:lnTo>
                <a:lnTo>
                  <a:pt x="9078591" y="6871252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d06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d06240"/>
              </a:buClr>
              <a:buFont typeface="Wingdings" charset="2"/>
              <a:buChar char="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1349"/>
              </a:spcBef>
              <a:buClr>
                <a:srgbClr val="4d62b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6A60-6B91-47AB-A1C7-43E4C5E2D6C2}" type="datetime">
              <a:rPr b="0" lang="zh-CN" sz="1600" spc="-1" strike="noStrike">
                <a:solidFill>
                  <a:srgbClr val="9d9d9d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2F4E-9445-4679-B878-C7320BD852F9}" type="slidenum">
              <a:rPr b="0" lang="zh-CN" sz="16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11"/>
          <p:cNvGrpSpPr/>
          <p:nvPr/>
        </p:nvGrpSpPr>
        <p:grpSpPr>
          <a:xfrm>
            <a:off x="0" y="-11160"/>
            <a:ext cx="12192120" cy="1038240"/>
            <a:chOff x="0" y="-11160"/>
            <a:chExt cx="12192120" cy="1038240"/>
          </a:xfrm>
        </p:grpSpPr>
        <p:sp>
          <p:nvSpPr>
            <p:cNvPr id="218" name="矩形 9"/>
            <p:cNvSpPr/>
            <p:nvPr/>
          </p:nvSpPr>
          <p:spPr>
            <a:xfrm>
              <a:off x="0" y="0"/>
              <a:ext cx="12192120" cy="1027080"/>
            </a:xfrm>
            <a:prstGeom prst="rect">
              <a:avLst/>
            </a:prstGeom>
            <a:solidFill>
              <a:srgbClr val="1c2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" name="矩形 11"/>
            <p:cNvSpPr/>
            <p:nvPr/>
          </p:nvSpPr>
          <p:spPr>
            <a:xfrm>
              <a:off x="618840" y="-11160"/>
              <a:ext cx="1033560" cy="1038240"/>
            </a:xfrm>
            <a:custGeom>
              <a:avLst/>
              <a:gdLst/>
              <a:ahLst/>
              <a:rect l="l" t="t" r="r" b="b"/>
              <a:pathLst>
                <a:path w="9078591" h="6871252">
                  <a:moveTo>
                    <a:pt x="0" y="0"/>
                  </a:moveTo>
                  <a:lnTo>
                    <a:pt x="5673786" y="0"/>
                  </a:lnTo>
                  <a:lnTo>
                    <a:pt x="9078591" y="6871252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06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d06240"/>
              </a:buClr>
              <a:buFont typeface="Wingdings" charset="2"/>
              <a:buChar char="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1349"/>
              </a:spcBef>
              <a:buClr>
                <a:srgbClr val="4d62b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0DA6-0B53-405C-AD34-CF8BE8DE103D}" type="datetime">
              <a:rPr b="0" lang="zh-CN" sz="1600" spc="-1" strike="noStrike">
                <a:solidFill>
                  <a:srgbClr val="9d9d9d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9E89-D939-4E48-BBE4-09CDF57DF437}" type="slidenum">
              <a:rPr b="0" lang="zh-CN" sz="16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5"/>
          <p:cNvGrpSpPr/>
          <p:nvPr/>
        </p:nvGrpSpPr>
        <p:grpSpPr>
          <a:xfrm>
            <a:off x="0" y="0"/>
            <a:ext cx="12192120" cy="6138720"/>
            <a:chOff x="0" y="0"/>
            <a:chExt cx="12192120" cy="6138720"/>
          </a:xfrm>
        </p:grpSpPr>
        <p:sp>
          <p:nvSpPr>
            <p:cNvPr id="262" name="矩形 6"/>
            <p:cNvSpPr/>
            <p:nvPr/>
          </p:nvSpPr>
          <p:spPr>
            <a:xfrm>
              <a:off x="948240" y="0"/>
              <a:ext cx="795600" cy="3582360"/>
            </a:xfrm>
            <a:prstGeom prst="rect">
              <a:avLst/>
            </a:prstGeom>
            <a:solidFill>
              <a:srgbClr val="1c2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任意多边形 7"/>
            <p:cNvSpPr/>
            <p:nvPr/>
          </p:nvSpPr>
          <p:spPr>
            <a:xfrm>
              <a:off x="948240" y="3582360"/>
              <a:ext cx="795600" cy="671040"/>
            </a:xfrm>
            <a:custGeom>
              <a:avLst/>
              <a:gdLst/>
              <a:ahLst/>
              <a:rect l="l" t="t" r="r" b="b"/>
              <a:pathLst>
                <a:path w="576448" h="576263">
                  <a:moveTo>
                    <a:pt x="0" y="0"/>
                  </a:moveTo>
                  <a:lnTo>
                    <a:pt x="575933" y="576263"/>
                  </a:lnTo>
                  <a:cubicBezTo>
                    <a:pt x="577576" y="384175"/>
                    <a:pt x="574620" y="192088"/>
                    <a:pt x="57626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51c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矩形 8"/>
            <p:cNvSpPr/>
            <p:nvPr/>
          </p:nvSpPr>
          <p:spPr>
            <a:xfrm>
              <a:off x="1744200" y="3582360"/>
              <a:ext cx="10447920" cy="671040"/>
            </a:xfrm>
            <a:prstGeom prst="rect">
              <a:avLst/>
            </a:prstGeom>
            <a:solidFill>
              <a:srgbClr val="1c25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矩形 9"/>
            <p:cNvSpPr/>
            <p:nvPr/>
          </p:nvSpPr>
          <p:spPr>
            <a:xfrm>
              <a:off x="0" y="2389320"/>
              <a:ext cx="10384560" cy="1193040"/>
            </a:xfrm>
            <a:prstGeom prst="rect">
              <a:avLst/>
            </a:prstGeom>
            <a:solidFill>
              <a:srgbClr val="d06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矩形 10"/>
            <p:cNvSpPr/>
            <p:nvPr/>
          </p:nvSpPr>
          <p:spPr>
            <a:xfrm>
              <a:off x="10384560" y="4253400"/>
              <a:ext cx="1346040" cy="691920"/>
            </a:xfrm>
            <a:prstGeom prst="rect">
              <a:avLst/>
            </a:prstGeom>
            <a:solidFill>
              <a:srgbClr val="d06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直角三角形 11"/>
            <p:cNvSpPr/>
            <p:nvPr/>
          </p:nvSpPr>
          <p:spPr>
            <a:xfrm>
              <a:off x="10384560" y="2389320"/>
              <a:ext cx="1346040" cy="1193040"/>
            </a:xfrm>
            <a:prstGeom prst="rtTriangle">
              <a:avLst/>
            </a:prstGeom>
            <a:solidFill>
              <a:srgbClr val="a44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8" name="直角三角形 12"/>
            <p:cNvSpPr/>
            <p:nvPr/>
          </p:nvSpPr>
          <p:spPr>
            <a:xfrm flipH="1" flipV="1">
              <a:off x="10383840" y="4945680"/>
              <a:ext cx="1346040" cy="1193040"/>
            </a:xfrm>
            <a:prstGeom prst="rtTriangle">
              <a:avLst/>
            </a:prstGeom>
            <a:solidFill>
              <a:srgbClr val="a445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9" name="矩形 13"/>
            <p:cNvSpPr/>
            <p:nvPr/>
          </p:nvSpPr>
          <p:spPr>
            <a:xfrm>
              <a:off x="11730960" y="4948920"/>
              <a:ext cx="461160" cy="1189800"/>
            </a:xfrm>
            <a:prstGeom prst="rect">
              <a:avLst/>
            </a:prstGeom>
            <a:solidFill>
              <a:srgbClr val="d06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d06240"/>
              </a:buClr>
              <a:buFont typeface="Wingdings" charset="2"/>
              <a:buChar char="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1349"/>
              </a:spcBef>
              <a:buClr>
                <a:srgbClr val="4d62b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0139-A6D5-4D9C-9D49-BB38A730F799}" type="datetime">
              <a:rPr b="0" lang="zh-CN" sz="1600" spc="-1" strike="noStrike">
                <a:solidFill>
                  <a:srgbClr val="9d9d9d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5D21-33CC-42F1-AFAE-80D0BD0A765F}" type="slidenum">
              <a:rPr b="0" lang="zh-CN" sz="16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d06240"/>
              </a:buClr>
              <a:buFont typeface="Wingdings" charset="2"/>
              <a:buChar char="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1349"/>
              </a:spcBef>
              <a:buClr>
                <a:srgbClr val="4d62b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BC0B-A092-4925-8214-30AE5F7FD170}" type="datetime">
              <a:rPr b="0" lang="zh-CN" sz="1600" spc="-1" strike="noStrike">
                <a:solidFill>
                  <a:srgbClr val="9d9d9d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3B18-FD06-4395-9FB2-4810CEB7E008}" type="slidenum">
              <a:rPr b="0" lang="zh-CN" sz="16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7320"/>
            <a:ext cx="1090440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440" y="1204920"/>
            <a:ext cx="1079676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10000"/>
              </a:lnSpc>
              <a:spcBef>
                <a:spcPts val="1349"/>
              </a:spcBef>
              <a:buClr>
                <a:srgbClr val="d06240"/>
              </a:buClr>
              <a:buFont typeface="Wingdings" charset="2"/>
              <a:buChar char="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indent="685800" algn="just">
              <a:lnSpc>
                <a:spcPct val="110000"/>
              </a:lnSpc>
              <a:spcBef>
                <a:spcPts val="1349"/>
              </a:spcBef>
              <a:buClr>
                <a:srgbClr val="4d62be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028880" indent="-34308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1371600" indent="-685800" algn="just">
              <a:lnSpc>
                <a:spcPct val="110000"/>
              </a:lnSpc>
              <a:spcBef>
                <a:spcPts val="134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76D5-6DB6-4491-8F36-8A57CFC1FE9D}" type="datetime">
              <a:rPr b="0" lang="zh-CN" sz="1600" spc="-1" strike="noStrike">
                <a:solidFill>
                  <a:srgbClr val="9d9d9d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9d9d9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DF94-D1A9-44B8-986E-A7688DC76F6F}" type="slidenum">
              <a:rPr b="0" lang="zh-CN" sz="1600" spc="-1" strike="noStrike">
                <a:solidFill>
                  <a:srgbClr val="9d9d9d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4014720"/>
            <a:ext cx="7158240" cy="12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3" name="文本框 119"/>
          <p:cNvSpPr/>
          <p:nvPr/>
        </p:nvSpPr>
        <p:spPr>
          <a:xfrm>
            <a:off x="482760" y="5940360"/>
            <a:ext cx="507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七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4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 情人节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人寿年丰。摊煎饼吃七宝羹，安顿身心，休养生息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文本框 4"/>
          <p:cNvSpPr/>
          <p:nvPr/>
        </p:nvSpPr>
        <p:spPr>
          <a:xfrm>
            <a:off x="6370560" y="594036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八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放生祈福。众星下界之日，制小灯燃而祭之，一寸光阴一寸金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5" name="Picture 2" descr="C:\Users\zhaohaifeng1\Desktop\新建文件夹\图片15.jpg"/>
          <p:cNvPicPr/>
          <p:nvPr/>
        </p:nvPicPr>
        <p:blipFill>
          <a:blip r:embed="rId1"/>
          <a:stretch/>
        </p:blipFill>
        <p:spPr>
          <a:xfrm>
            <a:off x="1773360" y="1249200"/>
            <a:ext cx="2496960" cy="44132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C:\Users\zhaohaifeng1\Desktop\新建文件夹\图片16.jpg"/>
          <p:cNvPicPr/>
          <p:nvPr/>
        </p:nvPicPr>
        <p:blipFill>
          <a:blip r:embed="rId2"/>
          <a:stretch/>
        </p:blipFill>
        <p:spPr>
          <a:xfrm>
            <a:off x="7662960" y="1249200"/>
            <a:ext cx="24969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8" name="文本框 119"/>
          <p:cNvSpPr/>
          <p:nvPr/>
        </p:nvSpPr>
        <p:spPr>
          <a:xfrm>
            <a:off x="484200" y="590724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九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6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玉皇天诞。是主宰宇宙最高的神，人们都会举行祭典以表庆贺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文本框 4"/>
          <p:cNvSpPr/>
          <p:nvPr/>
        </p:nvSpPr>
        <p:spPr>
          <a:xfrm>
            <a:off x="6046920" y="5907240"/>
            <a:ext cx="507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十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7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祭石感恩。有天还有地，人畜房米麦百谷都生地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40" name="Picture 2" descr="C:\Users\zhaohaifeng1\Desktop\新建文件夹\图片17.jpg"/>
          <p:cNvPicPr/>
          <p:nvPr/>
        </p:nvPicPr>
        <p:blipFill>
          <a:blip r:embed="rId1"/>
          <a:stretch/>
        </p:blipFill>
        <p:spPr>
          <a:xfrm>
            <a:off x="1805040" y="1284120"/>
            <a:ext cx="2438280" cy="4345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" descr="C:\Users\zhaohaifeng1\Desktop\新建文件夹\图片18.jpg"/>
          <p:cNvPicPr/>
          <p:nvPr/>
        </p:nvPicPr>
        <p:blipFill>
          <a:blip r:embed="rId2"/>
          <a:stretch/>
        </p:blipFill>
        <p:spPr>
          <a:xfrm>
            <a:off x="7367760" y="1284120"/>
            <a:ext cx="243828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3" name="文本框 119"/>
          <p:cNvSpPr/>
          <p:nvPr/>
        </p:nvSpPr>
        <p:spPr>
          <a:xfrm>
            <a:off x="423720" y="5710320"/>
            <a:ext cx="508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月十一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8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祭奉紫姑。深受压迫的女性，把她奉为弱女子的保护神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4" name="文本框 3"/>
          <p:cNvSpPr/>
          <p:nvPr/>
        </p:nvSpPr>
        <p:spPr>
          <a:xfrm>
            <a:off x="5951520" y="581652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月十二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搭建灯棚。元宵节将近，开始做元宵赏灯的准备工作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45" name="Picture 2" descr="C:\Users\zhaohaifeng1\Desktop\新建文件夹\图片19.jpg"/>
          <p:cNvPicPr/>
          <p:nvPr/>
        </p:nvPicPr>
        <p:blipFill>
          <a:blip r:embed="rId1"/>
          <a:stretch/>
        </p:blipFill>
        <p:spPr>
          <a:xfrm>
            <a:off x="1787400" y="1284120"/>
            <a:ext cx="2352960" cy="41641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Users\zhaohaifeng1\Desktop\新建文件夹\图片20.jpg"/>
          <p:cNvPicPr/>
          <p:nvPr/>
        </p:nvPicPr>
        <p:blipFill>
          <a:blip r:embed="rId2"/>
          <a:stretch/>
        </p:blipFill>
        <p:spPr>
          <a:xfrm>
            <a:off x="7315200" y="1284120"/>
            <a:ext cx="23526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48" name="文本框 119"/>
          <p:cNvSpPr/>
          <p:nvPr/>
        </p:nvSpPr>
        <p:spPr>
          <a:xfrm>
            <a:off x="343080" y="5826240"/>
            <a:ext cx="507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月十三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灶下点灯。预放元宵，自十三日起，巷陌桥道，皆编竹张灯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9" name="文本框 2"/>
          <p:cNvSpPr/>
          <p:nvPr/>
        </p:nvSpPr>
        <p:spPr>
          <a:xfrm>
            <a:off x="6108840" y="580392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月十四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1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临水娘娘诞辰，又称“顺天圣母”。是拯救难产妇女的神仙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0" name="Picture 2" descr="C:\Users\zhaohaifeng1\Desktop\新建文件夹\图片21.jpg"/>
          <p:cNvPicPr/>
          <p:nvPr/>
        </p:nvPicPr>
        <p:blipFill>
          <a:blip r:embed="rId1"/>
          <a:stretch/>
        </p:blipFill>
        <p:spPr>
          <a:xfrm>
            <a:off x="1739880" y="1427040"/>
            <a:ext cx="2286000" cy="4057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Users\zhaohaifeng1\Desktop\新建文件夹\图片22.jpg"/>
          <p:cNvPicPr/>
          <p:nvPr/>
        </p:nvPicPr>
        <p:blipFill>
          <a:blip r:embed="rId2"/>
          <a:stretch/>
        </p:blipFill>
        <p:spPr>
          <a:xfrm>
            <a:off x="7510320" y="1419120"/>
            <a:ext cx="2276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53" name="文本框 119"/>
          <p:cNvSpPr/>
          <p:nvPr/>
        </p:nvSpPr>
        <p:spPr>
          <a:xfrm>
            <a:off x="3252960" y="5548320"/>
            <a:ext cx="507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正月十五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 元宵节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夜照田蚕（神）。观色判断一年的丰歉，后演化为元宵节观灯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54" name="Picture 2" descr="C:\Users\zhaohaifeng1\Desktop\新建文件夹\图片23.jpg"/>
          <p:cNvPicPr/>
          <p:nvPr/>
        </p:nvPicPr>
        <p:blipFill>
          <a:blip r:embed="rId1"/>
          <a:stretch/>
        </p:blipFill>
        <p:spPr>
          <a:xfrm>
            <a:off x="4583160" y="1407960"/>
            <a:ext cx="24192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44480" y="1221840"/>
            <a:ext cx="61200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过年了，在外辛苦一年的你已经到家了吧？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祝大家新春愉快，猴年大吉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另外，小编为大家整理了完整版过年习俗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134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快来长长知识吧！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396" name="Picture 2" descr="C:\Users\zhaohaifeng1\Desktop\286cc3efccf6dd9767d66cd481c140697986e2001df244-i8M1fg_fw658.png"/>
          <p:cNvPicPr/>
          <p:nvPr/>
        </p:nvPicPr>
        <p:blipFill>
          <a:blip r:embed="rId1"/>
          <a:stretch/>
        </p:blipFill>
        <p:spPr>
          <a:xfrm>
            <a:off x="6834240" y="1295280"/>
            <a:ext cx="415296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8" name="文本框 99"/>
          <p:cNvSpPr/>
          <p:nvPr/>
        </p:nvSpPr>
        <p:spPr>
          <a:xfrm>
            <a:off x="890640" y="5869080"/>
            <a:ext cx="414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腊月二十三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俗称“小年”，传说这日是“灶王爷上天”之日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9" name="文本框 3"/>
          <p:cNvSpPr/>
          <p:nvPr/>
        </p:nvSpPr>
        <p:spPr>
          <a:xfrm>
            <a:off x="6477120" y="5869080"/>
            <a:ext cx="414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腊月二十四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e1227"/>
                </a:solidFill>
                <a:latin typeface="微软雅黑"/>
                <a:ea typeface="微软雅黑"/>
              </a:rPr>
              <a:t>掸尘扫房子，这日是约定俗成的扫除日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00" name="Picture 2" descr="C:\Users\zhaohaifeng1\Desktop\新建文件夹\图片1.jpg"/>
          <p:cNvPicPr/>
          <p:nvPr/>
        </p:nvPicPr>
        <p:blipFill>
          <a:blip r:embed="rId1"/>
          <a:stretch/>
        </p:blipFill>
        <p:spPr>
          <a:xfrm>
            <a:off x="1744560" y="1324080"/>
            <a:ext cx="2438640" cy="4336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C:\Users\zhaohaifeng1\Desktop\新建文件夹\图片2.jpg"/>
          <p:cNvPicPr/>
          <p:nvPr/>
        </p:nvPicPr>
        <p:blipFill>
          <a:blip r:embed="rId2"/>
          <a:stretch/>
        </p:blipFill>
        <p:spPr>
          <a:xfrm>
            <a:off x="7326360" y="1324080"/>
            <a:ext cx="24480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3" name="文本框 119"/>
          <p:cNvSpPr/>
          <p:nvPr/>
        </p:nvSpPr>
        <p:spPr>
          <a:xfrm>
            <a:off x="647640" y="591804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腊月二十五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推磨做豆腐。传说玉帝会下界查访，吃豆腐渣以表清苦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4" name="文本框 4"/>
          <p:cNvSpPr/>
          <p:nvPr/>
        </p:nvSpPr>
        <p:spPr>
          <a:xfrm>
            <a:off x="6172200" y="590544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腊月二十六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杀猪割年肉，人们只在一年一度的年节中才能吃到肉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05" name="Picture 2" descr="C:\Users\zhaohaifeng1\Desktop\新建文件夹\图片3.jpg"/>
          <p:cNvPicPr/>
          <p:nvPr/>
        </p:nvPicPr>
        <p:blipFill>
          <a:blip r:embed="rId1"/>
          <a:stretch/>
        </p:blipFill>
        <p:spPr>
          <a:xfrm>
            <a:off x="1979640" y="1366920"/>
            <a:ext cx="2416320" cy="42894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C:\Users\zhaohaifeng1\Desktop\新建文件夹\图片4.jpg"/>
          <p:cNvPicPr/>
          <p:nvPr/>
        </p:nvPicPr>
        <p:blipFill>
          <a:blip r:embed="rId2"/>
          <a:stretch/>
        </p:blipFill>
        <p:spPr>
          <a:xfrm>
            <a:off x="7502400" y="1366920"/>
            <a:ext cx="24177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8" name="文本框 4"/>
          <p:cNvSpPr/>
          <p:nvPr/>
        </p:nvSpPr>
        <p:spPr>
          <a:xfrm>
            <a:off x="393840" y="5622840"/>
            <a:ext cx="507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腊月二十七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宰年鸡、赶大集，春节所需物品都在置办之中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文本框 5"/>
          <p:cNvSpPr/>
          <p:nvPr/>
        </p:nvSpPr>
        <p:spPr>
          <a:xfrm>
            <a:off x="6121440" y="581652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腊月二十八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打糕蒸馍贴花。古人以桃木为辟邪之木，后被红纸代替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10" name="Picture 2" descr="C:\Users\zhaohaifeng1\Desktop\新建文件夹\图片5.jpg"/>
          <p:cNvPicPr/>
          <p:nvPr/>
        </p:nvPicPr>
        <p:blipFill>
          <a:blip r:embed="rId1"/>
          <a:stretch/>
        </p:blipFill>
        <p:spPr>
          <a:xfrm>
            <a:off x="1808280" y="1447920"/>
            <a:ext cx="2249280" cy="3983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zhaohaifeng1\Desktop\新建文件夹\图片6.jpg"/>
          <p:cNvPicPr/>
          <p:nvPr/>
        </p:nvPicPr>
        <p:blipFill>
          <a:blip r:embed="rId2"/>
          <a:stretch/>
        </p:blipFill>
        <p:spPr>
          <a:xfrm>
            <a:off x="7535880" y="1447920"/>
            <a:ext cx="22510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3" name="文本框 119"/>
          <p:cNvSpPr/>
          <p:nvPr/>
        </p:nvSpPr>
        <p:spPr>
          <a:xfrm>
            <a:off x="380880" y="596916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腊月二十九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上坟请祖上大供。对于祖先的崇拜，在我国由来已久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文本框 4"/>
          <p:cNvSpPr/>
          <p:nvPr/>
        </p:nvSpPr>
        <p:spPr>
          <a:xfrm>
            <a:off x="6159600" y="594360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三十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今年没有三十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一夜连双岁，五更分二天。寒辞去冬雪，暖带入春风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15" name="Picture 2" descr="C:\Users\zhaohaifeng1\Desktop\新建文件夹\图片7.jpg"/>
          <p:cNvPicPr/>
          <p:nvPr/>
        </p:nvPicPr>
        <p:blipFill>
          <a:blip r:embed="rId1"/>
          <a:stretch/>
        </p:blipFill>
        <p:spPr>
          <a:xfrm>
            <a:off x="1722600" y="1336680"/>
            <a:ext cx="2396880" cy="4241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zhaohaifeng1\Desktop\新建文件夹\图片8.jpg"/>
          <p:cNvPicPr/>
          <p:nvPr/>
        </p:nvPicPr>
        <p:blipFill>
          <a:blip r:embed="rId2"/>
          <a:stretch/>
        </p:blipFill>
        <p:spPr>
          <a:xfrm>
            <a:off x="7500960" y="1336680"/>
            <a:ext cx="239724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18" name="文本框 119"/>
          <p:cNvSpPr/>
          <p:nvPr/>
        </p:nvSpPr>
        <p:spPr>
          <a:xfrm>
            <a:off x="457200" y="585468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一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8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金鸡报晓。晚辈给长辈拜年，长辈给压岁钱，压住邪祟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文本框 4"/>
          <p:cNvSpPr/>
          <p:nvPr/>
        </p:nvSpPr>
        <p:spPr>
          <a:xfrm>
            <a:off x="6350040" y="584208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二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9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金吠报春。亲眷人家去拜年，东家留吃饭、西家排酒筵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20" name="Picture 2" descr="C:\Users\zhaohaifeng1\Desktop\新建文件夹\图片9.jpg"/>
          <p:cNvPicPr/>
          <p:nvPr/>
        </p:nvPicPr>
        <p:blipFill>
          <a:blip r:embed="rId1"/>
          <a:stretch/>
        </p:blipFill>
        <p:spPr>
          <a:xfrm>
            <a:off x="1879560" y="1504800"/>
            <a:ext cx="2235240" cy="394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zhaohaifeng1\Desktop\新建文件夹\图片10.jpg"/>
          <p:cNvPicPr/>
          <p:nvPr/>
        </p:nvPicPr>
        <p:blipFill>
          <a:blip r:embed="rId2"/>
          <a:stretch/>
        </p:blipFill>
        <p:spPr>
          <a:xfrm>
            <a:off x="7772400" y="1504800"/>
            <a:ext cx="223524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3" name="文本框 119"/>
          <p:cNvSpPr/>
          <p:nvPr/>
        </p:nvSpPr>
        <p:spPr>
          <a:xfrm>
            <a:off x="482760" y="576576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三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0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肥猪拱门。女婿看望老丈人、媳妇回娘家，礼物带双数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4" name="文本框 4"/>
          <p:cNvSpPr/>
          <p:nvPr/>
        </p:nvSpPr>
        <p:spPr>
          <a:xfrm>
            <a:off x="6222960" y="572760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四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三羊开泰。灶王爷要查户口，恭迎灶神回民间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25" name="Picture 2" descr="C:\Users\zhaohaifeng1\Desktop\新建文件夹\图片11.jpg"/>
          <p:cNvPicPr/>
          <p:nvPr/>
        </p:nvPicPr>
        <p:blipFill>
          <a:blip r:embed="rId1"/>
          <a:stretch/>
        </p:blipFill>
        <p:spPr>
          <a:xfrm>
            <a:off x="1843200" y="1251000"/>
            <a:ext cx="2357280" cy="4194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Users\zhaohaifeng1\Desktop\新建文件夹\图片12.jpg"/>
          <p:cNvPicPr/>
          <p:nvPr/>
        </p:nvPicPr>
        <p:blipFill>
          <a:blip r:embed="rId2"/>
          <a:stretch/>
        </p:blipFill>
        <p:spPr>
          <a:xfrm>
            <a:off x="7588080" y="1251000"/>
            <a:ext cx="23497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09360" y="136080"/>
            <a:ext cx="1103940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春节习俗完整版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8" name="文本框 6"/>
          <p:cNvSpPr/>
          <p:nvPr/>
        </p:nvSpPr>
        <p:spPr>
          <a:xfrm>
            <a:off x="812880" y="607068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五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艮牛耕春。五路接财神，东西南北中，财富五路通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文本框 7"/>
          <p:cNvSpPr/>
          <p:nvPr/>
        </p:nvSpPr>
        <p:spPr>
          <a:xfrm>
            <a:off x="6404040" y="6070680"/>
            <a:ext cx="507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大年初六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(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13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6161a"/>
                </a:solidFill>
                <a:latin typeface="微软雅黑"/>
                <a:ea typeface="微软雅黑"/>
              </a:rPr>
              <a:t>马到成功。沥酒拜街中。万户千门看，无人不送穷。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430" name="Picture 2" descr="C:\Users\zhaohaifeng1\Desktop\新建文件夹\图片13.jpg"/>
          <p:cNvPicPr/>
          <p:nvPr/>
        </p:nvPicPr>
        <p:blipFill>
          <a:blip r:embed="rId1"/>
          <a:stretch/>
        </p:blipFill>
        <p:spPr>
          <a:xfrm>
            <a:off x="2071800" y="1312920"/>
            <a:ext cx="2562120" cy="4545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C:\Users\zhaohaifeng1\Desktop\新建文件夹\图片14.jpg"/>
          <p:cNvPicPr/>
          <p:nvPr/>
        </p:nvPicPr>
        <p:blipFill>
          <a:blip r:embed="rId2"/>
          <a:stretch/>
        </p:blipFill>
        <p:spPr>
          <a:xfrm>
            <a:off x="7662960" y="1303200"/>
            <a:ext cx="256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1T07:50:00Z</dcterms:created>
  <dc:creator>ZHAOHAIFENG1 [赵海峰]</dc:creator>
  <dc:description/>
  <dc:language>en-US</dc:language>
  <cp:lastModifiedBy>Administrator</cp:lastModifiedBy>
  <dcterms:modified xsi:type="dcterms:W3CDTF">2016-02-15T01:14:50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