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793-A1F3-4ACF-A6E9-DC525501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343-B1A5-438E-B4C2-11C732B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C72-3340-4E9D-B79F-627B187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0FD-A6BD-452C-AB66-91965EC1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907-0ED9-4219-841C-2F955F11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A1CE-58C4-4564-A709-02603EF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E3DD-41F3-4B46-B740-E9F15D2C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C707-13BF-4583-A648-0EED612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3D5D-9756-4CE1-B5D8-CADA6A86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47AC-66E6-431E-B40B-3B2E43F4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7F3F-4E7F-4CC5-B39A-31B14A9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2F1-FEF5-4DC3-8602-45EA3FF1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67F7-8201-4991-BC92-C91BCA4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7353-9F2B-4830-B91A-39C335C1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1E3-3AED-4FEE-B543-C30D3CA6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892-D556-4B0A-A5B7-B6B1DE89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3BF-787C-420D-8B52-C24ABACD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6F55-F360-4F81-93A1-5F915B29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F0FB-F840-458A-B23C-1D3E502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82E7-9270-4E28-9AB0-B302677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7F4C-BC99-44BF-BE3B-0A7C6B3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0EF3-E00C-43B3-840A-8D1F857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7B0-75E7-43BE-8D3C-F7F12E4E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0C10-65F7-45BF-87E0-A36C39A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A736-C34B-4329-9BC0-7936BAE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2598-3A6F-49F3-867D-1BC4EB3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DF90-A1E0-4A9B-BBD1-E06186B9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7B0D-1DB3-4364-B8CF-CB871101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9A6F-3B7D-43A7-978D-4D6F5427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37E5-DDC3-4A98-A231-6B42FAF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502-D545-4130-988A-646BC7D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811-114A-45D5-B7D9-00DC1AB6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513-534F-4BA1-90B5-08E9E77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E6B-484D-40E5-864C-C6B3695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52B-A555-4776-BEB4-078D077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D52-D7CA-4590-BCCA-3A4B9C5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BE8-806D-479C-AABE-CA921EB99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A9A-5200-49C0-B34E-F52380B353E8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9462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48" name="直接连接符 19463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20486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88" name="直接连接符 20487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2EA-DC20-4A68-8E13-52F9A903DF49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矩形 4099" descr=""/>
          <p:cNvPicPr/>
          <p:nvPr/>
        </p:nvPicPr>
        <p:blipFill>
          <a:blip r:embed="rId2"/>
          <a:stretch/>
        </p:blipFill>
        <p:spPr>
          <a:xfrm>
            <a:off x="-2286000" y="841320"/>
            <a:ext cx="9848880" cy="44928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4103"/>
          <p:cNvSpPr/>
          <p:nvPr/>
        </p:nvSpPr>
        <p:spPr>
          <a:xfrm>
            <a:off x="3200400" y="6172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 高一五班 五四青年节主题班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27651"/>
          <p:cNvSpPr/>
          <p:nvPr/>
        </p:nvSpPr>
        <p:spPr>
          <a:xfrm>
            <a:off x="457200" y="68580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青团中央机关刊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复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青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团内通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共青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7652"/>
          <p:cNvSpPr/>
          <p:nvPr/>
        </p:nvSpPr>
        <p:spPr>
          <a:xfrm>
            <a:off x="3886200" y="609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7653" descr="bd7faf3536f717b5a61e12e8"/>
          <p:cNvPicPr/>
          <p:nvPr/>
        </p:nvPicPr>
        <p:blipFill>
          <a:blip r:embed="rId2"/>
          <a:stretch/>
        </p:blipFill>
        <p:spPr>
          <a:xfrm>
            <a:off x="1143000" y="2971800"/>
            <a:ext cx="2006640" cy="25272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7654"/>
          <p:cNvSpPr/>
          <p:nvPr/>
        </p:nvSpPr>
        <p:spPr>
          <a:xfrm>
            <a:off x="3657600" y="33526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青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中国共产主义青年团中央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出版的机关刊物。周刊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发刊于上海，后迁广州﹑汉口等地出版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青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“五四”以后最早提倡“革命文学”的刊物。它的前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早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就设置“革命文艺”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600" y="304920"/>
            <a:ext cx="1378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的未来不是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9700"/>
          <p:cNvSpPr/>
          <p:nvPr/>
        </p:nvSpPr>
        <p:spPr>
          <a:xfrm>
            <a:off x="533520" y="9907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我不在乎 别人怎么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来没有忘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自己的承诺 对爱的执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知道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28676"/>
          <p:cNvSpPr/>
          <p:nvPr/>
        </p:nvSpPr>
        <p:spPr>
          <a:xfrm>
            <a:off x="380880" y="34290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不是梦，青春在我们手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激情为旗，用青春做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拼一个无悔的人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4817" descr="7efe2207ef94d5d37a8947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矩形 34818"/>
          <p:cNvSpPr txBox="1"/>
          <p:nvPr/>
        </p:nvSpPr>
        <p:spPr>
          <a:xfrm>
            <a:off x="1905120" y="2362320"/>
            <a:ext cx="376056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6146"/>
          <p:cNvSpPr txBox="1"/>
          <p:nvPr/>
        </p:nvSpPr>
        <p:spPr>
          <a:xfrm>
            <a:off x="324000" y="692280"/>
            <a:ext cx="453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四”运动资料赏析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" name="图片 6147" descr="untitl"/>
          <p:cNvPicPr/>
          <p:nvPr/>
        </p:nvPicPr>
        <p:blipFill>
          <a:blip r:embed="rId5"/>
          <a:stretch/>
        </p:blipFill>
        <p:spPr>
          <a:xfrm>
            <a:off x="179280" y="2852640"/>
            <a:ext cx="4608720" cy="310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Arial"/>
                <a:ea typeface="华文新魏"/>
              </a:rPr>
              <a:t>五四爱国运动</a:t>
            </a:r>
            <a:r>
              <a:rPr b="0" lang="zh-CN" sz="42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在北京爆发的中国人民反对帝国主义、封建主义的爱国运动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第一次世界大战爆发，日本借口对德宣战，攻占青岛和胶济铁路全线，控制了山东省，夺去德国在山东强占的各种权益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大战结束，德国战败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，战胜国在巴黎召开 “和平会议”。北京政府和广州军政府联合组成中国代表团，以战胜国身分参加和会，提出取消列强在华的各项特权，取消日本帝国主义与袁世凯订立的 “二十一条”不平等条约，归还大战期间日本从德国手中夺去的山东各项权利等要求。巴黎和会在帝国主义列强操纵下，不但拒绝中国的要求，而且在对德和约上，明文规定把德国在山东的特权，全部转让给日本。北京政府竟准备在 “和约”上签字，从而激起了中国人民的强烈反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五四运动是中国旧民主主义革命的结束和新民主主义革命的开端，中国革命从此进入了一个新的历史时期。中华人民共和国成立后，中央人民政府政务院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月正式宣布以五月四日为中国青年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123" descr="ws12_1"/>
          <p:cNvPicPr/>
          <p:nvPr/>
        </p:nvPicPr>
        <p:blipFill>
          <a:blip r:embed="rId2"/>
          <a:stretch/>
        </p:blipFill>
        <p:spPr>
          <a:xfrm rot="21417000">
            <a:off x="380520" y="380880"/>
            <a:ext cx="4267440" cy="27212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124" descr="ws20"/>
          <p:cNvPicPr/>
          <p:nvPr/>
        </p:nvPicPr>
        <p:blipFill>
          <a:blip r:embed="rId3"/>
          <a:stretch/>
        </p:blipFill>
        <p:spPr>
          <a:xfrm rot="352800">
            <a:off x="4267080" y="3733920"/>
            <a:ext cx="4191120" cy="2904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125" descr="ws22_1"/>
          <p:cNvPicPr/>
          <p:nvPr/>
        </p:nvPicPr>
        <p:blipFill>
          <a:blip r:embed="rId4"/>
          <a:stretch/>
        </p:blipFill>
        <p:spPr>
          <a:xfrm rot="21264600">
            <a:off x="1599840" y="2209680"/>
            <a:ext cx="3019320" cy="416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3555" descr="ws57_4"/>
          <p:cNvPicPr/>
          <p:nvPr/>
        </p:nvPicPr>
        <p:blipFill>
          <a:blip r:embed="rId2"/>
          <a:stretch/>
        </p:blipFill>
        <p:spPr>
          <a:xfrm rot="20970600">
            <a:off x="609120" y="685440"/>
            <a:ext cx="3265560" cy="22129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3556" descr="ws57_5"/>
          <p:cNvPicPr/>
          <p:nvPr/>
        </p:nvPicPr>
        <p:blipFill>
          <a:blip r:embed="rId3"/>
          <a:stretch/>
        </p:blipFill>
        <p:spPr>
          <a:xfrm rot="564000">
            <a:off x="6019920" y="3047760"/>
            <a:ext cx="2295360" cy="33271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3557" descr="ws57_6"/>
          <p:cNvPicPr/>
          <p:nvPr/>
        </p:nvPicPr>
        <p:blipFill>
          <a:blip r:embed="rId4"/>
          <a:stretch/>
        </p:blipFill>
        <p:spPr>
          <a:xfrm>
            <a:off x="1981080" y="3200400"/>
            <a:ext cx="2284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24579" descr="ws66_1"/>
          <p:cNvPicPr/>
          <p:nvPr/>
        </p:nvPicPr>
        <p:blipFill>
          <a:blip r:embed="rId2"/>
          <a:stretch/>
        </p:blipFill>
        <p:spPr>
          <a:xfrm>
            <a:off x="609480" y="533520"/>
            <a:ext cx="1997280" cy="25765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4580" descr="chengxu09042208"/>
          <p:cNvPicPr/>
          <p:nvPr/>
        </p:nvPicPr>
        <p:blipFill>
          <a:blip r:embed="rId3"/>
          <a:stretch/>
        </p:blipFill>
        <p:spPr>
          <a:xfrm>
            <a:off x="1676520" y="3352680"/>
            <a:ext cx="5410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5603"/>
          <p:cNvSpPr txBox="1"/>
          <p:nvPr/>
        </p:nvSpPr>
        <p:spPr>
          <a:xfrm>
            <a:off x="609480" y="9144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小竞赛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7" name="图片 25604" descr="a7d2953ac31656cb14cecb74"/>
          <p:cNvPicPr/>
          <p:nvPr/>
        </p:nvPicPr>
        <p:blipFill>
          <a:blip r:embed="rId2"/>
          <a:stretch/>
        </p:blipFill>
        <p:spPr>
          <a:xfrm>
            <a:off x="914400" y="312408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1981080" y="2895120"/>
            <a:ext cx="2743200" cy="685800"/>
            <a:chOff x="1981080" y="2895120"/>
            <a:chExt cx="2743200" cy="685800"/>
          </a:xfrm>
        </p:grpSpPr>
        <p:sp>
          <p:nvSpPr>
            <p:cNvPr id="149" name="直接连接符 25605"/>
            <p:cNvSpPr/>
            <p:nvPr/>
          </p:nvSpPr>
          <p:spPr>
            <a:xfrm flipV="1">
              <a:off x="1981080" y="2895120"/>
              <a:ext cx="2743200" cy="685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10800000">
              <a:off x="1981080" y="2895120"/>
              <a:ext cx="2743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3880" y="3886200"/>
            <a:ext cx="3353040" cy="533520"/>
            <a:chOff x="1523880" y="3886200"/>
            <a:chExt cx="3353040" cy="533520"/>
          </a:xfrm>
        </p:grpSpPr>
        <p:sp>
          <p:nvSpPr>
            <p:cNvPr id="152" name="直接连接符 25607"/>
            <p:cNvSpPr/>
            <p:nvPr/>
          </p:nvSpPr>
          <p:spPr>
            <a:xfrm flipV="1">
              <a:off x="1523880" y="3886200"/>
              <a:ext cx="3353040" cy="533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 rot="10800000">
              <a:off x="1523880" y="3886200"/>
              <a:ext cx="33530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86000" y="5181480"/>
            <a:ext cx="2895480" cy="360"/>
            <a:chOff x="2286000" y="5181480"/>
            <a:chExt cx="2895480" cy="360"/>
          </a:xfrm>
        </p:grpSpPr>
        <p:sp>
          <p:nvSpPr>
            <p:cNvPr id="155" name="直接连接符 25608"/>
            <p:cNvSpPr/>
            <p:nvPr/>
          </p:nvSpPr>
          <p:spPr>
            <a:xfrm>
              <a:off x="2286000" y="5181480"/>
              <a:ext cx="2895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286000" y="51814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4648320"/>
            <a:ext cx="3200400" cy="360"/>
            <a:chOff x="2286000" y="4648320"/>
            <a:chExt cx="3200400" cy="360"/>
          </a:xfrm>
        </p:grpSpPr>
        <p:sp>
          <p:nvSpPr>
            <p:cNvPr id="158" name="直接连接符 25609"/>
            <p:cNvSpPr/>
            <p:nvPr/>
          </p:nvSpPr>
          <p:spPr>
            <a:xfrm>
              <a:off x="2286000" y="4648320"/>
              <a:ext cx="32004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286000" y="464832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5612"/>
          <p:cNvSpPr/>
          <p:nvPr/>
        </p:nvSpPr>
        <p:spPr>
          <a:xfrm>
            <a:off x="1219320" y="2362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徽的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5613"/>
          <p:cNvSpPr/>
          <p:nvPr/>
        </p:nvSpPr>
        <p:spPr>
          <a:xfrm>
            <a:off x="4800600" y="2590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星，周围为黄圈。中国青年一代紧密团结在中国共产党周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14600" y="5334120"/>
            <a:ext cx="2362320" cy="838080"/>
            <a:chOff x="2514600" y="5334120"/>
            <a:chExt cx="2362320" cy="838080"/>
          </a:xfrm>
        </p:grpSpPr>
        <p:sp>
          <p:nvSpPr>
            <p:cNvPr id="163" name="直接连接符 25614"/>
            <p:cNvSpPr/>
            <p:nvPr/>
          </p:nvSpPr>
          <p:spPr>
            <a:xfrm>
              <a:off x="2514600" y="5334120"/>
              <a:ext cx="2362320" cy="838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514600" y="5334120"/>
              <a:ext cx="23623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25616"/>
          <p:cNvSpPr/>
          <p:nvPr/>
        </p:nvSpPr>
        <p:spPr>
          <a:xfrm>
            <a:off x="5105520" y="3657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麦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5617"/>
          <p:cNvSpPr/>
          <p:nvPr/>
        </p:nvSpPr>
        <p:spPr>
          <a:xfrm>
            <a:off x="50292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5618"/>
          <p:cNvSpPr/>
          <p:nvPr/>
        </p:nvSpPr>
        <p:spPr>
          <a:xfrm>
            <a:off x="53341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生的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5619"/>
          <p:cNvSpPr/>
          <p:nvPr/>
        </p:nvSpPr>
        <p:spPr>
          <a:xfrm>
            <a:off x="5638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共青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6627"/>
          <p:cNvSpPr/>
          <p:nvPr/>
        </p:nvSpPr>
        <p:spPr>
          <a:xfrm>
            <a:off x="1295280" y="685800"/>
            <a:ext cx="64771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第一个青年团早期组织的负责人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存统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俞秀松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弼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629"/>
          <p:cNvSpPr/>
          <p:nvPr/>
        </p:nvSpPr>
        <p:spPr>
          <a:xfrm>
            <a:off x="7315200" y="1371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6630" descr="fcbbb151b0458dd68d543051"/>
          <p:cNvPicPr/>
          <p:nvPr/>
        </p:nvPicPr>
        <p:blipFill>
          <a:blip r:embed="rId2"/>
          <a:stretch/>
        </p:blipFill>
        <p:spPr>
          <a:xfrm>
            <a:off x="762120" y="26668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26631"/>
          <p:cNvSpPr/>
          <p:nvPr/>
        </p:nvSpPr>
        <p:spPr>
          <a:xfrm>
            <a:off x="3124080" y="31240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俞秀松，中国共产党早期杰出的革命活动家，杭州“五四运动”的领导人；上海马克思主义研究会和上海共产主义小组创建人之一，中国社会主义青年团创始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06:49:48Z</dcterms:created>
  <dc:creator/>
  <dc:description/>
  <dc:language>en-US</dc:language>
  <cp:lastModifiedBy>Administrator</cp:lastModifiedBy>
  <dcterms:modified xsi:type="dcterms:W3CDTF">2016-04-06T06:50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