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1E7-EC92-4DA9-8314-E897F4E6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BD6-E8D5-4259-B00E-E8F5DFFB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AEA-AB3D-4CE5-AAA2-3E964BF5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9EB-978A-499A-846D-11DD54A3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406-364A-43E1-ABF5-7159CDDF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5C16-DFB9-485A-80F2-BE87CE77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B24-63C7-4076-BC1F-5760B23B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165-C81E-4CC0-86DF-3D4C42C5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EAD-A72D-4E1C-967A-D86E6424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D3A-FFC1-403B-A5BB-64AD9F0C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24F-6D56-43AB-9BE8-C48C8A3E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C0C-714B-4CDC-A394-730B3E0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180-76E7-4F30-9805-7616E550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上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227664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考班级平均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前两次月考下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多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585720" y="2101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c00000"/>
                </a:solidFill>
                <a:latin typeface="Arial"/>
              </a:rPr>
              <a:t>三点要求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52400" y="1544760"/>
            <a:ext cx="77486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一、诚信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不弄虚作假，靠自己的实力说话，保持自己的高尚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24000" y="54936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66560" y="646200"/>
            <a:ext cx="8177400" cy="41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二、勇于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首先，要对自己有信心</a:t>
            </a:r>
            <a:r>
              <a:rPr b="0" lang="zh-CN" sz="3200" spc="-1" strike="noStrike">
                <a:solidFill>
                  <a:srgbClr val="002060"/>
                </a:solidFill>
                <a:latin typeface="Arial"/>
              </a:rPr>
              <a:t>。</a:t>
            </a:r>
            <a:r>
              <a:rPr b="1" lang="zh-CN" sz="2500" spc="-1" strike="noStrike">
                <a:solidFill>
                  <a:srgbClr val="002060"/>
                </a:solidFill>
                <a:latin typeface="Arial"/>
              </a:rPr>
              <a:t>考试一方面是同别人竞争，但同时是在与自己竞争。“</a:t>
            </a:r>
            <a:r>
              <a:rPr b="1" lang="zh-CN" sz="2500" spc="-1" strike="noStrike" u="sng">
                <a:solidFill>
                  <a:srgbClr val="002060"/>
                </a:solidFill>
                <a:uFillTx/>
                <a:latin typeface="Arial"/>
              </a:rPr>
              <a:t>我是否比上次进步了</a:t>
            </a:r>
            <a:r>
              <a:rPr b="1" lang="zh-CN" sz="2500" spc="-1" strike="noStrike">
                <a:solidFill>
                  <a:srgbClr val="002060"/>
                </a:solidFill>
                <a:latin typeface="Arial"/>
              </a:rPr>
              <a:t>？” 这是我们每一个同学要常常思考的问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ff0000"/>
                </a:solidFill>
                <a:latin typeface="Arial"/>
              </a:rPr>
              <a:t>不积跬步，无以至千里；不积小流，无以成江海。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其次，要做好复习迎考准备</a:t>
            </a:r>
            <a:r>
              <a:rPr b="1" lang="zh-CN" sz="2500" spc="-1" strike="noStrike">
                <a:solidFill>
                  <a:srgbClr val="002060"/>
                </a:solidFill>
                <a:latin typeface="Arial"/>
              </a:rPr>
              <a:t>，如果没有必要的复习准备，说自己对考试有信心，那是盲目自信，呈匹夫之勇。做好考前的复习工作是我们取得较好成绩的前提条件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33336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46200" y="404640"/>
            <a:ext cx="77835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三、学会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首先要学会总结</a:t>
            </a:r>
            <a:r>
              <a:rPr b="1" lang="zh-CN" sz="2500" spc="-1" strike="noStrike">
                <a:solidFill>
                  <a:srgbClr val="002060"/>
                </a:solidFill>
                <a:latin typeface="Arial"/>
              </a:rPr>
              <a:t>，总结过去历次重要考试的经验教训。考试中的失误是不可避免的，但多次犯同样的失误则是不可原谅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其次在考前做好必要的准备</a:t>
            </a:r>
            <a:r>
              <a:rPr b="1" lang="zh-CN" sz="2500" spc="-1" strike="noStrike">
                <a:solidFill>
                  <a:srgbClr val="002060"/>
                </a:solidFill>
                <a:latin typeface="Arial"/>
              </a:rPr>
              <a:t>，如考试用具的准备。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</a:rPr>
              <a:t>再次要掌握应试的技巧</a:t>
            </a:r>
            <a:r>
              <a:rPr b="1" lang="zh-CN" sz="2500" spc="-1" strike="noStrike">
                <a:solidFill>
                  <a:srgbClr val="002060"/>
                </a:solidFill>
                <a:latin typeface="Arial"/>
              </a:rPr>
              <a:t>，如考试时间的分配，遇到难易题目怎样处理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50920" y="40464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4200" y="571680"/>
            <a:ext cx="864396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考试是一种挑战，能磨练我们坚强的意志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考试是一种甜蜜，我们可以从中体会到成功的喜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7030a0"/>
                </a:solidFill>
                <a:latin typeface="Arial"/>
              </a:rPr>
              <a:t>考试是一种机遇，能提升我们自身发展的空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心动，不如行动；说到不如做到，要做就做最好！” 希望五班的每位同学都能不断进取，不断超越。不仅有勇气超越同学，更有勇气超越自己，超越昨天的自己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800280" y="2101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00000"/>
                </a:solidFill>
                <a:latin typeface="Arial"/>
              </a:rPr>
              <a:t>愿期末考试中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c00000"/>
                </a:solidFill>
                <a:latin typeface="Arial"/>
              </a:rPr>
              <a:t>你能考出自己理想的成绩！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知耻而后勇，备战期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16000" y="1989000"/>
            <a:ext cx="6400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管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月月考考得怎么样已成过去时，考得好的同学要继续努力，考得不好的同学要迎头赶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85720" y="2101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c00000"/>
                </a:solidFill>
                <a:latin typeface="Arial"/>
              </a:rPr>
              <a:t>向期末考试发起冲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72040" y="3741120"/>
            <a:ext cx="284328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85720" y="2101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c00000"/>
                </a:solidFill>
                <a:latin typeface="Arial"/>
              </a:rPr>
              <a:t>四点建议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539640" y="0"/>
            <a:ext cx="7858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、要有明确的目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人生贵在有目标，因为有目标才有动力。长期目标是指你对这一生的目标，短期目标是指你在近段时间要为之而奋斗的目标。现在每位同学都应该有一个短期目标 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期末考试考出理想的成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00040" y="851040"/>
            <a:ext cx="800100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、要有扫除一切困难和障碍的决心和勇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如果对自己遇到的问题总是抱着消极的态度，逃避它、憎恨它，那么你就不会学到真知，更无法得到成长。所以我们一定克服畏难情绪，要有决心、有信心打败面前的一切困难。</a:t>
            </a:r>
            <a:br>
              <a:rPr sz="2800"/>
            </a:b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785880" y="1281240"/>
            <a:ext cx="764388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、学会科学复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学习讲究方法，复习同样也要讲科学，应避免盲目、机械的复习。要善于归纳总结，并利用好老师发的复习资料，这样学到的知识才会更牢固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6"/>
          <p:cNvSpPr/>
          <p:nvPr/>
        </p:nvSpPr>
        <p:spPr>
          <a:xfrm>
            <a:off x="642960" y="1365120"/>
            <a:ext cx="7643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、注意劳逸结合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3000" spc="-1" strike="noStrike">
                <a:solidFill>
                  <a:srgbClr val="002060"/>
                </a:solidFill>
                <a:latin typeface="Arial"/>
              </a:rPr>
              <a:t>考试前特别要注意，学习与休息应适当结合。过度疲劳，也会在一定程度上降低考试质量。 </a:t>
            </a:r>
            <a:br>
              <a:rPr sz="16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3"/>
          <p:cNvSpPr/>
          <p:nvPr/>
        </p:nvSpPr>
        <p:spPr>
          <a:xfrm>
            <a:off x="857160" y="1574640"/>
            <a:ext cx="7429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要计划好每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控制好每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无悔于每一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3T09:34:59Z</dcterms:created>
  <dc:creator>微软用户</dc:creator>
  <dc:description/>
  <dc:language>en-US</dc:language>
  <cp:lastModifiedBy>上海政府版</cp:lastModifiedBy>
  <cp:lastPrinted>1899-12-30T00:00:00Z</cp:lastPrinted>
  <dcterms:modified xsi:type="dcterms:W3CDTF">2011-12-25T15:37:38Z</dcterms:modified>
  <cp:revision>13</cp:revision>
  <dc:subject/>
  <dc:title>6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