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ACD-CA84-4FAE-9F12-17C698B1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15A-0F5F-4C29-A0FA-A2B7BF1B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BC8-DFDE-464C-AF54-AB994F3A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9A5-82DD-4C6D-B56B-1D65ADA4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FE1-498A-4C48-A4F7-DC70EC08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1A5-FDBC-4534-B084-91AA880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189-5513-4807-B248-AA0B948B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458-58F8-4370-936B-B38008A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4DB-4B8A-46F9-A641-E218FDC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FA4-8A06-4D8F-B0B8-2EFDC3B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E75-5D51-46B4-8795-3B15622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64F-4820-490C-88AC-9C6D493E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FBC-DFA0-4F19-AA58-EC2A360F9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图片1.jpg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14:55Z</dcterms:created>
  <dc:creator>chinaz</dc:creator>
  <dc:description/>
  <dc:language>en-US</dc:language>
  <cp:lastModifiedBy>Administrator</cp:lastModifiedBy>
  <dcterms:modified xsi:type="dcterms:W3CDTF">2015-03-31T00:58:56Z</dcterms:modified>
  <cp:revision>3</cp:revision>
  <dc:subject/>
  <dc:title>幻灯片 1</dc:title>
</cp:coreProperties>
</file>